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35763" cy="9864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516-300F-4BB9-A632-844695B6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141-1082-4630-8D17-2AE6ECDF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FAC-14BC-47FE-8090-51CAB85E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90D-E51C-472C-833B-68618ADD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32C-DA53-46BD-ADCE-373A99E2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722-3DF9-429E-8FAC-F2CA4D61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A88F-B14E-4B6E-8478-CD5DB310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51B-17B3-4DB8-87CE-1156EB88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C4BB-BEEA-4B06-9D64-F1DBB76F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EC7D-C09B-41F8-9CB8-D9A73B61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564-E18C-4940-B1D4-3C708554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BBE-DD9A-4C02-A433-7AC76DDB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0B86-D13E-4199-8312-FA36D8DF2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360" y="162072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bXML Activities in Asia Reg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66520" y="5207040"/>
            <a:ext cx="759276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ukinori Saito (y-saito@ecom.j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ectronic Commerce Promotion Council of Japan (ECOM, http://www.ecom.j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34320" y="76320"/>
            <a:ext cx="20574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1280" y="304920"/>
            <a:ext cx="55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ASIS ebXML CPPA TC Reston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44719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une 3rd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282240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tivities in Asia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tivities in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6F43-32D2-4C49-9323-40DC1ED2BA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52280" y="115920"/>
            <a:ext cx="8763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000000"/>
                </a:solidFill>
                <a:latin typeface="Verdana"/>
              </a:rPr>
              <a:t>ECOM’s activities concerning ebXML in Japan (fiscal 200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1244520"/>
            <a:ext cx="21920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erdana"/>
              </a:rPr>
              <a:t>XML/EDI Standardization Committ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1219320"/>
            <a:ext cx="68040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icipation and contribution to ebXML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OASIS (Messaging TC, CPPA TC, IIC 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UN/CEFACT (eBTWG, Tech. Architecture, CC, B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e to implement ebXML by publish guidebook to design business documents based on ebXM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y of disposition method of domestic Registry and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earch of Security technologies for XML/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XML Digital Signature, XML Encryption, XML Key Manageme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L security Requirement, SA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8000" y="4195800"/>
            <a:ext cx="2192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erdana"/>
              </a:rPr>
              <a:t>XML/EDI Research and Promotion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4195800"/>
            <a:ext cx="68040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shing and Promotion about ebXML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Seminars, News Letters, ebXML Portal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 of Core Components for Japan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earch for Electronics Collaboration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g. JEITA’s Collaborative EDI, RosettaNet PIP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ke Guidebook to introduce Internet EDI based on XML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8000" y="2157480"/>
            <a:ext cx="1619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5256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Times New Roman"/>
              </a:rPr>
              <a:t>Members: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T Vendor (21) Industry (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nk Tank (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ege 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COM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8000" y="5038560"/>
            <a:ext cx="216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Times New Roman"/>
              </a:rPr>
              <a:t>Members: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T Vendor (24) Industry (2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nk Tank (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hers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COM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43A-1E99-4950-9498-578539D158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-36360" y="-27000"/>
            <a:ext cx="92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dustries’ Activities concerning ebXML in Japan (1/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28600" y="925560"/>
          <a:ext cx="8839080" cy="5796000"/>
        </p:xfrm>
        <a:graphic>
          <a:graphicData uri="http://schemas.openxmlformats.org/drawingml/2006/table">
            <a:tbl>
              <a:tblPr/>
              <a:tblGrid>
                <a:gridCol w="1600200"/>
                <a:gridCol w="5105520"/>
                <a:gridCol w="2133360"/>
              </a:tblGrid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rks (Current Status, Oth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SUMI CO. L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general merchandise retaili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SUMI developed Information share system between Retail and Mak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messages: Goods information, Sales promotion information, and Sales results 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system adopted ebXML message specification V1.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its: Easiness to handle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round to adopt ebXML: ebXML will become international standard in futu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SUMI’s business is mainly managing Chain sto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ing has started  from Nov. 200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SUMI will adopt CPA at next ste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2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 Electronics and Information Technology Industries Associ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JEI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aborative EDI Project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ization of business process in Electronics and Information Technology Indu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project adopted ebXML specification (BPSS and M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ITA will deliver ‘Collaborative EDI standard’ until September 200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edule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ase 1 (Study, POC): The 2001 fiscal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ase 2 (Development real business system): The 2002 fiscal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ual experiment of POC: Nov. 2001-Jan. 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cipants of POC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uyer): Sony, Hitachi, Fujitsu, Oki , Sharp, Matsusita, and N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upplier): Alps, TDK, Murata, Kyosera, Taiyou-Yudou, and Fujits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4FE-387A-4395-A34A-A3D299A1C3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228600" y="914400"/>
          <a:ext cx="8839080" cy="5796000"/>
        </p:xfrm>
        <a:graphic>
          <a:graphicData uri="http://schemas.openxmlformats.org/drawingml/2006/table">
            <a:tbl>
              <a:tblPr/>
              <a:tblGrid>
                <a:gridCol w="1447920"/>
                <a:gridCol w="4724280"/>
                <a:gridCol w="2666880"/>
              </a:tblGrid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rks (Current Status, Oth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5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rism Electronic Commerce Promotion Counc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ndustry is promoting to develop Information exchange system between Travel agencies and Travel services provider (e.g.  Hotels, Airlin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: Information retrieval, reserv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peration with an overseas of-the-same-kind information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project will adopt ebXML framework and Web Servic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edul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Basic design: The 2001 fiscal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Development: The 2002 fiscal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cipants: NTT communications, Nippon Travel Agency, Railway Technical Research Institute (RTR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7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Japan Iron and Steel Federation (JIS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th Iron and Steel industries of Japan and Korea are studying Steel material trading system between Japan and Kore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: Inspection results exchange (first trial messag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of Japan: The Japan Iron and Steel Federation (JIS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of Korea: Korea Iron and Steel Association (KOS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project will adopt ebXML framework (e.g. BP, MS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rea is much eager to adopt ebXML framewor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project was postponed until June 2002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son: KOSA is busy to develop Steel B2B Pilot Project/ISP (Information Strategy Plan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-36360" y="-27000"/>
            <a:ext cx="92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dustries’ Activities concerning ebXML in Japan (2/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BCD-55C3-4376-A32D-65E2F94C6A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-2700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bXML Asia Committ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722160"/>
            <a:ext cx="1831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Go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84360" y="696960"/>
            <a:ext cx="7559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promote ebXML implementation for facilitating e-business in Asian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273320"/>
            <a:ext cx="1831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ss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84360" y="1273320"/>
            <a:ext cx="75596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ontribute to the ebXML specification from As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establish the bridgehead for promoting ebXML implementation in As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represent the Asian region for development/maintenance of ebXML specific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2519280"/>
            <a:ext cx="18320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embers (Initiat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84360" y="2557440"/>
            <a:ext cx="7559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EC (Korea Institute for Electronic Commerce), ECOM (Electronic Commerce Promotion Council of Japan), TCA (Taipei Computer Associ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3282840"/>
            <a:ext cx="18320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embers (Other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3317760"/>
            <a:ext cx="7524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CID (Hong Kong), IDA, Crimsonlogic (Singapore), DagangNet (Malaysia), NECTEC (Thailand), Pakistan Revenue Automation (Pakistan), UNCTAD (Sri Lan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360" y="4297320"/>
            <a:ext cx="1832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ee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4340160"/>
            <a:ext cx="7524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ec. 2000 (Seoul)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pril, 2001 (Taipei)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July, 2001 (Tokyo), 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Nov. 2001 (Seoul),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pril, 2002 (Taipei), 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July, 2002 (Toky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9160" y="4938840"/>
            <a:ext cx="1573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Work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84360" y="4916520"/>
            <a:ext cx="755964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ibution to ebXML:-Promote the inter-Registry coordination model. –Propose the methodology for assembling a document in semanti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apting the ebXML: -Share the guidelines developed by the memb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wareness and Promotion: -Make a demonstration at AFACT meeting. –Open the Web site for ebXML Asia Committe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4081320"/>
            <a:ext cx="1831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4081320"/>
            <a:ext cx="752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EC (Kore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EEF-38FC-4213-87BC-3C4F397040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280" y="41400"/>
            <a:ext cx="8763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ojects concerning ebXML in Asia Region (1/3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" y="1300320"/>
          <a:ext cx="8839080" cy="5153040"/>
        </p:xfrm>
        <a:graphic>
          <a:graphicData uri="http://schemas.openxmlformats.org/drawingml/2006/table">
            <a:tbl>
              <a:tblPr/>
              <a:tblGrid>
                <a:gridCol w="1447920"/>
                <a:gridCol w="4724280"/>
                <a:gridCol w="2666880"/>
              </a:tblGrid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rks (Current Status, Oth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Pan Asia E-Commerce Allia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zation to provide secure, trusted, reliable and value-adding IT infrastructure for efficient global trade and logistics, founded on July, 200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bers (6): Trade-Van (Taiwan), Tradelink (Hong Kong), Crimsonlogic (Singapore), KTNET (Korea), CIECC (China), TEDI (Jap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opting ebX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hase: MS, CPPA, Regi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Future: BP, 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d the pilot run to provide the cargo tracking services between Trade-Van and KTNE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Now developing Secure Cross Border Transaction system between Trade-Van and Tradelin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pril, 20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 of ebXML 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KI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d ebXML POC projec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esponding specification: MS, CPPA, Registry, BP, 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 demonstration was did at 7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h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ebXML seminar at Seoul in Kore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NODIGITAL developed POC syst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lementation of Regi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KI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rea National Central Registry and Reposi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based on V1.0, planned to be upgraded to V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 Registry &amp; Reposi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Trade Domain Registry by KT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d 1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tage developmen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021-3F4C-45D4-8BC4-D83545E799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28600" y="1200240"/>
          <a:ext cx="8839080" cy="5397480"/>
        </p:xfrm>
        <a:graphic>
          <a:graphicData uri="http://schemas.openxmlformats.org/drawingml/2006/table">
            <a:tbl>
              <a:tblPr/>
              <a:tblGrid>
                <a:gridCol w="1447920"/>
                <a:gridCol w="4724280"/>
                <a:gridCol w="2666880"/>
              </a:tblGrid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rks (Current Status, Oth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XML Registry &amp; Repository Projec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II, Taiw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project is a POC project to judge adoption of ebXML specification to next IFX (Interactive Financial Exchange Project) of ROCBA (Republic of China Banking Association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esponding specification: R&amp;R V1.0, CPPA V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nsor: Department of Industrial Technology, Ministry of Economic Affai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edul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Phase 1: 18 months from April, 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Phase 2: 12 months from Oct, 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X (Interactive Financial Exchange Projec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CA, NI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project will start actually, after past 1 year feasibility stud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project is supported by Ministry of Economic Affair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project will adopt ebXML MS specificat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edul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Start: July, 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Finish: December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 of ebXML MSG 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GCOM, Taiw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 of binary collaboration (From Payer to Ban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 kinds of message flow (Normal delivery and Reliable delive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POC was based on MS V1.0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POC is on going now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near future, This POC intends to upgrade to MS V2.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pril, 20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52280" y="41400"/>
            <a:ext cx="8763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ojects concerning ebXML in Asia Region (2/3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E5A3-0B22-448F-B12D-82503D361D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28600" y="1320840"/>
          <a:ext cx="8839080" cy="3260520"/>
        </p:xfrm>
        <a:graphic>
          <a:graphicData uri="http://schemas.openxmlformats.org/drawingml/2006/table">
            <a:tbl>
              <a:tblPr/>
              <a:tblGrid>
                <a:gridCol w="1447920"/>
                <a:gridCol w="4724280"/>
                <a:gridCol w="2666880"/>
              </a:tblGrid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rks (Current Status, Oth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C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enter for E-Commerce Infrastructure Developm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ong Ko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CID is a R&amp;D center at the University of Hong Kong, sponsored by Hong Kong Government and HK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ctives: To establish an ebXML infrastructure to support an open standard for document exchange between busines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iverabl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Local ebXML Regi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ebXML Business Router (Software engine to execute BPSS/CPPA, BPSS Edito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ebXML API Libr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perio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m January, 20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December 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152280" y="41400"/>
            <a:ext cx="8763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ojects concerning ebXML in Asia Region (3/3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FCD-AC1D-440C-B955-87AB50B358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81080" y="4245120"/>
            <a:ext cx="4622760" cy="21319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06640" y="1197000"/>
            <a:ext cx="4622760" cy="21826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0160" y="379440"/>
            <a:ext cx="885348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A’s Technical Architec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44960" y="3508200"/>
            <a:ext cx="247644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  <a:ea typeface="새굴림"/>
              </a:rPr>
              <a:t>Hub-to-Hub (H2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3760" y="5413320"/>
            <a:ext cx="1244520" cy="4161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새굴림"/>
              </a:rPr>
              <a:t>Trading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새굴림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24200" y="5413320"/>
            <a:ext cx="1246320" cy="4161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새굴림"/>
              </a:rPr>
              <a:t>Trading Part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새굴림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43600" y="5442120"/>
            <a:ext cx="1245960" cy="414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새굴림"/>
              </a:rPr>
              <a:t>Trading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새굴림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59320" y="4419720"/>
            <a:ext cx="1601640" cy="501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새굴림"/>
              </a:rPr>
              <a:t>Service 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새굴림"/>
              </a:rPr>
              <a:t>Trade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/>
          <p:nvPr/>
        </p:nvCxnSpPr>
        <p:spPr>
          <a:xfrm flipH="1">
            <a:off x="2928600" y="4932360"/>
            <a:ext cx="131832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/>
          <p:nvPr/>
        </p:nvCxnSpPr>
        <p:spPr>
          <a:xfrm flipH="1">
            <a:off x="4284000" y="4933800"/>
            <a:ext cx="1332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>
            <a:off x="4328640" y="4927320"/>
            <a:ext cx="125172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2376360" y="1763640"/>
            <a:ext cx="1244880" cy="412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새굴림"/>
              </a:rPr>
              <a:t>Trading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새굴림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6800" y="1763640"/>
            <a:ext cx="1246320" cy="412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새굴림"/>
              </a:rPr>
              <a:t>Trading Part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새굴림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56200" y="1771560"/>
            <a:ext cx="1246320" cy="4161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새굴림"/>
              </a:rPr>
              <a:t>Trading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새굴림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59320" y="2741760"/>
            <a:ext cx="1601640" cy="504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새굴림"/>
              </a:rPr>
              <a:t>Service 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새굴림"/>
              </a:rPr>
              <a:t>KT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/>
          <p:nvPr/>
        </p:nvCxnSpPr>
        <p:spPr>
          <a:xfrm flipH="1" flipV="1">
            <a:off x="2905920" y="2174400"/>
            <a:ext cx="13057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/>
          <p:nvPr/>
        </p:nvCxnSpPr>
        <p:spPr>
          <a:xfrm flipH="1" flipV="1">
            <a:off x="4282200" y="2174400"/>
            <a:ext cx="2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/>
          <p:nvPr/>
        </p:nvCxnSpPr>
        <p:spPr>
          <a:xfrm flipV="1">
            <a:off x="4316400" y="2184120"/>
            <a:ext cx="12643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/>
          <p:nvPr/>
        </p:nvCxnSpPr>
        <p:spPr>
          <a:xfrm>
            <a:off x="4284360" y="3303720"/>
            <a:ext cx="1080" cy="1108800"/>
          </a:xfrm>
          <a:prstGeom prst="straightConnector1">
            <a:avLst/>
          </a:prstGeom>
          <a:ln w="255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6997680" y="1576440"/>
            <a:ext cx="246240" cy="1320840"/>
          </a:xfrm>
          <a:custGeom>
            <a:avLst/>
            <a:gdLst>
              <a:gd name="textAreaLeft" fmla="*/ 0 w 246240"/>
              <a:gd name="textAreaRight" fmla="*/ 88920 w 246240"/>
              <a:gd name="textAreaTop" fmla="*/ 34200 h 1320840"/>
              <a:gd name="textAreaBottom" fmla="*/ 1286640 h 13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97680" y="4662360"/>
            <a:ext cx="216000" cy="1320840"/>
          </a:xfrm>
          <a:custGeom>
            <a:avLst/>
            <a:gdLst>
              <a:gd name="textAreaLeft" fmla="*/ 0 w 216000"/>
              <a:gd name="textAreaRight" fmla="*/ 78120 w 216000"/>
              <a:gd name="textAreaTop" fmla="*/ 34200 h 1320840"/>
              <a:gd name="textAreaBottom" fmla="*/ 1286640 h 13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97680" y="2948040"/>
            <a:ext cx="216000" cy="1663560"/>
          </a:xfrm>
          <a:custGeom>
            <a:avLst/>
            <a:gdLst>
              <a:gd name="textAreaLeft" fmla="*/ 0 w 216000"/>
              <a:gd name="textAreaRight" fmla="*/ 78120 w 216000"/>
              <a:gd name="textAreaTop" fmla="*/ 43200 h 1663560"/>
              <a:gd name="textAreaBottom" fmla="*/ 1620360 h 16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89640" y="1730520"/>
            <a:ext cx="185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Verdana"/>
                <a:ea typeface="새굴림"/>
              </a:rPr>
              <a:t>Any Traditional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64440" y="4816440"/>
            <a:ext cx="1879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Verdana"/>
                <a:ea typeface="새굴림"/>
              </a:rPr>
              <a:t>Any Traditional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02600" y="3559320"/>
            <a:ext cx="1282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  <a:ea typeface="새굴림"/>
              </a:rPr>
              <a:t>eb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 rot="5400000">
            <a:off x="526320" y="3473280"/>
            <a:ext cx="465840" cy="43560"/>
          </a:xfrm>
          <a:prstGeom prst="curvedConnector5">
            <a:avLst>
              <a:gd name="adj1" fmla="val 49806"/>
              <a:gd name="adj2" fmla="val 50000"/>
              <a:gd name="adj3" fmla="val 49806"/>
            </a:avLst>
          </a:prstGeom>
          <a:ln w="1260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635040" y="3046320"/>
            <a:ext cx="1455840" cy="1822680"/>
          </a:xfrm>
          <a:custGeom>
            <a:avLst/>
            <a:gdLst>
              <a:gd name="textAreaLeft" fmla="*/ 70920 w 1455840"/>
              <a:gd name="textAreaRight" fmla="*/ 1384920 w 1455840"/>
              <a:gd name="textAreaTop" fmla="*/ 70920 h 1822680"/>
              <a:gd name="textAreaBottom" fmla="*/ 1751760 h 1822680"/>
            </a:gdLst>
            <a:ahLst/>
            <a:rect l="textAreaLeft" t="textAreaTop" r="textAreaRight" b="textAreaBottom"/>
            <a:pathLst>
              <a:path w="21600" h="27041">
                <a:moveTo>
                  <a:pt x="3600" y="0"/>
                </a:moveTo>
                <a:arcTo wR="3600" hR="3600" stAng="16200000" swAng="-5400000"/>
                <a:lnTo>
                  <a:pt x="0" y="23441"/>
                </a:lnTo>
                <a:arcTo wR="3600" hR="3600" stAng="10800000" swAng="-5400000"/>
                <a:lnTo>
                  <a:pt x="18000" y="270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3160" y="3206880"/>
            <a:ext cx="1131840" cy="493560"/>
          </a:xfrm>
          <a:prstGeom prst="cube">
            <a:avLst>
              <a:gd name="adj" fmla="val 19333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새굴림"/>
              </a:rPr>
              <a:t>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새굴림"/>
              </a:rPr>
              <a:t>Meta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8480" y="3943440"/>
            <a:ext cx="1054080" cy="8143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새굴림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새굴림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5" idx="3"/>
            <a:endCxn id="96" idx="0"/>
          </p:cNvCxnSpPr>
          <p:nvPr/>
        </p:nvCxnSpPr>
        <p:spPr>
          <a:xfrm flipH="1" rot="16200000">
            <a:off x="1057320" y="3705840"/>
            <a:ext cx="421200" cy="3960"/>
          </a:xfrm>
          <a:prstGeom prst="curvedConnector5">
            <a:avLst>
              <a:gd name="adj1" fmla="val 27117"/>
              <a:gd name="adj2" fmla="val 50000"/>
              <a:gd name="adj3" fmla="val 27117"/>
            </a:avLst>
          </a:prstGeom>
          <a:ln w="12600">
            <a:solidFill>
              <a:srgbClr val="cc00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318600" y="2374920"/>
            <a:ext cx="2167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  <a:ea typeface="새굴림"/>
              </a:rPr>
              <a:t>P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  <a:ea typeface="새굴림"/>
              </a:rPr>
              <a:t>ebXML Reg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69" idx="3"/>
            <a:endCxn id="94" idx="3"/>
          </p:cNvCxnSpPr>
          <p:nvPr/>
        </p:nvCxnSpPr>
        <p:spPr>
          <a:xfrm rot="5400000">
            <a:off x="1945080" y="3220200"/>
            <a:ext cx="883080" cy="592560"/>
          </a:xfrm>
          <a:prstGeom prst="curvedConnector2">
            <a:avLst/>
          </a:prstGeom>
          <a:ln w="255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" name=""/>
          <p:cNvCxnSpPr>
            <a:endCxn id="94" idx="3"/>
          </p:cNvCxnSpPr>
          <p:nvPr/>
        </p:nvCxnSpPr>
        <p:spPr>
          <a:xfrm flipV="1" rot="16200000">
            <a:off x="2045520" y="4001400"/>
            <a:ext cx="631080" cy="541800"/>
          </a:xfrm>
          <a:prstGeom prst="curvedConnector2">
            <a:avLst/>
          </a:prstGeom>
          <a:ln w="255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2641680" y="1273320"/>
            <a:ext cx="332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새굴림"/>
              </a:rPr>
              <a:t>Korean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87520" y="5970600"/>
            <a:ext cx="4025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새굴림"/>
              </a:rPr>
              <a:t>Pan Asian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2351160"/>
            <a:ext cx="2311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새굴림"/>
              </a:rPr>
              <a:t>(EDI, XML/EDI, ebX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35160" y="5068800"/>
            <a:ext cx="2248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새굴림"/>
              </a:rPr>
              <a:t>(EDI, XML/EDI, ebX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2365200"/>
            <a:ext cx="1117440" cy="532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Tra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4751280"/>
            <a:ext cx="1117440" cy="533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Digi-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0840" y="6451560"/>
            <a:ext cx="8524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</a:rPr>
              <a:t>Reference: PAA’s Global e-Trade Platform based on ebXML (KTNET, May 23, XML Europe 2002</a:t>
            </a:r>
            <a:r>
              <a:rPr b="1" lang="ja-JP" sz="13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040" y="907920"/>
            <a:ext cx="8453520" cy="4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PAA adopted ebXML framework in Hub-to-Hub system between Service Provider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7A1-FDCD-458B-9630-02769CB504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346640" y="5433840"/>
            <a:ext cx="0" cy="73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029440" y="4952880"/>
            <a:ext cx="0" cy="106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797360" y="57160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/>
          <p:nvPr/>
        </p:nvCxnSpPr>
        <p:spPr>
          <a:xfrm rot="5400000">
            <a:off x="2412360" y="4459320"/>
            <a:ext cx="265680" cy="285984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1676520" y="1308240"/>
            <a:ext cx="5143320" cy="444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3240" y="1473120"/>
            <a:ext cx="4851720" cy="273060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1880" y="3135240"/>
            <a:ext cx="933480" cy="72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Mailbox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PP,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/>
          <p:nvPr/>
        </p:nvCxnSpPr>
        <p:spPr>
          <a:xfrm>
            <a:off x="1392120" y="3487320"/>
            <a:ext cx="254880" cy="13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685800" y="5765760"/>
            <a:ext cx="571680" cy="533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1598760"/>
            <a:ext cx="1562400" cy="736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굴림"/>
              </a:rPr>
              <a:t>SP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SP’s CP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SP’s CP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61040" y="2921040"/>
            <a:ext cx="1841760" cy="825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굴림"/>
              </a:rPr>
              <a:t>XML Schema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DT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Sche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24760" y="3670200"/>
            <a:ext cx="1841400" cy="6098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굴림"/>
              </a:rPr>
              <a:t>Security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C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51840" y="2311560"/>
            <a:ext cx="1562040" cy="711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굴림"/>
              </a:rPr>
              <a:t>TP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TP’s CP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79560" y="4470480"/>
            <a:ext cx="4711680" cy="11048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굴림"/>
              </a:rPr>
              <a:t>ebXML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Message Envelope Signing/Verif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Packaging based on C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cknowledgement &amp; Delivery Recei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67360" y="3276720"/>
            <a:ext cx="1434960" cy="77472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  <a:ea typeface="굴림"/>
              </a:rPr>
              <a:t>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Registry 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2400480"/>
            <a:ext cx="1435320" cy="77436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굴림"/>
              </a:rPr>
              <a:t>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CPP/CPA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18120" y="2108160"/>
            <a:ext cx="1434960" cy="77472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굴림"/>
              </a:rPr>
              <a:t>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CPP/CPA Regis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&amp; Discov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/>
          <p:nvPr/>
        </p:nvCxnSpPr>
        <p:spPr>
          <a:xfrm flipH="1">
            <a:off x="5744520" y="2903040"/>
            <a:ext cx="51480" cy="369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3746520" y="1625760"/>
            <a:ext cx="1434960" cy="77472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굴림"/>
              </a:rPr>
              <a:t>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Content Regis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&amp; Discov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4479840" y="2393640"/>
            <a:ext cx="813600" cy="964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8420040" y="5662440"/>
            <a:ext cx="509760" cy="692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78920" y="5440320"/>
            <a:ext cx="82548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  <a:ea typeface="굴림"/>
              </a:rPr>
              <a:t>SP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43280" y="1498680"/>
            <a:ext cx="1320480" cy="711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Routing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For T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3263760"/>
            <a:ext cx="1434960" cy="77472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굴림"/>
              </a:rPr>
              <a:t>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Trans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43280" y="3263760"/>
            <a:ext cx="1434960" cy="77472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굴림"/>
              </a:rPr>
              <a:t>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Content Digi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69160" y="958680"/>
            <a:ext cx="1968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  <a:ea typeface="새굴림"/>
              </a:rPr>
              <a:t>P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  <a:ea typeface="새굴림"/>
              </a:rPr>
              <a:t>ebXML Reg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0120" y="2436840"/>
            <a:ext cx="133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  <a:ea typeface="새굴림"/>
              </a:rPr>
              <a:t>Tr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  <a:ea typeface="새굴림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63560" y="9144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  <a:ea typeface="새굴림"/>
              </a:rPr>
              <a:t>Service Provide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77040" y="4203720"/>
            <a:ext cx="15620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굴림"/>
              </a:rPr>
              <a:t>eCatalo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0520" y="380880"/>
            <a:ext cx="858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A’s TA – </a:t>
            </a:r>
            <a:r>
              <a:rPr b="1" lang="en-US" sz="3000" spc="-1" strike="noStrike">
                <a:solidFill>
                  <a:srgbClr val="3333cc"/>
                </a:solidFill>
                <a:latin typeface="Verdana"/>
              </a:rPr>
              <a:t>Component vie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4572000"/>
            <a:ext cx="15620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굴림"/>
              </a:rPr>
              <a:t>Company 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/>
          <p:nvPr/>
        </p:nvCxnSpPr>
        <p:spPr>
          <a:xfrm flipH="1" rot="16200000">
            <a:off x="2803680" y="1922040"/>
            <a:ext cx="165600" cy="781920"/>
          </a:xfrm>
          <a:prstGeom prst="bentConnector3">
            <a:avLst>
              <a:gd name="adj1" fmla="val 49891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42" name=""/>
          <p:cNvCxnSpPr/>
          <p:nvPr/>
        </p:nvCxnSpPr>
        <p:spPr>
          <a:xfrm flipH="1" rot="16200000">
            <a:off x="7815960" y="5369400"/>
            <a:ext cx="937440" cy="22464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4797360" y="6021360"/>
            <a:ext cx="32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6640" y="6173640"/>
            <a:ext cx="405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9600" y="866880"/>
            <a:ext cx="84549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0" y="6451560"/>
            <a:ext cx="9109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S: Value Added Services as ebXML Hub   CPP/CPA Mgmt: CPP/CPA Management for routing and user manage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Verdana"/>
              </a:rPr>
              <a:t>PAA’s functions are constructed based on ebXML MS, R&amp;R, and CPPA specif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DCE-8A2F-48CB-AE13-B72734DE8F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720" y="380880"/>
            <a:ext cx="7794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A’s TA – </a:t>
            </a:r>
            <a:r>
              <a:rPr b="1" lang="en-US" sz="3000" spc="-1" strike="noStrike">
                <a:solidFill>
                  <a:srgbClr val="3333cc"/>
                </a:solidFill>
                <a:latin typeface="Verdana"/>
              </a:rPr>
              <a:t>Process vie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2440" y="1371600"/>
            <a:ext cx="770724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cc99"/>
              </a:buClr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Verdana"/>
                <a:ea typeface="굴림"/>
              </a:rPr>
              <a:t>Registration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Register Service Provider (Submit SP’s C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Register Subscriber (Submit TP’s C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cc99"/>
              </a:buClr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Verdana"/>
                <a:ea typeface="굴림"/>
              </a:rPr>
              <a:t>Agreement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Register Service Provider (Submit SP’s C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cc99"/>
              </a:buClr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Verdana"/>
                <a:ea typeface="굴림"/>
              </a:rPr>
              <a:t>Document Exchange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P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 SP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 SP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 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Envelope &amp; Content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ransformation (Customer Forma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 PAA Forma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Verdana"/>
                <a:ea typeface="굴림"/>
              </a:rPr>
              <a:t>See Appendix for Detail Procedure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040" y="936720"/>
            <a:ext cx="8453520" cy="4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Verdana"/>
              </a:rPr>
              <a:t>PAA’s Business Process includes from Registration CPP to R&amp;R, Making CPA, to EDI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0840" y="6381720"/>
            <a:ext cx="8524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</a:rPr>
              <a:t>Reference: PAA’s Global e-Trade Platform based on ebXML (KTNET, May 23, XML Europe 2002</a:t>
            </a:r>
            <a:r>
              <a:rPr b="1" lang="ja-JP" sz="13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A07-82AD-4361-BD3D-E6E0DC8617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0520" y="549000"/>
            <a:ext cx="77169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A’s Pilot Us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04840" y="1201680"/>
            <a:ext cx="7124760" cy="521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51240" y="2179800"/>
            <a:ext cx="4406760" cy="29970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76640" y="3094200"/>
            <a:ext cx="1104840" cy="1182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25760" y="3603600"/>
            <a:ext cx="589320" cy="54468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Reposi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00560" y="3236760"/>
            <a:ext cx="646200" cy="208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2"/>
            <a:endCxn id="157" idx="0"/>
          </p:cNvCxnSpPr>
          <p:nvPr/>
        </p:nvCxnSpPr>
        <p:spPr>
          <a:xfrm flipH="1">
            <a:off x="4426920" y="3252960"/>
            <a:ext cx="3960" cy="272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3962520" y="2712960"/>
            <a:ext cx="1295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굴림"/>
              </a:rPr>
              <a:t>Regist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60440" y="4059360"/>
            <a:ext cx="1854360" cy="8254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Reliable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Trans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58920" y="3498840"/>
            <a:ext cx="20192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6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Verdana"/>
                <a:ea typeface="굴림"/>
              </a:rPr>
              <a:t>KTN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굴림"/>
              </a:rPr>
              <a:t>(Service Provid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4046400"/>
            <a:ext cx="1854000" cy="82404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Reliable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Trans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5418000"/>
            <a:ext cx="1168560" cy="60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굴림"/>
              </a:rPr>
              <a:t>Tra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(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 flipV="1">
            <a:off x="2257560" y="4882320"/>
            <a:ext cx="786240" cy="562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6794640" y="5430960"/>
            <a:ext cx="1117440" cy="582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/>
          <p:nvPr/>
        </p:nvCxnSpPr>
        <p:spPr>
          <a:xfrm>
            <a:off x="6205320" y="4861080"/>
            <a:ext cx="888120" cy="584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5016600" y="3551400"/>
            <a:ext cx="20192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6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Verdana"/>
                <a:ea typeface="굴림"/>
              </a:rPr>
              <a:t>TradeVA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굴림"/>
              </a:rPr>
              <a:t>(Service Provid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/>
          <p:nvPr/>
        </p:nvCxnSpPr>
        <p:spPr>
          <a:xfrm>
            <a:off x="2679840" y="5660640"/>
            <a:ext cx="405360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708360" y="5802480"/>
            <a:ext cx="2147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Mutual 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1798560"/>
            <a:ext cx="1854360" cy="8254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Reliable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Trans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44840" y="1303200"/>
            <a:ext cx="23065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6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Verdana"/>
                <a:ea typeface="굴림"/>
              </a:rPr>
              <a:t>Tradelin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굴림"/>
              </a:rPr>
              <a:t>(Service Provid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06960" y="2459160"/>
            <a:ext cx="1117800" cy="582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/>
          <p:nvPr/>
        </p:nvCxnSpPr>
        <p:spPr>
          <a:xfrm>
            <a:off x="5491080" y="2263680"/>
            <a:ext cx="619920" cy="3024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grpSp>
        <p:nvGrpSpPr>
          <p:cNvPr id="175" name=""/>
          <p:cNvGrpSpPr/>
          <p:nvPr/>
        </p:nvGrpSpPr>
        <p:grpSpPr>
          <a:xfrm>
            <a:off x="266760" y="1125360"/>
            <a:ext cx="8813880" cy="4377960"/>
            <a:chOff x="266760" y="1125360"/>
            <a:chExt cx="8813880" cy="4377960"/>
          </a:xfrm>
        </p:grpSpPr>
        <p:sp>
          <p:nvSpPr>
            <p:cNvPr id="176" name=""/>
            <p:cNvSpPr/>
            <p:nvPr/>
          </p:nvSpPr>
          <p:spPr>
            <a:xfrm>
              <a:off x="825480" y="4160520"/>
              <a:ext cx="838080" cy="58428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Ap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6760" y="3690720"/>
              <a:ext cx="20192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Verdana"/>
                  <a:ea typeface="굴림"/>
                </a:rPr>
                <a:t>Daewoo M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Verdana"/>
                  <a:ea typeface="굴림"/>
                </a:rPr>
                <a:t>(Trading Partn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70880" y="4617720"/>
              <a:ext cx="838080" cy="58428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Ap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" name=""/>
            <p:cNvCxnSpPr>
              <a:stCxn id="176" idx="3"/>
              <a:endCxn id="161" idx="1"/>
            </p:cNvCxnSpPr>
            <p:nvPr/>
          </p:nvCxnSpPr>
          <p:spPr>
            <a:xfrm>
              <a:off x="1676160" y="4452840"/>
              <a:ext cx="572040" cy="19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80" name=""/>
            <p:cNvCxnSpPr>
              <a:stCxn id="163" idx="3"/>
              <a:endCxn id="178" idx="1"/>
            </p:cNvCxnSpPr>
            <p:nvPr/>
          </p:nvCxnSpPr>
          <p:spPr>
            <a:xfrm>
              <a:off x="6972120" y="4458600"/>
              <a:ext cx="686520" cy="45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76" idx="2"/>
              <a:endCxn id="164" idx="1"/>
            </p:cNvCxnSpPr>
            <p:nvPr/>
          </p:nvCxnSpPr>
          <p:spPr>
            <a:xfrm>
              <a:off x="1244160" y="4757400"/>
              <a:ext cx="299160" cy="737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66" idx="7"/>
              <a:endCxn id="178" idx="2"/>
            </p:cNvCxnSpPr>
            <p:nvPr/>
          </p:nvCxnSpPr>
          <p:spPr>
            <a:xfrm flipV="1">
              <a:off x="7748640" y="5214240"/>
              <a:ext cx="342000" cy="289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183" name=""/>
            <p:cNvSpPr/>
            <p:nvPr/>
          </p:nvSpPr>
          <p:spPr>
            <a:xfrm>
              <a:off x="7061040" y="4173120"/>
              <a:ext cx="20196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Verdana"/>
                  <a:ea typeface="굴림"/>
                </a:rPr>
                <a:t>Formosa Plas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Verdana"/>
                  <a:ea typeface="굴림"/>
                </a:rPr>
                <a:t>(Trading Partn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7440" y="1569960"/>
              <a:ext cx="838080" cy="58392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Ap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5" name=""/>
            <p:cNvCxnSpPr>
              <a:stCxn id="171" idx="3"/>
              <a:endCxn id="184" idx="1"/>
            </p:cNvCxnSpPr>
            <p:nvPr/>
          </p:nvCxnSpPr>
          <p:spPr>
            <a:xfrm flipV="1">
              <a:off x="5524560" y="1861560"/>
              <a:ext cx="800640" cy="349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186" name=""/>
            <p:cNvSpPr/>
            <p:nvPr/>
          </p:nvSpPr>
          <p:spPr>
            <a:xfrm>
              <a:off x="5727600" y="1125360"/>
              <a:ext cx="20192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Verdana"/>
                  <a:ea typeface="굴림"/>
                </a:rPr>
                <a:t>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Verdana"/>
                  <a:ea typeface="굴림"/>
                </a:rPr>
                <a:t>(Trading Partn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58280" y="3385800"/>
              <a:ext cx="838080" cy="58428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  <a:ea typeface="굴림"/>
                </a:rPr>
                <a:t>Ap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8" name=""/>
            <p:cNvCxnSpPr>
              <a:stCxn id="163" idx="3"/>
              <a:endCxn id="187" idx="1"/>
            </p:cNvCxnSpPr>
            <p:nvPr/>
          </p:nvCxnSpPr>
          <p:spPr>
            <a:xfrm flipV="1">
              <a:off x="6972120" y="3677400"/>
              <a:ext cx="673200" cy="781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189" name=""/>
            <p:cNvSpPr/>
            <p:nvPr/>
          </p:nvSpPr>
          <p:spPr>
            <a:xfrm>
              <a:off x="7048440" y="2941560"/>
              <a:ext cx="20192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Verdana"/>
                  <a:ea typeface="굴림"/>
                </a:rPr>
                <a:t>Tai-Yu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Verdana"/>
                  <a:ea typeface="굴림"/>
                </a:rPr>
                <a:t>(Trading Partn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0" name=""/>
            <p:cNvCxnSpPr>
              <a:stCxn id="184" idx="2"/>
              <a:endCxn id="173" idx="0"/>
            </p:cNvCxnSpPr>
            <p:nvPr/>
          </p:nvCxnSpPr>
          <p:spPr>
            <a:xfrm flipH="1">
              <a:off x="6565320" y="2166840"/>
              <a:ext cx="191160" cy="280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191" name=""/>
          <p:cNvSpPr/>
          <p:nvPr/>
        </p:nvSpPr>
        <p:spPr>
          <a:xfrm>
            <a:off x="365040" y="1006560"/>
            <a:ext cx="845352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93880" y="2746440"/>
            <a:ext cx="14702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PA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Verdana"/>
              </a:rPr>
              <a:t>3 Service Providers, 4 Trading Partners, and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ertificate Authority</a:t>
            </a:r>
            <a:r>
              <a:rPr b="1" lang="ja-JP" sz="1500" spc="-1" strike="noStrike">
                <a:solidFill>
                  <a:srgbClr val="000000"/>
                </a:solidFill>
                <a:latin typeface="Verdana"/>
              </a:rPr>
              <a:t> are participating PAA’s Pilot Projec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0840" y="6453360"/>
            <a:ext cx="8524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</a:rPr>
              <a:t>Reference: PAA’s Global e-Trade Platform based on ebXML (KTNET, May 23, XML Europe 2002</a:t>
            </a:r>
            <a:r>
              <a:rPr b="1" lang="ja-JP" sz="13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DD0-B268-451A-84CF-253D0F1716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01:49:04Z</dcterms:created>
  <dc:creator>電子商取引推進協議会</dc:creator>
  <dc:description/>
  <dc:language>en-US</dc:language>
  <cp:lastModifiedBy>saito</cp:lastModifiedBy>
  <dcterms:modified xsi:type="dcterms:W3CDTF">2002-05-31T08:51:41Z</dcterms:modified>
  <cp:revision>82</cp:revision>
  <dc:subject/>
  <dc:title>Country Status Report in Japan</dc:title>
</cp:coreProperties>
</file>