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79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83920" indent="-217080">
              <a:spcBef>
                <a:spcPts val="9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81720" indent="-217080">
              <a:spcBef>
                <a:spcPts val="9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81720" indent="-217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81720" indent="-217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209960" cy="1258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057400" y="1676520"/>
            <a:ext cx="6400800" cy="0"/>
          </a:xfrm>
          <a:prstGeom prst="line">
            <a:avLst/>
          </a:prstGeom>
          <a:ln w="57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enorm.be/isss/eBIF_Conference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enorm.be/isss" TargetMode="External"/><Relationship Id="rId2" Type="http://schemas.openxmlformats.org/officeDocument/2006/relationships/hyperlink" Target="http://www.cenorm.be/iss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7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CEN/ISSS is contributing to interoper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ina Horsnell, CEN/ISSS Forum 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ASIS - London, 17 Octo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CE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7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 - the European Standards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ree European Standardization Organizations - with ETSI and CENELEC - formally recognized by the 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on-profit association, whose 28 members are national standards bodies in EU and EF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/ISSS: since 1997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cal point for ICT issues within C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mission of CEN/ISSS is to provide market players with a comprehensive and integrated range of standardization-oriented services and products, in order to contribute to the success of the Information Society in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Business Interoperability Forum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7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he European platform for the consideration of interoperability solutions relating to eBusiness, making strategic recommendations concerning standardization activities required to achieve th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rted in 2004 – 70 member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ir: Dick Raman, TIE Holding N.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cus: semantic interoper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inging together technology providers and users of eBusiness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admap on key issues for eBusiness interoperability: new edition 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aising with European and global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ference “Interoperability – The backbone of eBusiness”, Utrecht (NL) 28-29 November 2005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enorm.be/isss/eBIF_Co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eGovernment Focus Group</a:t>
            </a: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7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o determine role that standards play in eGovernment as means to achieve interoperability at all levels of public administration in 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rted: 16 Feb 20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ir: Peter Brown, EP – now seconded to Austrian Administ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-program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   Potential and current use of standards in eGovernment (all level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ap analysis and roadma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ibution to IDAbc clearing house infrastructure discu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wareness and dissem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put to high level meeting under Austrian presidency (Vienna, 9-10 Feb. 200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al Report Jun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ther current eBusiness-related activiti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7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EN/ISSS Workshop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BES: EDI and ebXML – European “Entry Point” to un/CEFACT standards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Invoicing: standards in support of EU Directive on 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AT: eCatalogues and Classif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tor Workshop (Texti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sonal data protection and privacy: best practice for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 activit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Health Focus Group: interoperability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PRAS (research and standardiz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ometr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 and information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e infos? URL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cenorm.be/is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09:57:22Z</dcterms:created>
  <dc:creator>CEN</dc:creator>
  <dc:description/>
  <dc:language>en-US</dc:language>
  <cp:lastModifiedBy>gatbar</cp:lastModifiedBy>
  <cp:lastPrinted>1999-10-20T14:30:12Z</cp:lastPrinted>
  <dcterms:modified xsi:type="dcterms:W3CDTF">2005-10-03T09:31:31Z</dcterms:modified>
  <cp:revision>13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04163744</vt:r8>
  </property>
  <property fmtid="{D5CDD505-2E9C-101B-9397-08002B2CF9AE}" pid="3" name="_AuthorEmail">
    <vt:lpwstr>barbara.gatti@cenorm.be</vt:lpwstr>
  </property>
  <property fmtid="{D5CDD505-2E9C-101B-9397-08002B2CF9AE}" pid="4" name="_AuthorEmailDisplayName">
    <vt:lpwstr>Gatti Barbara</vt:lpwstr>
  </property>
  <property fmtid="{D5CDD505-2E9C-101B-9397-08002B2CF9AE}" pid="5" name="_EmailSubject">
    <vt:lpwstr>[members] Top Ten Reasons to Attend the OASIS Adoption Forum</vt:lpwstr>
  </property>
</Properties>
</file>