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10A-3359-4A1A-B6B2-1F9E3A17325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2A35-20AC-4243-BACA-1BA1852E17D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F1D0-E562-4357-B3DD-8BDBE574777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T Standards Board was created in 1995 following the Genval conference.  10 years old this yea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42B6-5FFD-442B-B89F-3FF9B383EFE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476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re 3 European Standards Organisations (ES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ue are Observers – EC/EFTA and User Organ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66"/>
                </a:solidFill>
                <a:latin typeface="Times New Roman"/>
              </a:rPr>
              <a:t>Purp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re fora and consor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n are fora in process of negotiation to j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e are in process of le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tant turnover of members – 4 have left since start: EWOS, EBES, EACEM, DAV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ually expanded membership – 8 have jo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ill has European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itical mass of standards bodies and fora in ICT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atorium on further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44C1-631F-46FC-8794-57687DB4572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novation – to gain early awareness of new technologies in order to identify potential opportunities &amp; thr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st Reduction - Equipment designed and built to agreed standards will enable economies of scale leading to a reduced cost of int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evenue protection - to maximise the life &amp; revenue opportunities from existing infrastructure and intellectual property righ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tion - to ensure compliance and to maintain interoperability with the networks and systems of different operators and service providers. And equally, between BT’s network and CP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ew opportunities - to influence new developments in potential revenue growth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keith.dickerson@bt.com" TargetMode="External"/><Relationship Id="rId3" Type="http://schemas.openxmlformats.org/officeDocument/2006/relationships/hyperlink" Target="mailto:keith.dickerson@bt.com" TargetMode="External"/><Relationship Id="rId4" Type="http://schemas.openxmlformats.org/officeDocument/2006/relationships/hyperlink" Target="http://www.ictsb.org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3619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CT Standards Boar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59568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ith Dicker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man of the ICT Standards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keith</a:t>
            </a:r>
            <a:r>
              <a:rPr b="0" lang="en-GB" sz="3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.dickerson@bt.com</a:t>
            </a:r>
            <a:r>
              <a:rPr b="0" lang="en-GB" sz="3200" spc="-1" strike="noStrike" u="sng">
                <a:solidFill>
                  <a:srgbClr val="996633"/>
                </a:solidFill>
                <a:uFillTx/>
                <a:latin typeface="Arial"/>
                <a:hlinkClick r:id="rId4"/>
              </a:rPr>
              <a:t>www.ictsb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 Black"/>
              </a:rPr>
              <a:t>ICT Standards Boar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2290680"/>
            <a:ext cx="68770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4880" indent="-39852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was it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9852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it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9852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is i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9852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B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9852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standards are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 Black"/>
              </a:rPr>
              <a:t>Why ICTSB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4600" y="2274480"/>
            <a:ext cx="70027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ction to convergence of IT, telecommunications, broadcasting and entertainment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reduce overlaps between activities of European Standards Organisations (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involve (many) fora and conso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European focus for Global ICT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 Black"/>
              </a:rPr>
              <a:t>ICT Standards Boar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3720" y="2209320"/>
            <a:ext cx="367524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A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Arial"/>
              </a:rPr>
              <a:t>ATM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ENE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D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E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Ecma 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EFTA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EI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E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280" y="2209320"/>
            <a:ext cx="382752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ISOC (IET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Liberty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NORMAP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O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O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OS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Rosett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The Ope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TM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W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423720"/>
            <a:ext cx="7734240" cy="640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962600"/>
            <a:ext cx="7429680" cy="1633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1680" y="1871640"/>
            <a:ext cx="4888080" cy="3021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00040"/>
            <a:ext cx="1335240" cy="447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280" y="461880"/>
            <a:ext cx="9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0520" y="501480"/>
            <a:ext cx="4889520" cy="1211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340400" y="500040"/>
            <a:ext cx="1003320" cy="4392360"/>
            <a:chOff x="7340400" y="500040"/>
            <a:chExt cx="1003320" cy="4392360"/>
          </a:xfrm>
        </p:grpSpPr>
        <p:sp>
          <p:nvSpPr>
            <p:cNvPr id="103" name=""/>
            <p:cNvSpPr/>
            <p:nvPr/>
          </p:nvSpPr>
          <p:spPr>
            <a:xfrm flipH="1">
              <a:off x="7340040" y="500040"/>
              <a:ext cx="1003320" cy="4392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395800">
              <a:off x="7640280" y="1903320"/>
              <a:ext cx="336240" cy="91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240720" y="6580080"/>
            <a:ext cx="29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tegration &amp; application development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3400" y="50004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1160" y="2841480"/>
            <a:ext cx="0" cy="4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51160" y="4021200"/>
            <a:ext cx="0" cy="4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57360" y="2398680"/>
            <a:ext cx="2271960" cy="2311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941720" y="2398680"/>
            <a:ext cx="2213280" cy="2311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1520" y="239400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07200" y="237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79720" y="2679840"/>
            <a:ext cx="1841760" cy="1681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7240" y="3240000"/>
            <a:ext cx="567000" cy="560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8880" y="3309840"/>
            <a:ext cx="42372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66960" y="3240000"/>
            <a:ext cx="567000" cy="560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3309840"/>
            <a:ext cx="42372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1200" y="2790720"/>
            <a:ext cx="1558800" cy="14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0560" y="3349800"/>
            <a:ext cx="637920" cy="560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0560" y="2400480"/>
            <a:ext cx="637920" cy="42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0560" y="1403280"/>
            <a:ext cx="637920" cy="420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62040" y="571680"/>
            <a:ext cx="354240" cy="1120680"/>
          </a:xfrm>
          <a:custGeom>
            <a:avLst/>
            <a:gdLst>
              <a:gd name="textAreaLeft" fmla="*/ 17280 w 354240"/>
              <a:gd name="textAreaRight" fmla="*/ 336960 w 354240"/>
              <a:gd name="textAreaTop" fmla="*/ 17280 h 1120680"/>
              <a:gd name="textAreaBottom" fmla="*/ 1103400 h 1120680"/>
            </a:gdLst>
            <a:ahLst/>
            <a:rect l="textAreaLeft" t="textAreaTop" r="textAreaRight" b="textAreaBottom"/>
            <a:pathLst>
              <a:path w="21600" h="68287">
                <a:moveTo>
                  <a:pt x="3600" y="0"/>
                </a:moveTo>
                <a:arcTo wR="3600" hR="3600" stAng="16200000" swAng="-5400000"/>
                <a:lnTo>
                  <a:pt x="0" y="64687"/>
                </a:lnTo>
                <a:arcTo wR="3600" hR="3600" stAng="10800000" swAng="-5400000"/>
                <a:lnTo>
                  <a:pt x="18000" y="68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4760" y="571680"/>
            <a:ext cx="354240" cy="1120680"/>
          </a:xfrm>
          <a:custGeom>
            <a:avLst/>
            <a:gdLst>
              <a:gd name="textAreaLeft" fmla="*/ 17280 w 354240"/>
              <a:gd name="textAreaRight" fmla="*/ 336960 w 354240"/>
              <a:gd name="textAreaTop" fmla="*/ 17280 h 1120680"/>
              <a:gd name="textAreaBottom" fmla="*/ 1103400 h 1120680"/>
            </a:gdLst>
            <a:ahLst/>
            <a:rect l="textAreaLeft" t="textAreaTop" r="textAreaRight" b="textAreaBottom"/>
            <a:pathLst>
              <a:path w="21600" h="68287">
                <a:moveTo>
                  <a:pt x="3600" y="0"/>
                </a:moveTo>
                <a:arcTo wR="3600" hR="3600" stAng="16200000" swAng="-5400000"/>
                <a:lnTo>
                  <a:pt x="0" y="64687"/>
                </a:lnTo>
                <a:arcTo wR="3600" hR="3600" stAng="10800000" swAng="-5400000"/>
                <a:lnTo>
                  <a:pt x="18000" y="68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3520" y="571680"/>
            <a:ext cx="4464000" cy="2793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ercial &amp; Custom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87560" y="920880"/>
            <a:ext cx="3897360" cy="139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lling, Customer &amp; Channel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87560" y="1131840"/>
            <a:ext cx="3897360" cy="139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7560" y="1338120"/>
            <a:ext cx="1951200" cy="142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osition Creation &amp;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87560" y="1528920"/>
            <a:ext cx="1951200" cy="137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ont Office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412040" y="1109520"/>
            <a:ext cx="860040" cy="3581280"/>
            <a:chOff x="7412040" y="1109520"/>
            <a:chExt cx="860040" cy="3581280"/>
          </a:xfrm>
        </p:grpSpPr>
        <p:sp>
          <p:nvSpPr>
            <p:cNvPr id="130" name=""/>
            <p:cNvSpPr/>
            <p:nvPr/>
          </p:nvSpPr>
          <p:spPr>
            <a:xfrm>
              <a:off x="7422840" y="1109520"/>
              <a:ext cx="849240" cy="5112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ppl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22840" y="1690560"/>
              <a:ext cx="849240" cy="529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ortfol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22840" y="2301480"/>
              <a:ext cx="849240" cy="571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llig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22840" y="2941200"/>
              <a:ext cx="849240" cy="682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llabo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12040" y="3709800"/>
              <a:ext cx="849240" cy="3506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in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12040" y="4130280"/>
              <a:ext cx="849240" cy="5605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18280" y="3260880"/>
            <a:ext cx="860400" cy="490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18280" y="2630520"/>
            <a:ext cx="868320" cy="490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s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2600" y="3890880"/>
            <a:ext cx="1204920" cy="2811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ation &amp; Pri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16480" y="4311720"/>
            <a:ext cx="1751040" cy="280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ice Management 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33680" y="2700360"/>
            <a:ext cx="712800" cy="361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54200" y="4383000"/>
            <a:ext cx="951120" cy="279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3680" y="3166920"/>
            <a:ext cx="1047600" cy="22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twork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3080" y="2700360"/>
            <a:ext cx="636480" cy="361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914400" y="4957920"/>
            <a:ext cx="1308240" cy="163800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34040" y="5084640"/>
            <a:ext cx="2057400" cy="1359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076720"/>
            <a:ext cx="4991400" cy="1366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1560" y="5303880"/>
            <a:ext cx="739800" cy="771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emi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54080" y="5303880"/>
            <a:ext cx="739800" cy="771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cces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Backha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68760" y="5303880"/>
            <a:ext cx="739440" cy="771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5303880"/>
            <a:ext cx="739800" cy="771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Op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76720" y="622764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C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10360" y="5986440"/>
            <a:ext cx="190512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orkfor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amp; Professional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81560" y="5300640"/>
            <a:ext cx="762120" cy="990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et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6062760"/>
            <a:ext cx="4000680" cy="22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echnology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28440" y="576360"/>
            <a:ext cx="343080" cy="4419360"/>
            <a:chOff x="1828440" y="576360"/>
            <a:chExt cx="343080" cy="4419360"/>
          </a:xfrm>
        </p:grpSpPr>
        <p:sp>
          <p:nvSpPr>
            <p:cNvPr id="156" name=""/>
            <p:cNvSpPr/>
            <p:nvPr/>
          </p:nvSpPr>
          <p:spPr>
            <a:xfrm rot="10800000">
              <a:off x="1828440" y="576360"/>
              <a:ext cx="343080" cy="441936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986760" y="2547720"/>
              <a:ext cx="205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uthentication &amp; Authori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550960" y="3471840"/>
            <a:ext cx="1030320" cy="22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ssion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4920" y="4386240"/>
            <a:ext cx="950760" cy="279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0160" y="3776760"/>
            <a:ext cx="1047600" cy="22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s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7440" y="4081320"/>
            <a:ext cx="1030320" cy="22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000680" y="2836800"/>
            <a:ext cx="1523880" cy="1357200"/>
            <a:chOff x="4000680" y="2836800"/>
            <a:chExt cx="1523880" cy="1357200"/>
          </a:xfrm>
        </p:grpSpPr>
        <p:sp>
          <p:nvSpPr>
            <p:cNvPr id="163" name=""/>
            <p:cNvSpPr/>
            <p:nvPr/>
          </p:nvSpPr>
          <p:spPr>
            <a:xfrm>
              <a:off x="4089600" y="2836800"/>
              <a:ext cx="1406520" cy="135720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0680" y="3395520"/>
              <a:ext cx="152388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307040" y="2938320"/>
            <a:ext cx="95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07040" y="3675240"/>
            <a:ext cx="95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5300640"/>
            <a:ext cx="762120" cy="990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et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Enginee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10360" y="5224320"/>
            <a:ext cx="19051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on-demand Comp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(application host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76400" y="4435560"/>
            <a:ext cx="638280" cy="560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76440" y="1947960"/>
            <a:ext cx="4648320" cy="380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sourc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53720" y="507204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1338120"/>
            <a:ext cx="1874520" cy="330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CT Contract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14280" y="844560"/>
            <a:ext cx="1177920" cy="647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14280" y="1835280"/>
            <a:ext cx="1177920" cy="647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14280" y="2817720"/>
            <a:ext cx="1177920" cy="64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14280" y="3895560"/>
            <a:ext cx="1177920" cy="64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66840" y="915840"/>
            <a:ext cx="992160" cy="42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 O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6840" y="1913040"/>
            <a:ext cx="992160" cy="420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6840" y="2878200"/>
            <a:ext cx="992160" cy="420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T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1000" y="3971880"/>
            <a:ext cx="992160" cy="42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rty 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 Black"/>
              </a:rPr>
              <a:t>Why standards…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able new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operate on global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du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oditisation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eet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sential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accessibility/safety/security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Keith Dickerson</cp:lastModifiedBy>
  <cp:lastPrinted>2001-10-03T13:09:55Z</cp:lastPrinted>
  <dcterms:modified xsi:type="dcterms:W3CDTF">2005-10-07T15:01:10Z</dcterms:modified>
  <cp:revision>230</cp:revision>
  <dc:subject>Web Services</dc:subject>
  <dc:title>OASIS: Integrating Standards for Web Services, Business Processes &amp; Remote Portals</dc:title>
</cp:coreProperties>
</file>