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456840"/>
            <a:ext cx="6248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77320" y="589284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85800" y="6248520"/>
            <a:ext cx="73915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3492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362320" y="661356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Copyright Mayo Foundation for Medical Education and Research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2001/sw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w3.org/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images.google.com/imgres?imgurl=www.eyecentersouth.com/_borders/cadeusus2_blue.gif&amp;imgrefurl=http://www.eyecentersouth.com/CAST%2520Information.htm&amp;h=622&amp;w=398&amp;sz=6&amp;tbnid=o2XBktVrdgcJ:&amp;tbnh=132&amp;tbnw=85&amp;prev=/images%3Fq%3Dcadeusus%26hl%3Den%26lr%3D%26ie%3DUTF-8%26oe%3DUTF-8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The Relationship between ebXML, Archetypes, Templates, Terminology and the HL7 RIM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L. Elkin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Professor of Medicine and Medical 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o Clinic, School of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-162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0"/>
            <a:ext cx="807732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che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ehr-ehr-observation.bp_measurement.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at0000]    -- blood pressur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or = &lt;"Sam Heard &lt;s.heard@littlerock.com&gt;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=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anisation = &lt;"openEHR Foundatio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= &lt;2003-06-10&gt;  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sion = &lt;"versio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us = &lt;"draf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sion = &lt;"1.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("en") =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 = &lt;"Describe systemic blood pressure measurement result and protoco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= &lt;"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suse = &lt;""&gt;  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l_version = &lt;"0.9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ghts = &lt;"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0" y="-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L7 - CDA -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486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908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istoryOfPresentIllness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441000"/>
            <a:ext cx="6248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356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DA-Component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L7 Templates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-MIM Frag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-MIM fragment (graphically represented here) can be converted to OWL Abstract Syntax (next slide), and used as a definition model for template development and vali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2438280"/>
          <a:ext cx="805968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80596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-MIM Fragment OWL Syn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R-MIM Individual (ex:ID "12345"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entire Restricted MessageInformation Mode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R-MIM_Fragment Individual (ex:Frag_ID "67890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Of(ex:Observation ex:hasComponent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R-MIM Fragment as being the union of the Observation Class with the hasComponent Class (previous slide, and below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SubClassOf(sub=ex:R-MIM_Fragment super=ex:R-M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fies that the R-MIM fragment is a subclass of the entire R-M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Observation complete ex:Act  restriction(ex:classCode minCardinality( 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:moodCode  minCardinality( 0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:hasComponent minCardinality(0) )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Class Observation as a complete Act with defined restrictions (previous slide for reference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hasComponent (ex:typeCode complete ex:Observ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iction(ex: domain(ex:COMP) minCardinality(0) 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Class hasComponent as being a complete Observation within the COMP domain (previous slide for referen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ObjectProperty(ex:typeCode   (Individual(ex:codeValue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ObjectProperty(ex:class_cd     (Individual(ex:codeValue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ObjectProperty(ex:moodCode (Individual(ex:codeValue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Object Properties used in the above Class defin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DatatypeProperty(ex:codeValue xsd:inte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s the Data Type Properties for the Object 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-MIM Fragment mapping to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WL R-MMIM Fragment can validate an existing OWL Template, I.e. LabTest is a SubClass of Ob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87692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be used to vali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447920"/>
            <a:ext cx="4191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Class rdf:ID="LabTest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Class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df:resource="http://www.example.org/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LabTest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&gt;LOINC&lt;/owl:allValuesFr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class_cd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moodCode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 rdf:resource="#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lete ex: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classCode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ex:moodCode 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ex:hasComponent minCardinality(0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809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2408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:typeCode complete ex:Observ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 domain(ex:COMP) minCardinality(0) 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743200"/>
            <a:ext cx="17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3886200"/>
            <a:ext cx="1219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-MIM Fragment mapping to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WL R-MMIM Fragment can validate an existing OWL Template, I.e. LabTest is a SubClass of Ob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87692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be used to vali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447920"/>
            <a:ext cx="4191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Class rdf:ID="LabTest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http://www.example.org/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LabTest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&gt;LOINC&lt;/owl:allValuesFr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class_cd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moodCode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 rdf:resource="#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5248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lete ex: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classCode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ex:moodCode 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ex:hasComponent minCardinality(0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:typeCode complete ex:Observ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 domain(ex:COMP) minCardinality(0) 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743200"/>
            <a:ext cx="17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95480" y="3886200"/>
            <a:ext cx="1219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422360"/>
            <a:ext cx="5790960" cy="482760"/>
          </a:xfrm>
          <a:custGeom>
            <a:avLst/>
            <a:gdLst/>
            <a:ahLst/>
            <a:rect l="l" t="t" r="r" b="b"/>
            <a:pathLst>
              <a:path w="3648" h="304">
                <a:moveTo>
                  <a:pt x="0" y="256"/>
                </a:moveTo>
                <a:cubicBezTo>
                  <a:pt x="204" y="180"/>
                  <a:pt x="408" y="104"/>
                  <a:pt x="720" y="64"/>
                </a:cubicBezTo>
                <a:cubicBezTo>
                  <a:pt x="1032" y="24"/>
                  <a:pt x="1496" y="24"/>
                  <a:pt x="1872" y="16"/>
                </a:cubicBezTo>
                <a:cubicBezTo>
                  <a:pt x="2248" y="8"/>
                  <a:pt x="2736" y="0"/>
                  <a:pt x="2976" y="16"/>
                </a:cubicBezTo>
                <a:cubicBezTo>
                  <a:pt x="3216" y="32"/>
                  <a:pt x="3200" y="64"/>
                  <a:pt x="3312" y="112"/>
                </a:cubicBezTo>
                <a:cubicBezTo>
                  <a:pt x="3424" y="160"/>
                  <a:pt x="3536" y="232"/>
                  <a:pt x="3648" y="30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-MIM Fragment mapping to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WL R-MMIM Fragment can validate an existing OWL Template, I.e. LabTest is a SubClass of Ob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87692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be used to vali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447920"/>
            <a:ext cx="4191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Class rdf:ID="LabTest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http://www.example.org/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LabTest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&gt;LOINC&lt;/owl:allValuesFr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class_cd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moodCode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allValuesFrom rdf:resource="#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onProperty rdf:resource="#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owl:minCardinality&gt;0&lt;/owl:minCardinal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lete ex: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classCode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ex:moodCode  minCardinality( 0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ex:hasComponent minCardinality(0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809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2408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xiom&gt; ::= Class(ex: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:typeCode complete ex:Observ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restriction(ex: domain(ex:COMP) minCardinality(0) ) 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743200"/>
            <a:ext cx="17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95480" y="3886200"/>
            <a:ext cx="1219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1422360"/>
            <a:ext cx="5790960" cy="482760"/>
          </a:xfrm>
          <a:custGeom>
            <a:avLst/>
            <a:gdLst/>
            <a:ahLst/>
            <a:rect l="l" t="t" r="r" b="b"/>
            <a:pathLst>
              <a:path w="3648" h="304">
                <a:moveTo>
                  <a:pt x="0" y="256"/>
                </a:moveTo>
                <a:cubicBezTo>
                  <a:pt x="204" y="180"/>
                  <a:pt x="408" y="104"/>
                  <a:pt x="720" y="64"/>
                </a:cubicBezTo>
                <a:cubicBezTo>
                  <a:pt x="1032" y="24"/>
                  <a:pt x="1496" y="24"/>
                  <a:pt x="1872" y="16"/>
                </a:cubicBezTo>
                <a:cubicBezTo>
                  <a:pt x="2248" y="8"/>
                  <a:pt x="2736" y="0"/>
                  <a:pt x="2976" y="16"/>
                </a:cubicBezTo>
                <a:cubicBezTo>
                  <a:pt x="3216" y="32"/>
                  <a:pt x="3200" y="64"/>
                  <a:pt x="3312" y="112"/>
                </a:cubicBezTo>
                <a:cubicBezTo>
                  <a:pt x="3424" y="160"/>
                  <a:pt x="3536" y="232"/>
                  <a:pt x="3648" y="30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895480"/>
            <a:ext cx="6350040" cy="1600200"/>
          </a:xfrm>
          <a:custGeom>
            <a:avLst/>
            <a:gdLst/>
            <a:ahLst/>
            <a:rect l="l" t="t" r="r" b="b"/>
            <a:pathLst>
              <a:path w="4000" h="1008">
                <a:moveTo>
                  <a:pt x="0" y="192"/>
                </a:moveTo>
                <a:cubicBezTo>
                  <a:pt x="980" y="96"/>
                  <a:pt x="1960" y="0"/>
                  <a:pt x="2592" y="0"/>
                </a:cubicBezTo>
                <a:cubicBezTo>
                  <a:pt x="3224" y="0"/>
                  <a:pt x="3584" y="48"/>
                  <a:pt x="3792" y="192"/>
                </a:cubicBezTo>
                <a:cubicBezTo>
                  <a:pt x="4000" y="336"/>
                  <a:pt x="3872" y="728"/>
                  <a:pt x="3840" y="864"/>
                </a:cubicBezTo>
                <a:cubicBezTo>
                  <a:pt x="3808" y="1000"/>
                  <a:pt x="3704" y="1004"/>
                  <a:pt x="3600" y="1008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371600" cy="76176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1219320"/>
            <a:ext cx="3200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owl:Class rdf:ID="LabTest"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rdfs:subClassOf rdf:resource="http://www.example.org/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lt;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onProperty rdf:resource="#LabTest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allValuesFrom&gt;LOINC&lt;/owl:allValuesFrom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onProperty rdf:resource="#class_cd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onProperty rdf:resource="#moodCode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onProperty rdf:resource="#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allValuesFrom rdf:resource="# 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onProperty rdf:resource="#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286000"/>
            <a:ext cx="17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be used to vali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914400"/>
            <a:ext cx="38098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owl:Class rdf:ID="CBC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subClassOf rdf:resource="#LabTest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class_cd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hasValue rdf:resource="#CBC_class_cd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&lt;owl:onProperty rdf:resource="#class_cd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&lt;owl:minCardinality&gt;1&lt;/owl:min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moodCode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hasValue rdf:resource="#CBC_moodCode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onProperty rdf:resource="#moodCode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minCardinality&gt;0&lt;/owl:min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hasValue rdf:resource="#Hemoglobin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cardinality&gt;1&lt;/owl: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inued on next slide …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BC is a subClassOf Lab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666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3581280"/>
            <a:ext cx="1523880" cy="5335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3657600"/>
            <a:ext cx="3886200" cy="53352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038480"/>
            <a:ext cx="4343400" cy="68580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mbiguous Concept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7732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le exchange of Healthcar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distributed Semantic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ally empowering the ebXML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838080"/>
            <a:ext cx="358164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owl:Class rdf:ID="LabTest"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rdfs:subClassOf rdf:resource="http://www.example.org/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LabTest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allValuesFrom&gt;LOINC&lt;/owl:allValuesFrom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class_cd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moodCode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allValuesFrom rdf:resource="#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</a:rPr>
              <a:t>Observ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onProperty rdf:resource="#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minCardinality&gt;0&lt;/owl:min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286000"/>
            <a:ext cx="17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be used to vali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BC is a subClassOf Lab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666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2193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inued from previous slide …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&lt;owl:hasValue rdf:resource="#Hematocrit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maxCardinality&gt;1&lt;/owl:max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&lt;owl:hasValue rdf:resource="#PlatletCount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onProperty rdf:resource="#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</a:rPr>
              <a:t>hasCompon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"/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&lt;owl:cardinality&gt;1&lt;/owl:cardinality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&lt;/owl:Restriction&gt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505320"/>
            <a:ext cx="1524240" cy="53316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114800" y="1980720"/>
            <a:ext cx="3429000" cy="175284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91120" y="3200400"/>
            <a:ext cx="3504960" cy="53352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14800" y="2437920"/>
            <a:ext cx="3657600" cy="129564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3581280"/>
            <a:ext cx="3429000" cy="15264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Show Blood Pressure Archety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24280" y="3657600"/>
            <a:ext cx="1500480" cy="1247760"/>
          </a:xfrm>
          <a:custGeom>
            <a:avLst/>
            <a:gdLst>
              <a:gd name="textAreaLeft" fmla="*/ 0 w 1500480"/>
              <a:gd name="textAreaRight" fmla="*/ 1500840 w 150048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520" y="25905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Show Blood Pressure Archetype / XML Outp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4419720"/>
            <a:ext cx="1500480" cy="1247760"/>
          </a:xfrm>
          <a:custGeom>
            <a:avLst/>
            <a:gdLst>
              <a:gd name="textAreaLeft" fmla="*/ 0 w 1500480"/>
              <a:gd name="textAreaRight" fmla="*/ 1500840 w 150048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2209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Show Blood Pressure </a:t>
            </a:r>
            <a:r>
              <a:rPr b="0" lang="en-US" sz="5400" spc="-1" strike="noStrike" u="sng">
                <a:solidFill>
                  <a:srgbClr val="3333cc"/>
                </a:solidFill>
                <a:uFillTx/>
                <a:latin typeface="Times New Roman"/>
              </a:rPr>
              <a:t>OWL:Archety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886200" y="3581280"/>
            <a:ext cx="1500120" cy="1247760"/>
          </a:xfrm>
          <a:custGeom>
            <a:avLst/>
            <a:gdLst>
              <a:gd name="textAreaLeft" fmla="*/ 0 w 1500120"/>
              <a:gd name="textAreaRight" fmla="*/ 1500480 w 150012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380988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mal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bXML Regis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he R-MIM Fragment and the full OWL_CBC.xml Template can be stored, with meta-data in ebXML.  This will allow automated Template validation, and ease of retrieval and submission of Templates and Fragment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llowing slides are snapshots of the ebXML Registry browser showing the XML R-MIM_ Fragment.xml Object, and it’s associations with the OWL_CBC.xml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bXML Registry Object Brow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638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6520" y="0"/>
            <a:ext cx="390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rinsic Object Meta-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groups can submit valid R-MIM Fragments in OWL:Archetypes syntax to the ebXML Registr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software for HL7 Template Validation in ebXM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groups to submit HL7 Templates composed in OWL:Archetypes/XML to be validated against registered R-MIM Fragmen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software to validate instances of an HL7 Template against the registered HL7 Template in OWL:Archetypes/XML syntax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groups to validate their HL7 messages against registered instances of HL7 Templates in OWL:Archetypes/X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e ongoing development of the ebXML Registry Standard and the HL7 Templates S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the Action 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the Rubber Meets the Roa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for hard working creative individuals to dedicate themselves to making interoperability a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cussion: 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nk You for Your Kind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2" dur="1" fill="hold"/>
                                  <p:tgtEl>
                                    <p:spTgt spid="1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Oriented Vie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nowledge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concepts are composite concepts with a define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ressure (B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olic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stolic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thostatic Blood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ing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ting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ing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  <p:animClr clrSpc="rgb">
                                <p:cBhvr>
                                  <p:cTn id="75" dur="1" fill="hold"/>
                                  <p:tgtEl>
                                    <p:spTgt spid="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28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The Semantic Web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066680"/>
            <a:ext cx="441972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W3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0"/>
            <a:ext cx="1524240" cy="101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971800" y="2895480"/>
            <a:ext cx="315288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1143000" y="28188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71480" y="2057400"/>
            <a:ext cx="2057400" cy="1905120"/>
          </a:xfrm>
          <a:custGeom>
            <a:avLst/>
            <a:gdLst>
              <a:gd name="textAreaLeft" fmla="*/ 0 w 2057400"/>
              <a:gd name="textAreaRight" fmla="*/ 2057400 w 205740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4343400"/>
            <a:ext cx="117792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19520" y="45720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lth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pression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chetype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guage (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HEA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248520" y="3276720"/>
            <a:ext cx="1752480" cy="1752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ggested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A Leve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Structure and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L Arch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362320"/>
            <a:ext cx="297180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W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828800"/>
            <a:ext cx="2590560" cy="1752480"/>
          </a:xfrm>
          <a:prstGeom prst="line">
            <a:avLst/>
          </a:prstGeom>
          <a:ln w="2844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3429000"/>
            <a:ext cx="1981080" cy="533520"/>
          </a:xfrm>
          <a:prstGeom prst="line">
            <a:avLst/>
          </a:prstGeom>
          <a:ln w="2844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24080" y="4343400"/>
            <a:ext cx="3048120" cy="533520"/>
          </a:xfrm>
          <a:prstGeom prst="line">
            <a:avLst/>
          </a:prstGeom>
          <a:ln w="28440">
            <a:solidFill>
              <a:srgbClr val="66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nical Docu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2578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35320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276720" y="1905120"/>
            <a:ext cx="5410080" cy="825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A Level One DTD shown in “XML Authority” from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876920"/>
            <a:ext cx="5410080" cy="825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A Level One document shown in “Internet Explorer” from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nical Docu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43080" y="1219320"/>
            <a:ext cx="7000920" cy="34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59108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 flipH="1">
            <a:off x="2437920" y="1371600"/>
            <a:ext cx="259092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520" y="1676520"/>
            <a:ext cx="4496040" cy="22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52320" y="2057400"/>
            <a:ext cx="266724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2362320"/>
            <a:ext cx="47246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99840" y="3048120"/>
            <a:ext cx="579132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362320" y="2743200"/>
            <a:ext cx="49528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-2286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nical Docu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439120" cy="49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33920" y="3924360"/>
            <a:ext cx="54100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371600" y="1828800"/>
            <a:ext cx="3809880" cy="411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133720"/>
            <a:ext cx="4952880" cy="3200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600200"/>
            <a:ext cx="388620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048120"/>
            <a:ext cx="5639040" cy="1523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05280"/>
            <a:ext cx="842148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nical Docu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6858000" cy="279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362400"/>
            <a:ext cx="794376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143000" y="5257800"/>
            <a:ext cx="4648320" cy="228600"/>
          </a:xfrm>
          <a:prstGeom prst="rect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81080" y="1905120"/>
            <a:ext cx="5181840" cy="320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90920" y="2819520"/>
            <a:ext cx="4572000" cy="320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200400" y="5409720"/>
            <a:ext cx="190512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0:20:27Z</dcterms:created>
  <dc:creator>PLE02</dc:creator>
  <dc:description/>
  <dc:language>en-US</dc:language>
  <cp:lastModifiedBy>Jane Harnad</cp:lastModifiedBy>
  <dcterms:modified xsi:type="dcterms:W3CDTF">2004-05-04T14:45:28Z</dcterms:modified>
  <cp:revision>18</cp:revision>
  <dc:subject/>
  <dc:title>The Relationship between Archetypes, Templates and Terminology  </dc:title>
</cp:coreProperties>
</file>