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9.gif" ContentType="image/gif"/>
  <Override PartName="/ppt/media/image11.jpeg" ContentType="image/jpeg"/>
  <Override PartName="/ppt/media/image8.png" ContentType="image/png"/>
  <Override PartName="/ppt/media/image12.png" ContentType="image/png"/>
  <Override PartName="/ppt/media/image19.jpeg" ContentType="image/jpeg"/>
  <Override PartName="/ppt/media/image4.wmf" ContentType="image/x-wmf"/>
  <Override PartName="/ppt/media/image5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F3D3-1797-44B9-9C17-595CBCACC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5A04-810E-4FAB-805D-B92273FE1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785A-98A9-4A7E-BA7B-E2C47010E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0811-1BA5-49AD-B4E3-5485A14AB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29321-4709-40E6-A7D1-1031B479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23736-DD48-4B85-9347-C0E01A5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E38FD-5F00-4DED-9EA5-CEC4189F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B3D5-90CE-41CE-BE94-C805119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6956C-0AB4-4B0D-A6ED-AD1B765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35440" y="404280"/>
            <a:ext cx="5124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20FE1-57D2-4098-A700-2F5EDA1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74778-D323-48C1-8B56-4B2A3C8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F027-E4BB-42ED-B0D5-523F8BCDD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FD9DA-3FD8-4AFA-A551-1413DB6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19B0A-A461-43A2-8DAD-8219D80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C9843-B308-4600-8433-456A4B0F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8E49D-DDA1-4421-8A1F-48DA149A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994A6-4A73-480C-8C1F-34D6452B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2AC4-EDED-4904-844F-58FC0AC90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036E-0B7A-4D9C-8512-A629D3C26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9C87-42A3-4B6E-87B5-E846C01C8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835440" y="404280"/>
            <a:ext cx="5124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7D19-1109-4FA6-A36C-9C74A3381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6E07-917E-436F-9852-4277BCC89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D830-A5E1-4E58-B9E5-F414C8589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60CF-9B45-4B57-8BAD-C4F8F07A2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4080" y="133200"/>
            <a:ext cx="853560" cy="546120"/>
            <a:chOff x="154080" y="133200"/>
            <a:chExt cx="853560" cy="546120"/>
          </a:xfrm>
        </p:grpSpPr>
        <p:sp>
          <p:nvSpPr>
            <p:cNvPr id="4" name=""/>
            <p:cNvSpPr/>
            <p:nvPr/>
          </p:nvSpPr>
          <p:spPr>
            <a:xfrm>
              <a:off x="154080" y="406080"/>
              <a:ext cx="426960" cy="273240"/>
            </a:xfrm>
            <a:custGeom>
              <a:avLst/>
              <a:gdLst/>
              <a:ahLst/>
              <a:rect l="l" t="t" r="r" b="b"/>
              <a:pathLst>
                <a:path w="5380" h="3619">
                  <a:moveTo>
                    <a:pt x="5380" y="3619"/>
                  </a:moveTo>
                  <a:lnTo>
                    <a:pt x="5168" y="3617"/>
                  </a:lnTo>
                  <a:lnTo>
                    <a:pt x="4960" y="3613"/>
                  </a:lnTo>
                  <a:lnTo>
                    <a:pt x="4756" y="3609"/>
                  </a:lnTo>
                  <a:lnTo>
                    <a:pt x="4558" y="3604"/>
                  </a:lnTo>
                  <a:lnTo>
                    <a:pt x="4364" y="3598"/>
                  </a:lnTo>
                  <a:lnTo>
                    <a:pt x="4175" y="3591"/>
                  </a:lnTo>
                  <a:lnTo>
                    <a:pt x="3989" y="3583"/>
                  </a:lnTo>
                  <a:lnTo>
                    <a:pt x="3809" y="3573"/>
                  </a:lnTo>
                  <a:lnTo>
                    <a:pt x="3633" y="3562"/>
                  </a:lnTo>
                  <a:lnTo>
                    <a:pt x="3460" y="3551"/>
                  </a:lnTo>
                  <a:lnTo>
                    <a:pt x="3293" y="3538"/>
                  </a:lnTo>
                  <a:lnTo>
                    <a:pt x="3130" y="3524"/>
                  </a:lnTo>
                  <a:lnTo>
                    <a:pt x="2972" y="3508"/>
                  </a:lnTo>
                  <a:lnTo>
                    <a:pt x="2818" y="3493"/>
                  </a:lnTo>
                  <a:lnTo>
                    <a:pt x="2669" y="3475"/>
                  </a:lnTo>
                  <a:lnTo>
                    <a:pt x="2523" y="3457"/>
                  </a:lnTo>
                  <a:lnTo>
                    <a:pt x="2383" y="3437"/>
                  </a:lnTo>
                  <a:lnTo>
                    <a:pt x="2247" y="3416"/>
                  </a:lnTo>
                  <a:lnTo>
                    <a:pt x="2126" y="3391"/>
                  </a:lnTo>
                  <a:lnTo>
                    <a:pt x="2007" y="3363"/>
                  </a:lnTo>
                  <a:lnTo>
                    <a:pt x="1893" y="3332"/>
                  </a:lnTo>
                  <a:lnTo>
                    <a:pt x="1783" y="3298"/>
                  </a:lnTo>
                  <a:lnTo>
                    <a:pt x="1676" y="3261"/>
                  </a:lnTo>
                  <a:lnTo>
                    <a:pt x="1572" y="3222"/>
                  </a:lnTo>
                  <a:lnTo>
                    <a:pt x="1472" y="3180"/>
                  </a:lnTo>
                  <a:lnTo>
                    <a:pt x="1376" y="3135"/>
                  </a:lnTo>
                  <a:lnTo>
                    <a:pt x="1282" y="3088"/>
                  </a:lnTo>
                  <a:lnTo>
                    <a:pt x="1193" y="3037"/>
                  </a:lnTo>
                  <a:lnTo>
                    <a:pt x="1108" y="2985"/>
                  </a:lnTo>
                  <a:lnTo>
                    <a:pt x="1025" y="2928"/>
                  </a:lnTo>
                  <a:lnTo>
                    <a:pt x="946" y="2869"/>
                  </a:lnTo>
                  <a:lnTo>
                    <a:pt x="871" y="2808"/>
                  </a:lnTo>
                  <a:lnTo>
                    <a:pt x="799" y="2744"/>
                  </a:lnTo>
                  <a:lnTo>
                    <a:pt x="731" y="2677"/>
                  </a:lnTo>
                  <a:lnTo>
                    <a:pt x="666" y="2608"/>
                  </a:lnTo>
                  <a:lnTo>
                    <a:pt x="605" y="2536"/>
                  </a:lnTo>
                  <a:lnTo>
                    <a:pt x="548" y="2460"/>
                  </a:lnTo>
                  <a:lnTo>
                    <a:pt x="494" y="2382"/>
                  </a:lnTo>
                  <a:lnTo>
                    <a:pt x="444" y="2301"/>
                  </a:lnTo>
                  <a:lnTo>
                    <a:pt x="397" y="2219"/>
                  </a:lnTo>
                  <a:lnTo>
                    <a:pt x="354" y="2132"/>
                  </a:lnTo>
                  <a:lnTo>
                    <a:pt x="314" y="2043"/>
                  </a:lnTo>
                  <a:lnTo>
                    <a:pt x="281" y="1964"/>
                  </a:lnTo>
                  <a:lnTo>
                    <a:pt x="250" y="1880"/>
                  </a:lnTo>
                  <a:lnTo>
                    <a:pt x="221" y="1792"/>
                  </a:lnTo>
                  <a:lnTo>
                    <a:pt x="194" y="1700"/>
                  </a:lnTo>
                  <a:lnTo>
                    <a:pt x="168" y="1604"/>
                  </a:lnTo>
                  <a:lnTo>
                    <a:pt x="144" y="1505"/>
                  </a:lnTo>
                  <a:lnTo>
                    <a:pt x="122" y="1402"/>
                  </a:lnTo>
                  <a:lnTo>
                    <a:pt x="102" y="1293"/>
                  </a:lnTo>
                  <a:lnTo>
                    <a:pt x="84" y="1182"/>
                  </a:lnTo>
                  <a:lnTo>
                    <a:pt x="67" y="1066"/>
                  </a:lnTo>
                  <a:lnTo>
                    <a:pt x="52" y="948"/>
                  </a:lnTo>
                  <a:lnTo>
                    <a:pt x="40" y="824"/>
                  </a:lnTo>
                  <a:lnTo>
                    <a:pt x="29" y="697"/>
                  </a:lnTo>
                  <a:lnTo>
                    <a:pt x="19" y="565"/>
                  </a:lnTo>
                  <a:lnTo>
                    <a:pt x="12" y="430"/>
                  </a:lnTo>
                  <a:lnTo>
                    <a:pt x="6" y="291"/>
                  </a:lnTo>
                  <a:lnTo>
                    <a:pt x="3" y="147"/>
                  </a:lnTo>
                  <a:lnTo>
                    <a:pt x="0" y="1"/>
                  </a:lnTo>
                  <a:lnTo>
                    <a:pt x="5380" y="0"/>
                  </a:lnTo>
                  <a:lnTo>
                    <a:pt x="5380" y="3618"/>
                  </a:lnTo>
                  <a:lnTo>
                    <a:pt x="5380" y="361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4080" y="133200"/>
              <a:ext cx="426960" cy="272880"/>
            </a:xfrm>
            <a:custGeom>
              <a:avLst/>
              <a:gdLst/>
              <a:ahLst/>
              <a:rect l="l" t="t" r="r" b="b"/>
              <a:pathLst>
                <a:path w="5380" h="3604">
                  <a:moveTo>
                    <a:pt x="5380" y="1"/>
                  </a:moveTo>
                  <a:lnTo>
                    <a:pt x="5168" y="2"/>
                  </a:lnTo>
                  <a:lnTo>
                    <a:pt x="4960" y="6"/>
                  </a:lnTo>
                  <a:lnTo>
                    <a:pt x="4756" y="10"/>
                  </a:lnTo>
                  <a:lnTo>
                    <a:pt x="4558" y="15"/>
                  </a:lnTo>
                  <a:lnTo>
                    <a:pt x="4364" y="21"/>
                  </a:lnTo>
                  <a:lnTo>
                    <a:pt x="4175" y="28"/>
                  </a:lnTo>
                  <a:lnTo>
                    <a:pt x="3989" y="37"/>
                  </a:lnTo>
                  <a:lnTo>
                    <a:pt x="3809" y="47"/>
                  </a:lnTo>
                  <a:lnTo>
                    <a:pt x="3633" y="57"/>
                  </a:lnTo>
                  <a:lnTo>
                    <a:pt x="3460" y="69"/>
                  </a:lnTo>
                  <a:lnTo>
                    <a:pt x="3293" y="82"/>
                  </a:lnTo>
                  <a:lnTo>
                    <a:pt x="3130" y="95"/>
                  </a:lnTo>
                  <a:lnTo>
                    <a:pt x="2972" y="111"/>
                  </a:lnTo>
                  <a:lnTo>
                    <a:pt x="2818" y="126"/>
                  </a:lnTo>
                  <a:lnTo>
                    <a:pt x="2669" y="144"/>
                  </a:lnTo>
                  <a:lnTo>
                    <a:pt x="2523" y="163"/>
                  </a:lnTo>
                  <a:lnTo>
                    <a:pt x="2383" y="181"/>
                  </a:lnTo>
                  <a:lnTo>
                    <a:pt x="2247" y="202"/>
                  </a:lnTo>
                  <a:lnTo>
                    <a:pt x="2126" y="228"/>
                  </a:lnTo>
                  <a:lnTo>
                    <a:pt x="2007" y="255"/>
                  </a:lnTo>
                  <a:lnTo>
                    <a:pt x="1893" y="286"/>
                  </a:lnTo>
                  <a:lnTo>
                    <a:pt x="1783" y="320"/>
                  </a:lnTo>
                  <a:lnTo>
                    <a:pt x="1676" y="357"/>
                  </a:lnTo>
                  <a:lnTo>
                    <a:pt x="1572" y="396"/>
                  </a:lnTo>
                  <a:lnTo>
                    <a:pt x="1472" y="438"/>
                  </a:lnTo>
                  <a:lnTo>
                    <a:pt x="1376" y="483"/>
                  </a:lnTo>
                  <a:lnTo>
                    <a:pt x="1282" y="530"/>
                  </a:lnTo>
                  <a:lnTo>
                    <a:pt x="1193" y="580"/>
                  </a:lnTo>
                  <a:lnTo>
                    <a:pt x="1108" y="633"/>
                  </a:lnTo>
                  <a:lnTo>
                    <a:pt x="1025" y="688"/>
                  </a:lnTo>
                  <a:lnTo>
                    <a:pt x="946" y="747"/>
                  </a:lnTo>
                  <a:lnTo>
                    <a:pt x="871" y="808"/>
                  </a:lnTo>
                  <a:lnTo>
                    <a:pt x="799" y="872"/>
                  </a:lnTo>
                  <a:lnTo>
                    <a:pt x="731" y="938"/>
                  </a:lnTo>
                  <a:lnTo>
                    <a:pt x="666" y="1007"/>
                  </a:lnTo>
                  <a:lnTo>
                    <a:pt x="605" y="1079"/>
                  </a:lnTo>
                  <a:lnTo>
                    <a:pt x="548" y="1154"/>
                  </a:lnTo>
                  <a:lnTo>
                    <a:pt x="494" y="1231"/>
                  </a:lnTo>
                  <a:lnTo>
                    <a:pt x="444" y="1312"/>
                  </a:lnTo>
                  <a:lnTo>
                    <a:pt x="397" y="1395"/>
                  </a:lnTo>
                  <a:lnTo>
                    <a:pt x="354" y="1481"/>
                  </a:lnTo>
                  <a:lnTo>
                    <a:pt x="314" y="1569"/>
                  </a:lnTo>
                  <a:lnTo>
                    <a:pt x="281" y="1648"/>
                  </a:lnTo>
                  <a:lnTo>
                    <a:pt x="250" y="1732"/>
                  </a:lnTo>
                  <a:lnTo>
                    <a:pt x="221" y="1820"/>
                  </a:lnTo>
                  <a:lnTo>
                    <a:pt x="194" y="1911"/>
                  </a:lnTo>
                  <a:lnTo>
                    <a:pt x="168" y="2007"/>
                  </a:lnTo>
                  <a:lnTo>
                    <a:pt x="144" y="2106"/>
                  </a:lnTo>
                  <a:lnTo>
                    <a:pt x="122" y="2208"/>
                  </a:lnTo>
                  <a:lnTo>
                    <a:pt x="102" y="2315"/>
                  </a:lnTo>
                  <a:lnTo>
                    <a:pt x="84" y="2426"/>
                  </a:lnTo>
                  <a:lnTo>
                    <a:pt x="67" y="2541"/>
                  </a:lnTo>
                  <a:lnTo>
                    <a:pt x="52" y="2660"/>
                  </a:lnTo>
                  <a:lnTo>
                    <a:pt x="40" y="2783"/>
                  </a:lnTo>
                  <a:lnTo>
                    <a:pt x="29" y="2910"/>
                  </a:lnTo>
                  <a:lnTo>
                    <a:pt x="19" y="3041"/>
                  </a:lnTo>
                  <a:lnTo>
                    <a:pt x="12" y="3175"/>
                  </a:lnTo>
                  <a:lnTo>
                    <a:pt x="6" y="3314"/>
                  </a:lnTo>
                  <a:lnTo>
                    <a:pt x="3" y="3456"/>
                  </a:lnTo>
                  <a:lnTo>
                    <a:pt x="0" y="3603"/>
                  </a:lnTo>
                  <a:lnTo>
                    <a:pt x="5380" y="3604"/>
                  </a:lnTo>
                  <a:lnTo>
                    <a:pt x="5380" y="0"/>
                  </a:lnTo>
                  <a:lnTo>
                    <a:pt x="5380" y="1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1040" y="404640"/>
              <a:ext cx="426600" cy="274680"/>
            </a:xfrm>
            <a:custGeom>
              <a:avLst/>
              <a:gdLst/>
              <a:ahLst/>
              <a:rect l="l" t="t" r="r" b="b"/>
              <a:pathLst>
                <a:path w="5379" h="3635">
                  <a:moveTo>
                    <a:pt x="0" y="3635"/>
                  </a:moveTo>
                  <a:lnTo>
                    <a:pt x="212" y="3633"/>
                  </a:lnTo>
                  <a:lnTo>
                    <a:pt x="420" y="3630"/>
                  </a:lnTo>
                  <a:lnTo>
                    <a:pt x="622" y="3626"/>
                  </a:lnTo>
                  <a:lnTo>
                    <a:pt x="821" y="3621"/>
                  </a:lnTo>
                  <a:lnTo>
                    <a:pt x="1015" y="3615"/>
                  </a:lnTo>
                  <a:lnTo>
                    <a:pt x="1205" y="3607"/>
                  </a:lnTo>
                  <a:lnTo>
                    <a:pt x="1390" y="3598"/>
                  </a:lnTo>
                  <a:lnTo>
                    <a:pt x="1571" y="3589"/>
                  </a:lnTo>
                  <a:lnTo>
                    <a:pt x="1747" y="3578"/>
                  </a:lnTo>
                  <a:lnTo>
                    <a:pt x="1919" y="3566"/>
                  </a:lnTo>
                  <a:lnTo>
                    <a:pt x="2087" y="3553"/>
                  </a:lnTo>
                  <a:lnTo>
                    <a:pt x="2249" y="3540"/>
                  </a:lnTo>
                  <a:lnTo>
                    <a:pt x="2408" y="3524"/>
                  </a:lnTo>
                  <a:lnTo>
                    <a:pt x="2562" y="3508"/>
                  </a:lnTo>
                  <a:lnTo>
                    <a:pt x="2711" y="3491"/>
                  </a:lnTo>
                  <a:lnTo>
                    <a:pt x="2856" y="3473"/>
                  </a:lnTo>
                  <a:lnTo>
                    <a:pt x="2997" y="3453"/>
                  </a:lnTo>
                  <a:lnTo>
                    <a:pt x="3133" y="3432"/>
                  </a:lnTo>
                  <a:lnTo>
                    <a:pt x="3254" y="3406"/>
                  </a:lnTo>
                  <a:lnTo>
                    <a:pt x="3372" y="3378"/>
                  </a:lnTo>
                  <a:lnTo>
                    <a:pt x="3486" y="3347"/>
                  </a:lnTo>
                  <a:lnTo>
                    <a:pt x="3597" y="3312"/>
                  </a:lnTo>
                  <a:lnTo>
                    <a:pt x="3704" y="3276"/>
                  </a:lnTo>
                  <a:lnTo>
                    <a:pt x="3808" y="3237"/>
                  </a:lnTo>
                  <a:lnTo>
                    <a:pt x="3908" y="3195"/>
                  </a:lnTo>
                  <a:lnTo>
                    <a:pt x="4004" y="3149"/>
                  </a:lnTo>
                  <a:lnTo>
                    <a:pt x="4097" y="3102"/>
                  </a:lnTo>
                  <a:lnTo>
                    <a:pt x="4186" y="3051"/>
                  </a:lnTo>
                  <a:lnTo>
                    <a:pt x="4272" y="2998"/>
                  </a:lnTo>
                  <a:lnTo>
                    <a:pt x="4355" y="2942"/>
                  </a:lnTo>
                  <a:lnTo>
                    <a:pt x="4433" y="2883"/>
                  </a:lnTo>
                  <a:lnTo>
                    <a:pt x="4509" y="2821"/>
                  </a:lnTo>
                  <a:lnTo>
                    <a:pt x="4581" y="2757"/>
                  </a:lnTo>
                  <a:lnTo>
                    <a:pt x="4648" y="2690"/>
                  </a:lnTo>
                  <a:lnTo>
                    <a:pt x="4713" y="2620"/>
                  </a:lnTo>
                  <a:lnTo>
                    <a:pt x="4774" y="2547"/>
                  </a:lnTo>
                  <a:lnTo>
                    <a:pt x="4831" y="2472"/>
                  </a:lnTo>
                  <a:lnTo>
                    <a:pt x="4885" y="2394"/>
                  </a:lnTo>
                  <a:lnTo>
                    <a:pt x="4936" y="2312"/>
                  </a:lnTo>
                  <a:lnTo>
                    <a:pt x="4983" y="2229"/>
                  </a:lnTo>
                  <a:lnTo>
                    <a:pt x="5026" y="2143"/>
                  </a:lnTo>
                  <a:lnTo>
                    <a:pt x="5066" y="2053"/>
                  </a:lnTo>
                  <a:lnTo>
                    <a:pt x="5099" y="1973"/>
                  </a:lnTo>
                  <a:lnTo>
                    <a:pt x="5130" y="1889"/>
                  </a:lnTo>
                  <a:lnTo>
                    <a:pt x="5158" y="1801"/>
                  </a:lnTo>
                  <a:lnTo>
                    <a:pt x="5186" y="1709"/>
                  </a:lnTo>
                  <a:lnTo>
                    <a:pt x="5211" y="1612"/>
                  </a:lnTo>
                  <a:lnTo>
                    <a:pt x="5236" y="1512"/>
                  </a:lnTo>
                  <a:lnTo>
                    <a:pt x="5258" y="1409"/>
                  </a:lnTo>
                  <a:lnTo>
                    <a:pt x="5278" y="1300"/>
                  </a:lnTo>
                  <a:lnTo>
                    <a:pt x="5296" y="1189"/>
                  </a:lnTo>
                  <a:lnTo>
                    <a:pt x="5313" y="1073"/>
                  </a:lnTo>
                  <a:lnTo>
                    <a:pt x="5327" y="952"/>
                  </a:lnTo>
                  <a:lnTo>
                    <a:pt x="5340" y="828"/>
                  </a:lnTo>
                  <a:lnTo>
                    <a:pt x="5351" y="700"/>
                  </a:lnTo>
                  <a:lnTo>
                    <a:pt x="5361" y="569"/>
                  </a:lnTo>
                  <a:lnTo>
                    <a:pt x="5368" y="433"/>
                  </a:lnTo>
                  <a:lnTo>
                    <a:pt x="5373" y="292"/>
                  </a:lnTo>
                  <a:lnTo>
                    <a:pt x="5377" y="149"/>
                  </a:lnTo>
                  <a:lnTo>
                    <a:pt x="5379" y="1"/>
                  </a:lnTo>
                  <a:lnTo>
                    <a:pt x="0" y="0"/>
                  </a:lnTo>
                  <a:lnTo>
                    <a:pt x="0" y="363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1040" y="133200"/>
              <a:ext cx="426600" cy="272880"/>
            </a:xfrm>
            <a:custGeom>
              <a:avLst/>
              <a:gdLst/>
              <a:ahLst/>
              <a:rect l="l" t="t" r="r" b="b"/>
              <a:pathLst>
                <a:path w="5380" h="3618">
                  <a:moveTo>
                    <a:pt x="0" y="0"/>
                  </a:moveTo>
                  <a:lnTo>
                    <a:pt x="211" y="2"/>
                  </a:lnTo>
                  <a:lnTo>
                    <a:pt x="419" y="6"/>
                  </a:lnTo>
                  <a:lnTo>
                    <a:pt x="623" y="10"/>
                  </a:lnTo>
                  <a:lnTo>
                    <a:pt x="821" y="15"/>
                  </a:lnTo>
                  <a:lnTo>
                    <a:pt x="1015" y="21"/>
                  </a:lnTo>
                  <a:lnTo>
                    <a:pt x="1205" y="28"/>
                  </a:lnTo>
                  <a:lnTo>
                    <a:pt x="1390" y="36"/>
                  </a:lnTo>
                  <a:lnTo>
                    <a:pt x="1571" y="46"/>
                  </a:lnTo>
                  <a:lnTo>
                    <a:pt x="1747" y="57"/>
                  </a:lnTo>
                  <a:lnTo>
                    <a:pt x="1919" y="68"/>
                  </a:lnTo>
                  <a:lnTo>
                    <a:pt x="2086" y="82"/>
                  </a:lnTo>
                  <a:lnTo>
                    <a:pt x="2249" y="95"/>
                  </a:lnTo>
                  <a:lnTo>
                    <a:pt x="2408" y="111"/>
                  </a:lnTo>
                  <a:lnTo>
                    <a:pt x="2562" y="126"/>
                  </a:lnTo>
                  <a:lnTo>
                    <a:pt x="2711" y="144"/>
                  </a:lnTo>
                  <a:lnTo>
                    <a:pt x="2857" y="162"/>
                  </a:lnTo>
                  <a:lnTo>
                    <a:pt x="2996" y="182"/>
                  </a:lnTo>
                  <a:lnTo>
                    <a:pt x="3133" y="203"/>
                  </a:lnTo>
                  <a:lnTo>
                    <a:pt x="3253" y="229"/>
                  </a:lnTo>
                  <a:lnTo>
                    <a:pt x="3372" y="256"/>
                  </a:lnTo>
                  <a:lnTo>
                    <a:pt x="3486" y="287"/>
                  </a:lnTo>
                  <a:lnTo>
                    <a:pt x="3596" y="321"/>
                  </a:lnTo>
                  <a:lnTo>
                    <a:pt x="3704" y="358"/>
                  </a:lnTo>
                  <a:lnTo>
                    <a:pt x="3808" y="397"/>
                  </a:lnTo>
                  <a:lnTo>
                    <a:pt x="3908" y="439"/>
                  </a:lnTo>
                  <a:lnTo>
                    <a:pt x="4004" y="485"/>
                  </a:lnTo>
                  <a:lnTo>
                    <a:pt x="4097" y="532"/>
                  </a:lnTo>
                  <a:lnTo>
                    <a:pt x="4186" y="582"/>
                  </a:lnTo>
                  <a:lnTo>
                    <a:pt x="4272" y="635"/>
                  </a:lnTo>
                  <a:lnTo>
                    <a:pt x="4354" y="691"/>
                  </a:lnTo>
                  <a:lnTo>
                    <a:pt x="4433" y="750"/>
                  </a:lnTo>
                  <a:lnTo>
                    <a:pt x="4508" y="811"/>
                  </a:lnTo>
                  <a:lnTo>
                    <a:pt x="4581" y="875"/>
                  </a:lnTo>
                  <a:lnTo>
                    <a:pt x="4648" y="942"/>
                  </a:lnTo>
                  <a:lnTo>
                    <a:pt x="4713" y="1011"/>
                  </a:lnTo>
                  <a:lnTo>
                    <a:pt x="4774" y="1083"/>
                  </a:lnTo>
                  <a:lnTo>
                    <a:pt x="4831" y="1159"/>
                  </a:lnTo>
                  <a:lnTo>
                    <a:pt x="4885" y="1236"/>
                  </a:lnTo>
                  <a:lnTo>
                    <a:pt x="4936" y="1318"/>
                  </a:lnTo>
                  <a:lnTo>
                    <a:pt x="4982" y="1400"/>
                  </a:lnTo>
                  <a:lnTo>
                    <a:pt x="5025" y="1487"/>
                  </a:lnTo>
                  <a:lnTo>
                    <a:pt x="5065" y="1576"/>
                  </a:lnTo>
                  <a:lnTo>
                    <a:pt x="5098" y="1655"/>
                  </a:lnTo>
                  <a:lnTo>
                    <a:pt x="5129" y="1739"/>
                  </a:lnTo>
                  <a:lnTo>
                    <a:pt x="5158" y="1827"/>
                  </a:lnTo>
                  <a:lnTo>
                    <a:pt x="5186" y="1919"/>
                  </a:lnTo>
                  <a:lnTo>
                    <a:pt x="5211" y="2015"/>
                  </a:lnTo>
                  <a:lnTo>
                    <a:pt x="5235" y="2114"/>
                  </a:lnTo>
                  <a:lnTo>
                    <a:pt x="5257" y="2217"/>
                  </a:lnTo>
                  <a:lnTo>
                    <a:pt x="5278" y="2325"/>
                  </a:lnTo>
                  <a:lnTo>
                    <a:pt x="5295" y="2436"/>
                  </a:lnTo>
                  <a:lnTo>
                    <a:pt x="5312" y="2552"/>
                  </a:lnTo>
                  <a:lnTo>
                    <a:pt x="5327" y="2671"/>
                  </a:lnTo>
                  <a:lnTo>
                    <a:pt x="5340" y="2794"/>
                  </a:lnTo>
                  <a:lnTo>
                    <a:pt x="5351" y="2922"/>
                  </a:lnTo>
                  <a:lnTo>
                    <a:pt x="5360" y="3054"/>
                  </a:lnTo>
                  <a:lnTo>
                    <a:pt x="5368" y="3189"/>
                  </a:lnTo>
                  <a:lnTo>
                    <a:pt x="5373" y="3328"/>
                  </a:lnTo>
                  <a:lnTo>
                    <a:pt x="5377" y="3471"/>
                  </a:lnTo>
                  <a:lnTo>
                    <a:pt x="5380" y="3618"/>
                  </a:lnTo>
                  <a:lnTo>
                    <a:pt x="0" y="3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2600" y="468000"/>
              <a:ext cx="290160" cy="69840"/>
            </a:xfrm>
            <a:custGeom>
              <a:avLst/>
              <a:gdLst/>
              <a:ahLst/>
              <a:rect l="l" t="t" r="r" b="b"/>
              <a:pathLst>
                <a:path w="3653" h="908">
                  <a:moveTo>
                    <a:pt x="0" y="2"/>
                  </a:moveTo>
                  <a:lnTo>
                    <a:pt x="0" y="907"/>
                  </a:lnTo>
                  <a:lnTo>
                    <a:pt x="3572" y="908"/>
                  </a:lnTo>
                  <a:lnTo>
                    <a:pt x="36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9800" y="277560"/>
              <a:ext cx="232920" cy="176040"/>
            </a:xfrm>
            <a:custGeom>
              <a:avLst/>
              <a:gdLst/>
              <a:ahLst/>
              <a:rect l="l" t="t" r="r" b="b"/>
              <a:pathLst>
                <a:path w="2952" h="2321">
                  <a:moveTo>
                    <a:pt x="2952" y="0"/>
                  </a:moveTo>
                  <a:lnTo>
                    <a:pt x="824" y="1"/>
                  </a:lnTo>
                  <a:lnTo>
                    <a:pt x="770" y="1"/>
                  </a:lnTo>
                  <a:lnTo>
                    <a:pt x="714" y="6"/>
                  </a:lnTo>
                  <a:lnTo>
                    <a:pt x="660" y="14"/>
                  </a:lnTo>
                  <a:lnTo>
                    <a:pt x="605" y="28"/>
                  </a:lnTo>
                  <a:lnTo>
                    <a:pt x="551" y="46"/>
                  </a:lnTo>
                  <a:lnTo>
                    <a:pt x="497" y="69"/>
                  </a:lnTo>
                  <a:lnTo>
                    <a:pt x="443" y="97"/>
                  </a:lnTo>
                  <a:lnTo>
                    <a:pt x="389" y="128"/>
                  </a:lnTo>
                  <a:lnTo>
                    <a:pt x="335" y="165"/>
                  </a:lnTo>
                  <a:lnTo>
                    <a:pt x="209" y="280"/>
                  </a:lnTo>
                  <a:lnTo>
                    <a:pt x="176" y="324"/>
                  </a:lnTo>
                  <a:lnTo>
                    <a:pt x="145" y="368"/>
                  </a:lnTo>
                  <a:lnTo>
                    <a:pt x="115" y="415"/>
                  </a:lnTo>
                  <a:lnTo>
                    <a:pt x="90" y="462"/>
                  </a:lnTo>
                  <a:lnTo>
                    <a:pt x="67" y="512"/>
                  </a:lnTo>
                  <a:lnTo>
                    <a:pt x="45" y="561"/>
                  </a:lnTo>
                  <a:lnTo>
                    <a:pt x="27" y="614"/>
                  </a:lnTo>
                  <a:lnTo>
                    <a:pt x="16" y="672"/>
                  </a:lnTo>
                  <a:lnTo>
                    <a:pt x="7" y="727"/>
                  </a:lnTo>
                  <a:lnTo>
                    <a:pt x="2" y="781"/>
                  </a:lnTo>
                  <a:lnTo>
                    <a:pt x="0" y="834"/>
                  </a:lnTo>
                  <a:lnTo>
                    <a:pt x="1" y="883"/>
                  </a:lnTo>
                  <a:lnTo>
                    <a:pt x="5" y="933"/>
                  </a:lnTo>
                  <a:lnTo>
                    <a:pt x="13" y="979"/>
                  </a:lnTo>
                  <a:lnTo>
                    <a:pt x="21" y="1025"/>
                  </a:lnTo>
                  <a:lnTo>
                    <a:pt x="33" y="1069"/>
                  </a:lnTo>
                  <a:lnTo>
                    <a:pt x="47" y="1112"/>
                  </a:lnTo>
                  <a:lnTo>
                    <a:pt x="65" y="1153"/>
                  </a:lnTo>
                  <a:lnTo>
                    <a:pt x="84" y="1192"/>
                  </a:lnTo>
                  <a:lnTo>
                    <a:pt x="106" y="1230"/>
                  </a:lnTo>
                  <a:lnTo>
                    <a:pt x="131" y="1267"/>
                  </a:lnTo>
                  <a:lnTo>
                    <a:pt x="172" y="1311"/>
                  </a:lnTo>
                  <a:lnTo>
                    <a:pt x="215" y="1356"/>
                  </a:lnTo>
                  <a:lnTo>
                    <a:pt x="263" y="1403"/>
                  </a:lnTo>
                  <a:lnTo>
                    <a:pt x="315" y="1451"/>
                  </a:lnTo>
                  <a:lnTo>
                    <a:pt x="370" y="1500"/>
                  </a:lnTo>
                  <a:lnTo>
                    <a:pt x="429" y="1550"/>
                  </a:lnTo>
                  <a:lnTo>
                    <a:pt x="491" y="1602"/>
                  </a:lnTo>
                  <a:lnTo>
                    <a:pt x="558" y="1655"/>
                  </a:lnTo>
                  <a:lnTo>
                    <a:pt x="629" y="1708"/>
                  </a:lnTo>
                  <a:lnTo>
                    <a:pt x="702" y="1764"/>
                  </a:lnTo>
                  <a:lnTo>
                    <a:pt x="780" y="1820"/>
                  </a:lnTo>
                  <a:lnTo>
                    <a:pt x="1490" y="2321"/>
                  </a:lnTo>
                  <a:lnTo>
                    <a:pt x="2309" y="2028"/>
                  </a:lnTo>
                  <a:lnTo>
                    <a:pt x="2284" y="1971"/>
                  </a:lnTo>
                  <a:lnTo>
                    <a:pt x="2259" y="1917"/>
                  </a:lnTo>
                  <a:lnTo>
                    <a:pt x="2234" y="1866"/>
                  </a:lnTo>
                  <a:lnTo>
                    <a:pt x="2209" y="1819"/>
                  </a:lnTo>
                  <a:lnTo>
                    <a:pt x="2183" y="1775"/>
                  </a:lnTo>
                  <a:lnTo>
                    <a:pt x="2157" y="1736"/>
                  </a:lnTo>
                  <a:lnTo>
                    <a:pt x="2131" y="1700"/>
                  </a:lnTo>
                  <a:lnTo>
                    <a:pt x="2095" y="1653"/>
                  </a:lnTo>
                  <a:lnTo>
                    <a:pt x="2056" y="1606"/>
                  </a:lnTo>
                  <a:lnTo>
                    <a:pt x="2012" y="1559"/>
                  </a:lnTo>
                  <a:lnTo>
                    <a:pt x="1964" y="1512"/>
                  </a:lnTo>
                  <a:lnTo>
                    <a:pt x="1912" y="1466"/>
                  </a:lnTo>
                  <a:lnTo>
                    <a:pt x="1856" y="1420"/>
                  </a:lnTo>
                  <a:lnTo>
                    <a:pt x="1796" y="1374"/>
                  </a:lnTo>
                  <a:lnTo>
                    <a:pt x="1721" y="1320"/>
                  </a:lnTo>
                  <a:lnTo>
                    <a:pt x="1648" y="1270"/>
                  </a:lnTo>
                  <a:lnTo>
                    <a:pt x="1579" y="1220"/>
                  </a:lnTo>
                  <a:lnTo>
                    <a:pt x="1510" y="1172"/>
                  </a:lnTo>
                  <a:lnTo>
                    <a:pt x="1446" y="1128"/>
                  </a:lnTo>
                  <a:lnTo>
                    <a:pt x="1383" y="1086"/>
                  </a:lnTo>
                  <a:lnTo>
                    <a:pt x="1321" y="1045"/>
                  </a:lnTo>
                  <a:lnTo>
                    <a:pt x="1298" y="1032"/>
                  </a:lnTo>
                  <a:lnTo>
                    <a:pt x="1278" y="1021"/>
                  </a:lnTo>
                  <a:lnTo>
                    <a:pt x="1261" y="1009"/>
                  </a:lnTo>
                  <a:lnTo>
                    <a:pt x="1248" y="998"/>
                  </a:lnTo>
                  <a:lnTo>
                    <a:pt x="1237" y="987"/>
                  </a:lnTo>
                  <a:lnTo>
                    <a:pt x="1231" y="976"/>
                  </a:lnTo>
                  <a:lnTo>
                    <a:pt x="1227" y="967"/>
                  </a:lnTo>
                  <a:lnTo>
                    <a:pt x="1227" y="958"/>
                  </a:lnTo>
                  <a:lnTo>
                    <a:pt x="1229" y="943"/>
                  </a:lnTo>
                  <a:lnTo>
                    <a:pt x="1234" y="931"/>
                  </a:lnTo>
                  <a:lnTo>
                    <a:pt x="1242" y="921"/>
                  </a:lnTo>
                  <a:lnTo>
                    <a:pt x="1252" y="912"/>
                  </a:lnTo>
                  <a:lnTo>
                    <a:pt x="1266" y="906"/>
                  </a:lnTo>
                  <a:lnTo>
                    <a:pt x="1282" y="902"/>
                  </a:lnTo>
                  <a:lnTo>
                    <a:pt x="1299" y="900"/>
                  </a:lnTo>
                  <a:lnTo>
                    <a:pt x="1321" y="901"/>
                  </a:lnTo>
                  <a:lnTo>
                    <a:pt x="2952" y="902"/>
                  </a:lnTo>
                  <a:lnTo>
                    <a:pt x="29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1640" y="277560"/>
              <a:ext cx="196560" cy="117360"/>
            </a:xfrm>
            <a:custGeom>
              <a:avLst/>
              <a:gdLst/>
              <a:ahLst/>
              <a:rect l="l" t="t" r="r" b="b"/>
              <a:pathLst>
                <a:path w="2477" h="1549">
                  <a:moveTo>
                    <a:pt x="1180" y="902"/>
                  </a:moveTo>
                  <a:lnTo>
                    <a:pt x="6" y="902"/>
                  </a:lnTo>
                  <a:lnTo>
                    <a:pt x="5" y="0"/>
                  </a:lnTo>
                  <a:lnTo>
                    <a:pt x="1589" y="0"/>
                  </a:lnTo>
                  <a:lnTo>
                    <a:pt x="1656" y="4"/>
                  </a:lnTo>
                  <a:lnTo>
                    <a:pt x="1720" y="11"/>
                  </a:lnTo>
                  <a:lnTo>
                    <a:pt x="1781" y="22"/>
                  </a:lnTo>
                  <a:lnTo>
                    <a:pt x="1841" y="37"/>
                  </a:lnTo>
                  <a:lnTo>
                    <a:pt x="1898" y="54"/>
                  </a:lnTo>
                  <a:lnTo>
                    <a:pt x="1953" y="76"/>
                  </a:lnTo>
                  <a:lnTo>
                    <a:pt x="2005" y="101"/>
                  </a:lnTo>
                  <a:lnTo>
                    <a:pt x="2055" y="129"/>
                  </a:lnTo>
                  <a:lnTo>
                    <a:pt x="2102" y="162"/>
                  </a:lnTo>
                  <a:lnTo>
                    <a:pt x="2148" y="197"/>
                  </a:lnTo>
                  <a:lnTo>
                    <a:pt x="2192" y="236"/>
                  </a:lnTo>
                  <a:lnTo>
                    <a:pt x="2233" y="279"/>
                  </a:lnTo>
                  <a:lnTo>
                    <a:pt x="2273" y="327"/>
                  </a:lnTo>
                  <a:lnTo>
                    <a:pt x="2310" y="376"/>
                  </a:lnTo>
                  <a:lnTo>
                    <a:pt x="2345" y="429"/>
                  </a:lnTo>
                  <a:lnTo>
                    <a:pt x="2378" y="486"/>
                  </a:lnTo>
                  <a:lnTo>
                    <a:pt x="2408" y="545"/>
                  </a:lnTo>
                  <a:lnTo>
                    <a:pt x="2430" y="596"/>
                  </a:lnTo>
                  <a:lnTo>
                    <a:pt x="2447" y="649"/>
                  </a:lnTo>
                  <a:lnTo>
                    <a:pt x="2460" y="703"/>
                  </a:lnTo>
                  <a:lnTo>
                    <a:pt x="2470" y="756"/>
                  </a:lnTo>
                  <a:lnTo>
                    <a:pt x="2475" y="811"/>
                  </a:lnTo>
                  <a:lnTo>
                    <a:pt x="2477" y="866"/>
                  </a:lnTo>
                  <a:lnTo>
                    <a:pt x="2474" y="923"/>
                  </a:lnTo>
                  <a:lnTo>
                    <a:pt x="2468" y="979"/>
                  </a:lnTo>
                  <a:lnTo>
                    <a:pt x="2458" y="1037"/>
                  </a:lnTo>
                  <a:lnTo>
                    <a:pt x="2443" y="1095"/>
                  </a:lnTo>
                  <a:lnTo>
                    <a:pt x="2424" y="1154"/>
                  </a:lnTo>
                  <a:lnTo>
                    <a:pt x="2402" y="1214"/>
                  </a:lnTo>
                  <a:lnTo>
                    <a:pt x="2382" y="1259"/>
                  </a:lnTo>
                  <a:lnTo>
                    <a:pt x="2360" y="1302"/>
                  </a:lnTo>
                  <a:lnTo>
                    <a:pt x="2336" y="1342"/>
                  </a:lnTo>
                  <a:lnTo>
                    <a:pt x="2311" y="1380"/>
                  </a:lnTo>
                  <a:lnTo>
                    <a:pt x="2284" y="1415"/>
                  </a:lnTo>
                  <a:lnTo>
                    <a:pt x="2256" y="1447"/>
                  </a:lnTo>
                  <a:lnTo>
                    <a:pt x="2226" y="1477"/>
                  </a:lnTo>
                  <a:lnTo>
                    <a:pt x="2145" y="1549"/>
                  </a:lnTo>
                  <a:lnTo>
                    <a:pt x="0" y="1546"/>
                  </a:lnTo>
                  <a:lnTo>
                    <a:pt x="0" y="1250"/>
                  </a:lnTo>
                  <a:lnTo>
                    <a:pt x="1176" y="1250"/>
                  </a:lnTo>
                  <a:lnTo>
                    <a:pt x="1209" y="1249"/>
                  </a:lnTo>
                  <a:lnTo>
                    <a:pt x="1240" y="1245"/>
                  </a:lnTo>
                  <a:lnTo>
                    <a:pt x="1269" y="1239"/>
                  </a:lnTo>
                  <a:lnTo>
                    <a:pt x="1295" y="1230"/>
                  </a:lnTo>
                  <a:lnTo>
                    <a:pt x="1320" y="1220"/>
                  </a:lnTo>
                  <a:lnTo>
                    <a:pt x="1342" y="1207"/>
                  </a:lnTo>
                  <a:lnTo>
                    <a:pt x="1363" y="1191"/>
                  </a:lnTo>
                  <a:lnTo>
                    <a:pt x="1380" y="1170"/>
                  </a:lnTo>
                  <a:lnTo>
                    <a:pt x="1392" y="1149"/>
                  </a:lnTo>
                  <a:lnTo>
                    <a:pt x="1400" y="1127"/>
                  </a:lnTo>
                  <a:lnTo>
                    <a:pt x="1406" y="1104"/>
                  </a:lnTo>
                  <a:lnTo>
                    <a:pt x="1407" y="1081"/>
                  </a:lnTo>
                  <a:lnTo>
                    <a:pt x="1404" y="1057"/>
                  </a:lnTo>
                  <a:lnTo>
                    <a:pt x="1398" y="1033"/>
                  </a:lnTo>
                  <a:lnTo>
                    <a:pt x="1388" y="1008"/>
                  </a:lnTo>
                  <a:lnTo>
                    <a:pt x="1374" y="982"/>
                  </a:lnTo>
                  <a:lnTo>
                    <a:pt x="1357" y="956"/>
                  </a:lnTo>
                  <a:lnTo>
                    <a:pt x="1339" y="939"/>
                  </a:lnTo>
                  <a:lnTo>
                    <a:pt x="1319" y="926"/>
                  </a:lnTo>
                  <a:lnTo>
                    <a:pt x="1296" y="915"/>
                  </a:lnTo>
                  <a:lnTo>
                    <a:pt x="1272" y="907"/>
                  </a:lnTo>
                  <a:lnTo>
                    <a:pt x="1243" y="903"/>
                  </a:lnTo>
                  <a:lnTo>
                    <a:pt x="1213" y="901"/>
                  </a:lnTo>
                  <a:lnTo>
                    <a:pt x="1180" y="9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01640" y="393480"/>
              <a:ext cx="205920" cy="142920"/>
            </a:xfrm>
            <a:custGeom>
              <a:avLst/>
              <a:gdLst/>
              <a:ahLst/>
              <a:rect l="l" t="t" r="r" b="b"/>
              <a:pathLst>
                <a:path w="2608" h="1894">
                  <a:moveTo>
                    <a:pt x="1452" y="1894"/>
                  </a:moveTo>
                  <a:lnTo>
                    <a:pt x="1536" y="1893"/>
                  </a:lnTo>
                  <a:lnTo>
                    <a:pt x="1618" y="1889"/>
                  </a:lnTo>
                  <a:lnTo>
                    <a:pt x="1695" y="1883"/>
                  </a:lnTo>
                  <a:lnTo>
                    <a:pt x="1769" y="1874"/>
                  </a:lnTo>
                  <a:lnTo>
                    <a:pt x="1839" y="1861"/>
                  </a:lnTo>
                  <a:lnTo>
                    <a:pt x="1906" y="1845"/>
                  </a:lnTo>
                  <a:lnTo>
                    <a:pt x="1969" y="1826"/>
                  </a:lnTo>
                  <a:lnTo>
                    <a:pt x="2028" y="1806"/>
                  </a:lnTo>
                  <a:lnTo>
                    <a:pt x="2085" y="1781"/>
                  </a:lnTo>
                  <a:lnTo>
                    <a:pt x="2138" y="1753"/>
                  </a:lnTo>
                  <a:lnTo>
                    <a:pt x="2186" y="1723"/>
                  </a:lnTo>
                  <a:lnTo>
                    <a:pt x="2231" y="1689"/>
                  </a:lnTo>
                  <a:lnTo>
                    <a:pt x="2273" y="1653"/>
                  </a:lnTo>
                  <a:lnTo>
                    <a:pt x="2311" y="1614"/>
                  </a:lnTo>
                  <a:lnTo>
                    <a:pt x="2359" y="1559"/>
                  </a:lnTo>
                  <a:lnTo>
                    <a:pt x="2403" y="1502"/>
                  </a:lnTo>
                  <a:lnTo>
                    <a:pt x="2443" y="1446"/>
                  </a:lnTo>
                  <a:lnTo>
                    <a:pt x="2478" y="1387"/>
                  </a:lnTo>
                  <a:lnTo>
                    <a:pt x="2509" y="1329"/>
                  </a:lnTo>
                  <a:lnTo>
                    <a:pt x="2535" y="1268"/>
                  </a:lnTo>
                  <a:lnTo>
                    <a:pt x="2558" y="1207"/>
                  </a:lnTo>
                  <a:lnTo>
                    <a:pt x="2577" y="1145"/>
                  </a:lnTo>
                  <a:lnTo>
                    <a:pt x="2590" y="1081"/>
                  </a:lnTo>
                  <a:lnTo>
                    <a:pt x="2600" y="1016"/>
                  </a:lnTo>
                  <a:lnTo>
                    <a:pt x="2605" y="950"/>
                  </a:lnTo>
                  <a:lnTo>
                    <a:pt x="2608" y="877"/>
                  </a:lnTo>
                  <a:lnTo>
                    <a:pt x="2608" y="807"/>
                  </a:lnTo>
                  <a:lnTo>
                    <a:pt x="2604" y="738"/>
                  </a:lnTo>
                  <a:lnTo>
                    <a:pt x="2596" y="673"/>
                  </a:lnTo>
                  <a:lnTo>
                    <a:pt x="2584" y="608"/>
                  </a:lnTo>
                  <a:lnTo>
                    <a:pt x="2569" y="546"/>
                  </a:lnTo>
                  <a:lnTo>
                    <a:pt x="2548" y="486"/>
                  </a:lnTo>
                  <a:lnTo>
                    <a:pt x="2525" y="428"/>
                  </a:lnTo>
                  <a:lnTo>
                    <a:pt x="2498" y="372"/>
                  </a:lnTo>
                  <a:lnTo>
                    <a:pt x="2467" y="319"/>
                  </a:lnTo>
                  <a:lnTo>
                    <a:pt x="2431" y="267"/>
                  </a:lnTo>
                  <a:lnTo>
                    <a:pt x="2393" y="218"/>
                  </a:lnTo>
                  <a:lnTo>
                    <a:pt x="2350" y="170"/>
                  </a:lnTo>
                  <a:lnTo>
                    <a:pt x="2304" y="125"/>
                  </a:lnTo>
                  <a:lnTo>
                    <a:pt x="2254" y="81"/>
                  </a:lnTo>
                  <a:lnTo>
                    <a:pt x="2200" y="40"/>
                  </a:lnTo>
                  <a:lnTo>
                    <a:pt x="2142" y="1"/>
                  </a:lnTo>
                  <a:lnTo>
                    <a:pt x="5" y="0"/>
                  </a:lnTo>
                  <a:lnTo>
                    <a:pt x="5" y="616"/>
                  </a:lnTo>
                  <a:lnTo>
                    <a:pt x="1362" y="616"/>
                  </a:lnTo>
                  <a:lnTo>
                    <a:pt x="1396" y="614"/>
                  </a:lnTo>
                  <a:lnTo>
                    <a:pt x="1427" y="616"/>
                  </a:lnTo>
                  <a:lnTo>
                    <a:pt x="1456" y="620"/>
                  </a:lnTo>
                  <a:lnTo>
                    <a:pt x="1482" y="629"/>
                  </a:lnTo>
                  <a:lnTo>
                    <a:pt x="1506" y="639"/>
                  </a:lnTo>
                  <a:lnTo>
                    <a:pt x="1528" y="653"/>
                  </a:lnTo>
                  <a:lnTo>
                    <a:pt x="1547" y="671"/>
                  </a:lnTo>
                  <a:lnTo>
                    <a:pt x="1563" y="692"/>
                  </a:lnTo>
                  <a:lnTo>
                    <a:pt x="1578" y="715"/>
                  </a:lnTo>
                  <a:lnTo>
                    <a:pt x="1591" y="742"/>
                  </a:lnTo>
                  <a:lnTo>
                    <a:pt x="1600" y="769"/>
                  </a:lnTo>
                  <a:lnTo>
                    <a:pt x="1604" y="797"/>
                  </a:lnTo>
                  <a:lnTo>
                    <a:pt x="1603" y="825"/>
                  </a:lnTo>
                  <a:lnTo>
                    <a:pt x="1598" y="852"/>
                  </a:lnTo>
                  <a:lnTo>
                    <a:pt x="1589" y="879"/>
                  </a:lnTo>
                  <a:lnTo>
                    <a:pt x="1575" y="908"/>
                  </a:lnTo>
                  <a:lnTo>
                    <a:pt x="1560" y="927"/>
                  </a:lnTo>
                  <a:lnTo>
                    <a:pt x="1542" y="943"/>
                  </a:lnTo>
                  <a:lnTo>
                    <a:pt x="1521" y="957"/>
                  </a:lnTo>
                  <a:lnTo>
                    <a:pt x="1496" y="969"/>
                  </a:lnTo>
                  <a:lnTo>
                    <a:pt x="1468" y="978"/>
                  </a:lnTo>
                  <a:lnTo>
                    <a:pt x="1436" y="984"/>
                  </a:lnTo>
                  <a:lnTo>
                    <a:pt x="1401" y="988"/>
                  </a:lnTo>
                  <a:lnTo>
                    <a:pt x="1362" y="989"/>
                  </a:lnTo>
                  <a:lnTo>
                    <a:pt x="10" y="988"/>
                  </a:lnTo>
                  <a:lnTo>
                    <a:pt x="0" y="1892"/>
                  </a:lnTo>
                  <a:lnTo>
                    <a:pt x="1452" y="1893"/>
                  </a:lnTo>
                  <a:lnTo>
                    <a:pt x="1452" y="1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44520" y="277560"/>
              <a:ext cx="121680" cy="69840"/>
            </a:xfrm>
            <a:custGeom>
              <a:avLst/>
              <a:gdLst/>
              <a:ahLst/>
              <a:rect l="l" t="t" r="r" b="b"/>
              <a:pathLst>
                <a:path w="1542" h="907">
                  <a:moveTo>
                    <a:pt x="0" y="0"/>
                  </a:moveTo>
                  <a:lnTo>
                    <a:pt x="1121" y="2"/>
                  </a:lnTo>
                  <a:lnTo>
                    <a:pt x="1171" y="11"/>
                  </a:lnTo>
                  <a:lnTo>
                    <a:pt x="1218" y="22"/>
                  </a:lnTo>
                  <a:lnTo>
                    <a:pt x="1261" y="37"/>
                  </a:lnTo>
                  <a:lnTo>
                    <a:pt x="1301" y="54"/>
                  </a:lnTo>
                  <a:lnTo>
                    <a:pt x="1339" y="75"/>
                  </a:lnTo>
                  <a:lnTo>
                    <a:pt x="1372" y="98"/>
                  </a:lnTo>
                  <a:lnTo>
                    <a:pt x="1403" y="124"/>
                  </a:lnTo>
                  <a:lnTo>
                    <a:pt x="1432" y="152"/>
                  </a:lnTo>
                  <a:lnTo>
                    <a:pt x="1457" y="184"/>
                  </a:lnTo>
                  <a:lnTo>
                    <a:pt x="1479" y="219"/>
                  </a:lnTo>
                  <a:lnTo>
                    <a:pt x="1497" y="256"/>
                  </a:lnTo>
                  <a:lnTo>
                    <a:pt x="1513" y="296"/>
                  </a:lnTo>
                  <a:lnTo>
                    <a:pt x="1525" y="338"/>
                  </a:lnTo>
                  <a:lnTo>
                    <a:pt x="1536" y="384"/>
                  </a:lnTo>
                  <a:lnTo>
                    <a:pt x="1542" y="432"/>
                  </a:lnTo>
                  <a:lnTo>
                    <a:pt x="1537" y="486"/>
                  </a:lnTo>
                  <a:lnTo>
                    <a:pt x="1529" y="537"/>
                  </a:lnTo>
                  <a:lnTo>
                    <a:pt x="1517" y="583"/>
                  </a:lnTo>
                  <a:lnTo>
                    <a:pt x="1502" y="627"/>
                  </a:lnTo>
                  <a:lnTo>
                    <a:pt x="1484" y="669"/>
                  </a:lnTo>
                  <a:lnTo>
                    <a:pt x="1462" y="706"/>
                  </a:lnTo>
                  <a:lnTo>
                    <a:pt x="1438" y="741"/>
                  </a:lnTo>
                  <a:lnTo>
                    <a:pt x="1410" y="773"/>
                  </a:lnTo>
                  <a:lnTo>
                    <a:pt x="1378" y="802"/>
                  </a:lnTo>
                  <a:lnTo>
                    <a:pt x="1344" y="827"/>
                  </a:lnTo>
                  <a:lnTo>
                    <a:pt x="1306" y="849"/>
                  </a:lnTo>
                  <a:lnTo>
                    <a:pt x="1265" y="868"/>
                  </a:lnTo>
                  <a:lnTo>
                    <a:pt x="1220" y="885"/>
                  </a:lnTo>
                  <a:lnTo>
                    <a:pt x="1172" y="898"/>
                  </a:lnTo>
                  <a:lnTo>
                    <a:pt x="1121" y="907"/>
                  </a:lnTo>
                  <a:lnTo>
                    <a:pt x="18" y="9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7680" y="277560"/>
              <a:ext cx="102600" cy="6984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0"/>
                  </a:lnTo>
                  <a:lnTo>
                    <a:pt x="281" y="35"/>
                  </a:lnTo>
                  <a:lnTo>
                    <a:pt x="241" y="52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0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6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1"/>
                  </a:lnTo>
                  <a:lnTo>
                    <a:pt x="39" y="625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800"/>
                  </a:lnTo>
                  <a:lnTo>
                    <a:pt x="198" y="825"/>
                  </a:lnTo>
                  <a:lnTo>
                    <a:pt x="236" y="847"/>
                  </a:lnTo>
                  <a:lnTo>
                    <a:pt x="277" y="866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5"/>
                  </a:lnTo>
                  <a:lnTo>
                    <a:pt x="1299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4520" y="372600"/>
              <a:ext cx="121680" cy="68400"/>
            </a:xfrm>
            <a:custGeom>
              <a:avLst/>
              <a:gdLst/>
              <a:ahLst/>
              <a:rect l="l" t="t" r="r" b="b"/>
              <a:pathLst>
                <a:path w="1542" h="909">
                  <a:moveTo>
                    <a:pt x="0" y="1"/>
                  </a:moveTo>
                  <a:lnTo>
                    <a:pt x="1121" y="3"/>
                  </a:lnTo>
                  <a:lnTo>
                    <a:pt x="1171" y="12"/>
                  </a:lnTo>
                  <a:lnTo>
                    <a:pt x="1218" y="24"/>
                  </a:lnTo>
                  <a:lnTo>
                    <a:pt x="1261" y="38"/>
                  </a:lnTo>
                  <a:lnTo>
                    <a:pt x="1301" y="56"/>
                  </a:lnTo>
                  <a:lnTo>
                    <a:pt x="1339" y="76"/>
                  </a:lnTo>
                  <a:lnTo>
                    <a:pt x="1372" y="99"/>
                  </a:lnTo>
                  <a:lnTo>
                    <a:pt x="1403" y="125"/>
                  </a:lnTo>
                  <a:lnTo>
                    <a:pt x="1432" y="154"/>
                  </a:lnTo>
                  <a:lnTo>
                    <a:pt x="1457" y="186"/>
                  </a:lnTo>
                  <a:lnTo>
                    <a:pt x="1479" y="220"/>
                  </a:lnTo>
                  <a:lnTo>
                    <a:pt x="1497" y="257"/>
                  </a:lnTo>
                  <a:lnTo>
                    <a:pt x="1513" y="297"/>
                  </a:lnTo>
                  <a:lnTo>
                    <a:pt x="1525" y="340"/>
                  </a:lnTo>
                  <a:lnTo>
                    <a:pt x="1536" y="385"/>
                  </a:lnTo>
                  <a:lnTo>
                    <a:pt x="1542" y="434"/>
                  </a:lnTo>
                  <a:lnTo>
                    <a:pt x="1537" y="487"/>
                  </a:lnTo>
                  <a:lnTo>
                    <a:pt x="1529" y="538"/>
                  </a:lnTo>
                  <a:lnTo>
                    <a:pt x="1517" y="584"/>
                  </a:lnTo>
                  <a:lnTo>
                    <a:pt x="1502" y="629"/>
                  </a:lnTo>
                  <a:lnTo>
                    <a:pt x="1484" y="670"/>
                  </a:lnTo>
                  <a:lnTo>
                    <a:pt x="1462" y="707"/>
                  </a:lnTo>
                  <a:lnTo>
                    <a:pt x="1438" y="742"/>
                  </a:lnTo>
                  <a:lnTo>
                    <a:pt x="1410" y="774"/>
                  </a:lnTo>
                  <a:lnTo>
                    <a:pt x="1378" y="802"/>
                  </a:lnTo>
                  <a:lnTo>
                    <a:pt x="1344" y="828"/>
                  </a:lnTo>
                  <a:lnTo>
                    <a:pt x="1306" y="851"/>
                  </a:lnTo>
                  <a:lnTo>
                    <a:pt x="1265" y="869"/>
                  </a:lnTo>
                  <a:lnTo>
                    <a:pt x="1220" y="886"/>
                  </a:lnTo>
                  <a:lnTo>
                    <a:pt x="1172" y="898"/>
                  </a:lnTo>
                  <a:lnTo>
                    <a:pt x="1121" y="909"/>
                  </a:lnTo>
                  <a:lnTo>
                    <a:pt x="18" y="90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7680" y="372600"/>
              <a:ext cx="102600" cy="68400"/>
            </a:xfrm>
            <a:custGeom>
              <a:avLst/>
              <a:gdLst/>
              <a:ahLst/>
              <a:rect l="l" t="t" r="r" b="b"/>
              <a:pathLst>
                <a:path w="1306" h="906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3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1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1"/>
                  </a:lnTo>
                  <a:lnTo>
                    <a:pt x="39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799"/>
                  </a:lnTo>
                  <a:lnTo>
                    <a:pt x="198" y="825"/>
                  </a:lnTo>
                  <a:lnTo>
                    <a:pt x="236" y="848"/>
                  </a:lnTo>
                  <a:lnTo>
                    <a:pt x="277" y="866"/>
                  </a:lnTo>
                  <a:lnTo>
                    <a:pt x="321" y="883"/>
                  </a:lnTo>
                  <a:lnTo>
                    <a:pt x="369" y="895"/>
                  </a:lnTo>
                  <a:lnTo>
                    <a:pt x="420" y="906"/>
                  </a:lnTo>
                  <a:lnTo>
                    <a:pt x="1299" y="906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468000"/>
              <a:ext cx="102600" cy="69840"/>
            </a:xfrm>
            <a:custGeom>
              <a:avLst/>
              <a:gdLst/>
              <a:ahLst/>
              <a:rect l="l" t="t" r="r" b="b"/>
              <a:pathLst>
                <a:path w="1306" h="907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3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2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2"/>
                  </a:lnTo>
                  <a:lnTo>
                    <a:pt x="39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800"/>
                  </a:lnTo>
                  <a:lnTo>
                    <a:pt x="198" y="825"/>
                  </a:lnTo>
                  <a:lnTo>
                    <a:pt x="236" y="848"/>
                  </a:lnTo>
                  <a:lnTo>
                    <a:pt x="277" y="867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7"/>
                  </a:lnTo>
                  <a:lnTo>
                    <a:pt x="1299" y="907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4920" y="372600"/>
              <a:ext cx="104400" cy="6840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0" y="8"/>
                  </a:lnTo>
                  <a:lnTo>
                    <a:pt x="324" y="20"/>
                  </a:lnTo>
                  <a:lnTo>
                    <a:pt x="281" y="35"/>
                  </a:lnTo>
                  <a:lnTo>
                    <a:pt x="241" y="52"/>
                  </a:lnTo>
                  <a:lnTo>
                    <a:pt x="204" y="72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8" y="293"/>
                  </a:lnTo>
                  <a:lnTo>
                    <a:pt x="16" y="336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4" y="484"/>
                  </a:lnTo>
                  <a:lnTo>
                    <a:pt x="13" y="534"/>
                  </a:lnTo>
                  <a:lnTo>
                    <a:pt x="25" y="581"/>
                  </a:lnTo>
                  <a:lnTo>
                    <a:pt x="40" y="626"/>
                  </a:lnTo>
                  <a:lnTo>
                    <a:pt x="57" y="666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0"/>
                  </a:lnTo>
                  <a:lnTo>
                    <a:pt x="163" y="799"/>
                  </a:lnTo>
                  <a:lnTo>
                    <a:pt x="197" y="825"/>
                  </a:lnTo>
                  <a:lnTo>
                    <a:pt x="236" y="848"/>
                  </a:lnTo>
                  <a:lnTo>
                    <a:pt x="276" y="866"/>
                  </a:lnTo>
                  <a:lnTo>
                    <a:pt x="321" y="883"/>
                  </a:lnTo>
                  <a:lnTo>
                    <a:pt x="369" y="895"/>
                  </a:lnTo>
                  <a:lnTo>
                    <a:pt x="420" y="905"/>
                  </a:lnTo>
                  <a:lnTo>
                    <a:pt x="1298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4920" y="468000"/>
              <a:ext cx="104400" cy="6840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0" y="8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8" y="293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4" y="484"/>
                  </a:lnTo>
                  <a:lnTo>
                    <a:pt x="13" y="535"/>
                  </a:lnTo>
                  <a:lnTo>
                    <a:pt x="25" y="581"/>
                  </a:lnTo>
                  <a:lnTo>
                    <a:pt x="40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0"/>
                  </a:lnTo>
                  <a:lnTo>
                    <a:pt x="163" y="799"/>
                  </a:lnTo>
                  <a:lnTo>
                    <a:pt x="197" y="825"/>
                  </a:lnTo>
                  <a:lnTo>
                    <a:pt x="236" y="848"/>
                  </a:lnTo>
                  <a:lnTo>
                    <a:pt x="276" y="866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5"/>
                  </a:lnTo>
                  <a:lnTo>
                    <a:pt x="1298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58720" y="388800"/>
              <a:ext cx="96480" cy="149040"/>
            </a:xfrm>
            <a:custGeom>
              <a:avLst/>
              <a:gdLst/>
              <a:ahLst/>
              <a:rect l="l" t="t" r="r" b="b"/>
              <a:pathLst>
                <a:path w="1236" h="1968">
                  <a:moveTo>
                    <a:pt x="217" y="747"/>
                  </a:moveTo>
                  <a:lnTo>
                    <a:pt x="247" y="768"/>
                  </a:lnTo>
                  <a:lnTo>
                    <a:pt x="273" y="789"/>
                  </a:lnTo>
                  <a:lnTo>
                    <a:pt x="294" y="812"/>
                  </a:lnTo>
                  <a:lnTo>
                    <a:pt x="310" y="834"/>
                  </a:lnTo>
                  <a:lnTo>
                    <a:pt x="323" y="857"/>
                  </a:lnTo>
                  <a:lnTo>
                    <a:pt x="330" y="879"/>
                  </a:lnTo>
                  <a:lnTo>
                    <a:pt x="333" y="902"/>
                  </a:lnTo>
                  <a:lnTo>
                    <a:pt x="331" y="926"/>
                  </a:lnTo>
                  <a:lnTo>
                    <a:pt x="325" y="950"/>
                  </a:lnTo>
                  <a:lnTo>
                    <a:pt x="315" y="973"/>
                  </a:lnTo>
                  <a:lnTo>
                    <a:pt x="302" y="994"/>
                  </a:lnTo>
                  <a:lnTo>
                    <a:pt x="289" y="1012"/>
                  </a:lnTo>
                  <a:lnTo>
                    <a:pt x="273" y="1027"/>
                  </a:lnTo>
                  <a:lnTo>
                    <a:pt x="254" y="1039"/>
                  </a:lnTo>
                  <a:lnTo>
                    <a:pt x="236" y="1048"/>
                  </a:lnTo>
                  <a:lnTo>
                    <a:pt x="214" y="1054"/>
                  </a:lnTo>
                  <a:lnTo>
                    <a:pt x="191" y="1058"/>
                  </a:lnTo>
                  <a:lnTo>
                    <a:pt x="89" y="1064"/>
                  </a:lnTo>
                  <a:lnTo>
                    <a:pt x="0" y="1968"/>
                  </a:lnTo>
                  <a:lnTo>
                    <a:pt x="82" y="1967"/>
                  </a:lnTo>
                  <a:lnTo>
                    <a:pt x="160" y="1963"/>
                  </a:lnTo>
                  <a:lnTo>
                    <a:pt x="237" y="1957"/>
                  </a:lnTo>
                  <a:lnTo>
                    <a:pt x="310" y="1949"/>
                  </a:lnTo>
                  <a:lnTo>
                    <a:pt x="381" y="1938"/>
                  </a:lnTo>
                  <a:lnTo>
                    <a:pt x="450" y="1924"/>
                  </a:lnTo>
                  <a:lnTo>
                    <a:pt x="515" y="1909"/>
                  </a:lnTo>
                  <a:lnTo>
                    <a:pt x="578" y="1890"/>
                  </a:lnTo>
                  <a:lnTo>
                    <a:pt x="640" y="1868"/>
                  </a:lnTo>
                  <a:lnTo>
                    <a:pt x="695" y="1839"/>
                  </a:lnTo>
                  <a:lnTo>
                    <a:pt x="747" y="1804"/>
                  </a:lnTo>
                  <a:lnTo>
                    <a:pt x="798" y="1768"/>
                  </a:lnTo>
                  <a:lnTo>
                    <a:pt x="846" y="1728"/>
                  </a:lnTo>
                  <a:lnTo>
                    <a:pt x="894" y="1686"/>
                  </a:lnTo>
                  <a:lnTo>
                    <a:pt x="939" y="1638"/>
                  </a:lnTo>
                  <a:lnTo>
                    <a:pt x="981" y="1589"/>
                  </a:lnTo>
                  <a:lnTo>
                    <a:pt x="1022" y="1536"/>
                  </a:lnTo>
                  <a:lnTo>
                    <a:pt x="1060" y="1479"/>
                  </a:lnTo>
                  <a:lnTo>
                    <a:pt x="1098" y="1420"/>
                  </a:lnTo>
                  <a:lnTo>
                    <a:pt x="1133" y="1357"/>
                  </a:lnTo>
                  <a:lnTo>
                    <a:pt x="1165" y="1291"/>
                  </a:lnTo>
                  <a:lnTo>
                    <a:pt x="1187" y="1215"/>
                  </a:lnTo>
                  <a:lnTo>
                    <a:pt x="1204" y="1138"/>
                  </a:lnTo>
                  <a:lnTo>
                    <a:pt x="1218" y="1066"/>
                  </a:lnTo>
                  <a:lnTo>
                    <a:pt x="1228" y="994"/>
                  </a:lnTo>
                  <a:lnTo>
                    <a:pt x="1234" y="925"/>
                  </a:lnTo>
                  <a:lnTo>
                    <a:pt x="1236" y="858"/>
                  </a:lnTo>
                  <a:lnTo>
                    <a:pt x="1235" y="792"/>
                  </a:lnTo>
                  <a:lnTo>
                    <a:pt x="1230" y="729"/>
                  </a:lnTo>
                  <a:lnTo>
                    <a:pt x="1220" y="668"/>
                  </a:lnTo>
                  <a:lnTo>
                    <a:pt x="1208" y="608"/>
                  </a:lnTo>
                  <a:lnTo>
                    <a:pt x="1191" y="550"/>
                  </a:lnTo>
                  <a:lnTo>
                    <a:pt x="1168" y="494"/>
                  </a:lnTo>
                  <a:lnTo>
                    <a:pt x="1142" y="437"/>
                  </a:lnTo>
                  <a:lnTo>
                    <a:pt x="1112" y="381"/>
                  </a:lnTo>
                  <a:lnTo>
                    <a:pt x="1078" y="326"/>
                  </a:lnTo>
                  <a:lnTo>
                    <a:pt x="1040" y="270"/>
                  </a:lnTo>
                  <a:lnTo>
                    <a:pt x="998" y="215"/>
                  </a:lnTo>
                  <a:lnTo>
                    <a:pt x="951" y="161"/>
                  </a:lnTo>
                  <a:lnTo>
                    <a:pt x="901" y="107"/>
                  </a:lnTo>
                  <a:lnTo>
                    <a:pt x="847" y="53"/>
                  </a:lnTo>
                  <a:lnTo>
                    <a:pt x="790" y="0"/>
                  </a:lnTo>
                  <a:lnTo>
                    <a:pt x="146" y="202"/>
                  </a:lnTo>
                  <a:lnTo>
                    <a:pt x="217" y="7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1104840" y="253800"/>
            <a:ext cx="1752840" cy="302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NATIONAL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ftr" idx="1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2F2-B196-4D30-A6EA-6245A2D779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260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643-E975-4DDA-9276-52689DA2D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23960" y="6211800"/>
            <a:ext cx="853560" cy="546120"/>
            <a:chOff x="723960" y="6211800"/>
            <a:chExt cx="853560" cy="546120"/>
          </a:xfrm>
        </p:grpSpPr>
        <p:sp>
          <p:nvSpPr>
            <p:cNvPr id="67" name=""/>
            <p:cNvSpPr/>
            <p:nvPr/>
          </p:nvSpPr>
          <p:spPr>
            <a:xfrm>
              <a:off x="723960" y="6484680"/>
              <a:ext cx="426960" cy="273240"/>
            </a:xfrm>
            <a:custGeom>
              <a:avLst/>
              <a:gdLst/>
              <a:ahLst/>
              <a:rect l="l" t="t" r="r" b="b"/>
              <a:pathLst>
                <a:path w="5380" h="3619">
                  <a:moveTo>
                    <a:pt x="5380" y="3619"/>
                  </a:moveTo>
                  <a:lnTo>
                    <a:pt x="5168" y="3617"/>
                  </a:lnTo>
                  <a:lnTo>
                    <a:pt x="4960" y="3613"/>
                  </a:lnTo>
                  <a:lnTo>
                    <a:pt x="4756" y="3609"/>
                  </a:lnTo>
                  <a:lnTo>
                    <a:pt x="4558" y="3604"/>
                  </a:lnTo>
                  <a:lnTo>
                    <a:pt x="4364" y="3598"/>
                  </a:lnTo>
                  <a:lnTo>
                    <a:pt x="4175" y="3591"/>
                  </a:lnTo>
                  <a:lnTo>
                    <a:pt x="3989" y="3583"/>
                  </a:lnTo>
                  <a:lnTo>
                    <a:pt x="3809" y="3573"/>
                  </a:lnTo>
                  <a:lnTo>
                    <a:pt x="3633" y="3562"/>
                  </a:lnTo>
                  <a:lnTo>
                    <a:pt x="3460" y="3551"/>
                  </a:lnTo>
                  <a:lnTo>
                    <a:pt x="3293" y="3538"/>
                  </a:lnTo>
                  <a:lnTo>
                    <a:pt x="3130" y="3524"/>
                  </a:lnTo>
                  <a:lnTo>
                    <a:pt x="2972" y="3508"/>
                  </a:lnTo>
                  <a:lnTo>
                    <a:pt x="2818" y="3493"/>
                  </a:lnTo>
                  <a:lnTo>
                    <a:pt x="2669" y="3475"/>
                  </a:lnTo>
                  <a:lnTo>
                    <a:pt x="2523" y="3457"/>
                  </a:lnTo>
                  <a:lnTo>
                    <a:pt x="2383" y="3437"/>
                  </a:lnTo>
                  <a:lnTo>
                    <a:pt x="2247" y="3416"/>
                  </a:lnTo>
                  <a:lnTo>
                    <a:pt x="2126" y="3391"/>
                  </a:lnTo>
                  <a:lnTo>
                    <a:pt x="2007" y="3363"/>
                  </a:lnTo>
                  <a:lnTo>
                    <a:pt x="1893" y="3332"/>
                  </a:lnTo>
                  <a:lnTo>
                    <a:pt x="1783" y="3298"/>
                  </a:lnTo>
                  <a:lnTo>
                    <a:pt x="1676" y="3261"/>
                  </a:lnTo>
                  <a:lnTo>
                    <a:pt x="1572" y="3222"/>
                  </a:lnTo>
                  <a:lnTo>
                    <a:pt x="1472" y="3180"/>
                  </a:lnTo>
                  <a:lnTo>
                    <a:pt x="1376" y="3135"/>
                  </a:lnTo>
                  <a:lnTo>
                    <a:pt x="1282" y="3088"/>
                  </a:lnTo>
                  <a:lnTo>
                    <a:pt x="1193" y="3037"/>
                  </a:lnTo>
                  <a:lnTo>
                    <a:pt x="1108" y="2985"/>
                  </a:lnTo>
                  <a:lnTo>
                    <a:pt x="1025" y="2928"/>
                  </a:lnTo>
                  <a:lnTo>
                    <a:pt x="946" y="2869"/>
                  </a:lnTo>
                  <a:lnTo>
                    <a:pt x="871" y="2808"/>
                  </a:lnTo>
                  <a:lnTo>
                    <a:pt x="799" y="2744"/>
                  </a:lnTo>
                  <a:lnTo>
                    <a:pt x="731" y="2677"/>
                  </a:lnTo>
                  <a:lnTo>
                    <a:pt x="666" y="2608"/>
                  </a:lnTo>
                  <a:lnTo>
                    <a:pt x="605" y="2536"/>
                  </a:lnTo>
                  <a:lnTo>
                    <a:pt x="548" y="2460"/>
                  </a:lnTo>
                  <a:lnTo>
                    <a:pt x="494" y="2382"/>
                  </a:lnTo>
                  <a:lnTo>
                    <a:pt x="444" y="2301"/>
                  </a:lnTo>
                  <a:lnTo>
                    <a:pt x="397" y="2219"/>
                  </a:lnTo>
                  <a:lnTo>
                    <a:pt x="354" y="2132"/>
                  </a:lnTo>
                  <a:lnTo>
                    <a:pt x="314" y="2043"/>
                  </a:lnTo>
                  <a:lnTo>
                    <a:pt x="281" y="1964"/>
                  </a:lnTo>
                  <a:lnTo>
                    <a:pt x="250" y="1880"/>
                  </a:lnTo>
                  <a:lnTo>
                    <a:pt x="221" y="1792"/>
                  </a:lnTo>
                  <a:lnTo>
                    <a:pt x="194" y="1700"/>
                  </a:lnTo>
                  <a:lnTo>
                    <a:pt x="168" y="1604"/>
                  </a:lnTo>
                  <a:lnTo>
                    <a:pt x="144" y="1505"/>
                  </a:lnTo>
                  <a:lnTo>
                    <a:pt x="122" y="1402"/>
                  </a:lnTo>
                  <a:lnTo>
                    <a:pt x="102" y="1293"/>
                  </a:lnTo>
                  <a:lnTo>
                    <a:pt x="84" y="1182"/>
                  </a:lnTo>
                  <a:lnTo>
                    <a:pt x="67" y="1066"/>
                  </a:lnTo>
                  <a:lnTo>
                    <a:pt x="52" y="948"/>
                  </a:lnTo>
                  <a:lnTo>
                    <a:pt x="40" y="824"/>
                  </a:lnTo>
                  <a:lnTo>
                    <a:pt x="29" y="697"/>
                  </a:lnTo>
                  <a:lnTo>
                    <a:pt x="19" y="565"/>
                  </a:lnTo>
                  <a:lnTo>
                    <a:pt x="12" y="430"/>
                  </a:lnTo>
                  <a:lnTo>
                    <a:pt x="6" y="291"/>
                  </a:lnTo>
                  <a:lnTo>
                    <a:pt x="3" y="147"/>
                  </a:lnTo>
                  <a:lnTo>
                    <a:pt x="0" y="1"/>
                  </a:lnTo>
                  <a:lnTo>
                    <a:pt x="5380" y="0"/>
                  </a:lnTo>
                  <a:lnTo>
                    <a:pt x="5380" y="3618"/>
                  </a:lnTo>
                  <a:lnTo>
                    <a:pt x="5380" y="361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6211800"/>
              <a:ext cx="426960" cy="272880"/>
            </a:xfrm>
            <a:custGeom>
              <a:avLst/>
              <a:gdLst/>
              <a:ahLst/>
              <a:rect l="l" t="t" r="r" b="b"/>
              <a:pathLst>
                <a:path w="5380" h="3604">
                  <a:moveTo>
                    <a:pt x="5380" y="1"/>
                  </a:moveTo>
                  <a:lnTo>
                    <a:pt x="5168" y="2"/>
                  </a:lnTo>
                  <a:lnTo>
                    <a:pt x="4960" y="6"/>
                  </a:lnTo>
                  <a:lnTo>
                    <a:pt x="4756" y="10"/>
                  </a:lnTo>
                  <a:lnTo>
                    <a:pt x="4558" y="15"/>
                  </a:lnTo>
                  <a:lnTo>
                    <a:pt x="4364" y="21"/>
                  </a:lnTo>
                  <a:lnTo>
                    <a:pt x="4175" y="28"/>
                  </a:lnTo>
                  <a:lnTo>
                    <a:pt x="3989" y="37"/>
                  </a:lnTo>
                  <a:lnTo>
                    <a:pt x="3809" y="47"/>
                  </a:lnTo>
                  <a:lnTo>
                    <a:pt x="3633" y="57"/>
                  </a:lnTo>
                  <a:lnTo>
                    <a:pt x="3460" y="69"/>
                  </a:lnTo>
                  <a:lnTo>
                    <a:pt x="3293" y="82"/>
                  </a:lnTo>
                  <a:lnTo>
                    <a:pt x="3130" y="95"/>
                  </a:lnTo>
                  <a:lnTo>
                    <a:pt x="2972" y="111"/>
                  </a:lnTo>
                  <a:lnTo>
                    <a:pt x="2818" y="126"/>
                  </a:lnTo>
                  <a:lnTo>
                    <a:pt x="2669" y="144"/>
                  </a:lnTo>
                  <a:lnTo>
                    <a:pt x="2523" y="163"/>
                  </a:lnTo>
                  <a:lnTo>
                    <a:pt x="2383" y="181"/>
                  </a:lnTo>
                  <a:lnTo>
                    <a:pt x="2247" y="202"/>
                  </a:lnTo>
                  <a:lnTo>
                    <a:pt x="2126" y="228"/>
                  </a:lnTo>
                  <a:lnTo>
                    <a:pt x="2007" y="255"/>
                  </a:lnTo>
                  <a:lnTo>
                    <a:pt x="1893" y="286"/>
                  </a:lnTo>
                  <a:lnTo>
                    <a:pt x="1783" y="320"/>
                  </a:lnTo>
                  <a:lnTo>
                    <a:pt x="1676" y="357"/>
                  </a:lnTo>
                  <a:lnTo>
                    <a:pt x="1572" y="396"/>
                  </a:lnTo>
                  <a:lnTo>
                    <a:pt x="1472" y="438"/>
                  </a:lnTo>
                  <a:lnTo>
                    <a:pt x="1376" y="483"/>
                  </a:lnTo>
                  <a:lnTo>
                    <a:pt x="1282" y="530"/>
                  </a:lnTo>
                  <a:lnTo>
                    <a:pt x="1193" y="580"/>
                  </a:lnTo>
                  <a:lnTo>
                    <a:pt x="1108" y="633"/>
                  </a:lnTo>
                  <a:lnTo>
                    <a:pt x="1025" y="688"/>
                  </a:lnTo>
                  <a:lnTo>
                    <a:pt x="946" y="747"/>
                  </a:lnTo>
                  <a:lnTo>
                    <a:pt x="871" y="808"/>
                  </a:lnTo>
                  <a:lnTo>
                    <a:pt x="799" y="872"/>
                  </a:lnTo>
                  <a:lnTo>
                    <a:pt x="731" y="938"/>
                  </a:lnTo>
                  <a:lnTo>
                    <a:pt x="666" y="1007"/>
                  </a:lnTo>
                  <a:lnTo>
                    <a:pt x="605" y="1079"/>
                  </a:lnTo>
                  <a:lnTo>
                    <a:pt x="548" y="1154"/>
                  </a:lnTo>
                  <a:lnTo>
                    <a:pt x="494" y="1231"/>
                  </a:lnTo>
                  <a:lnTo>
                    <a:pt x="444" y="1312"/>
                  </a:lnTo>
                  <a:lnTo>
                    <a:pt x="397" y="1395"/>
                  </a:lnTo>
                  <a:lnTo>
                    <a:pt x="354" y="1481"/>
                  </a:lnTo>
                  <a:lnTo>
                    <a:pt x="314" y="1569"/>
                  </a:lnTo>
                  <a:lnTo>
                    <a:pt x="281" y="1648"/>
                  </a:lnTo>
                  <a:lnTo>
                    <a:pt x="250" y="1732"/>
                  </a:lnTo>
                  <a:lnTo>
                    <a:pt x="221" y="1820"/>
                  </a:lnTo>
                  <a:lnTo>
                    <a:pt x="194" y="1911"/>
                  </a:lnTo>
                  <a:lnTo>
                    <a:pt x="168" y="2007"/>
                  </a:lnTo>
                  <a:lnTo>
                    <a:pt x="144" y="2106"/>
                  </a:lnTo>
                  <a:lnTo>
                    <a:pt x="122" y="2208"/>
                  </a:lnTo>
                  <a:lnTo>
                    <a:pt x="102" y="2315"/>
                  </a:lnTo>
                  <a:lnTo>
                    <a:pt x="84" y="2426"/>
                  </a:lnTo>
                  <a:lnTo>
                    <a:pt x="67" y="2541"/>
                  </a:lnTo>
                  <a:lnTo>
                    <a:pt x="52" y="2660"/>
                  </a:lnTo>
                  <a:lnTo>
                    <a:pt x="40" y="2783"/>
                  </a:lnTo>
                  <a:lnTo>
                    <a:pt x="29" y="2910"/>
                  </a:lnTo>
                  <a:lnTo>
                    <a:pt x="19" y="3041"/>
                  </a:lnTo>
                  <a:lnTo>
                    <a:pt x="12" y="3175"/>
                  </a:lnTo>
                  <a:lnTo>
                    <a:pt x="6" y="3314"/>
                  </a:lnTo>
                  <a:lnTo>
                    <a:pt x="3" y="3456"/>
                  </a:lnTo>
                  <a:lnTo>
                    <a:pt x="0" y="3603"/>
                  </a:lnTo>
                  <a:lnTo>
                    <a:pt x="5380" y="3604"/>
                  </a:lnTo>
                  <a:lnTo>
                    <a:pt x="5380" y="0"/>
                  </a:lnTo>
                  <a:lnTo>
                    <a:pt x="5380" y="1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50920" y="6483240"/>
              <a:ext cx="426600" cy="274680"/>
            </a:xfrm>
            <a:custGeom>
              <a:avLst/>
              <a:gdLst/>
              <a:ahLst/>
              <a:rect l="l" t="t" r="r" b="b"/>
              <a:pathLst>
                <a:path w="5379" h="3635">
                  <a:moveTo>
                    <a:pt x="0" y="3635"/>
                  </a:moveTo>
                  <a:lnTo>
                    <a:pt x="212" y="3633"/>
                  </a:lnTo>
                  <a:lnTo>
                    <a:pt x="420" y="3630"/>
                  </a:lnTo>
                  <a:lnTo>
                    <a:pt x="622" y="3626"/>
                  </a:lnTo>
                  <a:lnTo>
                    <a:pt x="821" y="3621"/>
                  </a:lnTo>
                  <a:lnTo>
                    <a:pt x="1015" y="3615"/>
                  </a:lnTo>
                  <a:lnTo>
                    <a:pt x="1205" y="3607"/>
                  </a:lnTo>
                  <a:lnTo>
                    <a:pt x="1390" y="3598"/>
                  </a:lnTo>
                  <a:lnTo>
                    <a:pt x="1571" y="3589"/>
                  </a:lnTo>
                  <a:lnTo>
                    <a:pt x="1747" y="3578"/>
                  </a:lnTo>
                  <a:lnTo>
                    <a:pt x="1919" y="3566"/>
                  </a:lnTo>
                  <a:lnTo>
                    <a:pt x="2087" y="3553"/>
                  </a:lnTo>
                  <a:lnTo>
                    <a:pt x="2249" y="3540"/>
                  </a:lnTo>
                  <a:lnTo>
                    <a:pt x="2408" y="3524"/>
                  </a:lnTo>
                  <a:lnTo>
                    <a:pt x="2562" y="3508"/>
                  </a:lnTo>
                  <a:lnTo>
                    <a:pt x="2711" y="3491"/>
                  </a:lnTo>
                  <a:lnTo>
                    <a:pt x="2856" y="3473"/>
                  </a:lnTo>
                  <a:lnTo>
                    <a:pt x="2997" y="3453"/>
                  </a:lnTo>
                  <a:lnTo>
                    <a:pt x="3133" y="3432"/>
                  </a:lnTo>
                  <a:lnTo>
                    <a:pt x="3254" y="3406"/>
                  </a:lnTo>
                  <a:lnTo>
                    <a:pt x="3372" y="3378"/>
                  </a:lnTo>
                  <a:lnTo>
                    <a:pt x="3486" y="3347"/>
                  </a:lnTo>
                  <a:lnTo>
                    <a:pt x="3597" y="3312"/>
                  </a:lnTo>
                  <a:lnTo>
                    <a:pt x="3704" y="3276"/>
                  </a:lnTo>
                  <a:lnTo>
                    <a:pt x="3808" y="3237"/>
                  </a:lnTo>
                  <a:lnTo>
                    <a:pt x="3908" y="3195"/>
                  </a:lnTo>
                  <a:lnTo>
                    <a:pt x="4004" y="3149"/>
                  </a:lnTo>
                  <a:lnTo>
                    <a:pt x="4097" y="3102"/>
                  </a:lnTo>
                  <a:lnTo>
                    <a:pt x="4186" y="3051"/>
                  </a:lnTo>
                  <a:lnTo>
                    <a:pt x="4272" y="2998"/>
                  </a:lnTo>
                  <a:lnTo>
                    <a:pt x="4355" y="2942"/>
                  </a:lnTo>
                  <a:lnTo>
                    <a:pt x="4433" y="2883"/>
                  </a:lnTo>
                  <a:lnTo>
                    <a:pt x="4509" y="2821"/>
                  </a:lnTo>
                  <a:lnTo>
                    <a:pt x="4581" y="2757"/>
                  </a:lnTo>
                  <a:lnTo>
                    <a:pt x="4648" y="2690"/>
                  </a:lnTo>
                  <a:lnTo>
                    <a:pt x="4713" y="2620"/>
                  </a:lnTo>
                  <a:lnTo>
                    <a:pt x="4774" y="2547"/>
                  </a:lnTo>
                  <a:lnTo>
                    <a:pt x="4831" y="2472"/>
                  </a:lnTo>
                  <a:lnTo>
                    <a:pt x="4885" y="2394"/>
                  </a:lnTo>
                  <a:lnTo>
                    <a:pt x="4936" y="2312"/>
                  </a:lnTo>
                  <a:lnTo>
                    <a:pt x="4983" y="2229"/>
                  </a:lnTo>
                  <a:lnTo>
                    <a:pt x="5026" y="2143"/>
                  </a:lnTo>
                  <a:lnTo>
                    <a:pt x="5066" y="2053"/>
                  </a:lnTo>
                  <a:lnTo>
                    <a:pt x="5099" y="1973"/>
                  </a:lnTo>
                  <a:lnTo>
                    <a:pt x="5130" y="1889"/>
                  </a:lnTo>
                  <a:lnTo>
                    <a:pt x="5158" y="1801"/>
                  </a:lnTo>
                  <a:lnTo>
                    <a:pt x="5186" y="1709"/>
                  </a:lnTo>
                  <a:lnTo>
                    <a:pt x="5211" y="1612"/>
                  </a:lnTo>
                  <a:lnTo>
                    <a:pt x="5236" y="1512"/>
                  </a:lnTo>
                  <a:lnTo>
                    <a:pt x="5258" y="1409"/>
                  </a:lnTo>
                  <a:lnTo>
                    <a:pt x="5278" y="1300"/>
                  </a:lnTo>
                  <a:lnTo>
                    <a:pt x="5296" y="1189"/>
                  </a:lnTo>
                  <a:lnTo>
                    <a:pt x="5313" y="1073"/>
                  </a:lnTo>
                  <a:lnTo>
                    <a:pt x="5327" y="952"/>
                  </a:lnTo>
                  <a:lnTo>
                    <a:pt x="5340" y="828"/>
                  </a:lnTo>
                  <a:lnTo>
                    <a:pt x="5351" y="700"/>
                  </a:lnTo>
                  <a:lnTo>
                    <a:pt x="5361" y="569"/>
                  </a:lnTo>
                  <a:lnTo>
                    <a:pt x="5368" y="433"/>
                  </a:lnTo>
                  <a:lnTo>
                    <a:pt x="5373" y="292"/>
                  </a:lnTo>
                  <a:lnTo>
                    <a:pt x="5377" y="149"/>
                  </a:lnTo>
                  <a:lnTo>
                    <a:pt x="5379" y="1"/>
                  </a:lnTo>
                  <a:lnTo>
                    <a:pt x="0" y="0"/>
                  </a:lnTo>
                  <a:lnTo>
                    <a:pt x="0" y="363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50920" y="6211800"/>
              <a:ext cx="426600" cy="272880"/>
            </a:xfrm>
            <a:custGeom>
              <a:avLst/>
              <a:gdLst/>
              <a:ahLst/>
              <a:rect l="l" t="t" r="r" b="b"/>
              <a:pathLst>
                <a:path w="5380" h="3618">
                  <a:moveTo>
                    <a:pt x="0" y="0"/>
                  </a:moveTo>
                  <a:lnTo>
                    <a:pt x="211" y="2"/>
                  </a:lnTo>
                  <a:lnTo>
                    <a:pt x="419" y="6"/>
                  </a:lnTo>
                  <a:lnTo>
                    <a:pt x="623" y="10"/>
                  </a:lnTo>
                  <a:lnTo>
                    <a:pt x="821" y="15"/>
                  </a:lnTo>
                  <a:lnTo>
                    <a:pt x="1015" y="21"/>
                  </a:lnTo>
                  <a:lnTo>
                    <a:pt x="1205" y="28"/>
                  </a:lnTo>
                  <a:lnTo>
                    <a:pt x="1390" y="36"/>
                  </a:lnTo>
                  <a:lnTo>
                    <a:pt x="1571" y="46"/>
                  </a:lnTo>
                  <a:lnTo>
                    <a:pt x="1747" y="57"/>
                  </a:lnTo>
                  <a:lnTo>
                    <a:pt x="1919" y="68"/>
                  </a:lnTo>
                  <a:lnTo>
                    <a:pt x="2086" y="82"/>
                  </a:lnTo>
                  <a:lnTo>
                    <a:pt x="2249" y="95"/>
                  </a:lnTo>
                  <a:lnTo>
                    <a:pt x="2408" y="111"/>
                  </a:lnTo>
                  <a:lnTo>
                    <a:pt x="2562" y="126"/>
                  </a:lnTo>
                  <a:lnTo>
                    <a:pt x="2711" y="144"/>
                  </a:lnTo>
                  <a:lnTo>
                    <a:pt x="2857" y="162"/>
                  </a:lnTo>
                  <a:lnTo>
                    <a:pt x="2996" y="182"/>
                  </a:lnTo>
                  <a:lnTo>
                    <a:pt x="3133" y="203"/>
                  </a:lnTo>
                  <a:lnTo>
                    <a:pt x="3253" y="229"/>
                  </a:lnTo>
                  <a:lnTo>
                    <a:pt x="3372" y="256"/>
                  </a:lnTo>
                  <a:lnTo>
                    <a:pt x="3486" y="287"/>
                  </a:lnTo>
                  <a:lnTo>
                    <a:pt x="3596" y="321"/>
                  </a:lnTo>
                  <a:lnTo>
                    <a:pt x="3704" y="358"/>
                  </a:lnTo>
                  <a:lnTo>
                    <a:pt x="3808" y="397"/>
                  </a:lnTo>
                  <a:lnTo>
                    <a:pt x="3908" y="439"/>
                  </a:lnTo>
                  <a:lnTo>
                    <a:pt x="4004" y="485"/>
                  </a:lnTo>
                  <a:lnTo>
                    <a:pt x="4097" y="532"/>
                  </a:lnTo>
                  <a:lnTo>
                    <a:pt x="4186" y="582"/>
                  </a:lnTo>
                  <a:lnTo>
                    <a:pt x="4272" y="635"/>
                  </a:lnTo>
                  <a:lnTo>
                    <a:pt x="4354" y="691"/>
                  </a:lnTo>
                  <a:lnTo>
                    <a:pt x="4433" y="750"/>
                  </a:lnTo>
                  <a:lnTo>
                    <a:pt x="4508" y="811"/>
                  </a:lnTo>
                  <a:lnTo>
                    <a:pt x="4581" y="875"/>
                  </a:lnTo>
                  <a:lnTo>
                    <a:pt x="4648" y="942"/>
                  </a:lnTo>
                  <a:lnTo>
                    <a:pt x="4713" y="1011"/>
                  </a:lnTo>
                  <a:lnTo>
                    <a:pt x="4774" y="1083"/>
                  </a:lnTo>
                  <a:lnTo>
                    <a:pt x="4831" y="1159"/>
                  </a:lnTo>
                  <a:lnTo>
                    <a:pt x="4885" y="1236"/>
                  </a:lnTo>
                  <a:lnTo>
                    <a:pt x="4936" y="1318"/>
                  </a:lnTo>
                  <a:lnTo>
                    <a:pt x="4982" y="1400"/>
                  </a:lnTo>
                  <a:lnTo>
                    <a:pt x="5025" y="1487"/>
                  </a:lnTo>
                  <a:lnTo>
                    <a:pt x="5065" y="1576"/>
                  </a:lnTo>
                  <a:lnTo>
                    <a:pt x="5098" y="1655"/>
                  </a:lnTo>
                  <a:lnTo>
                    <a:pt x="5129" y="1739"/>
                  </a:lnTo>
                  <a:lnTo>
                    <a:pt x="5158" y="1827"/>
                  </a:lnTo>
                  <a:lnTo>
                    <a:pt x="5186" y="1919"/>
                  </a:lnTo>
                  <a:lnTo>
                    <a:pt x="5211" y="2015"/>
                  </a:lnTo>
                  <a:lnTo>
                    <a:pt x="5235" y="2114"/>
                  </a:lnTo>
                  <a:lnTo>
                    <a:pt x="5257" y="2217"/>
                  </a:lnTo>
                  <a:lnTo>
                    <a:pt x="5278" y="2325"/>
                  </a:lnTo>
                  <a:lnTo>
                    <a:pt x="5295" y="2436"/>
                  </a:lnTo>
                  <a:lnTo>
                    <a:pt x="5312" y="2552"/>
                  </a:lnTo>
                  <a:lnTo>
                    <a:pt x="5327" y="2671"/>
                  </a:lnTo>
                  <a:lnTo>
                    <a:pt x="5340" y="2794"/>
                  </a:lnTo>
                  <a:lnTo>
                    <a:pt x="5351" y="2922"/>
                  </a:lnTo>
                  <a:lnTo>
                    <a:pt x="5360" y="3054"/>
                  </a:lnTo>
                  <a:lnTo>
                    <a:pt x="5368" y="3189"/>
                  </a:lnTo>
                  <a:lnTo>
                    <a:pt x="5373" y="3328"/>
                  </a:lnTo>
                  <a:lnTo>
                    <a:pt x="5377" y="3471"/>
                  </a:lnTo>
                  <a:lnTo>
                    <a:pt x="5380" y="3618"/>
                  </a:lnTo>
                  <a:lnTo>
                    <a:pt x="0" y="3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2480" y="6546600"/>
              <a:ext cx="290160" cy="69840"/>
            </a:xfrm>
            <a:custGeom>
              <a:avLst/>
              <a:gdLst/>
              <a:ahLst/>
              <a:rect l="l" t="t" r="r" b="b"/>
              <a:pathLst>
                <a:path w="3653" h="908">
                  <a:moveTo>
                    <a:pt x="0" y="2"/>
                  </a:moveTo>
                  <a:lnTo>
                    <a:pt x="0" y="907"/>
                  </a:lnTo>
                  <a:lnTo>
                    <a:pt x="3572" y="908"/>
                  </a:lnTo>
                  <a:lnTo>
                    <a:pt x="365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39680" y="6356160"/>
              <a:ext cx="232920" cy="176040"/>
            </a:xfrm>
            <a:custGeom>
              <a:avLst/>
              <a:gdLst/>
              <a:ahLst/>
              <a:rect l="l" t="t" r="r" b="b"/>
              <a:pathLst>
                <a:path w="2952" h="2321">
                  <a:moveTo>
                    <a:pt x="2952" y="0"/>
                  </a:moveTo>
                  <a:lnTo>
                    <a:pt x="824" y="1"/>
                  </a:lnTo>
                  <a:lnTo>
                    <a:pt x="770" y="1"/>
                  </a:lnTo>
                  <a:lnTo>
                    <a:pt x="714" y="6"/>
                  </a:lnTo>
                  <a:lnTo>
                    <a:pt x="660" y="14"/>
                  </a:lnTo>
                  <a:lnTo>
                    <a:pt x="605" y="28"/>
                  </a:lnTo>
                  <a:lnTo>
                    <a:pt x="551" y="46"/>
                  </a:lnTo>
                  <a:lnTo>
                    <a:pt x="497" y="69"/>
                  </a:lnTo>
                  <a:lnTo>
                    <a:pt x="443" y="97"/>
                  </a:lnTo>
                  <a:lnTo>
                    <a:pt x="389" y="128"/>
                  </a:lnTo>
                  <a:lnTo>
                    <a:pt x="335" y="165"/>
                  </a:lnTo>
                  <a:lnTo>
                    <a:pt x="209" y="280"/>
                  </a:lnTo>
                  <a:lnTo>
                    <a:pt x="176" y="324"/>
                  </a:lnTo>
                  <a:lnTo>
                    <a:pt x="145" y="368"/>
                  </a:lnTo>
                  <a:lnTo>
                    <a:pt x="115" y="415"/>
                  </a:lnTo>
                  <a:lnTo>
                    <a:pt x="90" y="462"/>
                  </a:lnTo>
                  <a:lnTo>
                    <a:pt x="67" y="512"/>
                  </a:lnTo>
                  <a:lnTo>
                    <a:pt x="45" y="561"/>
                  </a:lnTo>
                  <a:lnTo>
                    <a:pt x="27" y="614"/>
                  </a:lnTo>
                  <a:lnTo>
                    <a:pt x="16" y="672"/>
                  </a:lnTo>
                  <a:lnTo>
                    <a:pt x="7" y="727"/>
                  </a:lnTo>
                  <a:lnTo>
                    <a:pt x="2" y="781"/>
                  </a:lnTo>
                  <a:lnTo>
                    <a:pt x="0" y="834"/>
                  </a:lnTo>
                  <a:lnTo>
                    <a:pt x="1" y="883"/>
                  </a:lnTo>
                  <a:lnTo>
                    <a:pt x="5" y="933"/>
                  </a:lnTo>
                  <a:lnTo>
                    <a:pt x="13" y="979"/>
                  </a:lnTo>
                  <a:lnTo>
                    <a:pt x="21" y="1025"/>
                  </a:lnTo>
                  <a:lnTo>
                    <a:pt x="33" y="1069"/>
                  </a:lnTo>
                  <a:lnTo>
                    <a:pt x="47" y="1112"/>
                  </a:lnTo>
                  <a:lnTo>
                    <a:pt x="65" y="1153"/>
                  </a:lnTo>
                  <a:lnTo>
                    <a:pt x="84" y="1192"/>
                  </a:lnTo>
                  <a:lnTo>
                    <a:pt x="106" y="1230"/>
                  </a:lnTo>
                  <a:lnTo>
                    <a:pt x="131" y="1267"/>
                  </a:lnTo>
                  <a:lnTo>
                    <a:pt x="172" y="1311"/>
                  </a:lnTo>
                  <a:lnTo>
                    <a:pt x="215" y="1356"/>
                  </a:lnTo>
                  <a:lnTo>
                    <a:pt x="263" y="1403"/>
                  </a:lnTo>
                  <a:lnTo>
                    <a:pt x="315" y="1451"/>
                  </a:lnTo>
                  <a:lnTo>
                    <a:pt x="370" y="1500"/>
                  </a:lnTo>
                  <a:lnTo>
                    <a:pt x="429" y="1550"/>
                  </a:lnTo>
                  <a:lnTo>
                    <a:pt x="491" y="1602"/>
                  </a:lnTo>
                  <a:lnTo>
                    <a:pt x="558" y="1655"/>
                  </a:lnTo>
                  <a:lnTo>
                    <a:pt x="629" y="1708"/>
                  </a:lnTo>
                  <a:lnTo>
                    <a:pt x="702" y="1764"/>
                  </a:lnTo>
                  <a:lnTo>
                    <a:pt x="780" y="1820"/>
                  </a:lnTo>
                  <a:lnTo>
                    <a:pt x="1490" y="2321"/>
                  </a:lnTo>
                  <a:lnTo>
                    <a:pt x="2309" y="2028"/>
                  </a:lnTo>
                  <a:lnTo>
                    <a:pt x="2284" y="1971"/>
                  </a:lnTo>
                  <a:lnTo>
                    <a:pt x="2259" y="1917"/>
                  </a:lnTo>
                  <a:lnTo>
                    <a:pt x="2234" y="1866"/>
                  </a:lnTo>
                  <a:lnTo>
                    <a:pt x="2209" y="1819"/>
                  </a:lnTo>
                  <a:lnTo>
                    <a:pt x="2183" y="1775"/>
                  </a:lnTo>
                  <a:lnTo>
                    <a:pt x="2157" y="1736"/>
                  </a:lnTo>
                  <a:lnTo>
                    <a:pt x="2131" y="1700"/>
                  </a:lnTo>
                  <a:lnTo>
                    <a:pt x="2095" y="1653"/>
                  </a:lnTo>
                  <a:lnTo>
                    <a:pt x="2056" y="1606"/>
                  </a:lnTo>
                  <a:lnTo>
                    <a:pt x="2012" y="1559"/>
                  </a:lnTo>
                  <a:lnTo>
                    <a:pt x="1964" y="1512"/>
                  </a:lnTo>
                  <a:lnTo>
                    <a:pt x="1912" y="1466"/>
                  </a:lnTo>
                  <a:lnTo>
                    <a:pt x="1856" y="1420"/>
                  </a:lnTo>
                  <a:lnTo>
                    <a:pt x="1796" y="1374"/>
                  </a:lnTo>
                  <a:lnTo>
                    <a:pt x="1721" y="1320"/>
                  </a:lnTo>
                  <a:lnTo>
                    <a:pt x="1648" y="1270"/>
                  </a:lnTo>
                  <a:lnTo>
                    <a:pt x="1579" y="1220"/>
                  </a:lnTo>
                  <a:lnTo>
                    <a:pt x="1510" y="1172"/>
                  </a:lnTo>
                  <a:lnTo>
                    <a:pt x="1446" y="1128"/>
                  </a:lnTo>
                  <a:lnTo>
                    <a:pt x="1383" y="1086"/>
                  </a:lnTo>
                  <a:lnTo>
                    <a:pt x="1321" y="1045"/>
                  </a:lnTo>
                  <a:lnTo>
                    <a:pt x="1298" y="1032"/>
                  </a:lnTo>
                  <a:lnTo>
                    <a:pt x="1278" y="1021"/>
                  </a:lnTo>
                  <a:lnTo>
                    <a:pt x="1261" y="1009"/>
                  </a:lnTo>
                  <a:lnTo>
                    <a:pt x="1248" y="998"/>
                  </a:lnTo>
                  <a:lnTo>
                    <a:pt x="1237" y="987"/>
                  </a:lnTo>
                  <a:lnTo>
                    <a:pt x="1231" y="976"/>
                  </a:lnTo>
                  <a:lnTo>
                    <a:pt x="1227" y="967"/>
                  </a:lnTo>
                  <a:lnTo>
                    <a:pt x="1227" y="958"/>
                  </a:lnTo>
                  <a:lnTo>
                    <a:pt x="1229" y="943"/>
                  </a:lnTo>
                  <a:lnTo>
                    <a:pt x="1234" y="931"/>
                  </a:lnTo>
                  <a:lnTo>
                    <a:pt x="1242" y="921"/>
                  </a:lnTo>
                  <a:lnTo>
                    <a:pt x="1252" y="912"/>
                  </a:lnTo>
                  <a:lnTo>
                    <a:pt x="1266" y="906"/>
                  </a:lnTo>
                  <a:lnTo>
                    <a:pt x="1282" y="902"/>
                  </a:lnTo>
                  <a:lnTo>
                    <a:pt x="1299" y="900"/>
                  </a:lnTo>
                  <a:lnTo>
                    <a:pt x="1321" y="901"/>
                  </a:lnTo>
                  <a:lnTo>
                    <a:pt x="2952" y="902"/>
                  </a:lnTo>
                  <a:lnTo>
                    <a:pt x="29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1520" y="6356160"/>
              <a:ext cx="196560" cy="117360"/>
            </a:xfrm>
            <a:custGeom>
              <a:avLst/>
              <a:gdLst/>
              <a:ahLst/>
              <a:rect l="l" t="t" r="r" b="b"/>
              <a:pathLst>
                <a:path w="2477" h="1549">
                  <a:moveTo>
                    <a:pt x="1180" y="902"/>
                  </a:moveTo>
                  <a:lnTo>
                    <a:pt x="6" y="902"/>
                  </a:lnTo>
                  <a:lnTo>
                    <a:pt x="5" y="0"/>
                  </a:lnTo>
                  <a:lnTo>
                    <a:pt x="1589" y="0"/>
                  </a:lnTo>
                  <a:lnTo>
                    <a:pt x="1656" y="4"/>
                  </a:lnTo>
                  <a:lnTo>
                    <a:pt x="1720" y="11"/>
                  </a:lnTo>
                  <a:lnTo>
                    <a:pt x="1781" y="22"/>
                  </a:lnTo>
                  <a:lnTo>
                    <a:pt x="1841" y="37"/>
                  </a:lnTo>
                  <a:lnTo>
                    <a:pt x="1898" y="54"/>
                  </a:lnTo>
                  <a:lnTo>
                    <a:pt x="1953" y="76"/>
                  </a:lnTo>
                  <a:lnTo>
                    <a:pt x="2005" y="101"/>
                  </a:lnTo>
                  <a:lnTo>
                    <a:pt x="2055" y="129"/>
                  </a:lnTo>
                  <a:lnTo>
                    <a:pt x="2102" y="162"/>
                  </a:lnTo>
                  <a:lnTo>
                    <a:pt x="2148" y="197"/>
                  </a:lnTo>
                  <a:lnTo>
                    <a:pt x="2192" y="236"/>
                  </a:lnTo>
                  <a:lnTo>
                    <a:pt x="2233" y="279"/>
                  </a:lnTo>
                  <a:lnTo>
                    <a:pt x="2273" y="327"/>
                  </a:lnTo>
                  <a:lnTo>
                    <a:pt x="2310" y="376"/>
                  </a:lnTo>
                  <a:lnTo>
                    <a:pt x="2345" y="429"/>
                  </a:lnTo>
                  <a:lnTo>
                    <a:pt x="2378" y="486"/>
                  </a:lnTo>
                  <a:lnTo>
                    <a:pt x="2408" y="545"/>
                  </a:lnTo>
                  <a:lnTo>
                    <a:pt x="2430" y="596"/>
                  </a:lnTo>
                  <a:lnTo>
                    <a:pt x="2447" y="649"/>
                  </a:lnTo>
                  <a:lnTo>
                    <a:pt x="2460" y="703"/>
                  </a:lnTo>
                  <a:lnTo>
                    <a:pt x="2470" y="756"/>
                  </a:lnTo>
                  <a:lnTo>
                    <a:pt x="2475" y="811"/>
                  </a:lnTo>
                  <a:lnTo>
                    <a:pt x="2477" y="866"/>
                  </a:lnTo>
                  <a:lnTo>
                    <a:pt x="2474" y="923"/>
                  </a:lnTo>
                  <a:lnTo>
                    <a:pt x="2468" y="979"/>
                  </a:lnTo>
                  <a:lnTo>
                    <a:pt x="2458" y="1037"/>
                  </a:lnTo>
                  <a:lnTo>
                    <a:pt x="2443" y="1095"/>
                  </a:lnTo>
                  <a:lnTo>
                    <a:pt x="2424" y="1154"/>
                  </a:lnTo>
                  <a:lnTo>
                    <a:pt x="2402" y="1214"/>
                  </a:lnTo>
                  <a:lnTo>
                    <a:pt x="2382" y="1259"/>
                  </a:lnTo>
                  <a:lnTo>
                    <a:pt x="2360" y="1302"/>
                  </a:lnTo>
                  <a:lnTo>
                    <a:pt x="2336" y="1342"/>
                  </a:lnTo>
                  <a:lnTo>
                    <a:pt x="2311" y="1380"/>
                  </a:lnTo>
                  <a:lnTo>
                    <a:pt x="2284" y="1415"/>
                  </a:lnTo>
                  <a:lnTo>
                    <a:pt x="2256" y="1447"/>
                  </a:lnTo>
                  <a:lnTo>
                    <a:pt x="2226" y="1477"/>
                  </a:lnTo>
                  <a:lnTo>
                    <a:pt x="2145" y="1549"/>
                  </a:lnTo>
                  <a:lnTo>
                    <a:pt x="0" y="1546"/>
                  </a:lnTo>
                  <a:lnTo>
                    <a:pt x="0" y="1250"/>
                  </a:lnTo>
                  <a:lnTo>
                    <a:pt x="1176" y="1250"/>
                  </a:lnTo>
                  <a:lnTo>
                    <a:pt x="1209" y="1249"/>
                  </a:lnTo>
                  <a:lnTo>
                    <a:pt x="1240" y="1245"/>
                  </a:lnTo>
                  <a:lnTo>
                    <a:pt x="1269" y="1239"/>
                  </a:lnTo>
                  <a:lnTo>
                    <a:pt x="1295" y="1230"/>
                  </a:lnTo>
                  <a:lnTo>
                    <a:pt x="1320" y="1220"/>
                  </a:lnTo>
                  <a:lnTo>
                    <a:pt x="1342" y="1207"/>
                  </a:lnTo>
                  <a:lnTo>
                    <a:pt x="1363" y="1191"/>
                  </a:lnTo>
                  <a:lnTo>
                    <a:pt x="1380" y="1170"/>
                  </a:lnTo>
                  <a:lnTo>
                    <a:pt x="1392" y="1149"/>
                  </a:lnTo>
                  <a:lnTo>
                    <a:pt x="1400" y="1127"/>
                  </a:lnTo>
                  <a:lnTo>
                    <a:pt x="1406" y="1104"/>
                  </a:lnTo>
                  <a:lnTo>
                    <a:pt x="1407" y="1081"/>
                  </a:lnTo>
                  <a:lnTo>
                    <a:pt x="1404" y="1057"/>
                  </a:lnTo>
                  <a:lnTo>
                    <a:pt x="1398" y="1033"/>
                  </a:lnTo>
                  <a:lnTo>
                    <a:pt x="1388" y="1008"/>
                  </a:lnTo>
                  <a:lnTo>
                    <a:pt x="1374" y="982"/>
                  </a:lnTo>
                  <a:lnTo>
                    <a:pt x="1357" y="956"/>
                  </a:lnTo>
                  <a:lnTo>
                    <a:pt x="1339" y="939"/>
                  </a:lnTo>
                  <a:lnTo>
                    <a:pt x="1319" y="926"/>
                  </a:lnTo>
                  <a:lnTo>
                    <a:pt x="1296" y="915"/>
                  </a:lnTo>
                  <a:lnTo>
                    <a:pt x="1272" y="907"/>
                  </a:lnTo>
                  <a:lnTo>
                    <a:pt x="1243" y="903"/>
                  </a:lnTo>
                  <a:lnTo>
                    <a:pt x="1213" y="901"/>
                  </a:lnTo>
                  <a:lnTo>
                    <a:pt x="1180" y="9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1520" y="6472080"/>
              <a:ext cx="205920" cy="142920"/>
            </a:xfrm>
            <a:custGeom>
              <a:avLst/>
              <a:gdLst/>
              <a:ahLst/>
              <a:rect l="l" t="t" r="r" b="b"/>
              <a:pathLst>
                <a:path w="2608" h="1894">
                  <a:moveTo>
                    <a:pt x="1452" y="1894"/>
                  </a:moveTo>
                  <a:lnTo>
                    <a:pt x="1536" y="1893"/>
                  </a:lnTo>
                  <a:lnTo>
                    <a:pt x="1618" y="1889"/>
                  </a:lnTo>
                  <a:lnTo>
                    <a:pt x="1695" y="1883"/>
                  </a:lnTo>
                  <a:lnTo>
                    <a:pt x="1769" y="1874"/>
                  </a:lnTo>
                  <a:lnTo>
                    <a:pt x="1839" y="1861"/>
                  </a:lnTo>
                  <a:lnTo>
                    <a:pt x="1906" y="1845"/>
                  </a:lnTo>
                  <a:lnTo>
                    <a:pt x="1969" y="1826"/>
                  </a:lnTo>
                  <a:lnTo>
                    <a:pt x="2028" y="1806"/>
                  </a:lnTo>
                  <a:lnTo>
                    <a:pt x="2085" y="1781"/>
                  </a:lnTo>
                  <a:lnTo>
                    <a:pt x="2138" y="1753"/>
                  </a:lnTo>
                  <a:lnTo>
                    <a:pt x="2186" y="1723"/>
                  </a:lnTo>
                  <a:lnTo>
                    <a:pt x="2231" y="1689"/>
                  </a:lnTo>
                  <a:lnTo>
                    <a:pt x="2273" y="1653"/>
                  </a:lnTo>
                  <a:lnTo>
                    <a:pt x="2311" y="1614"/>
                  </a:lnTo>
                  <a:lnTo>
                    <a:pt x="2359" y="1559"/>
                  </a:lnTo>
                  <a:lnTo>
                    <a:pt x="2403" y="1502"/>
                  </a:lnTo>
                  <a:lnTo>
                    <a:pt x="2443" y="1446"/>
                  </a:lnTo>
                  <a:lnTo>
                    <a:pt x="2478" y="1387"/>
                  </a:lnTo>
                  <a:lnTo>
                    <a:pt x="2509" y="1329"/>
                  </a:lnTo>
                  <a:lnTo>
                    <a:pt x="2535" y="1268"/>
                  </a:lnTo>
                  <a:lnTo>
                    <a:pt x="2558" y="1207"/>
                  </a:lnTo>
                  <a:lnTo>
                    <a:pt x="2577" y="1145"/>
                  </a:lnTo>
                  <a:lnTo>
                    <a:pt x="2590" y="1081"/>
                  </a:lnTo>
                  <a:lnTo>
                    <a:pt x="2600" y="1016"/>
                  </a:lnTo>
                  <a:lnTo>
                    <a:pt x="2605" y="950"/>
                  </a:lnTo>
                  <a:lnTo>
                    <a:pt x="2608" y="877"/>
                  </a:lnTo>
                  <a:lnTo>
                    <a:pt x="2608" y="807"/>
                  </a:lnTo>
                  <a:lnTo>
                    <a:pt x="2604" y="738"/>
                  </a:lnTo>
                  <a:lnTo>
                    <a:pt x="2596" y="673"/>
                  </a:lnTo>
                  <a:lnTo>
                    <a:pt x="2584" y="608"/>
                  </a:lnTo>
                  <a:lnTo>
                    <a:pt x="2569" y="546"/>
                  </a:lnTo>
                  <a:lnTo>
                    <a:pt x="2548" y="486"/>
                  </a:lnTo>
                  <a:lnTo>
                    <a:pt x="2525" y="428"/>
                  </a:lnTo>
                  <a:lnTo>
                    <a:pt x="2498" y="372"/>
                  </a:lnTo>
                  <a:lnTo>
                    <a:pt x="2467" y="319"/>
                  </a:lnTo>
                  <a:lnTo>
                    <a:pt x="2431" y="267"/>
                  </a:lnTo>
                  <a:lnTo>
                    <a:pt x="2393" y="218"/>
                  </a:lnTo>
                  <a:lnTo>
                    <a:pt x="2350" y="170"/>
                  </a:lnTo>
                  <a:lnTo>
                    <a:pt x="2304" y="125"/>
                  </a:lnTo>
                  <a:lnTo>
                    <a:pt x="2254" y="81"/>
                  </a:lnTo>
                  <a:lnTo>
                    <a:pt x="2200" y="40"/>
                  </a:lnTo>
                  <a:lnTo>
                    <a:pt x="2142" y="1"/>
                  </a:lnTo>
                  <a:lnTo>
                    <a:pt x="5" y="0"/>
                  </a:lnTo>
                  <a:lnTo>
                    <a:pt x="5" y="616"/>
                  </a:lnTo>
                  <a:lnTo>
                    <a:pt x="1362" y="616"/>
                  </a:lnTo>
                  <a:lnTo>
                    <a:pt x="1396" y="614"/>
                  </a:lnTo>
                  <a:lnTo>
                    <a:pt x="1427" y="616"/>
                  </a:lnTo>
                  <a:lnTo>
                    <a:pt x="1456" y="620"/>
                  </a:lnTo>
                  <a:lnTo>
                    <a:pt x="1482" y="629"/>
                  </a:lnTo>
                  <a:lnTo>
                    <a:pt x="1506" y="639"/>
                  </a:lnTo>
                  <a:lnTo>
                    <a:pt x="1528" y="653"/>
                  </a:lnTo>
                  <a:lnTo>
                    <a:pt x="1547" y="671"/>
                  </a:lnTo>
                  <a:lnTo>
                    <a:pt x="1563" y="692"/>
                  </a:lnTo>
                  <a:lnTo>
                    <a:pt x="1578" y="715"/>
                  </a:lnTo>
                  <a:lnTo>
                    <a:pt x="1591" y="742"/>
                  </a:lnTo>
                  <a:lnTo>
                    <a:pt x="1600" y="769"/>
                  </a:lnTo>
                  <a:lnTo>
                    <a:pt x="1604" y="797"/>
                  </a:lnTo>
                  <a:lnTo>
                    <a:pt x="1603" y="825"/>
                  </a:lnTo>
                  <a:lnTo>
                    <a:pt x="1598" y="852"/>
                  </a:lnTo>
                  <a:lnTo>
                    <a:pt x="1589" y="879"/>
                  </a:lnTo>
                  <a:lnTo>
                    <a:pt x="1575" y="908"/>
                  </a:lnTo>
                  <a:lnTo>
                    <a:pt x="1560" y="927"/>
                  </a:lnTo>
                  <a:lnTo>
                    <a:pt x="1542" y="943"/>
                  </a:lnTo>
                  <a:lnTo>
                    <a:pt x="1521" y="957"/>
                  </a:lnTo>
                  <a:lnTo>
                    <a:pt x="1496" y="969"/>
                  </a:lnTo>
                  <a:lnTo>
                    <a:pt x="1468" y="978"/>
                  </a:lnTo>
                  <a:lnTo>
                    <a:pt x="1436" y="984"/>
                  </a:lnTo>
                  <a:lnTo>
                    <a:pt x="1401" y="988"/>
                  </a:lnTo>
                  <a:lnTo>
                    <a:pt x="1362" y="989"/>
                  </a:lnTo>
                  <a:lnTo>
                    <a:pt x="10" y="988"/>
                  </a:lnTo>
                  <a:lnTo>
                    <a:pt x="0" y="1892"/>
                  </a:lnTo>
                  <a:lnTo>
                    <a:pt x="1452" y="1893"/>
                  </a:lnTo>
                  <a:lnTo>
                    <a:pt x="1452" y="1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14400" y="6356160"/>
              <a:ext cx="121680" cy="69840"/>
            </a:xfrm>
            <a:custGeom>
              <a:avLst/>
              <a:gdLst/>
              <a:ahLst/>
              <a:rect l="l" t="t" r="r" b="b"/>
              <a:pathLst>
                <a:path w="1542" h="907">
                  <a:moveTo>
                    <a:pt x="0" y="0"/>
                  </a:moveTo>
                  <a:lnTo>
                    <a:pt x="1121" y="2"/>
                  </a:lnTo>
                  <a:lnTo>
                    <a:pt x="1171" y="11"/>
                  </a:lnTo>
                  <a:lnTo>
                    <a:pt x="1218" y="22"/>
                  </a:lnTo>
                  <a:lnTo>
                    <a:pt x="1261" y="37"/>
                  </a:lnTo>
                  <a:lnTo>
                    <a:pt x="1301" y="54"/>
                  </a:lnTo>
                  <a:lnTo>
                    <a:pt x="1339" y="75"/>
                  </a:lnTo>
                  <a:lnTo>
                    <a:pt x="1372" y="98"/>
                  </a:lnTo>
                  <a:lnTo>
                    <a:pt x="1403" y="124"/>
                  </a:lnTo>
                  <a:lnTo>
                    <a:pt x="1432" y="152"/>
                  </a:lnTo>
                  <a:lnTo>
                    <a:pt x="1457" y="184"/>
                  </a:lnTo>
                  <a:lnTo>
                    <a:pt x="1479" y="219"/>
                  </a:lnTo>
                  <a:lnTo>
                    <a:pt x="1497" y="256"/>
                  </a:lnTo>
                  <a:lnTo>
                    <a:pt x="1513" y="296"/>
                  </a:lnTo>
                  <a:lnTo>
                    <a:pt x="1525" y="338"/>
                  </a:lnTo>
                  <a:lnTo>
                    <a:pt x="1536" y="384"/>
                  </a:lnTo>
                  <a:lnTo>
                    <a:pt x="1542" y="432"/>
                  </a:lnTo>
                  <a:lnTo>
                    <a:pt x="1537" y="486"/>
                  </a:lnTo>
                  <a:lnTo>
                    <a:pt x="1529" y="537"/>
                  </a:lnTo>
                  <a:lnTo>
                    <a:pt x="1517" y="583"/>
                  </a:lnTo>
                  <a:lnTo>
                    <a:pt x="1502" y="627"/>
                  </a:lnTo>
                  <a:lnTo>
                    <a:pt x="1484" y="669"/>
                  </a:lnTo>
                  <a:lnTo>
                    <a:pt x="1462" y="706"/>
                  </a:lnTo>
                  <a:lnTo>
                    <a:pt x="1438" y="741"/>
                  </a:lnTo>
                  <a:lnTo>
                    <a:pt x="1410" y="773"/>
                  </a:lnTo>
                  <a:lnTo>
                    <a:pt x="1378" y="802"/>
                  </a:lnTo>
                  <a:lnTo>
                    <a:pt x="1344" y="827"/>
                  </a:lnTo>
                  <a:lnTo>
                    <a:pt x="1306" y="849"/>
                  </a:lnTo>
                  <a:lnTo>
                    <a:pt x="1265" y="868"/>
                  </a:lnTo>
                  <a:lnTo>
                    <a:pt x="1220" y="885"/>
                  </a:lnTo>
                  <a:lnTo>
                    <a:pt x="1172" y="898"/>
                  </a:lnTo>
                  <a:lnTo>
                    <a:pt x="1121" y="907"/>
                  </a:lnTo>
                  <a:lnTo>
                    <a:pt x="18" y="9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7560" y="6356160"/>
              <a:ext cx="102600" cy="6984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0"/>
                  </a:lnTo>
                  <a:lnTo>
                    <a:pt x="281" y="35"/>
                  </a:lnTo>
                  <a:lnTo>
                    <a:pt x="241" y="52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0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6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1"/>
                  </a:lnTo>
                  <a:lnTo>
                    <a:pt x="39" y="625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800"/>
                  </a:lnTo>
                  <a:lnTo>
                    <a:pt x="198" y="825"/>
                  </a:lnTo>
                  <a:lnTo>
                    <a:pt x="236" y="847"/>
                  </a:lnTo>
                  <a:lnTo>
                    <a:pt x="277" y="866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5"/>
                  </a:lnTo>
                  <a:lnTo>
                    <a:pt x="1299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4400" y="6451200"/>
              <a:ext cx="121680" cy="68400"/>
            </a:xfrm>
            <a:custGeom>
              <a:avLst/>
              <a:gdLst/>
              <a:ahLst/>
              <a:rect l="l" t="t" r="r" b="b"/>
              <a:pathLst>
                <a:path w="1542" h="909">
                  <a:moveTo>
                    <a:pt x="0" y="1"/>
                  </a:moveTo>
                  <a:lnTo>
                    <a:pt x="1121" y="3"/>
                  </a:lnTo>
                  <a:lnTo>
                    <a:pt x="1171" y="12"/>
                  </a:lnTo>
                  <a:lnTo>
                    <a:pt x="1218" y="24"/>
                  </a:lnTo>
                  <a:lnTo>
                    <a:pt x="1261" y="38"/>
                  </a:lnTo>
                  <a:lnTo>
                    <a:pt x="1301" y="56"/>
                  </a:lnTo>
                  <a:lnTo>
                    <a:pt x="1339" y="76"/>
                  </a:lnTo>
                  <a:lnTo>
                    <a:pt x="1372" y="99"/>
                  </a:lnTo>
                  <a:lnTo>
                    <a:pt x="1403" y="125"/>
                  </a:lnTo>
                  <a:lnTo>
                    <a:pt x="1432" y="154"/>
                  </a:lnTo>
                  <a:lnTo>
                    <a:pt x="1457" y="186"/>
                  </a:lnTo>
                  <a:lnTo>
                    <a:pt x="1479" y="220"/>
                  </a:lnTo>
                  <a:lnTo>
                    <a:pt x="1497" y="257"/>
                  </a:lnTo>
                  <a:lnTo>
                    <a:pt x="1513" y="297"/>
                  </a:lnTo>
                  <a:lnTo>
                    <a:pt x="1525" y="340"/>
                  </a:lnTo>
                  <a:lnTo>
                    <a:pt x="1536" y="385"/>
                  </a:lnTo>
                  <a:lnTo>
                    <a:pt x="1542" y="434"/>
                  </a:lnTo>
                  <a:lnTo>
                    <a:pt x="1537" y="487"/>
                  </a:lnTo>
                  <a:lnTo>
                    <a:pt x="1529" y="538"/>
                  </a:lnTo>
                  <a:lnTo>
                    <a:pt x="1517" y="584"/>
                  </a:lnTo>
                  <a:lnTo>
                    <a:pt x="1502" y="629"/>
                  </a:lnTo>
                  <a:lnTo>
                    <a:pt x="1484" y="670"/>
                  </a:lnTo>
                  <a:lnTo>
                    <a:pt x="1462" y="707"/>
                  </a:lnTo>
                  <a:lnTo>
                    <a:pt x="1438" y="742"/>
                  </a:lnTo>
                  <a:lnTo>
                    <a:pt x="1410" y="774"/>
                  </a:lnTo>
                  <a:lnTo>
                    <a:pt x="1378" y="802"/>
                  </a:lnTo>
                  <a:lnTo>
                    <a:pt x="1344" y="828"/>
                  </a:lnTo>
                  <a:lnTo>
                    <a:pt x="1306" y="851"/>
                  </a:lnTo>
                  <a:lnTo>
                    <a:pt x="1265" y="869"/>
                  </a:lnTo>
                  <a:lnTo>
                    <a:pt x="1220" y="886"/>
                  </a:lnTo>
                  <a:lnTo>
                    <a:pt x="1172" y="898"/>
                  </a:lnTo>
                  <a:lnTo>
                    <a:pt x="1121" y="909"/>
                  </a:lnTo>
                  <a:lnTo>
                    <a:pt x="18" y="906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7560" y="6451200"/>
              <a:ext cx="102600" cy="68400"/>
            </a:xfrm>
            <a:custGeom>
              <a:avLst/>
              <a:gdLst/>
              <a:ahLst/>
              <a:rect l="l" t="t" r="r" b="b"/>
              <a:pathLst>
                <a:path w="1306" h="906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3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1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1"/>
                  </a:lnTo>
                  <a:lnTo>
                    <a:pt x="39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799"/>
                  </a:lnTo>
                  <a:lnTo>
                    <a:pt x="198" y="825"/>
                  </a:lnTo>
                  <a:lnTo>
                    <a:pt x="236" y="848"/>
                  </a:lnTo>
                  <a:lnTo>
                    <a:pt x="277" y="866"/>
                  </a:lnTo>
                  <a:lnTo>
                    <a:pt x="321" y="883"/>
                  </a:lnTo>
                  <a:lnTo>
                    <a:pt x="369" y="895"/>
                  </a:lnTo>
                  <a:lnTo>
                    <a:pt x="420" y="906"/>
                  </a:lnTo>
                  <a:lnTo>
                    <a:pt x="1299" y="906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7560" y="6546600"/>
              <a:ext cx="102600" cy="69840"/>
            </a:xfrm>
            <a:custGeom>
              <a:avLst/>
              <a:gdLst/>
              <a:ahLst/>
              <a:rect l="l" t="t" r="r" b="b"/>
              <a:pathLst>
                <a:path w="1306" h="907">
                  <a:moveTo>
                    <a:pt x="1306" y="0"/>
                  </a:moveTo>
                  <a:lnTo>
                    <a:pt x="420" y="0"/>
                  </a:lnTo>
                  <a:lnTo>
                    <a:pt x="371" y="9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3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9" y="294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2"/>
                  </a:lnTo>
                  <a:lnTo>
                    <a:pt x="5" y="484"/>
                  </a:lnTo>
                  <a:lnTo>
                    <a:pt x="14" y="535"/>
                  </a:lnTo>
                  <a:lnTo>
                    <a:pt x="25" y="582"/>
                  </a:lnTo>
                  <a:lnTo>
                    <a:pt x="39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1"/>
                  </a:lnTo>
                  <a:lnTo>
                    <a:pt x="163" y="800"/>
                  </a:lnTo>
                  <a:lnTo>
                    <a:pt x="198" y="825"/>
                  </a:lnTo>
                  <a:lnTo>
                    <a:pt x="236" y="848"/>
                  </a:lnTo>
                  <a:lnTo>
                    <a:pt x="277" y="867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7"/>
                  </a:lnTo>
                  <a:lnTo>
                    <a:pt x="1299" y="907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800" y="6451200"/>
              <a:ext cx="104400" cy="6840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0" y="8"/>
                  </a:lnTo>
                  <a:lnTo>
                    <a:pt x="324" y="20"/>
                  </a:lnTo>
                  <a:lnTo>
                    <a:pt x="281" y="35"/>
                  </a:lnTo>
                  <a:lnTo>
                    <a:pt x="241" y="52"/>
                  </a:lnTo>
                  <a:lnTo>
                    <a:pt x="204" y="72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8" y="293"/>
                  </a:lnTo>
                  <a:lnTo>
                    <a:pt x="16" y="336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4" y="484"/>
                  </a:lnTo>
                  <a:lnTo>
                    <a:pt x="13" y="534"/>
                  </a:lnTo>
                  <a:lnTo>
                    <a:pt x="25" y="581"/>
                  </a:lnTo>
                  <a:lnTo>
                    <a:pt x="40" y="626"/>
                  </a:lnTo>
                  <a:lnTo>
                    <a:pt x="57" y="666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0"/>
                  </a:lnTo>
                  <a:lnTo>
                    <a:pt x="163" y="799"/>
                  </a:lnTo>
                  <a:lnTo>
                    <a:pt x="197" y="825"/>
                  </a:lnTo>
                  <a:lnTo>
                    <a:pt x="236" y="848"/>
                  </a:lnTo>
                  <a:lnTo>
                    <a:pt x="276" y="866"/>
                  </a:lnTo>
                  <a:lnTo>
                    <a:pt x="321" y="883"/>
                  </a:lnTo>
                  <a:lnTo>
                    <a:pt x="369" y="895"/>
                  </a:lnTo>
                  <a:lnTo>
                    <a:pt x="420" y="905"/>
                  </a:lnTo>
                  <a:lnTo>
                    <a:pt x="1298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34800" y="6546600"/>
              <a:ext cx="104400" cy="68400"/>
            </a:xfrm>
            <a:custGeom>
              <a:avLst/>
              <a:gdLst/>
              <a:ahLst/>
              <a:rect l="l" t="t" r="r" b="b"/>
              <a:pathLst>
                <a:path w="1306" h="905">
                  <a:moveTo>
                    <a:pt x="1306" y="0"/>
                  </a:moveTo>
                  <a:lnTo>
                    <a:pt x="420" y="0"/>
                  </a:lnTo>
                  <a:lnTo>
                    <a:pt x="370" y="8"/>
                  </a:lnTo>
                  <a:lnTo>
                    <a:pt x="324" y="21"/>
                  </a:lnTo>
                  <a:lnTo>
                    <a:pt x="281" y="35"/>
                  </a:lnTo>
                  <a:lnTo>
                    <a:pt x="241" y="53"/>
                  </a:lnTo>
                  <a:lnTo>
                    <a:pt x="204" y="73"/>
                  </a:lnTo>
                  <a:lnTo>
                    <a:pt x="169" y="96"/>
                  </a:lnTo>
                  <a:lnTo>
                    <a:pt x="138" y="122"/>
                  </a:lnTo>
                  <a:lnTo>
                    <a:pt x="110" y="151"/>
                  </a:lnTo>
                  <a:lnTo>
                    <a:pt x="85" y="182"/>
                  </a:lnTo>
                  <a:lnTo>
                    <a:pt x="63" y="217"/>
                  </a:lnTo>
                  <a:lnTo>
                    <a:pt x="45" y="254"/>
                  </a:lnTo>
                  <a:lnTo>
                    <a:pt x="28" y="293"/>
                  </a:lnTo>
                  <a:lnTo>
                    <a:pt x="16" y="337"/>
                  </a:lnTo>
                  <a:lnTo>
                    <a:pt x="6" y="382"/>
                  </a:lnTo>
                  <a:lnTo>
                    <a:pt x="0" y="430"/>
                  </a:lnTo>
                  <a:lnTo>
                    <a:pt x="4" y="484"/>
                  </a:lnTo>
                  <a:lnTo>
                    <a:pt x="13" y="535"/>
                  </a:lnTo>
                  <a:lnTo>
                    <a:pt x="25" y="581"/>
                  </a:lnTo>
                  <a:lnTo>
                    <a:pt x="40" y="626"/>
                  </a:lnTo>
                  <a:lnTo>
                    <a:pt x="57" y="667"/>
                  </a:lnTo>
                  <a:lnTo>
                    <a:pt x="79" y="704"/>
                  </a:lnTo>
                  <a:lnTo>
                    <a:pt x="104" y="739"/>
                  </a:lnTo>
                  <a:lnTo>
                    <a:pt x="132" y="770"/>
                  </a:lnTo>
                  <a:lnTo>
                    <a:pt x="163" y="799"/>
                  </a:lnTo>
                  <a:lnTo>
                    <a:pt x="197" y="825"/>
                  </a:lnTo>
                  <a:lnTo>
                    <a:pt x="236" y="848"/>
                  </a:lnTo>
                  <a:lnTo>
                    <a:pt x="276" y="866"/>
                  </a:lnTo>
                  <a:lnTo>
                    <a:pt x="321" y="883"/>
                  </a:lnTo>
                  <a:lnTo>
                    <a:pt x="369" y="896"/>
                  </a:lnTo>
                  <a:lnTo>
                    <a:pt x="420" y="905"/>
                  </a:lnTo>
                  <a:lnTo>
                    <a:pt x="1298" y="905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600" y="6467400"/>
              <a:ext cx="96480" cy="149040"/>
            </a:xfrm>
            <a:custGeom>
              <a:avLst/>
              <a:gdLst/>
              <a:ahLst/>
              <a:rect l="l" t="t" r="r" b="b"/>
              <a:pathLst>
                <a:path w="1236" h="1968">
                  <a:moveTo>
                    <a:pt x="217" y="747"/>
                  </a:moveTo>
                  <a:lnTo>
                    <a:pt x="247" y="768"/>
                  </a:lnTo>
                  <a:lnTo>
                    <a:pt x="273" y="789"/>
                  </a:lnTo>
                  <a:lnTo>
                    <a:pt x="294" y="812"/>
                  </a:lnTo>
                  <a:lnTo>
                    <a:pt x="310" y="834"/>
                  </a:lnTo>
                  <a:lnTo>
                    <a:pt x="323" y="857"/>
                  </a:lnTo>
                  <a:lnTo>
                    <a:pt x="330" y="879"/>
                  </a:lnTo>
                  <a:lnTo>
                    <a:pt x="333" y="902"/>
                  </a:lnTo>
                  <a:lnTo>
                    <a:pt x="331" y="926"/>
                  </a:lnTo>
                  <a:lnTo>
                    <a:pt x="325" y="950"/>
                  </a:lnTo>
                  <a:lnTo>
                    <a:pt x="315" y="973"/>
                  </a:lnTo>
                  <a:lnTo>
                    <a:pt x="302" y="994"/>
                  </a:lnTo>
                  <a:lnTo>
                    <a:pt x="289" y="1012"/>
                  </a:lnTo>
                  <a:lnTo>
                    <a:pt x="273" y="1027"/>
                  </a:lnTo>
                  <a:lnTo>
                    <a:pt x="254" y="1039"/>
                  </a:lnTo>
                  <a:lnTo>
                    <a:pt x="236" y="1048"/>
                  </a:lnTo>
                  <a:lnTo>
                    <a:pt x="214" y="1054"/>
                  </a:lnTo>
                  <a:lnTo>
                    <a:pt x="191" y="1058"/>
                  </a:lnTo>
                  <a:lnTo>
                    <a:pt x="89" y="1064"/>
                  </a:lnTo>
                  <a:lnTo>
                    <a:pt x="0" y="1968"/>
                  </a:lnTo>
                  <a:lnTo>
                    <a:pt x="82" y="1967"/>
                  </a:lnTo>
                  <a:lnTo>
                    <a:pt x="160" y="1963"/>
                  </a:lnTo>
                  <a:lnTo>
                    <a:pt x="237" y="1957"/>
                  </a:lnTo>
                  <a:lnTo>
                    <a:pt x="310" y="1949"/>
                  </a:lnTo>
                  <a:lnTo>
                    <a:pt x="381" y="1938"/>
                  </a:lnTo>
                  <a:lnTo>
                    <a:pt x="450" y="1924"/>
                  </a:lnTo>
                  <a:lnTo>
                    <a:pt x="515" y="1909"/>
                  </a:lnTo>
                  <a:lnTo>
                    <a:pt x="578" y="1890"/>
                  </a:lnTo>
                  <a:lnTo>
                    <a:pt x="640" y="1868"/>
                  </a:lnTo>
                  <a:lnTo>
                    <a:pt x="695" y="1839"/>
                  </a:lnTo>
                  <a:lnTo>
                    <a:pt x="747" y="1804"/>
                  </a:lnTo>
                  <a:lnTo>
                    <a:pt x="798" y="1768"/>
                  </a:lnTo>
                  <a:lnTo>
                    <a:pt x="846" y="1728"/>
                  </a:lnTo>
                  <a:lnTo>
                    <a:pt x="894" y="1686"/>
                  </a:lnTo>
                  <a:lnTo>
                    <a:pt x="939" y="1638"/>
                  </a:lnTo>
                  <a:lnTo>
                    <a:pt x="981" y="1589"/>
                  </a:lnTo>
                  <a:lnTo>
                    <a:pt x="1022" y="1536"/>
                  </a:lnTo>
                  <a:lnTo>
                    <a:pt x="1060" y="1479"/>
                  </a:lnTo>
                  <a:lnTo>
                    <a:pt x="1098" y="1420"/>
                  </a:lnTo>
                  <a:lnTo>
                    <a:pt x="1133" y="1357"/>
                  </a:lnTo>
                  <a:lnTo>
                    <a:pt x="1165" y="1291"/>
                  </a:lnTo>
                  <a:lnTo>
                    <a:pt x="1187" y="1215"/>
                  </a:lnTo>
                  <a:lnTo>
                    <a:pt x="1204" y="1138"/>
                  </a:lnTo>
                  <a:lnTo>
                    <a:pt x="1218" y="1066"/>
                  </a:lnTo>
                  <a:lnTo>
                    <a:pt x="1228" y="994"/>
                  </a:lnTo>
                  <a:lnTo>
                    <a:pt x="1234" y="925"/>
                  </a:lnTo>
                  <a:lnTo>
                    <a:pt x="1236" y="858"/>
                  </a:lnTo>
                  <a:lnTo>
                    <a:pt x="1235" y="792"/>
                  </a:lnTo>
                  <a:lnTo>
                    <a:pt x="1230" y="729"/>
                  </a:lnTo>
                  <a:lnTo>
                    <a:pt x="1220" y="668"/>
                  </a:lnTo>
                  <a:lnTo>
                    <a:pt x="1208" y="608"/>
                  </a:lnTo>
                  <a:lnTo>
                    <a:pt x="1191" y="550"/>
                  </a:lnTo>
                  <a:lnTo>
                    <a:pt x="1168" y="494"/>
                  </a:lnTo>
                  <a:lnTo>
                    <a:pt x="1142" y="437"/>
                  </a:lnTo>
                  <a:lnTo>
                    <a:pt x="1112" y="381"/>
                  </a:lnTo>
                  <a:lnTo>
                    <a:pt x="1078" y="326"/>
                  </a:lnTo>
                  <a:lnTo>
                    <a:pt x="1040" y="270"/>
                  </a:lnTo>
                  <a:lnTo>
                    <a:pt x="998" y="215"/>
                  </a:lnTo>
                  <a:lnTo>
                    <a:pt x="951" y="161"/>
                  </a:lnTo>
                  <a:lnTo>
                    <a:pt x="901" y="107"/>
                  </a:lnTo>
                  <a:lnTo>
                    <a:pt x="847" y="53"/>
                  </a:lnTo>
                  <a:lnTo>
                    <a:pt x="790" y="0"/>
                  </a:lnTo>
                  <a:lnTo>
                    <a:pt x="146" y="202"/>
                  </a:lnTo>
                  <a:lnTo>
                    <a:pt x="217" y="7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74720" y="6335640"/>
            <a:ext cx="1752840" cy="302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NATIONAL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26920" y="3933360"/>
            <a:ext cx="7631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rvice Oriented B2B Architect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rish Wholesale Electricity Mark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916360" cy="5732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780000" y="27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315756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usiness Drivers and Market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6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8fa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ervice Oriented B2B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07664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B2B Consultanc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32000" y="1267920"/>
            <a:ext cx="56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3427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gan July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ystrends hired to oversee project  and produce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jority of work performed on site in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volved 2 full time and 2 part time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ject completed November 19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2627280" cy="2438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627280" cy="1465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4459320"/>
            <a:ext cx="26272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3780000" cy="13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B2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32000" y="1557360"/>
            <a:ext cx="5545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452520" indent="-339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to electronically exchange data between companies AND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to CONDUCT Business electron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it mean to conduct business electronic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 (may involve multiple exchanges of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mate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gally bi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siness trans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2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Airline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2B interactions are </a:t>
            </a:r>
            <a:r>
              <a:rPr b="0" lang="en-IE" sz="2000" spc="-1" strike="noStrike" u="sng">
                <a:solidFill>
                  <a:srgbClr val="000000"/>
                </a:solidFill>
                <a:uFillTx/>
                <a:latin typeface="Arial"/>
              </a:rPr>
              <a:t>legally bindin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and must be treated as such by preserving 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“digital evid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843280" cy="189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2987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12720" y="1557000"/>
            <a:ext cx="583092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B2B Requirements with help from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alyze B2B solutions used in other electricity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amine feasibility of ebXML framework (IEC TC 57/WG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fine a B2B Framework to meet requirements Follow an ope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cus on open industry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004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qual treatment toward all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059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me Ke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65440" y="1244160"/>
            <a:ext cx="53992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upport a range of low-tech to high-tech, and small to large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x7 availability (99.99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ity of the market is critical to its su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Participants are expecting bid and offer interactions to operate in “near real time” request/respons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2B infrastructure must perform securely and relia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transactions must be legally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33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2B infrastructure must help enforce non-discriminatory behavi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6482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Proposed B2B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84280" y="1484280"/>
            <a:ext cx="7804080" cy="4752720"/>
            <a:chOff x="584280" y="1484280"/>
            <a:chExt cx="7804080" cy="4752720"/>
          </a:xfrm>
        </p:grpSpPr>
        <p:sp>
          <p:nvSpPr>
            <p:cNvPr id="202" name=""/>
            <p:cNvSpPr/>
            <p:nvPr/>
          </p:nvSpPr>
          <p:spPr>
            <a:xfrm>
              <a:off x="1896480" y="3143520"/>
              <a:ext cx="5180040" cy="61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Repository and Data Management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96480" y="2524680"/>
              <a:ext cx="518004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Logging, Tracking and Reporting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6480" y="3762000"/>
              <a:ext cx="5180040" cy="61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Business Process Management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6480" y="4380840"/>
              <a:ext cx="518004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ryptographic and Security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96480" y="4999680"/>
              <a:ext cx="5180040" cy="61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Transformation and Presentati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4280" y="1850040"/>
              <a:ext cx="7804080" cy="438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5400" y="5618160"/>
              <a:ext cx="518148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ata Transport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6480" y="1850040"/>
              <a:ext cx="518004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Integrati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75800" y="1850040"/>
              <a:ext cx="1311120" cy="43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Monitoring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280" y="1850040"/>
              <a:ext cx="1311120" cy="43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32120" y="1484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2544840" y="692280"/>
            <a:ext cx="3971880" cy="647640"/>
          </a:xfrm>
          <a:prstGeom prst="rect">
            <a:avLst/>
          </a:prstGeom>
        </p:spPr>
        <p:txBody>
          <a:bodyPr wrap="none" fromWordArt="1" lIns="639720" rIns="91080" tIns="45360" bIns="4536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2B Fra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ervice Orientation for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1989000"/>
          <a:ext cx="7772400" cy="4114800"/>
        </p:xfrm>
        <a:graphic>
          <a:graphicData uri="http://schemas.openxmlformats.org/drawingml/2006/table">
            <a:tbl>
              <a:tblPr/>
              <a:tblGrid>
                <a:gridCol w="2157480"/>
                <a:gridCol w="2089080"/>
                <a:gridCol w="352584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kes (BPM) workflow to process new b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kes (BPM) workflow to cancel a previous 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kes (BPM) workflow to notify winning bidder of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kes (BPM) workflow to process new meter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836640"/>
            <a:ext cx="5364000" cy="6021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7880" y="25416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mall Market Participant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268280"/>
            <a:ext cx="230508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938920" y="1125360"/>
            <a:ext cx="2520720" cy="1984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927400" y="3213000"/>
            <a:ext cx="32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ses Standard Web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o transact with ESB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lies on NG to pro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eb form interface to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rke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nergy trading data kep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usiness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8640" y="1197000"/>
            <a:ext cx="27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Monotype Corsiva"/>
              </a:rPr>
              <a:t>Business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Monotype Corsiv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Monotype Corsiva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520" y="2446200"/>
            <a:ext cx="231912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Monotype Corsiva"/>
              </a:rPr>
              <a:t>Offer to Sell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Monotype Corsiva"/>
              </a:rPr>
              <a:t>Offer to Sh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Monotype Corsiva"/>
              </a:rPr>
              <a:t>Buy F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Monotype Corsiva"/>
              </a:rPr>
              <a:t>Sell F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637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2637000"/>
            <a:ext cx="100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64000" y="2922480"/>
            <a:ext cx="1584360" cy="1165320"/>
            <a:chOff x="3564000" y="2922480"/>
            <a:chExt cx="1584360" cy="1165320"/>
          </a:xfrm>
        </p:grpSpPr>
        <p:sp>
          <p:nvSpPr>
            <p:cNvPr id="226" name=""/>
            <p:cNvSpPr/>
            <p:nvPr/>
          </p:nvSpPr>
          <p:spPr>
            <a:xfrm>
              <a:off x="4068720" y="3800880"/>
              <a:ext cx="595440" cy="286920"/>
            </a:xfrm>
            <a:prstGeom prst="bevel">
              <a:avLst>
                <a:gd name="adj" fmla="val 12500"/>
              </a:avLst>
            </a:prstGeom>
            <a:solidFill>
              <a:srgbClr val="cdd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64000" y="2924280"/>
              <a:ext cx="1584360" cy="115236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09080" y="292248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000000"/>
                  </a:solidFill>
                  <a:latin typeface="Arial"/>
                </a:rPr>
                <a:t>Offer to Sell 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720" y="3235320"/>
              <a:ext cx="21600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720" y="3451320"/>
              <a:ext cx="21600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8720" y="3666960"/>
              <a:ext cx="21600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7640" y="3235320"/>
              <a:ext cx="21564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9080" y="3451320"/>
              <a:ext cx="21600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30880" y="3666960"/>
              <a:ext cx="21564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873600" y="2410560"/>
            <a:ext cx="914400" cy="408600"/>
          </a:xfrm>
          <a:prstGeom prst="bevel">
            <a:avLst>
              <a:gd name="adj" fmla="val 12500"/>
            </a:avLst>
          </a:prstGeom>
          <a:solidFill>
            <a:srgbClr val="cdd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642920" y="2924280"/>
            <a:ext cx="129708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8000" y="4665600"/>
            <a:ext cx="3960720" cy="2068560"/>
            <a:chOff x="108000" y="4665600"/>
            <a:chExt cx="3960720" cy="2068560"/>
          </a:xfrm>
        </p:grpSpPr>
        <p:sp>
          <p:nvSpPr>
            <p:cNvPr id="238" name=""/>
            <p:cNvSpPr/>
            <p:nvPr/>
          </p:nvSpPr>
          <p:spPr>
            <a:xfrm flipH="1" flipV="1">
              <a:off x="174240" y="5326200"/>
              <a:ext cx="402840" cy="936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600" y="5513400"/>
              <a:ext cx="402840" cy="237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74240" y="5672160"/>
              <a:ext cx="402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74240" y="5859360"/>
              <a:ext cx="402840" cy="12600"/>
            </a:xfrm>
            <a:prstGeom prst="line">
              <a:avLst/>
            </a:prstGeom>
            <a:ln w="32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529920" y="5402520"/>
              <a:ext cx="636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Intgration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71560" y="6099120"/>
              <a:ext cx="2258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Logging, Tracking and 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8240" y="6518520"/>
              <a:ext cx="2753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Repository and Data Managemen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42840" y="588024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66720" y="58532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2360" y="63216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3070800" y="5541480"/>
              <a:ext cx="1250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Data Transpor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132000" y="617868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55880" y="633096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4665600"/>
              <a:ext cx="3960720" cy="258840"/>
            </a:xfrm>
            <a:custGeom>
              <a:avLst/>
              <a:gdLst>
                <a:gd name="textAreaLeft" fmla="*/ 30240 w 3960720"/>
                <a:gd name="textAreaRight" fmla="*/ 3930480 w 3960720"/>
                <a:gd name="textAreaTop" fmla="*/ 30240 h 258840"/>
                <a:gd name="textAreaBottom" fmla="*/ 228600 h 258840"/>
              </a:gdLst>
              <a:ahLst/>
              <a:rect l="textAreaLeft" t="textAreaTop" r="textAreaRight" b="textAreaBottom"/>
              <a:pathLst>
                <a:path w="33009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26490" y="21600"/>
                  </a:lnTo>
                  <a:arcTo wR="3600" hR="3600" stAng="10800000" swAng="5400000"/>
                  <a:lnTo>
                    <a:pt x="330090" y="3600"/>
                  </a:lnTo>
                  <a:arcTo wR="3600" hR="3600" stAng="5400000" swAng="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52880" y="4667400"/>
              <a:ext cx="183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Cryptographic and Security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90600" y="5310360"/>
              <a:ext cx="833040" cy="54288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5840" y="5334120"/>
              <a:ext cx="91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6840" y="5243760"/>
              <a:ext cx="1002600" cy="64296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2520" y="5334120"/>
              <a:ext cx="8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79480" y="588024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1880" y="492444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06400" y="492444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42840" y="492444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90800" y="49244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349440" y="55292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012680" y="558828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386000" y="8571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SB NATIONAL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924000" y="4076640"/>
            <a:ext cx="432000" cy="1513080"/>
            <a:chOff x="3924000" y="4076640"/>
            <a:chExt cx="432000" cy="1513080"/>
          </a:xfrm>
        </p:grpSpPr>
        <p:sp>
          <p:nvSpPr>
            <p:cNvPr id="266" name=""/>
            <p:cNvSpPr/>
            <p:nvPr/>
          </p:nvSpPr>
          <p:spPr>
            <a:xfrm>
              <a:off x="4356000" y="4076640"/>
              <a:ext cx="0" cy="151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924000" y="558972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836640"/>
            <a:ext cx="4716360" cy="6021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2120" y="25416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Large Market Participant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60240" y="505944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Invoke Offer to S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Arial"/>
              </a:rPr>
              <a:t>Pow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18840" y="1341360"/>
            <a:ext cx="3001680" cy="2764440"/>
            <a:chOff x="618840" y="1341360"/>
            <a:chExt cx="3001680" cy="2764440"/>
          </a:xfrm>
        </p:grpSpPr>
        <p:sp>
          <p:nvSpPr>
            <p:cNvPr id="272" name=""/>
            <p:cNvSpPr/>
            <p:nvPr/>
          </p:nvSpPr>
          <p:spPr>
            <a:xfrm>
              <a:off x="971640" y="1341360"/>
              <a:ext cx="2376360" cy="252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8840" y="1414440"/>
              <a:ext cx="300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Monotype Corsiva"/>
                </a:rPr>
                <a:t>XML Reposi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Monotype Corsiva"/>
                </a:rPr>
                <a:t>of Business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000000"/>
                  </a:solidFill>
                  <a:latin typeface="Monotype Corsiva"/>
                </a:rPr>
                <a:t>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47880" y="2519280"/>
              <a:ext cx="2319120" cy="15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Monotype Corsiva"/>
                </a:rPr>
                <a:t>Offer to Sell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Monotype Corsiva"/>
                </a:rPr>
                <a:t>Offer to Shed 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Monotype Corsiva"/>
                </a:rPr>
                <a:t>Buy F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Monotype Corsiva"/>
                </a:rPr>
                <a:t>Sell F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000000"/>
                  </a:solidFill>
                  <a:latin typeface="Monotype Corsiv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Monotype Corsiv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4000" y="4665600"/>
            <a:ext cx="3960720" cy="2068560"/>
            <a:chOff x="324000" y="4665600"/>
            <a:chExt cx="3960720" cy="2068560"/>
          </a:xfrm>
        </p:grpSpPr>
        <p:sp>
          <p:nvSpPr>
            <p:cNvPr id="276" name=""/>
            <p:cNvSpPr/>
            <p:nvPr/>
          </p:nvSpPr>
          <p:spPr>
            <a:xfrm flipH="1" flipV="1">
              <a:off x="390240" y="5326200"/>
              <a:ext cx="402840" cy="936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0600" y="5513400"/>
              <a:ext cx="402840" cy="237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90240" y="5672160"/>
              <a:ext cx="402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390240" y="5859360"/>
              <a:ext cx="402840" cy="12600"/>
            </a:xfrm>
            <a:prstGeom prst="line">
              <a:avLst/>
            </a:prstGeom>
            <a:ln w="32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745920" y="5402520"/>
              <a:ext cx="636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Intgration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6099120"/>
              <a:ext cx="2258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Logging, Tracking and 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54240" y="6518520"/>
              <a:ext cx="27536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Repository and Data Managemen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58840" y="588024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2720" y="58532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68360" y="63216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3286800" y="5541480"/>
              <a:ext cx="1250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Data Transpor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348000" y="617868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71880" y="633096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00" y="4665600"/>
              <a:ext cx="3960720" cy="258840"/>
            </a:xfrm>
            <a:custGeom>
              <a:avLst/>
              <a:gdLst>
                <a:gd name="textAreaLeft" fmla="*/ 30240 w 3960720"/>
                <a:gd name="textAreaRight" fmla="*/ 3930480 w 3960720"/>
                <a:gd name="textAreaTop" fmla="*/ 30240 h 258840"/>
                <a:gd name="textAreaBottom" fmla="*/ 228600 h 258840"/>
              </a:gdLst>
              <a:ahLst/>
              <a:rect l="textAreaLeft" t="textAreaTop" r="textAreaRight" b="textAreaBottom"/>
              <a:pathLst>
                <a:path w="33009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26490" y="21600"/>
                  </a:lnTo>
                  <a:arcTo wR="3600" hR="3600" stAng="10800000" swAng="5400000"/>
                  <a:lnTo>
                    <a:pt x="330090" y="3600"/>
                  </a:lnTo>
                  <a:arcTo wR="3600" hR="3600" stAng="5400000" swAng="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68880" y="4667400"/>
              <a:ext cx="183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Cryptographic and Security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6600" y="5310360"/>
              <a:ext cx="833040" cy="54288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01840" y="5334120"/>
              <a:ext cx="910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2840" y="5243760"/>
              <a:ext cx="1002600" cy="64296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8520" y="5334120"/>
              <a:ext cx="8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5480" y="588024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77880" y="492444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22400" y="492444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58840" y="492444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06800" y="49244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65440" y="552924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228680" y="558828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61920" y="8571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ESB NATIONAL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093080" y="5356080"/>
            <a:ext cx="1295280" cy="124164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680160" y="907920"/>
            <a:ext cx="2068560" cy="3961080"/>
            <a:chOff x="6680160" y="907920"/>
            <a:chExt cx="2068560" cy="3961080"/>
          </a:xfrm>
        </p:grpSpPr>
        <p:sp>
          <p:nvSpPr>
            <p:cNvPr id="305" name=""/>
            <p:cNvSpPr/>
            <p:nvPr/>
          </p:nvSpPr>
          <p:spPr>
            <a:xfrm flipV="1">
              <a:off x="8078760" y="974880"/>
              <a:ext cx="9360" cy="40320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877160" y="974880"/>
              <a:ext cx="23760" cy="403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742160" y="974880"/>
              <a:ext cx="0" cy="40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542360" y="974880"/>
              <a:ext cx="12600" cy="403200"/>
            </a:xfrm>
            <a:prstGeom prst="line">
              <a:avLst/>
            </a:prstGeom>
            <a:ln w="3240">
              <a:solidFill>
                <a:srgbClr val="00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527240" y="1470960"/>
              <a:ext cx="636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Intgration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6077880" y="2693520"/>
              <a:ext cx="2259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Logging, Tracking and 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5410800" y="3107520"/>
              <a:ext cx="27540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Repository and Data Managemen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321320" y="174312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321320" y="236700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895800" y="28526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 rot="10800000">
              <a:off x="7078680" y="4318560"/>
              <a:ext cx="1250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Data Transport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235640" y="3931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895800" y="455616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6638760" y="2759040"/>
              <a:ext cx="3961080" cy="258840"/>
            </a:xfrm>
            <a:custGeom>
              <a:avLst/>
              <a:gdLst>
                <a:gd name="textAreaLeft" fmla="*/ 30240 w 3961080"/>
                <a:gd name="textAreaRight" fmla="*/ 3930840 w 3961080"/>
                <a:gd name="textAreaTop" fmla="*/ 30240 h 258840"/>
                <a:gd name="textAreaBottom" fmla="*/ 228600 h 258840"/>
              </a:gdLst>
              <a:ahLst/>
              <a:rect l="textAreaLeft" t="textAreaTop" r="textAreaRight" b="textAreaBottom"/>
              <a:pathLst>
                <a:path w="33012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26520" y="21600"/>
                  </a:lnTo>
                  <a:arcTo wR="3600" hR="3600" stAng="10800000" swAng="5400000"/>
                  <a:lnTo>
                    <a:pt x="330120" y="3600"/>
                  </a:lnTo>
                  <a:arcTo wR="3600" hR="3600" stAng="5400000" swAng="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7722000" y="2962440"/>
              <a:ext cx="183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Cryptographic and Security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7415640" y="2235960"/>
              <a:ext cx="833400" cy="54288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7334280" y="2151360"/>
              <a:ext cx="911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7347600" y="3417120"/>
              <a:ext cx="1002960" cy="64296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7356600" y="3465720"/>
              <a:ext cx="8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321320" y="347976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321320" y="3062160"/>
              <a:ext cx="116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119800" y="2506680"/>
              <a:ext cx="3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8170560" y="17431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331120" y="459108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885080" y="4149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826040" y="181260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H="1" flipV="1">
            <a:off x="3058920" y="2707920"/>
            <a:ext cx="4392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3651480"/>
            <a:ext cx="1809720" cy="1098360"/>
          </a:xfrm>
          <a:prstGeom prst="bevel">
            <a:avLst>
              <a:gd name="adj" fmla="val 12500"/>
            </a:avLst>
          </a:prstGeom>
          <a:solidFill>
            <a:srgbClr val="cdd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08080"/>
                </a:solidFill>
                <a:latin typeface="Arial"/>
              </a:rPr>
              <a:t>Retr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0808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08080"/>
                </a:solidFill>
                <a:latin typeface="Arial"/>
              </a:rPr>
              <a:t>Description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066920" y="6021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19640" y="5516640"/>
            <a:ext cx="1295280" cy="1318680"/>
            <a:chOff x="5219640" y="5516640"/>
            <a:chExt cx="1295280" cy="1318680"/>
          </a:xfrm>
        </p:grpSpPr>
        <p:sp>
          <p:nvSpPr>
            <p:cNvPr id="335" name=""/>
            <p:cNvSpPr/>
            <p:nvPr/>
          </p:nvSpPr>
          <p:spPr>
            <a:xfrm>
              <a:off x="5219640" y="5516640"/>
              <a:ext cx="1295280" cy="1318680"/>
            </a:xfrm>
            <a:prstGeom prst="foldedCorner">
              <a:avLst>
                <a:gd name="adj" fmla="val 12500"/>
              </a:avLst>
            </a:prstGeom>
            <a:solidFill>
              <a:srgbClr val="cdd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27200" y="5883480"/>
              <a:ext cx="11606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?xml version=1.0 ?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OffertoSellPower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data1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     </a:t>
              </a: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data11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/data1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data…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&lt;/OffertoSellPower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5883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0120" y="5516640"/>
              <a:ext cx="781200" cy="337320"/>
            </a:xfrm>
            <a:prstGeom prst="rect">
              <a:avLst/>
            </a:prstGeom>
            <a:solidFill>
              <a:srgbClr val="cd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TO:ESB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808080"/>
                  </a:solidFill>
                  <a:latin typeface="Arial"/>
                </a:rPr>
                <a:t>FROM:G99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740720" y="4653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843280" cy="5732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780000" y="27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0" y="315756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usiness Drivers and Market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6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rvice Oriented B2B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0" y="4076640"/>
            <a:ext cx="467820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8fa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843280" cy="5732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27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8fa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315756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usiness Drivers and Market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36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rvice Oriented B2B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407664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16360" y="1244520"/>
            <a:ext cx="61927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34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bXML Framework was chosen as basis for Irish Wholesale Market B2B infra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hesive end-to-end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ets all B2B requirements identified within the Irish Wholesale Electricity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rvice Oriented Design (e.g. ebMS Service/Action identifiers to identify BPM workfl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liable, secure and proven B2B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pports S/MIME for non-repudiation purp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en industry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pport from across the electric industry (I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merous products/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mal Product Interoperability Certif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84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19280" y="1699920"/>
            <a:ext cx="5327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31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B National Grid (ESBNG) is  responsible for operating Ireland's national electricity transmiss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31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sponsible for implementing and operating the deregulated Wholesale Electricity Market b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31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grid contains over 5,800 km of high voltage lines and cables and is the backbone of the electricity transmission system for Ir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31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ak System Demand 4,415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0480" indent="-31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demand for electricity has been growing at a rate of 6% annu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843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843280" cy="573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780000" y="27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157560"/>
            <a:ext cx="4678200" cy="360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8fa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usiness Drivers and Market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360828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rvice Oriented B2B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4076640"/>
            <a:ext cx="4678200" cy="360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Business Driv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360" y="1699920"/>
            <a:ext cx="518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uropean Union Directive to deregulate electricity markets b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rish regulator (CER) goal to complete deregulation b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SB NG as market operator MUST ensure that all market participants are given fair and equal access to a 24x7 electricity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itigate legal risk by implementing a reliable, secure, auditable marke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987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48000" y="1916280"/>
          <a:ext cx="5400720" cy="4051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16280"/>
                    <a:ext cx="54007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 Market Participa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3203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rket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46400" y="1413000"/>
            <a:ext cx="387360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438840" indent="-3286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219240"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nsmission Network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219240"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ribution Network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-3286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219240"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Generation of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219240"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ales of 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411280" cy="1846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2411280" cy="196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2411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35440" y="404280"/>
            <a:ext cx="5124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ctivities in Deregulated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87640" y="1557360"/>
            <a:ext cx="63691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and submit b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bid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bid based on changes in plant availability an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market notices sent by system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continuous updates on market prices, dispatch and pre-dispatch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financial market reports if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transmission auction reports if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market metering and settle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me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771640" cy="265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843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16360" y="33336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ational Grid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500200"/>
            <a:ext cx="1512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rket Clea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4480" y="3720960"/>
            <a:ext cx="1523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TR A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732200"/>
            <a:ext cx="1512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87640" y="3102120"/>
            <a:ext cx="1871640" cy="1800000"/>
            <a:chOff x="2987640" y="3102120"/>
            <a:chExt cx="1871640" cy="1800000"/>
          </a:xfrm>
        </p:grpSpPr>
        <p:sp>
          <p:nvSpPr>
            <p:cNvPr id="160" name=""/>
            <p:cNvSpPr/>
            <p:nvPr/>
          </p:nvSpPr>
          <p:spPr>
            <a:xfrm>
              <a:off x="2987640" y="3102120"/>
              <a:ext cx="1871640" cy="18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7800" y="3606480"/>
              <a:ext cx="152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 flipV="1">
            <a:off x="2268000" y="2906640"/>
            <a:ext cx="790920" cy="673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408456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360" y="4516560"/>
            <a:ext cx="935280" cy="717480"/>
          </a:xfrm>
          <a:prstGeom prst="line">
            <a:avLst/>
          </a:prstGeom>
          <a:ln w="57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1519200"/>
            <a:ext cx="2016000" cy="934920"/>
          </a:xfrm>
          <a:prstGeom prst="wedgeRoundRectCallout">
            <a:avLst>
              <a:gd name="adj1" fmla="val -40865"/>
              <a:gd name="adj2" fmla="val 1024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otentially  different integration technologies and appro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21440" y="3030480"/>
            <a:ext cx="1728720" cy="1944720"/>
          </a:xfrm>
          <a:prstGeom prst="cloudCallout">
            <a:avLst>
              <a:gd name="adj1" fmla="val -43754"/>
              <a:gd name="adj2" fmla="val 5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68600" y="3749760"/>
            <a:ext cx="152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4859280" y="3894120"/>
            <a:ext cx="362520" cy="7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6" idx="0"/>
            <a:endCxn id="170" idx="2"/>
          </p:cNvCxnSpPr>
          <p:nvPr/>
        </p:nvCxnSpPr>
        <p:spPr>
          <a:xfrm flipV="1">
            <a:off x="6948000" y="3219120"/>
            <a:ext cx="716760" cy="784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1"/>
            <a:endCxn id="172" idx="0"/>
          </p:cNvCxnSpPr>
          <p:nvPr/>
        </p:nvCxnSpPr>
        <p:spPr>
          <a:xfrm>
            <a:off x="6948360" y="4003560"/>
            <a:ext cx="891360" cy="729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93080" y="2319480"/>
            <a:ext cx="114300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64360" y="4732200"/>
            <a:ext cx="1349280" cy="1292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706920" y="5235480"/>
            <a:ext cx="3241440" cy="1341360"/>
          </a:xfrm>
          <a:prstGeom prst="wedgeRoundRectCallout">
            <a:avLst>
              <a:gd name="adj1" fmla="val 63027"/>
              <a:gd name="adj2" fmla="val -1911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um to Large Market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Computer-to-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 to automa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he Wholesal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798480"/>
            <a:ext cx="2521080" cy="1008000"/>
          </a:xfrm>
          <a:prstGeom prst="wedgeRoundRectCallout">
            <a:avLst>
              <a:gd name="adj1" fmla="val 4597"/>
              <a:gd name="adj2" fmla="val 10795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Market 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Web Browser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ly Access the Wholesal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5:56:13Z</dcterms:created>
  <dc:creator>Build</dc:creator>
  <dc:description/>
  <dc:language>en-US</dc:language>
  <cp:lastModifiedBy>Jane Harnad</cp:lastModifiedBy>
  <dcterms:modified xsi:type="dcterms:W3CDTF">2004-05-04T17:58:14Z</dcterms:modified>
  <cp:revision>370</cp:revision>
  <dc:subject/>
  <dc:title>B2B Consultancy 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  <property fmtid="{D5CDD505-2E9C-101B-9397-08002B2CF9AE}" pid="4" name="_AdHocReviewCycleID">
    <vt:r8>449182893</vt:r8>
  </property>
  <property fmtid="{D5CDD505-2E9C-101B-9397-08002B2CF9AE}" pid="5" name="_AuthorEmail">
    <vt:lpwstr>dick@tech-comm.com</vt:lpwstr>
  </property>
  <property fmtid="{D5CDD505-2E9C-101B-9397-08002B2CF9AE}" pid="6" name="_AuthorEmailDisplayName">
    <vt:lpwstr>Dick Brooks</vt:lpwstr>
  </property>
  <property fmtid="{D5CDD505-2E9C-101B-9397-08002B2CF9AE}" pid="7" name="_EmailSubject">
    <vt:lpwstr>OASIS Symposium presentation from Tony Fleming</vt:lpwstr>
  </property>
  <property fmtid="{D5CDD505-2E9C-101B-9397-08002B2CF9AE}" pid="8" name="_PreviousAdHocReviewCycleID">
    <vt:r8>971414327</vt:r8>
  </property>
  <property fmtid="{D5CDD505-2E9C-101B-9397-08002B2CF9AE}" pid="9" name="_ReviewingToolsShownOnce">
    <vt:lpwstr/>
  </property>
</Properties>
</file>