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E93-1C5A-43C6-8BAD-FD7A5A2F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D1A-7788-42AD-B8F2-A020049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ABF-D33B-4387-A7B6-15D4A223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0D3-6F8C-4022-B5B1-C33FCCAA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62F-7D46-4ABB-BE1F-0203F557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27C-E3AF-4B55-A2ED-A1897E02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2FA-1D20-462B-B3EF-CF435E8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2C9-DA99-469D-AE88-60C615C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791-42F3-42E2-A821-1B73B0CA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6E7-5B1D-48AF-B892-B780AC4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5F6-4D73-4B3F-9684-56207147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60E-E99F-4602-ABCD-4DDFB68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x    OASIS Symposium 200404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07D-4E15-47DE-BADB-63158268C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views/webservices/standards.jsp" TargetMode="External"/><Relationship Id="rId2" Type="http://schemas.openxmlformats.org/officeDocument/2006/relationships/hyperlink" Target="http://msdn.microsoft.com/library/default.asp?url=/library/en-us/dnglobspec/html/wsatspecindex.asp" TargetMode="External"/><Relationship Id="rId3" Type="http://schemas.openxmlformats.org/officeDocument/2006/relationships/hyperlink" Target="http://dev2dev.bea.com/technologies/webservices/standards.jsp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asis-open.org/committees/tc_home.php?wg_abbrev=ws-caf" TargetMode="External"/><Relationship Id="rId2" Type="http://schemas.openxmlformats.org/officeDocument/2006/relationships/hyperlink" Target="http://www.oasis-open.org/committees/download.php/2077/BTP_Primer_v1.0.20020605.pd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vanc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S-Transaction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Cox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 Symposium on Reliabl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Orlea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ation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reduction through simp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ed WS-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try to view state of entire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coordinator and participant separate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dditional care for consistency design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then ignore “state sme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applicability for WS-Co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AT, WS-BA, other coord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6DD-22DE-4FBE-B263-DD1537FF94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mpar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-C/WS-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Coordination specified as simpl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AT has 7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BA has 8/9 st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TP has 28 Superior, 36 Inferior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ncludes ~ WS-C x WS-BA states in on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C8E-23FD-4664-BBFE-23C56E52C6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mparison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-CAF—Bookkeeping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on context mgt protocol WS-CTX, as does WS-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has 8 states and 14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A has many sub-protocols (total of 40 mess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A07-6807-4B43-B4E5-33E88F981D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s of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P: 188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CAF base docs 240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Coordination+WS-AT+WS-BA 59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reflect time needed to read and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738-26CE-4BF9-8065-5C6C2E4E1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S-Addressing requires standardization of at least Endpoint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lso an issue for the new WS-Resource Framework and WS-Notification TC bas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ing useful if not over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TX/WS-C factoring seems about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, demonstrate interoperability, it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interoperable implementation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d in which cyc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mature specs into standardization proc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y-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077-95FF-48AB-9F86-83252EF81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 companies have committed to submitting to a standards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meeting March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license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can maintain royalty-free approach to these 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 event i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A55-BEC2-4AEC-AC3A-4D50CA0E95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Transaction and WS-Coordination simple enough, rich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able web services targe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s at the righ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able number of 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able number of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tively lower complexity than competing 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ng to interoperability testing and submission to a standards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24F-6F93-42BC-B265-D2A5E1521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Atomic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Business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Lucida Grande"/>
                <a:hlinkClick r:id="rId1"/>
              </a:rPr>
              <a:t>http://www-106.ibm.com/developerworks/views/webservices/standards.jsp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betization problems--some under “WS-”, some under “Web Servi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ccff"/>
                </a:solidFill>
                <a:uFillTx/>
                <a:latin typeface="Lucida Grande"/>
                <a:hlinkClick r:id="rId2"/>
              </a:rPr>
              <a:t>http://msdn.microsoft.com/library/default.asp?url=/library/en-us/dnglobspec/html/wsatspecindex.asp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Lucida Grand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Lucida Grande"/>
                <a:hlinkClick r:id="rId3"/>
              </a:rPr>
              <a:t>http://dev2dev.bea.com/technologies/webservices/standards.jsp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Lucida Grand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http://www-106.ibm.com/developerworks/offers/WS-Specworkshops/ws-tx200402post.html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http://msdn.microsoft.com/webservices/community/workshops/transactionws032004.aspx 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223-06F9-452B-BA1D-E6AA36B9C1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CAF (Arjuna, Fujitsu, Iona, Oracle, Sun) July 2003, OASIS 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ccff"/>
                </a:solidFill>
                <a:uFillTx/>
                <a:latin typeface="Lucida Grande"/>
                <a:hlinkClick r:id="rId1"/>
              </a:rPr>
              <a:t>http://www.oasis-open.org/committees/tc_home.php?wg_abbrev=ws-ca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P OASIS 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http://www.oasis-open.org/committees/tc_home.php?wg_abbrev=business-transa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P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www.oasis-open.org/committees/download.php/1184/2002-06-03.BTP_cttee_spec_1.0.pd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P Pr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100" spc="-1" strike="noStrike" u="sng">
                <a:solidFill>
                  <a:srgbClr val="ccccff"/>
                </a:solidFill>
                <a:uFillTx/>
                <a:latin typeface="Lucida Grande"/>
                <a:hlinkClick r:id="rId2"/>
              </a:rPr>
              <a:t>http://www.oasis-open.org/committees/download.php/2077/BTP_Primer_v1.0.20020605.pdf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Lucida Grand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B4F-5CCC-4DB2-9BBD-F87D830FA0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and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500-E9F8-43AE-86A5-6BDF3000C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inions are those of the individual author of this presentation, and do not necessarily reflect those of the companies or individuals who are the specification auth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opinion, and welcome to i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pologies to James Thu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2E2-F90F-40A7-B3D1-8791A83A50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Business process, legacy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from the ground up as compos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ilored to specific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AT – tightly coupled, legacy integration, rollback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BA – loosely coupled, long running, compensation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C – Factoring of contex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497-3FF5-49E2-81BF-DB653620DB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A (X/Op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G Object Transac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xtended Structures for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CP,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TP (similar goals but more comple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-CAF (overlapped completion of v1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7F0-FA9F-4352-A3F8-29A98F9EC7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shed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2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Coordination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Transaction 1.0 [WS-T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3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Coordination 1.1 [WS-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AtomicTransaction [WS-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4 Pub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BusinessActivity [WS-B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S-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WS-TX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s to WS-AT+WS-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049-9C0E-4CFA-97F4-1228A9A9F5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4120" y="31240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705360" y="31240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472428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380988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ation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666880"/>
            <a:ext cx="2286000" cy="1295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828800"/>
            <a:ext cx="2590560" cy="146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1828800"/>
            <a:ext cx="2514600" cy="1425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267080"/>
            <a:ext cx="2286000" cy="1295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505320"/>
            <a:ext cx="2286000" cy="129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5181480"/>
            <a:ext cx="228600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7960" y="1676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5040" y="160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493-E547-4A60-B3A3-B3EAC408B3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Evolution v1.0-v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AtomicTransaction and WS-BusinessActivity are now separat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subparts of WS-T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S-Addressing Endpoint Reference’s opaque ReferenceProperties throug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ial and readability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publication of WS-AT and WS-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D2C-D81F-4B82-BA9F-4C22EB1E91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Evolution v1.0-v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opted opaque Endpoint Reference from WS-Add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1.0 “roll your own” contributed to WS-Addressing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d and enhanced security considerations,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amed to Volatile 2PC, Durable 2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 stat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d more consist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ActivityWithCoordinator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ActivityWithParticipant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amed some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 stat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g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C2D-5DA8-4E93-AD9F-A689AB0F1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7:35:35Z</dcterms:created>
  <dc:creator>William Cox</dc:creator>
  <dc:description/>
  <dc:language>en-US</dc:language>
  <cp:lastModifiedBy>Jane Harnad</cp:lastModifiedBy>
  <dcterms:modified xsi:type="dcterms:W3CDTF">2004-05-04T14:56:40Z</dcterms:modified>
  <cp:revision>36</cp:revision>
  <dc:subject/>
  <dc:title>Advances in WS-Transaction and WS-Coordination</dc:title>
</cp:coreProperties>
</file>