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E17A-ECAF-4B49-89B5-48F1DC415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57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B8B7-535D-4099-8EF2-588528A57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57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A999-6D71-488B-B080-AD30835A0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574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574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57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57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57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EC9D-FAA7-4E0C-815D-222D4371C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5244-0565-49DF-9FA0-E83F165D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39C6-F2E3-4372-B96F-59B382CA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7FD3-00AF-4ACA-988E-538DB0B0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574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4A6D-8D24-4DC1-AF8A-4EB0088F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9945-9928-4CE3-A73E-B3107B8E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91CF-CC3D-4D8F-8E50-C3D3812F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574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4E2E-D53F-4BF8-BD55-CB522B8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6202-2466-4A7F-8B20-C20E1238D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457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EBD4B-46C1-4EFB-9192-24E4E760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CA24-F567-45DA-B0D8-2A0CC635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457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CB3E-A11B-49A5-AC47-DD462446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457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4FE4-6A6B-46BD-B3D2-E3911A8A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574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574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457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457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457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67F1-2B25-4169-A56E-746B8E83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BF05-6199-483C-A91B-DA840BE95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574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DB1D-6B23-4BF4-898C-4951D2C4A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3C9D-F8A7-4E99-BA36-64F407276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B5D6-851A-4189-8289-42E4AA95C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574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02AC-20CC-44A4-BA23-C570B4F8F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57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C37C-70DB-4FC6-A0AA-EC7F3552A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574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FED6-8C4F-4FF3-8DAD-B80E3531E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810640" y="0"/>
            <a:ext cx="333360" cy="28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C56A-7663-442B-AAC8-80C38A37FBA8}" type="slidenum">
              <a:rPr b="1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118200"/>
            <a:ext cx="914400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23A0-5055-4ECB-8F75-62B5E388C534}" type="slidenum">
              <a:rPr b="1" lang="en-GB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514080" y="3587400"/>
            <a:ext cx="81723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0120" y="5853240"/>
            <a:ext cx="8496360" cy="687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58740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ervices Composite Application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79520" y="4406400"/>
            <a:ext cx="6400800" cy="8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ic Newcomer, WS-CAF Co-C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6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524560" y="34034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54520" y="2184480"/>
            <a:ext cx="176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754520" y="4165560"/>
            <a:ext cx="1764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2080" y="34034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rot="16200000">
            <a:off x="4875840" y="2832120"/>
            <a:ext cx="2971800" cy="1066680"/>
          </a:xfrm>
          <a:prstGeom prst="blockArc">
            <a:avLst>
              <a:gd name="adj1" fmla="val 9428554"/>
              <a:gd name="adj2" fmla="val 1371446"/>
              <a:gd name="adj3" fmla="val 6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rot="10800000">
            <a:off x="3313800" y="964800"/>
            <a:ext cx="2971800" cy="1066680"/>
          </a:xfrm>
          <a:prstGeom prst="blockArc">
            <a:avLst>
              <a:gd name="adj1" fmla="val 9428554"/>
              <a:gd name="adj2" fmla="val 1371446"/>
              <a:gd name="adj3" fmla="val 6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 rot="10800000">
            <a:off x="3313800" y="4698000"/>
            <a:ext cx="2971800" cy="1066680"/>
          </a:xfrm>
          <a:prstGeom prst="blockArc">
            <a:avLst>
              <a:gd name="adj1" fmla="val 9428554"/>
              <a:gd name="adj2" fmla="val 1371446"/>
              <a:gd name="adj3" fmla="val 6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1675800" y="2832120"/>
            <a:ext cx="2971800" cy="1066680"/>
          </a:xfrm>
          <a:prstGeom prst="blockArc">
            <a:avLst>
              <a:gd name="adj1" fmla="val 9428554"/>
              <a:gd name="adj2" fmla="val 1371446"/>
              <a:gd name="adj3" fmla="val 6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6160" y="2793960"/>
            <a:ext cx="19987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10360" y="3176640"/>
            <a:ext cx="206280" cy="434880"/>
          </a:xfrm>
          <a:prstGeom prst="parallelogram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16640" y="3176640"/>
            <a:ext cx="208080" cy="434880"/>
          </a:xfrm>
          <a:prstGeom prst="parallelogram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65880" y="3720960"/>
            <a:ext cx="208080" cy="216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18160" y="2803680"/>
            <a:ext cx="208080" cy="2156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2"/>
            <a:endCxn id="108" idx="1"/>
          </p:cNvCxnSpPr>
          <p:nvPr/>
        </p:nvCxnSpPr>
        <p:spPr>
          <a:xfrm flipV="1">
            <a:off x="6598800" y="3364920"/>
            <a:ext cx="29772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11" idx="1"/>
            <a:endCxn id="110" idx="3"/>
          </p:cNvCxnSpPr>
          <p:nvPr/>
        </p:nvCxnSpPr>
        <p:spPr>
          <a:xfrm flipV="1">
            <a:off x="6470640" y="3611160"/>
            <a:ext cx="2304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10" idx="0"/>
            <a:endCxn id="112" idx="3"/>
          </p:cNvCxnSpPr>
          <p:nvPr/>
        </p:nvCxnSpPr>
        <p:spPr>
          <a:xfrm flipV="1">
            <a:off x="6548400" y="3018600"/>
            <a:ext cx="7668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7004160" y="3006720"/>
            <a:ext cx="175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P, CR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19440" y="5384880"/>
            <a:ext cx="457200" cy="457200"/>
          </a:xfrm>
          <a:prstGeom prst="flowChartMagneticTap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2000" y="5969160"/>
            <a:ext cx="464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queuing syst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2A/B2B Integration bro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5613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10160" y="5384880"/>
            <a:ext cx="457200" cy="457200"/>
          </a:xfrm>
          <a:prstGeom prst="flowChartMagneticTap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67360" y="5613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00880" y="5384880"/>
            <a:ext cx="457200" cy="457200"/>
          </a:xfrm>
          <a:prstGeom prst="flowChartMagneticTap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72080" y="203040"/>
            <a:ext cx="2057400" cy="152424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base schem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14680" y="1955880"/>
            <a:ext cx="1066680" cy="2743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88400" y="2430360"/>
            <a:ext cx="1123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Ne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2960" y="3251160"/>
            <a:ext cx="304920" cy="304920"/>
          </a:xfrm>
          <a:prstGeom prst="diamond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10160" y="2717640"/>
            <a:ext cx="304920" cy="304920"/>
          </a:xfrm>
          <a:prstGeom prst="diamond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10160" y="3784680"/>
            <a:ext cx="304920" cy="304560"/>
          </a:xfrm>
          <a:prstGeom prst="diamond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3251160"/>
            <a:ext cx="304920" cy="304920"/>
          </a:xfrm>
          <a:prstGeom prst="diamond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57880" y="3098880"/>
            <a:ext cx="68580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7360" y="3327480"/>
            <a:ext cx="76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3680" y="3327480"/>
            <a:ext cx="7596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57880" y="32511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71360" y="233676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640" y="466200"/>
            <a:ext cx="3252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is WS-CAF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ection of 3 specif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-Context – generic contex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-Coordination Framework - for pluggable coordination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 Transaction Management - three transaction models for Web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ID Transaction – focus on interoper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 Running Action – compensation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Process - Coordination of arbitrary runtimes and transac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dated with new models as and whe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S-Ctx and WS-CF can be used 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S-CAF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ded to complement MSFT/IBM/BEA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OASIS by Arjuna, Fujitsu, IONA, Oracle, and Sun in Oct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progressing in WS-CAF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 update/interop demo roadmap fo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-Context –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-Coordination Framework – Aug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-Transaction Management –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S-Context spec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and “life-cycle”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aspect of WS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s notion of a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scope of persistent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context associated with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Service maintains context for each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be co-located or separat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S-Context Go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vide a basic context service for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different specifications need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-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-B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-Resourc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-Distribute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ability to do correlation at a 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augmentation of framework required to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context management to complex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usiness process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ed at long running interactions that span different domains a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, ER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derated systems that can’t/won’t expose back-en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 coordinators pe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s a coordinator-coordinator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usiness process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operations reside with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ursive structure i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may represent a different transac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process is split in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usines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 withi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nsatable units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ward compensation during activity is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 business process making forward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or can invok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ynchpoi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discover current state of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usiness Process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s synchronous and asynchronous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s can submit work and call back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interact synchronously (tradition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stic rather than pessim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s failures are rare and can be handled offlin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domain is exposed as a subordinate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ible for mapping incoming BP requests to domain specific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ocol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point, confirm, cancel, restart, work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S-Coordination Frame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ordinat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participant registration en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status and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riven at arbitrary points dur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ordinate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nt as far as coordinator is conc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or as far as participant is conc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used to resolve protoco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basic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dge disparate transac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20:33:17Z</dcterms:created>
  <dc:creator>Dona Valthaus</dc:creator>
  <dc:description/>
  <dc:language>en-US</dc:language>
  <cp:lastModifiedBy>Jane Harnad</cp:lastModifiedBy>
  <dcterms:modified xsi:type="dcterms:W3CDTF">2004-05-04T14:58:29Z</dcterms:modified>
  <cp:revision>19</cp:revision>
  <dc:subject/>
  <dc:title>PowerPoint Presentation</dc:title>
</cp:coreProperties>
</file>