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6.jpeg" ContentType="image/jpe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53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12168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168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50FE3B-EE34-474B-96FE-5225B649D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142880" y="912168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9C8671-599C-4749-8B0C-BDE2B051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12168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42880" y="0"/>
            <a:ext cx="31719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03200" y="70812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19160" y="5006880"/>
          <a:ext cx="5714640" cy="1503000"/>
        </p:xfrm>
        <a:graphic>
          <a:graphicData uri="http://schemas.openxmlformats.org/drawingml/2006/table">
            <a:tbl>
              <a:tblPr/>
              <a:tblGrid>
                <a:gridCol w="2359080"/>
                <a:gridCol w="3355560"/>
              </a:tblGrid>
              <a:tr h="249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vg Daily Phone Calls (Quarterly)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fnw.fmr.com/fidelityfacts/CorpStats/volumes.pd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8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vg Daily Trades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fnw.fmr.com/fidelityfacts/FPIHighlights.shtm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vg Weekly Web Visits &amp; Percentage of online trad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webstats.fmr.com/metrics/index_metrics.htm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8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Total # Customer Accounts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fnw.fmr.com/fidelityfacts/CorpStats/volumes.pd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# Envelopes Mailed Daily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x, Doug – Fidelity Wide Processing (650K a/o 9/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382752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048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248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640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248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640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437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664920"/>
            <a:ext cx="784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437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437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048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382752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048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248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6400" y="132084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248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6400" y="3827520"/>
            <a:ext cx="2527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664920"/>
            <a:ext cx="7848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437"/>
              </a:spcBef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0480" y="382752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0480" y="1320840"/>
            <a:ext cx="3830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827520"/>
            <a:ext cx="7848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105000"/>
              </a:lnSpc>
              <a:spcBef>
                <a:spcPts val="1089"/>
              </a:spcBef>
              <a:buClr>
                <a:srgbClr val="ffcc00"/>
              </a:buClr>
              <a:buSzPct val="90000"/>
              <a:buFont typeface="Arial"/>
              <a:buChar char="•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895400" indent="-228600">
              <a:lnSpc>
                <a:spcPct val="105000"/>
              </a:lnSpc>
              <a:spcBef>
                <a:spcPts val="1089"/>
              </a:spcBef>
              <a:buClr>
                <a:srgbClr val="ffffff"/>
              </a:buClr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2860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2860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2860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»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3760" y="2378160"/>
            <a:ext cx="62625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95560" cy="1409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437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lnSpc>
                <a:spcPct val="105000"/>
              </a:lnSpc>
              <a:spcBef>
                <a:spcPts val="1089"/>
              </a:spcBef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687240" indent="405000" algn="ctr">
              <a:spcBef>
                <a:spcPts val="624"/>
              </a:spcBef>
              <a:buClr>
                <a:srgbClr val="ffcc00"/>
              </a:buClr>
              <a:buSzPct val="90000"/>
              <a:buFont typeface="Arial"/>
              <a:buChar char="•"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52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18108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8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8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hyperlink" Target="http://www.fidelity.com/" TargetMode="External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3760" y="2378160"/>
            <a:ext cx="62625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The effect of standards on the enterprise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3760" y="4143240"/>
            <a:ext cx="540216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46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 Stan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delity Inve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26,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source Virtua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3000" y="1676520"/>
            <a:ext cx="7315200" cy="441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6095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43000" y="182844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87200" y="6099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156680" y="38260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, economies of s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4120" y="373392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720" y="2743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ty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50360" y="123192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biquitou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62160" y="4992840"/>
            <a:ext cx="671400" cy="633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1400" y="4425840"/>
            <a:ext cx="761760" cy="84456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576680" y="4127400"/>
            <a:ext cx="439920" cy="457200"/>
            <a:chOff x="4576680" y="4127400"/>
            <a:chExt cx="439920" cy="457200"/>
          </a:xfrm>
        </p:grpSpPr>
        <p:sp>
          <p:nvSpPr>
            <p:cNvPr id="176" name=""/>
            <p:cNvSpPr/>
            <p:nvPr/>
          </p:nvSpPr>
          <p:spPr>
            <a:xfrm>
              <a:off x="4576680" y="4247640"/>
              <a:ext cx="439920" cy="336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6680" y="4127400"/>
              <a:ext cx="433440" cy="2246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900600" y="3203640"/>
            <a:ext cx="1493640" cy="757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68880" y="34290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32880" y="4584600"/>
            <a:ext cx="103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rag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39040" y="1619280"/>
            <a:ext cx="2151000" cy="1810800"/>
            <a:chOff x="6539040" y="1619280"/>
            <a:chExt cx="2151000" cy="1810800"/>
          </a:xfrm>
        </p:grpSpPr>
        <p:sp>
          <p:nvSpPr>
            <p:cNvPr id="182" name=""/>
            <p:cNvSpPr/>
            <p:nvPr/>
          </p:nvSpPr>
          <p:spPr>
            <a:xfrm>
              <a:off x="6539040" y="1766880"/>
              <a:ext cx="641520" cy="70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718320" y="1936800"/>
              <a:ext cx="1252080" cy="1345680"/>
              <a:chOff x="6718320" y="1936800"/>
              <a:chExt cx="1252080" cy="134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754680" y="1936800"/>
                <a:ext cx="1215720" cy="1345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18320" y="2094480"/>
                <a:ext cx="244800" cy="351720"/>
              </a:xfrm>
              <a:custGeom>
                <a:avLst/>
                <a:gdLst/>
                <a:ahLst/>
                <a:rect l="l" t="t" r="r" b="b"/>
                <a:pathLst>
                  <a:path w="341" h="174">
                    <a:moveTo>
                      <a:pt x="291" y="0"/>
                    </a:moveTo>
                    <a:lnTo>
                      <a:pt x="0" y="152"/>
                    </a:lnTo>
                    <a:lnTo>
                      <a:pt x="144" y="173"/>
                    </a:lnTo>
                    <a:lnTo>
                      <a:pt x="340" y="14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186320" y="2090520"/>
              <a:ext cx="1216800" cy="133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61640" y="2329560"/>
              <a:ext cx="428400" cy="46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19440" y="3057840"/>
              <a:ext cx="283320" cy="28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19440" y="2181960"/>
              <a:ext cx="283320" cy="29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0000" y="2651400"/>
              <a:ext cx="426960" cy="46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99040" y="1619280"/>
              <a:ext cx="641520" cy="69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45240" y="1766880"/>
              <a:ext cx="641520" cy="70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57960" y="1619280"/>
              <a:ext cx="641520" cy="69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1960" y="2497680"/>
              <a:ext cx="641520" cy="68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3440" y="1746720"/>
              <a:ext cx="1591920" cy="1513440"/>
            </a:xfrm>
            <a:custGeom>
              <a:avLst/>
              <a:gdLst/>
              <a:ahLst/>
              <a:rect l="l" t="t" r="r" b="b"/>
              <a:pathLst>
                <a:path w="2218" h="748">
                  <a:moveTo>
                    <a:pt x="523" y="0"/>
                  </a:moveTo>
                  <a:lnTo>
                    <a:pt x="924" y="93"/>
                  </a:lnTo>
                  <a:lnTo>
                    <a:pt x="1409" y="69"/>
                  </a:lnTo>
                  <a:lnTo>
                    <a:pt x="1719" y="248"/>
                  </a:lnTo>
                  <a:lnTo>
                    <a:pt x="1801" y="263"/>
                  </a:lnTo>
                  <a:lnTo>
                    <a:pt x="2018" y="319"/>
                  </a:lnTo>
                  <a:lnTo>
                    <a:pt x="2074" y="365"/>
                  </a:lnTo>
                  <a:lnTo>
                    <a:pt x="2217" y="448"/>
                  </a:lnTo>
                  <a:lnTo>
                    <a:pt x="2193" y="475"/>
                  </a:lnTo>
                  <a:lnTo>
                    <a:pt x="1857" y="718"/>
                  </a:lnTo>
                  <a:lnTo>
                    <a:pt x="1621" y="747"/>
                  </a:lnTo>
                  <a:lnTo>
                    <a:pt x="851" y="720"/>
                  </a:lnTo>
                  <a:lnTo>
                    <a:pt x="795" y="681"/>
                  </a:lnTo>
                  <a:lnTo>
                    <a:pt x="286" y="637"/>
                  </a:lnTo>
                  <a:lnTo>
                    <a:pt x="192" y="654"/>
                  </a:lnTo>
                  <a:lnTo>
                    <a:pt x="0" y="253"/>
                  </a:lnTo>
                  <a:lnTo>
                    <a:pt x="5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094600" y="1824120"/>
            <a:ext cx="452520" cy="476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8483760" y="2620800"/>
            <a:ext cx="452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356600" y="1911240"/>
            <a:ext cx="488880" cy="1227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1523880" y="5410080"/>
            <a:ext cx="671760" cy="633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905120" y="4191120"/>
            <a:ext cx="7617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oals on standard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stopped inventing them intern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option of more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lows us to lead with our custom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 features fa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7 Them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dentity centric applicatio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pplications tolerant to chan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ce Oriented Architectures (SOA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erprise inform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lligent network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irtual computing platfor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urity simplific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7 Standard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berty, WS-Federation, SA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va, .Net, Cobol,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ML-Schema, SOAP, WSD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X, SWIFT, HRX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DDI, Messaging, SOAP, IPV6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GSA, WS-Resource Framewor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 17799, WS-Security, 802.1x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at’s needed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913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igher level servic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rtals (JSR 168, WSR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913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mpler data standard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ustry specific (FIX, SWIFT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extreme they are too gen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913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gital rights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913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ewer competing standard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andards are for your custom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n’t take away the creativity of the develop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e to consensuses quickl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ke them into products &amp; open sour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ep it simpl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9440" y="631512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2470              Fidelity Distributors Corporation, 82 Devonshire Street, Boston, MA  02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y standards are important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andards within the enterpri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105000"/>
              </a:lnSpc>
              <a:spcBef>
                <a:spcPts val="1089"/>
              </a:spcBef>
              <a:buNone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’s missing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12098" r="20272" b="11055"/>
          <a:stretch/>
        </p:blipFill>
        <p:spPr>
          <a:xfrm>
            <a:off x="4854600" y="1353960"/>
            <a:ext cx="2776680" cy="233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12560" r="0" b="7295"/>
          <a:stretch/>
        </p:blipFill>
        <p:spPr>
          <a:xfrm>
            <a:off x="1882800" y="1353960"/>
            <a:ext cx="2763720" cy="2337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18426" t="14944" r="16895" b="11501"/>
          <a:stretch/>
        </p:blipFill>
        <p:spPr>
          <a:xfrm>
            <a:off x="4854600" y="3905280"/>
            <a:ext cx="2755800" cy="2338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0" t="14722" r="0" b="17880"/>
          <a:stretch/>
        </p:blipFill>
        <p:spPr>
          <a:xfrm>
            <a:off x="1876320" y="3908520"/>
            <a:ext cx="275616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>
            <a:lum bright="-30000"/>
          </a:blip>
          <a:srcRect l="0" t="12560" r="0" b="7295"/>
          <a:stretch/>
        </p:blipFill>
        <p:spPr>
          <a:xfrm>
            <a:off x="1882800" y="1335240"/>
            <a:ext cx="276372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>
            <a:lum bright="-42000"/>
          </a:blip>
          <a:srcRect l="18426" t="14944" r="16895" b="11501"/>
          <a:stretch/>
        </p:blipFill>
        <p:spPr>
          <a:xfrm>
            <a:off x="4854600" y="3905280"/>
            <a:ext cx="2755800" cy="2338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1981080"/>
            <a:ext cx="257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st mutual fund company 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>
            <a:lum bright="-36000"/>
          </a:blip>
          <a:srcRect l="0" t="12098" r="20272" b="11055"/>
          <a:stretch/>
        </p:blipFill>
        <p:spPr>
          <a:xfrm>
            <a:off x="4854600" y="1335240"/>
            <a:ext cx="2776680" cy="236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71960" y="1733400"/>
            <a:ext cx="257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1 provider of workplace retirement savings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>
            <a:lum bright="-24000"/>
          </a:blip>
          <a:srcRect l="0" t="14722" r="0" b="17880"/>
          <a:stretch/>
        </p:blipFill>
        <p:spPr>
          <a:xfrm>
            <a:off x="1876320" y="3908520"/>
            <a:ext cx="2756160" cy="2361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61016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s over 29,00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91040" y="4610160"/>
            <a:ext cx="250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ts exc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o is Fidelity Investments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65240" y="6276960"/>
            <a:ext cx="178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delity Investments is one of the world’s largest providers of financial services, with custodied assets of $1.9 trillion, including managed assets of $1.0 trillion as of March 31, 2004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delity offers investment management, retirement planning, brokerage, human resources and benefits outsourcing services to 18 million individuals and institutions as well as through 5,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ial intermediaries. The firm is the largest mutual fund company in the United States, the No. 1 provider of workplace retirement savings plans, one of the largest mutual f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markets and a leading online brokerage firm.  For more information about Fidelity Investments, visit </a:t>
            </a:r>
            <a:r>
              <a:rPr b="0" lang="en-US" sz="800" spc="-1" strike="noStrike" u="sng">
                <a:solidFill>
                  <a:srgbClr val="009900"/>
                </a:solidFill>
                <a:uFillTx/>
                <a:latin typeface="Arial"/>
                <a:hlinkClick r:id="rId9"/>
              </a:rPr>
              <a:t>www.fidelity.co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59773" t="0" r="12085" b="65485"/>
          <a:stretch/>
        </p:blipFill>
        <p:spPr>
          <a:xfrm>
            <a:off x="1085760" y="4121280"/>
            <a:ext cx="304668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18855" b="10999"/>
          <a:stretch/>
        </p:blipFill>
        <p:spPr>
          <a:xfrm>
            <a:off x="4483080" y="3838680"/>
            <a:ext cx="2889360" cy="21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0" r="0" b="1453"/>
          <a:stretch/>
        </p:blipFill>
        <p:spPr>
          <a:xfrm>
            <a:off x="2895480" y="1195560"/>
            <a:ext cx="3002040" cy="236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62120" y="890640"/>
            <a:ext cx="20253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99960" y="890640"/>
            <a:ext cx="2727360" cy="3035160"/>
            <a:chOff x="399960" y="890640"/>
            <a:chExt cx="2727360" cy="3035160"/>
          </a:xfrm>
        </p:grpSpPr>
        <p:pic>
          <p:nvPicPr>
            <p:cNvPr id="110" name="" descr=""/>
            <p:cNvPicPr/>
            <p:nvPr/>
          </p:nvPicPr>
          <p:blipFill>
            <a:blip r:embed="rId5">
              <a:lum bright="-36000"/>
            </a:blip>
            <a:stretch/>
          </p:blipFill>
          <p:spPr>
            <a:xfrm>
              <a:off x="761760" y="890640"/>
              <a:ext cx="202572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9960" y="1854000"/>
              <a:ext cx="272736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verage daily phone call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55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1195560"/>
            <a:ext cx="3002040" cy="2360520"/>
            <a:chOff x="2895480" y="1195560"/>
            <a:chExt cx="3002040" cy="2360520"/>
          </a:xfrm>
        </p:grpSpPr>
        <p:pic>
          <p:nvPicPr>
            <p:cNvPr id="113" name="" descr=""/>
            <p:cNvPicPr/>
            <p:nvPr/>
          </p:nvPicPr>
          <p:blipFill>
            <a:blip r:embed="rId6">
              <a:lum bright="-30000"/>
            </a:blip>
            <a:srcRect l="0" t="0" r="0" b="1453"/>
            <a:stretch/>
          </p:blipFill>
          <p:spPr>
            <a:xfrm>
              <a:off x="2895480" y="1195560"/>
              <a:ext cx="3002040" cy="23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047760" y="188100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verage daily trades: 129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483080" y="3838680"/>
            <a:ext cx="2920680" cy="2108160"/>
            <a:chOff x="4483080" y="3838680"/>
            <a:chExt cx="2920680" cy="2108160"/>
          </a:xfrm>
        </p:grpSpPr>
        <p:pic>
          <p:nvPicPr>
            <p:cNvPr id="116" name="" descr=""/>
            <p:cNvPicPr/>
            <p:nvPr/>
          </p:nvPicPr>
          <p:blipFill>
            <a:blip r:embed="rId7">
              <a:lum bright="-30000"/>
            </a:blip>
            <a:srcRect l="0" t="0" r="18855" b="10999"/>
            <a:stretch/>
          </p:blipFill>
          <p:spPr>
            <a:xfrm>
              <a:off x="4483080" y="3838680"/>
              <a:ext cx="292068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59040" y="4257720"/>
              <a:ext cx="272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elopes mailed daily: 65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8064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outine” Business Transac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85760" y="4121280"/>
            <a:ext cx="3046680" cy="1871640"/>
            <a:chOff x="1085760" y="4121280"/>
            <a:chExt cx="3046680" cy="1871640"/>
          </a:xfrm>
        </p:grpSpPr>
        <p:pic>
          <p:nvPicPr>
            <p:cNvPr id="120" name="" descr=""/>
            <p:cNvPicPr/>
            <p:nvPr/>
          </p:nvPicPr>
          <p:blipFill>
            <a:blip r:embed="rId8">
              <a:lum bright="-18000"/>
            </a:blip>
            <a:srcRect l="59773" t="0" r="12085" b="65485"/>
            <a:stretch/>
          </p:blipFill>
          <p:spPr>
            <a:xfrm>
              <a:off x="1085760" y="4121280"/>
              <a:ext cx="30466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190520" y="4440240"/>
              <a:ext cx="284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line daily commissionable trades: 94%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9"/>
          <a:srcRect l="0" t="13255" r="23441" b="5626"/>
          <a:stretch/>
        </p:blipFill>
        <p:spPr>
          <a:xfrm>
            <a:off x="6018120" y="1104840"/>
            <a:ext cx="2818080" cy="2239920"/>
          </a:xfrm>
          <a:prstGeom prst="rect">
            <a:avLst/>
          </a:prstGeom>
          <a:ln w="3240">
            <a:solidFill>
              <a:srgbClr val="c0c0c0"/>
            </a:solidFill>
            <a:miter/>
          </a:ln>
        </p:spPr>
      </p:pic>
      <p:grpSp>
        <p:nvGrpSpPr>
          <p:cNvPr id="123" name=""/>
          <p:cNvGrpSpPr/>
          <p:nvPr/>
        </p:nvGrpSpPr>
        <p:grpSpPr>
          <a:xfrm>
            <a:off x="6018120" y="1092240"/>
            <a:ext cx="2817720" cy="2239920"/>
            <a:chOff x="6018120" y="1092240"/>
            <a:chExt cx="2817720" cy="2239920"/>
          </a:xfrm>
        </p:grpSpPr>
        <p:pic>
          <p:nvPicPr>
            <p:cNvPr id="124" name="" descr=""/>
            <p:cNvPicPr/>
            <p:nvPr/>
          </p:nvPicPr>
          <p:blipFill>
            <a:blip r:embed="rId10">
              <a:lum bright="-36000"/>
            </a:blip>
            <a:srcRect l="0" t="13255" r="23441" b="5626"/>
            <a:stretch/>
          </p:blipFill>
          <p:spPr>
            <a:xfrm>
              <a:off x="6018120" y="1092240"/>
              <a:ext cx="2817720" cy="2239920"/>
            </a:xfrm>
            <a:prstGeom prst="rect">
              <a:avLst/>
            </a:prstGeom>
            <a:ln w="3240">
              <a:solidFill>
                <a:srgbClr val="c0c0c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6218280" y="1719360"/>
              <a:ext cx="249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ekly Web visits: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.5 Mill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-165240" y="5875200"/>
            <a:ext cx="17843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4320" y="6312960"/>
            <a:ext cx="89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erage daily phone calls and Average daily trades,  Fidelity Facts, December 31,2003; Weekly Web visits, FeB Web Stats, as of March 28, 2004; Online daily commissionable trades,  FeB Web Stats, as of March 31, 2004; and Envelopes mailed daily, Fidelity Wide Processing  (D. Marx), December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y Goals for Fidelity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5880" y="1711440"/>
            <a:ext cx="8364600" cy="876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e leading manager for trillions of dollars in new,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ost-retirem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1480" y="2876400"/>
            <a:ext cx="8385480" cy="876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e team member of choice for correspondents, registered reps, and investment ad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480" y="4041720"/>
            <a:ext cx="8382240" cy="876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e pre-eminent provider of benefits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480" y="5207040"/>
            <a:ext cx="8379000" cy="876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he most trusted provider of lifetime invest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rganizations we belong too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S-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RXM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X, SWIF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X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fore we had Messaging Standard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320840"/>
            <a:ext cx="7848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 protocol hops to get to core dat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 development groups involved in a transac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5000"/>
              </a:lnSpc>
              <a:spcBef>
                <a:spcPts val="1089"/>
              </a:spcBef>
              <a:buClr>
                <a:srgbClr val="ffc901"/>
              </a:buClr>
              <a:buSzPct val="90000"/>
              <a:buFont typeface="Wingdings" charset="2"/>
              <a:buChar char="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s i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blem resol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 features deploy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77920">
              <a:lnSpc>
                <a:spcPct val="105000"/>
              </a:lnSpc>
              <a:spcBef>
                <a:spcPts val="108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rational complex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option of Web Servic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200400"/>
            <a:ext cx="16002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200400"/>
            <a:ext cx="160020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8098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9240" y="347976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66492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eveling Technolog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7360" y="5254560"/>
            <a:ext cx="1828800" cy="466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7360" y="4687920"/>
            <a:ext cx="1828800" cy="466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7360" y="4125960"/>
            <a:ext cx="1828800" cy="468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7360" y="3579840"/>
            <a:ext cx="1828800" cy="468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7360" y="3021120"/>
            <a:ext cx="1828800" cy="46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, .Net, 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7360" y="2462040"/>
            <a:ext cx="1828800" cy="4669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7360" y="1890720"/>
            <a:ext cx="1828800" cy="4665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029200"/>
            <a:ext cx="1828800" cy="66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4483080"/>
            <a:ext cx="1828800" cy="4683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3838680"/>
            <a:ext cx="1828800" cy="468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071880"/>
            <a:ext cx="1828800" cy="57456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857240"/>
            <a:ext cx="1828800" cy="1086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960720" y="1995480"/>
            <a:ext cx="839880" cy="13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0720" y="3808440"/>
            <a:ext cx="839880" cy="15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56160" y="3360600"/>
            <a:ext cx="304560" cy="25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27360" y="3616200"/>
            <a:ext cx="1828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7360" y="3616200"/>
            <a:ext cx="1440" cy="44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7360" y="406404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56160" y="3808440"/>
            <a:ext cx="304560" cy="25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6248520"/>
            <a:ext cx="5029200" cy="336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tor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791320"/>
            <a:ext cx="5029200" cy="336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VS, Unix,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2:49:26Z</dcterms:created>
  <dc:creator>Miller, Marilyn</dc:creator>
  <dc:description/>
  <dc:language>en-US</dc:language>
  <cp:lastModifiedBy>Jane Harnad</cp:lastModifiedBy>
  <cp:lastPrinted>1999-09-08T14:51:23Z</cp:lastPrinted>
  <dcterms:modified xsi:type="dcterms:W3CDTF">2004-05-04T15:04:36Z</dcterms:modified>
  <cp:revision>223</cp:revision>
  <dc:subject/>
  <dc:title>Standard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2359301</vt:r8>
  </property>
  <property fmtid="{D5CDD505-2E9C-101B-9397-08002B2CF9AE}" pid="3" name="_AuthorEmail">
    <vt:lpwstr>Silvia.B.Pena@fmr.com</vt:lpwstr>
  </property>
  <property fmtid="{D5CDD505-2E9C-101B-9397-08002B2CF9AE}" pid="4" name="_AuthorEmailDisplayName">
    <vt:lpwstr>Pena, Silvia B.</vt:lpwstr>
  </property>
  <property fmtid="{D5CDD505-2E9C-101B-9397-08002B2CF9AE}" pid="5" name="_EmailSubject">
    <vt:lpwstr>B Stangel Oasis FINAL Pres.ppt</vt:lpwstr>
  </property>
  <property fmtid="{D5CDD505-2E9C-101B-9397-08002B2CF9AE}" pid="6" name="_PreviousAdHocReviewCycleID">
    <vt:r8>-1508368752</vt:r8>
  </property>
  <property fmtid="{D5CDD505-2E9C-101B-9397-08002B2CF9AE}" pid="7" name="_ReviewingToolsShownOnce">
    <vt:lpwstr/>
  </property>
</Properties>
</file>