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283700" cy="6997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FF151-7481-411D-B140-CCA3A6CC09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6560" y="393840"/>
            <a:ext cx="80265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1681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82760" y="1247760"/>
            <a:ext cx="83944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760" y="3745440"/>
            <a:ext cx="83944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6B9B2-3B70-49A1-A3B7-F5448000BF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6560" y="393840"/>
            <a:ext cx="80265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1681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82760" y="1247760"/>
            <a:ext cx="40964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84400" y="1247760"/>
            <a:ext cx="40964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2760" y="3745440"/>
            <a:ext cx="40964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84400" y="3745440"/>
            <a:ext cx="40964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B2AEF-878C-4C50-84BF-93CCF8E401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6560" y="393840"/>
            <a:ext cx="80265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1681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82760" y="1247760"/>
            <a:ext cx="27028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21000" y="1247760"/>
            <a:ext cx="27028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59600" y="1247760"/>
            <a:ext cx="27028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2760" y="3745440"/>
            <a:ext cx="27028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21000" y="3745440"/>
            <a:ext cx="27028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59600" y="3745440"/>
            <a:ext cx="27028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48716-92F6-4298-B9C5-10C3C04859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8EF5B-7EE8-4122-A254-3272D80AF64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6560" y="393840"/>
            <a:ext cx="80265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1681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82760" y="1247760"/>
            <a:ext cx="839448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B7025-0769-4DAD-9CEA-809DEBDAB82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6560" y="393840"/>
            <a:ext cx="80265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1681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2760" y="1247760"/>
            <a:ext cx="839448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7023F-8E57-420F-A579-1B3D8703927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6560" y="393840"/>
            <a:ext cx="80265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1681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2760" y="1247760"/>
            <a:ext cx="40964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84400" y="1247760"/>
            <a:ext cx="40964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A70A6-CB38-4C08-9C88-DCC790E0E36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6560" y="393840"/>
            <a:ext cx="80265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1681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2A6BC-4CF2-434B-B522-A0CCA9232F2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66560" y="419040"/>
            <a:ext cx="8026560" cy="22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BA114-BB83-4309-9F36-12D1EEA2014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6560" y="393840"/>
            <a:ext cx="80265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1681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82760" y="1247760"/>
            <a:ext cx="40964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84400" y="1247760"/>
            <a:ext cx="40964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82760" y="3745440"/>
            <a:ext cx="40964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8A600-D789-4A6A-A9A5-4A6958F05E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6560" y="393840"/>
            <a:ext cx="80265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1681"/>
              </a:solidFill>
              <a:latin typeface="Trebuchet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82760" y="1247760"/>
            <a:ext cx="839448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340F9-8958-41F2-B391-C724AB3FD5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6560" y="393840"/>
            <a:ext cx="80265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1681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82760" y="1247760"/>
            <a:ext cx="40964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4400" y="1247760"/>
            <a:ext cx="40964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84400" y="3745440"/>
            <a:ext cx="40964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5C382-1E08-464E-B759-6D853F68773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6560" y="393840"/>
            <a:ext cx="80265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1681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82760" y="1247760"/>
            <a:ext cx="40964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84400" y="1247760"/>
            <a:ext cx="40964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82760" y="3745440"/>
            <a:ext cx="83944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4482F-0F54-4F2D-951E-9E68A33CD53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6560" y="393840"/>
            <a:ext cx="80265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1681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82760" y="1247760"/>
            <a:ext cx="83944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2760" y="3745440"/>
            <a:ext cx="83944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5F97A-EF24-4D98-8F5B-47C1EFAA58A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6560" y="393840"/>
            <a:ext cx="80265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1681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82760" y="1247760"/>
            <a:ext cx="40964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4400" y="1247760"/>
            <a:ext cx="40964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2760" y="3745440"/>
            <a:ext cx="40964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84400" y="3745440"/>
            <a:ext cx="40964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E67F9-BC50-404D-8C1A-B829775CFC7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6560" y="393840"/>
            <a:ext cx="80265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1681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82760" y="1247760"/>
            <a:ext cx="27028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21000" y="1247760"/>
            <a:ext cx="27028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59600" y="1247760"/>
            <a:ext cx="27028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82760" y="3745440"/>
            <a:ext cx="27028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21000" y="3745440"/>
            <a:ext cx="27028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59600" y="3745440"/>
            <a:ext cx="27028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7A3C4-1C14-4E38-8502-63DBF102A4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6560" y="393840"/>
            <a:ext cx="80265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1681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82760" y="1247760"/>
            <a:ext cx="839448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60BC0-A1C8-48AA-B302-A14F24601A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6560" y="393840"/>
            <a:ext cx="80265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1681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82760" y="1247760"/>
            <a:ext cx="40964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84400" y="1247760"/>
            <a:ext cx="40964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AACC8-6496-4ABC-AC04-DAB4D47A95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6560" y="393840"/>
            <a:ext cx="80265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1681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FEF27-3A31-400C-9FE2-0CEE1D1B59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66560" y="419040"/>
            <a:ext cx="8026560" cy="22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F5C7E-E999-41BB-B2F9-09F1EA2724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6560" y="393840"/>
            <a:ext cx="80265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1681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82760" y="1247760"/>
            <a:ext cx="40964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4400" y="1247760"/>
            <a:ext cx="40964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82760" y="3745440"/>
            <a:ext cx="40964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0CD77-2AD3-4DEF-A721-30A0BFF4A9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6560" y="393840"/>
            <a:ext cx="80265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1681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82760" y="1247760"/>
            <a:ext cx="40964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4400" y="1247760"/>
            <a:ext cx="40964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84400" y="3745440"/>
            <a:ext cx="40964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CC2C8-605A-4F10-83B6-D3AF6509C2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6560" y="393840"/>
            <a:ext cx="80265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1681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82760" y="1247760"/>
            <a:ext cx="40964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4400" y="1247760"/>
            <a:ext cx="40964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2760" y="3745440"/>
            <a:ext cx="83944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FDCC7-FF0E-4081-AA77-20F4FD0E0F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6560" y="419040"/>
            <a:ext cx="80265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1681"/>
                </a:solidFill>
                <a:latin typeface="Trebuchet MS"/>
              </a:rPr>
              <a:t>Click to edit the title text format</a:t>
            </a:r>
            <a:endParaRPr b="1" lang="en-US" sz="2800" spc="-1" strike="noStrike">
              <a:solidFill>
                <a:srgbClr val="431681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82760" y="1247760"/>
            <a:ext cx="839448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566640" indent="-220680"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indent="-228600">
              <a:spcBef>
                <a:spcPts val="55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indent="-228600">
              <a:spcBef>
                <a:spcPts val="55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indent="-228600">
              <a:spcBef>
                <a:spcPts val="55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 indent="-228600">
              <a:spcBef>
                <a:spcPts val="55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 indent="-228600">
              <a:spcBef>
                <a:spcPts val="55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503280" y="6311880"/>
            <a:ext cx="271296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slide </a:t>
            </a:r>
            <a:fld id="{694A5F7D-AF92-4B9F-A8C2-DAD42D56AA17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rebuchet MS"/>
              </a:rPr>
              <a:t>© 2004 Re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12880" y="215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31681"/>
                </a:solidFill>
                <a:latin typeface="Trebuchet MS"/>
              </a:rPr>
              <a:t>Click to edit the title text format</a:t>
            </a:r>
            <a:endParaRPr b="1" lang="en-US" sz="3000" spc="-1" strike="noStrike">
              <a:solidFill>
                <a:srgbClr val="431681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2"/>
          </p:nvPr>
        </p:nvSpPr>
        <p:spPr>
          <a:xfrm>
            <a:off x="502920" y="6311880"/>
            <a:ext cx="213372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slide </a:t>
            </a:r>
            <a:fld id="{C8D973DB-8C7F-4E23-839F-23A6D5FC33E4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rebuchet MS"/>
              </a:rPr>
              <a:t>© 2004 Re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2286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685800" algn="ctr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3" marL="1143000" algn="ctr">
              <a:spcBef>
                <a:spcPts val="451"/>
              </a:spcBef>
              <a:buClr>
                <a:srgbClr val="000000"/>
              </a:buClr>
              <a:buFont typeface="Times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4" marL="1600200" algn="ctr">
              <a:spcBef>
                <a:spcPts val="400"/>
              </a:spcBef>
              <a:buClr>
                <a:srgbClr val="000000"/>
              </a:buClr>
              <a:buFont typeface="Times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1600200">
              <a:spcBef>
                <a:spcPts val="4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1600200">
              <a:spcBef>
                <a:spcPts val="4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eric@reactivity.com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12880" y="215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31681"/>
                </a:solidFill>
                <a:latin typeface="Trebuchet MS"/>
              </a:rPr>
              <a:t>The Gap Between Reliability and Security</a:t>
            </a:r>
            <a:endParaRPr b="1" lang="en-US" sz="3000" spc="-1" strike="noStrike">
              <a:solidFill>
                <a:srgbClr val="431681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498680" y="4032360"/>
            <a:ext cx="640080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Eric Gravengaard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Reactivity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2ECD0-BFC7-4906-A84E-21C8961ACB5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6560" y="419040"/>
            <a:ext cx="80265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1681"/>
                </a:solidFill>
                <a:latin typeface="Trebuchet MS"/>
              </a:rPr>
              <a:t>Receipt example</a:t>
            </a:r>
            <a:endParaRPr b="1" lang="en-US" sz="2800" spc="-1" strike="noStrike">
              <a:solidFill>
                <a:srgbClr val="431681"/>
              </a:solidFill>
              <a:latin typeface="Trebuchet MS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735200" y="1127160"/>
          <a:ext cx="6858000" cy="2214360"/>
        </p:xfrm>
        <a:graphic>
          <a:graphicData uri="http://schemas.openxmlformats.org/drawingml/2006/table">
            <a:tbl>
              <a:tblPr/>
              <a:tblGrid>
                <a:gridCol w="6858000"/>
              </a:tblGrid>
              <a:tr h="22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228600"/>
                          <a:tab algn="l" pos="455760"/>
                          <a:tab algn="l" pos="684360"/>
                          <a:tab algn="l" pos="912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&lt;</a:t>
                      </a:r>
                      <a:r>
                        <a:rPr b="1" lang="en-US" sz="1200" spc="-1" strike="noStrike">
                          <a:solidFill>
                            <a:srgbClr val="800000"/>
                          </a:solidFill>
                          <a:latin typeface="Courier New"/>
                        </a:rPr>
                        <a:t>wsse:Security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&g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228600"/>
                          <a:tab algn="l" pos="455760"/>
                          <a:tab algn="l" pos="684360"/>
                          <a:tab algn="l" pos="912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&lt;</a:t>
                      </a:r>
                      <a:r>
                        <a:rPr b="1" lang="en-US" sz="1200" spc="-1" strike="noStrike">
                          <a:solidFill>
                            <a:srgbClr val="800000"/>
                          </a:solidFill>
                          <a:latin typeface="Courier New"/>
                        </a:rPr>
                        <a:t>ReceiptRequest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 ReceiptFormat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="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neralReceipt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"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 CorrelationId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="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3485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"&g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228600"/>
                          <a:tab algn="l" pos="455760"/>
                          <a:tab algn="l" pos="684360"/>
                          <a:tab algn="l" pos="912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&lt;</a:t>
                      </a:r>
                      <a:r>
                        <a:rPr b="1" lang="en-US" sz="1200" spc="-1" strike="noStrike">
                          <a:solidFill>
                            <a:srgbClr val="800000"/>
                          </a:solidFill>
                          <a:latin typeface="Courier New"/>
                        </a:rPr>
                        <a:t>ReceiptTo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 Required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="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"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 Target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="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sponse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"/&g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228600"/>
                          <a:tab algn="l" pos="455760"/>
                          <a:tab algn="l" pos="684360"/>
                          <a:tab algn="l" pos="912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&lt;</a:t>
                      </a:r>
                      <a:r>
                        <a:rPr b="1" lang="en-US" sz="1200" spc="-1" strike="noStrike">
                          <a:solidFill>
                            <a:srgbClr val="800000"/>
                          </a:solidFill>
                          <a:latin typeface="Courier New"/>
                        </a:rPr>
                        <a:t>wsu:Timestamp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&g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228600"/>
                          <a:tab algn="l" pos="455760"/>
                          <a:tab algn="l" pos="684360"/>
                          <a:tab algn="l" pos="912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&lt;</a:t>
                      </a:r>
                      <a:r>
                        <a:rPr b="1" lang="en-US" sz="1200" spc="-1" strike="noStrike">
                          <a:solidFill>
                            <a:srgbClr val="800000"/>
                          </a:solidFill>
                          <a:latin typeface="Courier New"/>
                        </a:rPr>
                        <a:t>wsu:Created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&gt;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003-03-11T16:30:17Z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&lt;/</a:t>
                      </a:r>
                      <a:r>
                        <a:rPr b="1" lang="en-US" sz="1200" spc="-1" strike="noStrike">
                          <a:solidFill>
                            <a:srgbClr val="800000"/>
                          </a:solidFill>
                          <a:latin typeface="Courier New"/>
                        </a:rPr>
                        <a:t>wsu:Created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&g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228600"/>
                          <a:tab algn="l" pos="455760"/>
                          <a:tab algn="l" pos="684360"/>
                          <a:tab algn="l" pos="912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&lt;/</a:t>
                      </a:r>
                      <a:r>
                        <a:rPr b="1" lang="en-US" sz="1200" spc="-1" strike="noStrike">
                          <a:solidFill>
                            <a:srgbClr val="800000"/>
                          </a:solidFill>
                          <a:latin typeface="Courier New"/>
                        </a:rPr>
                        <a:t>wsu:Timestamp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&g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228600"/>
                          <a:tab algn="l" pos="455760"/>
                          <a:tab algn="l" pos="684360"/>
                          <a:tab algn="l" pos="912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&lt;/</a:t>
                      </a:r>
                      <a:r>
                        <a:rPr b="1" lang="en-US" sz="1200" spc="-1" strike="noStrike">
                          <a:solidFill>
                            <a:srgbClr val="800000"/>
                          </a:solidFill>
                          <a:latin typeface="Courier New"/>
                        </a:rPr>
                        <a:t>ReceiptRequest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&g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228600"/>
                          <a:tab algn="l" pos="455760"/>
                          <a:tab algn="l" pos="684360"/>
                          <a:tab algn="l" pos="912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&lt;/</a:t>
                      </a:r>
                      <a:r>
                        <a:rPr b="1" lang="en-US" sz="1200" spc="-1" strike="noStrike">
                          <a:solidFill>
                            <a:srgbClr val="800000"/>
                          </a:solidFill>
                          <a:latin typeface="Courier New"/>
                        </a:rPr>
                        <a:t>wsse:Security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&g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228600"/>
                          <a:tab algn="l" pos="455760"/>
                          <a:tab algn="l" pos="684360"/>
                          <a:tab algn="l" pos="912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457200" y="3902040"/>
          <a:ext cx="6951240" cy="2214720"/>
        </p:xfrm>
        <a:graphic>
          <a:graphicData uri="http://schemas.openxmlformats.org/drawingml/2006/table">
            <a:tbl>
              <a:tblPr/>
              <a:tblGrid>
                <a:gridCol w="6951240"/>
              </a:tblGrid>
              <a:tr h="221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228600"/>
                          <a:tab algn="l" pos="455760"/>
                          <a:tab algn="l" pos="684360"/>
                          <a:tab algn="l" pos="912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&lt;</a:t>
                      </a:r>
                      <a:r>
                        <a:rPr b="1" lang="en-US" sz="1200" spc="-1" strike="noStrike">
                          <a:solidFill>
                            <a:srgbClr val="800000"/>
                          </a:solidFill>
                          <a:latin typeface="Courier New"/>
                        </a:rPr>
                        <a:t>wsse:Security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&g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228600"/>
                          <a:tab algn="l" pos="455760"/>
                          <a:tab algn="l" pos="684360"/>
                          <a:tab algn="l" pos="912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&lt;</a:t>
                      </a:r>
                      <a:r>
                        <a:rPr b="1" lang="en-US" sz="1200" spc="-1" strike="noStrike">
                          <a:solidFill>
                            <a:srgbClr val="800000"/>
                          </a:solidFill>
                          <a:latin typeface="Courier New"/>
                        </a:rPr>
                        <a:t>Receipt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 ReceiptFormat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="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neralReceipt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"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 CorrelationId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="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3485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"&g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228600"/>
                          <a:tab algn="l" pos="455760"/>
                          <a:tab algn="l" pos="684360"/>
                          <a:tab algn="l" pos="912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&lt;</a:t>
                      </a:r>
                      <a:r>
                        <a:rPr b="1" lang="en-US" sz="1200" spc="-1" strike="noStrike">
                          <a:solidFill>
                            <a:srgbClr val="800000"/>
                          </a:solidFill>
                          <a:latin typeface="Courier New"/>
                        </a:rPr>
                        <a:t>wsu:Timestamp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&g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228600"/>
                          <a:tab algn="l" pos="455760"/>
                          <a:tab algn="l" pos="684360"/>
                          <a:tab algn="l" pos="912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&lt;</a:t>
                      </a:r>
                      <a:r>
                        <a:rPr b="1" lang="en-US" sz="1200" spc="-1" strike="noStrike">
                          <a:solidFill>
                            <a:srgbClr val="800000"/>
                          </a:solidFill>
                          <a:latin typeface="Courier New"/>
                        </a:rPr>
                        <a:t>wsu:Received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&gt;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003-03-11T16:33:43Z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&lt;/</a:t>
                      </a:r>
                      <a:r>
                        <a:rPr b="1" lang="en-US" sz="1200" spc="-1" strike="noStrike">
                          <a:solidFill>
                            <a:srgbClr val="800000"/>
                          </a:solidFill>
                          <a:latin typeface="Courier New"/>
                        </a:rPr>
                        <a:t>wsu:Received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&g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228600"/>
                          <a:tab algn="l" pos="455760"/>
                          <a:tab algn="l" pos="684360"/>
                          <a:tab algn="l" pos="912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&lt;/</a:t>
                      </a:r>
                      <a:r>
                        <a:rPr b="1" lang="en-US" sz="1200" spc="-1" strike="noStrike">
                          <a:solidFill>
                            <a:srgbClr val="800000"/>
                          </a:solidFill>
                          <a:latin typeface="Courier New"/>
                        </a:rPr>
                        <a:t>wsu:Timestamp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&g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228600"/>
                          <a:tab algn="l" pos="455760"/>
                          <a:tab algn="l" pos="684360"/>
                          <a:tab algn="l" pos="912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&lt;/</a:t>
                      </a:r>
                      <a:r>
                        <a:rPr b="1" lang="en-US" sz="1200" spc="-1" strike="noStrike">
                          <a:solidFill>
                            <a:srgbClr val="800000"/>
                          </a:solidFill>
                          <a:latin typeface="Courier New"/>
                        </a:rPr>
                        <a:t>Receipt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&g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228600"/>
                          <a:tab algn="l" pos="455760"/>
                          <a:tab algn="l" pos="684360"/>
                          <a:tab algn="l" pos="912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&lt;/</a:t>
                      </a:r>
                      <a:r>
                        <a:rPr b="1" lang="en-US" sz="1200" spc="-1" strike="noStrike">
                          <a:solidFill>
                            <a:srgbClr val="800000"/>
                          </a:solidFill>
                          <a:latin typeface="Courier New"/>
                        </a:rPr>
                        <a:t>wsse:Security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&g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7569000" y="388620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2360" y="113508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7E148-5BD5-423A-AFDA-AE45531151A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6560" y="419040"/>
            <a:ext cx="80265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31681"/>
                </a:solidFill>
                <a:latin typeface="Trebuchet MS"/>
              </a:rPr>
              <a:t>Signed receipts </a:t>
            </a:r>
            <a:endParaRPr b="1" lang="en-US" sz="2400" spc="-1" strike="noStrike">
              <a:solidFill>
                <a:srgbClr val="431681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82760" y="1247760"/>
            <a:ext cx="839448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Main concept: Split the &lt;ds:Signature&gt; into two piece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31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Requestor specifies a &lt;wsnr:SignatureRequest&gt; element: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566640" indent="-2206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/SignatureRequest/ds:SignedInfo : specifies algorithms and data to be signed by receipt generato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66640" indent="-2206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/SignatureRequest/ds:Object : allows other data to be included in the signatur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31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Responder returns a &lt;wsnr:SignatureResponse&gt; element: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566640" indent="-2206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/SignatureResponse/ds:SignatureValue : cryptographic signature that covers the &lt;ds:SignedInfo&gt; of the reques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66640" indent="-2206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/SignatureResponse/ds:KeyInfo : specifies information about the key used to generate the signatur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8740F-BA36-4B73-924C-EF6E732E5D0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6560" y="419040"/>
            <a:ext cx="80265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31681"/>
                </a:solidFill>
                <a:latin typeface="Trebuchet MS"/>
              </a:rPr>
              <a:t>Bringing it all together: an example</a:t>
            </a:r>
            <a:endParaRPr b="1" lang="en-US" sz="2400" spc="-1" strike="noStrike">
              <a:solidFill>
                <a:srgbClr val="431681"/>
              </a:solidFill>
              <a:latin typeface="Trebuchet MS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7200" y="1168560"/>
          <a:ext cx="4292640" cy="4962240"/>
        </p:xfrm>
        <a:graphic>
          <a:graphicData uri="http://schemas.openxmlformats.org/drawingml/2006/table">
            <a:tbl>
              <a:tblPr/>
              <a:tblGrid>
                <a:gridCol w="4292640"/>
              </a:tblGrid>
              <a:tr h="497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120600"/>
                          <a:tab algn="l" pos="228600"/>
                          <a:tab algn="l" pos="349200"/>
                          <a:tab algn="l" pos="455760"/>
                          <a:tab algn="l" pos="576360"/>
                          <a:tab algn="l" pos="684360"/>
                          <a:tab algn="l" pos="804960"/>
                          <a:tab algn="l" pos="912960"/>
                          <a:tab algn="l" pos="1033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&lt;</a:t>
                      </a:r>
                      <a:r>
                        <a:rPr b="1" lang="en-US" sz="900" spc="-1" strike="noStrike">
                          <a:solidFill>
                            <a:srgbClr val="800000"/>
                          </a:solidFill>
                          <a:latin typeface="Courier New"/>
                        </a:rPr>
                        <a:t>S:Envelope</a:t>
                      </a: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 xmlns:S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="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..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"&gt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120600"/>
                          <a:tab algn="l" pos="228600"/>
                          <a:tab algn="l" pos="349200"/>
                          <a:tab algn="l" pos="455760"/>
                          <a:tab algn="l" pos="576360"/>
                          <a:tab algn="l" pos="684360"/>
                          <a:tab algn="l" pos="804960"/>
                          <a:tab algn="l" pos="912960"/>
                          <a:tab algn="l" pos="1033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&lt;</a:t>
                      </a:r>
                      <a:r>
                        <a:rPr b="1" lang="en-US" sz="900" spc="-1" strike="noStrike">
                          <a:solidFill>
                            <a:srgbClr val="800000"/>
                          </a:solidFill>
                          <a:latin typeface="Courier New"/>
                        </a:rPr>
                        <a:t>S:Header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&gt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120600"/>
                          <a:tab algn="l" pos="228600"/>
                          <a:tab algn="l" pos="349200"/>
                          <a:tab algn="l" pos="455760"/>
                          <a:tab algn="l" pos="576360"/>
                          <a:tab algn="l" pos="684360"/>
                          <a:tab algn="l" pos="804960"/>
                          <a:tab algn="l" pos="912960"/>
                          <a:tab algn="l" pos="1033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&lt;</a:t>
                      </a:r>
                      <a:r>
                        <a:rPr b="1" lang="en-US" sz="900" spc="-1" strike="noStrike">
                          <a:solidFill>
                            <a:srgbClr val="800000"/>
                          </a:solidFill>
                          <a:latin typeface="Courier New"/>
                        </a:rPr>
                        <a:t>wsse:Security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&gt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120600"/>
                          <a:tab algn="l" pos="228600"/>
                          <a:tab algn="l" pos="349200"/>
                          <a:tab algn="l" pos="455760"/>
                          <a:tab algn="l" pos="576360"/>
                          <a:tab algn="l" pos="684360"/>
                          <a:tab algn="l" pos="804960"/>
                          <a:tab algn="l" pos="912960"/>
                          <a:tab algn="l" pos="1033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&lt;</a:t>
                      </a:r>
                      <a:r>
                        <a:rPr b="1" lang="en-US" sz="900" spc="-1" strike="noStrike">
                          <a:solidFill>
                            <a:srgbClr val="800000"/>
                          </a:solidFill>
                          <a:latin typeface="Courier New"/>
                        </a:rPr>
                        <a:t>wsnr:ReceiptRequest</a:t>
                      </a: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 ReceiptFormat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="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ignedReceipt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"</a:t>
                      </a: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 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Role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="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ltimateReceiver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"</a:t>
                      </a: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 CorrelationID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="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eID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“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S:mustUnderstand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="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"&gt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120600"/>
                          <a:tab algn="l" pos="228600"/>
                          <a:tab algn="l" pos="349200"/>
                          <a:tab algn="l" pos="455760"/>
                          <a:tab algn="l" pos="576360"/>
                          <a:tab algn="l" pos="684360"/>
                          <a:tab algn="l" pos="804960"/>
                          <a:tab algn="l" pos="912960"/>
                          <a:tab algn="l" pos="1033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&lt;</a:t>
                      </a:r>
                      <a:r>
                        <a:rPr b="1" lang="en-US" sz="900" spc="-1" strike="noStrike">
                          <a:solidFill>
                            <a:srgbClr val="800000"/>
                          </a:solidFill>
                          <a:latin typeface="Courier New"/>
                        </a:rPr>
                        <a:t>wsnr:ReceiptTo</a:t>
                      </a: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 Target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="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sponse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"&gt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120600"/>
                          <a:tab algn="l" pos="228600"/>
                          <a:tab algn="l" pos="349200"/>
                          <a:tab algn="l" pos="455760"/>
                          <a:tab algn="l" pos="576360"/>
                          <a:tab algn="l" pos="684360"/>
                          <a:tab algn="l" pos="804960"/>
                          <a:tab algn="l" pos="912960"/>
                          <a:tab algn="l" pos="1033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&lt;</a:t>
                      </a:r>
                      <a:r>
                        <a:rPr b="1" lang="en-US" sz="900" spc="-1" strike="noStrike">
                          <a:solidFill>
                            <a:srgbClr val="800000"/>
                          </a:solidFill>
                          <a:latin typeface="Courier New"/>
                        </a:rPr>
                        <a:t>wsnr:SignatureRequest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&gt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120600"/>
                          <a:tab algn="l" pos="228600"/>
                          <a:tab algn="l" pos="349200"/>
                          <a:tab algn="l" pos="455760"/>
                          <a:tab algn="l" pos="576360"/>
                          <a:tab algn="l" pos="684360"/>
                          <a:tab algn="l" pos="804960"/>
                          <a:tab algn="l" pos="912960"/>
                          <a:tab algn="l" pos="1033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&lt;</a:t>
                      </a:r>
                      <a:r>
                        <a:rPr b="1" lang="en-US" sz="900" spc="-1" strike="noStrike">
                          <a:solidFill>
                            <a:srgbClr val="800000"/>
                          </a:solidFill>
                          <a:latin typeface="Courier New"/>
                        </a:rPr>
                        <a:t>ds:SignedInfo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&gt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120600"/>
                          <a:tab algn="l" pos="228600"/>
                          <a:tab algn="l" pos="349200"/>
                          <a:tab algn="l" pos="455760"/>
                          <a:tab algn="l" pos="576360"/>
                          <a:tab algn="l" pos="684360"/>
                          <a:tab algn="l" pos="804960"/>
                          <a:tab algn="l" pos="912960"/>
                          <a:tab algn="l" pos="1033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&lt;</a:t>
                      </a:r>
                      <a:r>
                        <a:rPr b="1" lang="en-US" sz="900" spc="-1" strike="noStrike">
                          <a:solidFill>
                            <a:srgbClr val="800000"/>
                          </a:solidFill>
                          <a:latin typeface="Courier New"/>
                        </a:rPr>
                        <a:t>ds:CanonicalizationMethod</a:t>
                      </a: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 Algorithm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="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#c14n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"/&gt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120600"/>
                          <a:tab algn="l" pos="228600"/>
                          <a:tab algn="l" pos="349200"/>
                          <a:tab algn="l" pos="455760"/>
                          <a:tab algn="l" pos="576360"/>
                          <a:tab algn="l" pos="684360"/>
                          <a:tab algn="l" pos="804960"/>
                          <a:tab algn="l" pos="912960"/>
                          <a:tab algn="l" pos="1033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&lt;</a:t>
                      </a:r>
                      <a:r>
                        <a:rPr b="1" lang="en-US" sz="900" spc="-1" strike="noStrike">
                          <a:solidFill>
                            <a:srgbClr val="800000"/>
                          </a:solidFill>
                          <a:latin typeface="Courier New"/>
                        </a:rPr>
                        <a:t>ds:SignatureMethod</a:t>
                      </a: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 Algorithm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="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#hmac-sha1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"/&gt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120600"/>
                          <a:tab algn="l" pos="228600"/>
                          <a:tab algn="l" pos="349200"/>
                          <a:tab algn="l" pos="455760"/>
                          <a:tab algn="l" pos="576360"/>
                          <a:tab algn="l" pos="684360"/>
                          <a:tab algn="l" pos="804960"/>
                          <a:tab algn="l" pos="912960"/>
                          <a:tab algn="l" pos="1033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&lt;</a:t>
                      </a:r>
                      <a:r>
                        <a:rPr b="1" lang="en-US" sz="900" spc="-1" strike="noStrike">
                          <a:solidFill>
                            <a:srgbClr val="800000"/>
                          </a:solidFill>
                          <a:latin typeface="Courier New"/>
                        </a:rPr>
                        <a:t>ds:Reference</a:t>
                      </a: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 URI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="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#body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"&gt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120600"/>
                          <a:tab algn="l" pos="228600"/>
                          <a:tab algn="l" pos="349200"/>
                          <a:tab algn="l" pos="455760"/>
                          <a:tab algn="l" pos="576360"/>
                          <a:tab algn="l" pos="684360"/>
                          <a:tab algn="l" pos="804960"/>
                          <a:tab algn="l" pos="912960"/>
                          <a:tab algn="l" pos="1033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&lt;</a:t>
                      </a:r>
                      <a:r>
                        <a:rPr b="1" lang="en-US" sz="900" spc="-1" strike="noStrike">
                          <a:solidFill>
                            <a:srgbClr val="800000"/>
                          </a:solidFill>
                          <a:latin typeface="Courier New"/>
                        </a:rPr>
                        <a:t>ds:DigestMethod</a:t>
                      </a: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 Algorithm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="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#sha1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"/&gt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120600"/>
                          <a:tab algn="l" pos="228600"/>
                          <a:tab algn="l" pos="349200"/>
                          <a:tab algn="l" pos="455760"/>
                          <a:tab algn="l" pos="576360"/>
                          <a:tab algn="l" pos="684360"/>
                          <a:tab algn="l" pos="804960"/>
                          <a:tab algn="l" pos="912960"/>
                          <a:tab algn="l" pos="1033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&lt;/</a:t>
                      </a:r>
                      <a:r>
                        <a:rPr b="1" lang="en-US" sz="900" spc="-1" strike="noStrike">
                          <a:solidFill>
                            <a:srgbClr val="800000"/>
                          </a:solidFill>
                          <a:latin typeface="Courier New"/>
                        </a:rPr>
                        <a:t>ds:Reference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&gt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120600"/>
                          <a:tab algn="l" pos="228600"/>
                          <a:tab algn="l" pos="349200"/>
                          <a:tab algn="l" pos="455760"/>
                          <a:tab algn="l" pos="576360"/>
                          <a:tab algn="l" pos="684360"/>
                          <a:tab algn="l" pos="804960"/>
                          <a:tab algn="l" pos="912960"/>
                          <a:tab algn="l" pos="1033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&lt;</a:t>
                      </a:r>
                      <a:r>
                        <a:rPr b="1" lang="en-US" sz="900" spc="-1" strike="noStrike">
                          <a:solidFill>
                            <a:srgbClr val="800000"/>
                          </a:solidFill>
                          <a:latin typeface="Courier New"/>
                        </a:rPr>
                        <a:t>ds:Reference</a:t>
                      </a: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 URI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="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#timestamp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"&gt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120600"/>
                          <a:tab algn="l" pos="228600"/>
                          <a:tab algn="l" pos="349200"/>
                          <a:tab algn="l" pos="455760"/>
                          <a:tab algn="l" pos="576360"/>
                          <a:tab algn="l" pos="684360"/>
                          <a:tab algn="l" pos="804960"/>
                          <a:tab algn="l" pos="912960"/>
                          <a:tab algn="l" pos="1033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&lt;</a:t>
                      </a:r>
                      <a:r>
                        <a:rPr b="1" lang="en-US" sz="900" spc="-1" strike="noStrike">
                          <a:solidFill>
                            <a:srgbClr val="800000"/>
                          </a:solidFill>
                          <a:latin typeface="Courier New"/>
                        </a:rPr>
                        <a:t>ds:DigestMethod</a:t>
                      </a: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 Algorithm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="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#sha1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"/&gt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120600"/>
                          <a:tab algn="l" pos="228600"/>
                          <a:tab algn="l" pos="349200"/>
                          <a:tab algn="l" pos="455760"/>
                          <a:tab algn="l" pos="576360"/>
                          <a:tab algn="l" pos="684360"/>
                          <a:tab algn="l" pos="804960"/>
                          <a:tab algn="l" pos="912960"/>
                          <a:tab algn="l" pos="1033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&lt;/</a:t>
                      </a:r>
                      <a:r>
                        <a:rPr b="1" lang="en-US" sz="900" spc="-1" strike="noStrike">
                          <a:solidFill>
                            <a:srgbClr val="800000"/>
                          </a:solidFill>
                          <a:latin typeface="Courier New"/>
                        </a:rPr>
                        <a:t>ds:Reference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&gt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120600"/>
                          <a:tab algn="l" pos="228600"/>
                          <a:tab algn="l" pos="349200"/>
                          <a:tab algn="l" pos="455760"/>
                          <a:tab algn="l" pos="576360"/>
                          <a:tab algn="l" pos="684360"/>
                          <a:tab algn="l" pos="804960"/>
                          <a:tab algn="l" pos="912960"/>
                          <a:tab algn="l" pos="1033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&lt;/</a:t>
                      </a:r>
                      <a:r>
                        <a:rPr b="1" lang="en-US" sz="900" spc="-1" strike="noStrike">
                          <a:solidFill>
                            <a:srgbClr val="800000"/>
                          </a:solidFill>
                          <a:latin typeface="Courier New"/>
                        </a:rPr>
                        <a:t>ds:SignedInfo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&gt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120600"/>
                          <a:tab algn="l" pos="228600"/>
                          <a:tab algn="l" pos="349200"/>
                          <a:tab algn="l" pos="455760"/>
                          <a:tab algn="l" pos="576360"/>
                          <a:tab algn="l" pos="684360"/>
                          <a:tab algn="l" pos="804960"/>
                          <a:tab algn="l" pos="912960"/>
                          <a:tab algn="l" pos="1033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&lt;/</a:t>
                      </a:r>
                      <a:r>
                        <a:rPr b="1" lang="en-US" sz="900" spc="-1" strike="noStrike">
                          <a:solidFill>
                            <a:srgbClr val="800000"/>
                          </a:solidFill>
                          <a:latin typeface="Courier New"/>
                        </a:rPr>
                        <a:t>wsnr:SignatureRequest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&gt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120600"/>
                          <a:tab algn="l" pos="228600"/>
                          <a:tab algn="l" pos="349200"/>
                          <a:tab algn="l" pos="455760"/>
                          <a:tab algn="l" pos="576360"/>
                          <a:tab algn="l" pos="684360"/>
                          <a:tab algn="l" pos="804960"/>
                          <a:tab algn="l" pos="912960"/>
                          <a:tab algn="l" pos="1033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&lt;/</a:t>
                      </a:r>
                      <a:r>
                        <a:rPr b="1" lang="en-US" sz="900" spc="-1" strike="noStrike">
                          <a:solidFill>
                            <a:srgbClr val="800000"/>
                          </a:solidFill>
                          <a:latin typeface="Courier New"/>
                        </a:rPr>
                        <a:t>wsnr:ReceiptTo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&gt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120600"/>
                          <a:tab algn="l" pos="228600"/>
                          <a:tab algn="l" pos="349200"/>
                          <a:tab algn="l" pos="455760"/>
                          <a:tab algn="l" pos="576360"/>
                          <a:tab algn="l" pos="684360"/>
                          <a:tab algn="l" pos="804960"/>
                          <a:tab algn="l" pos="912960"/>
                          <a:tab algn="l" pos="1033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&lt;</a:t>
                      </a:r>
                      <a:r>
                        <a:rPr b="1" lang="en-US" sz="900" spc="-1" strike="noStrike">
                          <a:solidFill>
                            <a:srgbClr val="800000"/>
                          </a:solidFill>
                          <a:latin typeface="Courier New"/>
                        </a:rPr>
                        <a:t>wsu:Timestamp</a:t>
                      </a: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 wsu:Id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="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imestamp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"&gt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120600"/>
                          <a:tab algn="l" pos="228600"/>
                          <a:tab algn="l" pos="349200"/>
                          <a:tab algn="l" pos="455760"/>
                          <a:tab algn="l" pos="576360"/>
                          <a:tab algn="l" pos="684360"/>
                          <a:tab algn="l" pos="804960"/>
                          <a:tab algn="l" pos="912960"/>
                          <a:tab algn="l" pos="1033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&lt;</a:t>
                      </a:r>
                      <a:r>
                        <a:rPr b="1" lang="en-US" sz="900" spc="-1" strike="noStrike">
                          <a:solidFill>
                            <a:srgbClr val="800000"/>
                          </a:solidFill>
                          <a:latin typeface="Courier New"/>
                        </a:rPr>
                        <a:t>wsu:Created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&gt;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003-03-11T08:42:00Z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&lt;/</a:t>
                      </a:r>
                      <a:r>
                        <a:rPr b="1" lang="en-US" sz="900" spc="-1" strike="noStrike">
                          <a:solidFill>
                            <a:srgbClr val="800000"/>
                          </a:solidFill>
                          <a:latin typeface="Courier New"/>
                        </a:rPr>
                        <a:t>wsu:Created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&gt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120600"/>
                          <a:tab algn="l" pos="228600"/>
                          <a:tab algn="l" pos="349200"/>
                          <a:tab algn="l" pos="455760"/>
                          <a:tab algn="l" pos="576360"/>
                          <a:tab algn="l" pos="684360"/>
                          <a:tab algn="l" pos="804960"/>
                          <a:tab algn="l" pos="912960"/>
                          <a:tab algn="l" pos="1033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&lt;/</a:t>
                      </a:r>
                      <a:r>
                        <a:rPr b="1" lang="en-US" sz="900" spc="-1" strike="noStrike">
                          <a:solidFill>
                            <a:srgbClr val="800000"/>
                          </a:solidFill>
                          <a:latin typeface="Courier New"/>
                        </a:rPr>
                        <a:t>wsu:Timestamp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&gt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120600"/>
                          <a:tab algn="l" pos="228600"/>
                          <a:tab algn="l" pos="349200"/>
                          <a:tab algn="l" pos="455760"/>
                          <a:tab algn="l" pos="576360"/>
                          <a:tab algn="l" pos="684360"/>
                          <a:tab algn="l" pos="804960"/>
                          <a:tab algn="l" pos="912960"/>
                          <a:tab algn="l" pos="1033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&lt;/</a:t>
                      </a:r>
                      <a:r>
                        <a:rPr b="1" lang="en-US" sz="900" spc="-1" strike="noStrike">
                          <a:solidFill>
                            <a:srgbClr val="800000"/>
                          </a:solidFill>
                          <a:latin typeface="Courier New"/>
                        </a:rPr>
                        <a:t>wsnr:ReceiptRequest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&gt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120600"/>
                          <a:tab algn="l" pos="228600"/>
                          <a:tab algn="l" pos="349200"/>
                          <a:tab algn="l" pos="455760"/>
                          <a:tab algn="l" pos="576360"/>
                          <a:tab algn="l" pos="684360"/>
                          <a:tab algn="l" pos="804960"/>
                          <a:tab algn="l" pos="912960"/>
                          <a:tab algn="l" pos="1033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&lt;/</a:t>
                      </a:r>
                      <a:r>
                        <a:rPr b="1" lang="en-US" sz="900" spc="-1" strike="noStrike">
                          <a:solidFill>
                            <a:srgbClr val="800000"/>
                          </a:solidFill>
                          <a:latin typeface="Courier New"/>
                        </a:rPr>
                        <a:t>wsse:Security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&gt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120600"/>
                          <a:tab algn="l" pos="228600"/>
                          <a:tab algn="l" pos="349200"/>
                          <a:tab algn="l" pos="455760"/>
                          <a:tab algn="l" pos="576360"/>
                          <a:tab algn="l" pos="684360"/>
                          <a:tab algn="l" pos="804960"/>
                          <a:tab algn="l" pos="912960"/>
                          <a:tab algn="l" pos="1033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&lt;/</a:t>
                      </a:r>
                      <a:r>
                        <a:rPr b="1" lang="en-US" sz="900" spc="-1" strike="noStrike">
                          <a:solidFill>
                            <a:srgbClr val="800000"/>
                          </a:solidFill>
                          <a:latin typeface="Courier New"/>
                        </a:rPr>
                        <a:t>S:Header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&gt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120600"/>
                          <a:tab algn="l" pos="228600"/>
                          <a:tab algn="l" pos="349200"/>
                          <a:tab algn="l" pos="455760"/>
                          <a:tab algn="l" pos="576360"/>
                          <a:tab algn="l" pos="684360"/>
                          <a:tab algn="l" pos="804960"/>
                          <a:tab algn="l" pos="912960"/>
                          <a:tab algn="l" pos="1033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&lt;</a:t>
                      </a:r>
                      <a:r>
                        <a:rPr b="1" lang="en-US" sz="900" spc="-1" strike="noStrike">
                          <a:solidFill>
                            <a:srgbClr val="800000"/>
                          </a:solidFill>
                          <a:latin typeface="Courier New"/>
                        </a:rPr>
                        <a:t>S:Body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&gt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120600"/>
                          <a:tab algn="l" pos="228600"/>
                          <a:tab algn="l" pos="349200"/>
                          <a:tab algn="l" pos="455760"/>
                          <a:tab algn="l" pos="576360"/>
                          <a:tab algn="l" pos="684360"/>
                          <a:tab algn="l" pos="804960"/>
                          <a:tab algn="l" pos="912960"/>
                          <a:tab algn="l" pos="1033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&lt;</a:t>
                      </a:r>
                      <a:r>
                        <a:rPr b="1" lang="en-US" sz="900" spc="-1" strike="noStrike">
                          <a:solidFill>
                            <a:srgbClr val="800000"/>
                          </a:solidFill>
                          <a:latin typeface="Courier New"/>
                        </a:rPr>
                        <a:t>MyRequest</a:t>
                      </a: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 wsu:Id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="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dy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"/&gt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120600"/>
                          <a:tab algn="l" pos="228600"/>
                          <a:tab algn="l" pos="349200"/>
                          <a:tab algn="l" pos="455760"/>
                          <a:tab algn="l" pos="576360"/>
                          <a:tab algn="l" pos="684360"/>
                          <a:tab algn="l" pos="804960"/>
                          <a:tab algn="l" pos="912960"/>
                          <a:tab algn="l" pos="1033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&lt;/</a:t>
                      </a:r>
                      <a:r>
                        <a:rPr b="1" lang="en-US" sz="900" spc="-1" strike="noStrike">
                          <a:solidFill>
                            <a:srgbClr val="800000"/>
                          </a:solidFill>
                          <a:latin typeface="Courier New"/>
                        </a:rPr>
                        <a:t>S:Body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&gt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120600"/>
                          <a:tab algn="l" pos="228600"/>
                          <a:tab algn="l" pos="349200"/>
                          <a:tab algn="l" pos="455760"/>
                          <a:tab algn="l" pos="576360"/>
                          <a:tab algn="l" pos="684360"/>
                          <a:tab algn="l" pos="804960"/>
                          <a:tab algn="l" pos="912960"/>
                          <a:tab algn="l" pos="1033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&lt;/</a:t>
                      </a:r>
                      <a:r>
                        <a:rPr b="1" lang="en-US" sz="900" spc="-1" strike="noStrike">
                          <a:solidFill>
                            <a:srgbClr val="800000"/>
                          </a:solidFill>
                          <a:latin typeface="Courier New"/>
                        </a:rPr>
                        <a:t>S:Envelope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&gt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4838760" y="1168560"/>
          <a:ext cx="4132080" cy="4962240"/>
        </p:xfrm>
        <a:graphic>
          <a:graphicData uri="http://schemas.openxmlformats.org/drawingml/2006/table">
            <a:tbl>
              <a:tblPr/>
              <a:tblGrid>
                <a:gridCol w="4132080"/>
              </a:tblGrid>
              <a:tr h="49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120600"/>
                          <a:tab algn="l" pos="228600"/>
                          <a:tab algn="l" pos="349200"/>
                          <a:tab algn="l" pos="455760"/>
                          <a:tab algn="l" pos="576360"/>
                          <a:tab algn="l" pos="684360"/>
                          <a:tab algn="l" pos="804960"/>
                          <a:tab algn="l" pos="912960"/>
                          <a:tab algn="l" pos="1033560"/>
                          <a:tab algn="l" pos="11397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&lt;</a:t>
                      </a:r>
                      <a:r>
                        <a:rPr b="1" lang="en-US" sz="900" spc="-1" strike="noStrike">
                          <a:solidFill>
                            <a:srgbClr val="800000"/>
                          </a:solidFill>
                          <a:latin typeface="Courier New"/>
                        </a:rPr>
                        <a:t>S:Envelope</a:t>
                      </a: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 xmlns:S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="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..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"&gt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120600"/>
                          <a:tab algn="l" pos="228600"/>
                          <a:tab algn="l" pos="349200"/>
                          <a:tab algn="l" pos="455760"/>
                          <a:tab algn="l" pos="576360"/>
                          <a:tab algn="l" pos="684360"/>
                          <a:tab algn="l" pos="804960"/>
                          <a:tab algn="l" pos="912960"/>
                          <a:tab algn="l" pos="1033560"/>
                          <a:tab algn="l" pos="11397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&lt;</a:t>
                      </a:r>
                      <a:r>
                        <a:rPr b="1" lang="en-US" sz="900" spc="-1" strike="noStrike">
                          <a:solidFill>
                            <a:srgbClr val="800000"/>
                          </a:solidFill>
                          <a:latin typeface="Courier New"/>
                        </a:rPr>
                        <a:t>S:Header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&gt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120600"/>
                          <a:tab algn="l" pos="228600"/>
                          <a:tab algn="l" pos="349200"/>
                          <a:tab algn="l" pos="455760"/>
                          <a:tab algn="l" pos="576360"/>
                          <a:tab algn="l" pos="684360"/>
                          <a:tab algn="l" pos="804960"/>
                          <a:tab algn="l" pos="912960"/>
                          <a:tab algn="l" pos="1033560"/>
                          <a:tab algn="l" pos="11397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&lt;</a:t>
                      </a:r>
                      <a:r>
                        <a:rPr b="1" lang="en-US" sz="900" spc="-1" strike="noStrike">
                          <a:solidFill>
                            <a:srgbClr val="800000"/>
                          </a:solidFill>
                          <a:latin typeface="Courier New"/>
                        </a:rPr>
                        <a:t>wsse:Security</a:t>
                      </a: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 S:Role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="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ltimateReceiver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"&gt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120600"/>
                          <a:tab algn="l" pos="228600"/>
                          <a:tab algn="l" pos="349200"/>
                          <a:tab algn="l" pos="455760"/>
                          <a:tab algn="l" pos="576360"/>
                          <a:tab algn="l" pos="684360"/>
                          <a:tab algn="l" pos="804960"/>
                          <a:tab algn="l" pos="912960"/>
                          <a:tab algn="l" pos="1033560"/>
                          <a:tab algn="l" pos="11397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&lt;</a:t>
                      </a:r>
                      <a:r>
                        <a:rPr b="1" lang="en-US" sz="900" spc="-1" strike="noStrike">
                          <a:solidFill>
                            <a:srgbClr val="800000"/>
                          </a:solidFill>
                          <a:latin typeface="Courier New"/>
                        </a:rPr>
                        <a:t>wsse:BinarySecurityToken</a:t>
                      </a: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 wsu:Id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="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#theCert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“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120600"/>
                          <a:tab algn="l" pos="228600"/>
                          <a:tab algn="l" pos="349200"/>
                          <a:tab algn="l" pos="455760"/>
                          <a:tab algn="l" pos="576360"/>
                          <a:tab algn="l" pos="684360"/>
                          <a:tab algn="l" pos="804960"/>
                          <a:tab algn="l" pos="912960"/>
                          <a:tab algn="l" pos="1033560"/>
                          <a:tab algn="l" pos="11397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EncodingType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="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ase64Binary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"&gt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120600"/>
                          <a:tab algn="l" pos="228600"/>
                          <a:tab algn="l" pos="349200"/>
                          <a:tab algn="l" pos="455760"/>
                          <a:tab algn="l" pos="576360"/>
                          <a:tab algn="l" pos="684360"/>
                          <a:tab algn="l" pos="804960"/>
                          <a:tab algn="l" pos="912960"/>
                          <a:tab algn="l" pos="1033560"/>
                          <a:tab algn="l" pos="11397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IIEZzCCA9CgAWIQEmtJZco..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120600"/>
                          <a:tab algn="l" pos="228600"/>
                          <a:tab algn="l" pos="349200"/>
                          <a:tab algn="l" pos="455760"/>
                          <a:tab algn="l" pos="576360"/>
                          <a:tab algn="l" pos="684360"/>
                          <a:tab algn="l" pos="804960"/>
                          <a:tab algn="l" pos="912960"/>
                          <a:tab algn="l" pos="1033560"/>
                          <a:tab algn="l" pos="11397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&lt;/</a:t>
                      </a:r>
                      <a:r>
                        <a:rPr b="1" lang="en-US" sz="900" spc="-1" strike="noStrike">
                          <a:solidFill>
                            <a:srgbClr val="800000"/>
                          </a:solidFill>
                          <a:latin typeface="Courier New"/>
                        </a:rPr>
                        <a:t>wsse:BinarySecurityToken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&gt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120600"/>
                          <a:tab algn="l" pos="228600"/>
                          <a:tab algn="l" pos="349200"/>
                          <a:tab algn="l" pos="455760"/>
                          <a:tab algn="l" pos="576360"/>
                          <a:tab algn="l" pos="684360"/>
                          <a:tab algn="l" pos="804960"/>
                          <a:tab algn="l" pos="912960"/>
                          <a:tab algn="l" pos="1033560"/>
                          <a:tab algn="l" pos="11397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&lt;</a:t>
                      </a:r>
                      <a:r>
                        <a:rPr b="1" lang="en-US" sz="900" spc="-1" strike="noStrike">
                          <a:solidFill>
                            <a:srgbClr val="800000"/>
                          </a:solidFill>
                          <a:latin typeface="Courier New"/>
                        </a:rPr>
                        <a:t>wsnr:Receipt</a:t>
                      </a: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 ReceiptFormat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="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ignedReceipt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“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CorrelationID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="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eID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"&gt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120600"/>
                          <a:tab algn="l" pos="228600"/>
                          <a:tab algn="l" pos="349200"/>
                          <a:tab algn="l" pos="455760"/>
                          <a:tab algn="l" pos="576360"/>
                          <a:tab algn="l" pos="684360"/>
                          <a:tab algn="l" pos="804960"/>
                          <a:tab algn="l" pos="912960"/>
                          <a:tab algn="l" pos="1033560"/>
                          <a:tab algn="l" pos="11397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&lt;</a:t>
                      </a:r>
                      <a:r>
                        <a:rPr b="1" lang="en-US" sz="900" spc="-1" strike="noStrike">
                          <a:solidFill>
                            <a:srgbClr val="800000"/>
                          </a:solidFill>
                          <a:latin typeface="Courier New"/>
                        </a:rPr>
                        <a:t>wsnr:SignatureResponse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&gt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120600"/>
                          <a:tab algn="l" pos="228600"/>
                          <a:tab algn="l" pos="349200"/>
                          <a:tab algn="l" pos="455760"/>
                          <a:tab algn="l" pos="576360"/>
                          <a:tab algn="l" pos="684360"/>
                          <a:tab algn="l" pos="804960"/>
                          <a:tab algn="l" pos="912960"/>
                          <a:tab algn="l" pos="1033560"/>
                          <a:tab algn="l" pos="11397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&lt;</a:t>
                      </a:r>
                      <a:r>
                        <a:rPr b="1" lang="en-US" sz="900" spc="-1" strike="noStrike">
                          <a:solidFill>
                            <a:srgbClr val="800000"/>
                          </a:solidFill>
                          <a:latin typeface="Courier New"/>
                        </a:rPr>
                        <a:t>ds:SignatureValue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&gt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120600"/>
                          <a:tab algn="l" pos="228600"/>
                          <a:tab algn="l" pos="349200"/>
                          <a:tab algn="l" pos="455760"/>
                          <a:tab algn="l" pos="576360"/>
                          <a:tab algn="l" pos="684360"/>
                          <a:tab algn="l" pos="804960"/>
                          <a:tab algn="l" pos="912960"/>
                          <a:tab algn="l" pos="1033560"/>
                          <a:tab algn="l" pos="11397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  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BCDEFG1234567890..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120600"/>
                          <a:tab algn="l" pos="228600"/>
                          <a:tab algn="l" pos="349200"/>
                          <a:tab algn="l" pos="455760"/>
                          <a:tab algn="l" pos="576360"/>
                          <a:tab algn="l" pos="684360"/>
                          <a:tab algn="l" pos="804960"/>
                          <a:tab algn="l" pos="912960"/>
                          <a:tab algn="l" pos="1033560"/>
                          <a:tab algn="l" pos="11397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&lt;/</a:t>
                      </a:r>
                      <a:r>
                        <a:rPr b="1" lang="en-US" sz="900" spc="-1" strike="noStrike">
                          <a:solidFill>
                            <a:srgbClr val="800000"/>
                          </a:solidFill>
                          <a:latin typeface="Courier New"/>
                        </a:rPr>
                        <a:t>ds:SignatureValue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&gt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120600"/>
                          <a:tab algn="l" pos="228600"/>
                          <a:tab algn="l" pos="349200"/>
                          <a:tab algn="l" pos="455760"/>
                          <a:tab algn="l" pos="576360"/>
                          <a:tab algn="l" pos="684360"/>
                          <a:tab algn="l" pos="804960"/>
                          <a:tab algn="l" pos="912960"/>
                          <a:tab algn="l" pos="1033560"/>
                          <a:tab algn="l" pos="11397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&lt;</a:t>
                      </a:r>
                      <a:r>
                        <a:rPr b="1" lang="en-US" sz="900" spc="-1" strike="noStrike">
                          <a:solidFill>
                            <a:srgbClr val="800000"/>
                          </a:solidFill>
                          <a:latin typeface="Courier New"/>
                        </a:rPr>
                        <a:t>ds:KeyInfo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&gt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120600"/>
                          <a:tab algn="l" pos="228600"/>
                          <a:tab algn="l" pos="349200"/>
                          <a:tab algn="l" pos="455760"/>
                          <a:tab algn="l" pos="576360"/>
                          <a:tab algn="l" pos="684360"/>
                          <a:tab algn="l" pos="804960"/>
                          <a:tab algn="l" pos="912960"/>
                          <a:tab algn="l" pos="1033560"/>
                          <a:tab algn="l" pos="11397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&lt;</a:t>
                      </a:r>
                      <a:r>
                        <a:rPr b="1" lang="en-US" sz="900" spc="-1" strike="noStrike">
                          <a:solidFill>
                            <a:srgbClr val="800000"/>
                          </a:solidFill>
                          <a:latin typeface="Courier New"/>
                        </a:rPr>
                        <a:t>wsse:SecurityTokenReference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&gt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120600"/>
                          <a:tab algn="l" pos="228600"/>
                          <a:tab algn="l" pos="349200"/>
                          <a:tab algn="l" pos="455760"/>
                          <a:tab algn="l" pos="576360"/>
                          <a:tab algn="l" pos="684360"/>
                          <a:tab algn="l" pos="804960"/>
                          <a:tab algn="l" pos="912960"/>
                          <a:tab algn="l" pos="1033560"/>
                          <a:tab algn="l" pos="11397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&lt;</a:t>
                      </a:r>
                      <a:r>
                        <a:rPr b="1" lang="en-US" sz="900" spc="-1" strike="noStrike">
                          <a:solidFill>
                            <a:srgbClr val="800000"/>
                          </a:solidFill>
                          <a:latin typeface="Courier New"/>
                        </a:rPr>
                        <a:t>wsse:Reference</a:t>
                      </a: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 URI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="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#theCert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"/&gt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120600"/>
                          <a:tab algn="l" pos="228600"/>
                          <a:tab algn="l" pos="349200"/>
                          <a:tab algn="l" pos="455760"/>
                          <a:tab algn="l" pos="576360"/>
                          <a:tab algn="l" pos="684360"/>
                          <a:tab algn="l" pos="804960"/>
                          <a:tab algn="l" pos="912960"/>
                          <a:tab algn="l" pos="1033560"/>
                          <a:tab algn="l" pos="11397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&lt;/</a:t>
                      </a:r>
                      <a:r>
                        <a:rPr b="1" lang="en-US" sz="900" spc="-1" strike="noStrike">
                          <a:solidFill>
                            <a:srgbClr val="800000"/>
                          </a:solidFill>
                          <a:latin typeface="Courier New"/>
                        </a:rPr>
                        <a:t>wsse:SecurityTokenReference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&gt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120600"/>
                          <a:tab algn="l" pos="228600"/>
                          <a:tab algn="l" pos="349200"/>
                          <a:tab algn="l" pos="455760"/>
                          <a:tab algn="l" pos="576360"/>
                          <a:tab algn="l" pos="684360"/>
                          <a:tab algn="l" pos="804960"/>
                          <a:tab algn="l" pos="912960"/>
                          <a:tab algn="l" pos="1033560"/>
                          <a:tab algn="l" pos="11397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&lt;/</a:t>
                      </a:r>
                      <a:r>
                        <a:rPr b="1" lang="en-US" sz="900" spc="-1" strike="noStrike">
                          <a:solidFill>
                            <a:srgbClr val="800000"/>
                          </a:solidFill>
                          <a:latin typeface="Courier New"/>
                        </a:rPr>
                        <a:t>ds:KeyInfo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&gt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120600"/>
                          <a:tab algn="l" pos="228600"/>
                          <a:tab algn="l" pos="349200"/>
                          <a:tab algn="l" pos="455760"/>
                          <a:tab algn="l" pos="576360"/>
                          <a:tab algn="l" pos="684360"/>
                          <a:tab algn="l" pos="804960"/>
                          <a:tab algn="l" pos="912960"/>
                          <a:tab algn="l" pos="1033560"/>
                          <a:tab algn="l" pos="11397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&lt;/</a:t>
                      </a:r>
                      <a:r>
                        <a:rPr b="1" lang="en-US" sz="900" spc="-1" strike="noStrike">
                          <a:solidFill>
                            <a:srgbClr val="800000"/>
                          </a:solidFill>
                          <a:latin typeface="Courier New"/>
                        </a:rPr>
                        <a:t>wsnr:SignatureResponse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&gt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120600"/>
                          <a:tab algn="l" pos="228600"/>
                          <a:tab algn="l" pos="349200"/>
                          <a:tab algn="l" pos="455760"/>
                          <a:tab algn="l" pos="576360"/>
                          <a:tab algn="l" pos="684360"/>
                          <a:tab algn="l" pos="804960"/>
                          <a:tab algn="l" pos="912960"/>
                          <a:tab algn="l" pos="1033560"/>
                          <a:tab algn="l" pos="11397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&lt;</a:t>
                      </a:r>
                      <a:r>
                        <a:rPr b="1" lang="en-US" sz="900" spc="-1" strike="noStrike">
                          <a:solidFill>
                            <a:srgbClr val="800000"/>
                          </a:solidFill>
                          <a:latin typeface="Courier New"/>
                        </a:rPr>
                        <a:t>wsu:Timestamp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&gt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120600"/>
                          <a:tab algn="l" pos="228600"/>
                          <a:tab algn="l" pos="349200"/>
                          <a:tab algn="l" pos="455760"/>
                          <a:tab algn="l" pos="576360"/>
                          <a:tab algn="l" pos="684360"/>
                          <a:tab algn="l" pos="804960"/>
                          <a:tab algn="l" pos="912960"/>
                          <a:tab algn="l" pos="1033560"/>
                          <a:tab algn="l" pos="11397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&lt;</a:t>
                      </a:r>
                      <a:r>
                        <a:rPr b="1" lang="en-US" sz="900" spc="-1" strike="noStrike">
                          <a:solidFill>
                            <a:srgbClr val="800000"/>
                          </a:solidFill>
                          <a:latin typeface="Courier New"/>
                        </a:rPr>
                        <a:t>wsu:Received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&gt;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003-03-11T08:42:12Z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&lt;/</a:t>
                      </a:r>
                      <a:r>
                        <a:rPr b="1" lang="en-US" sz="900" spc="-1" strike="noStrike">
                          <a:solidFill>
                            <a:srgbClr val="800000"/>
                          </a:solidFill>
                          <a:latin typeface="Courier New"/>
                        </a:rPr>
                        <a:t>wsu:Received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&gt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120600"/>
                          <a:tab algn="l" pos="228600"/>
                          <a:tab algn="l" pos="349200"/>
                          <a:tab algn="l" pos="455760"/>
                          <a:tab algn="l" pos="576360"/>
                          <a:tab algn="l" pos="684360"/>
                          <a:tab algn="l" pos="804960"/>
                          <a:tab algn="l" pos="912960"/>
                          <a:tab algn="l" pos="1033560"/>
                          <a:tab algn="l" pos="11397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&lt;/</a:t>
                      </a:r>
                      <a:r>
                        <a:rPr b="1" lang="en-US" sz="900" spc="-1" strike="noStrike">
                          <a:solidFill>
                            <a:srgbClr val="800000"/>
                          </a:solidFill>
                          <a:latin typeface="Courier New"/>
                        </a:rPr>
                        <a:t>wsu:Timestamp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&gt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120600"/>
                          <a:tab algn="l" pos="228600"/>
                          <a:tab algn="l" pos="349200"/>
                          <a:tab algn="l" pos="455760"/>
                          <a:tab algn="l" pos="576360"/>
                          <a:tab algn="l" pos="684360"/>
                          <a:tab algn="l" pos="804960"/>
                          <a:tab algn="l" pos="912960"/>
                          <a:tab algn="l" pos="1033560"/>
                          <a:tab algn="l" pos="11397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&lt;/</a:t>
                      </a:r>
                      <a:r>
                        <a:rPr b="1" lang="en-US" sz="900" spc="-1" strike="noStrike">
                          <a:solidFill>
                            <a:srgbClr val="800000"/>
                          </a:solidFill>
                          <a:latin typeface="Courier New"/>
                        </a:rPr>
                        <a:t>wsnr:Receipt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&gt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120600"/>
                          <a:tab algn="l" pos="228600"/>
                          <a:tab algn="l" pos="349200"/>
                          <a:tab algn="l" pos="455760"/>
                          <a:tab algn="l" pos="576360"/>
                          <a:tab algn="l" pos="684360"/>
                          <a:tab algn="l" pos="804960"/>
                          <a:tab algn="l" pos="912960"/>
                          <a:tab algn="l" pos="1033560"/>
                          <a:tab algn="l" pos="11397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&lt;/</a:t>
                      </a:r>
                      <a:r>
                        <a:rPr b="1" lang="en-US" sz="900" spc="-1" strike="noStrike">
                          <a:solidFill>
                            <a:srgbClr val="800000"/>
                          </a:solidFill>
                          <a:latin typeface="Courier New"/>
                        </a:rPr>
                        <a:t>wsse:Security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&gt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120600"/>
                          <a:tab algn="l" pos="228600"/>
                          <a:tab algn="l" pos="349200"/>
                          <a:tab algn="l" pos="455760"/>
                          <a:tab algn="l" pos="576360"/>
                          <a:tab algn="l" pos="684360"/>
                          <a:tab algn="l" pos="804960"/>
                          <a:tab algn="l" pos="912960"/>
                          <a:tab algn="l" pos="1033560"/>
                          <a:tab algn="l" pos="11397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&lt;/</a:t>
                      </a:r>
                      <a:r>
                        <a:rPr b="1" lang="en-US" sz="900" spc="-1" strike="noStrike">
                          <a:solidFill>
                            <a:srgbClr val="800000"/>
                          </a:solidFill>
                          <a:latin typeface="Courier New"/>
                        </a:rPr>
                        <a:t>S:Header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&gt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120600"/>
                          <a:tab algn="l" pos="228600"/>
                          <a:tab algn="l" pos="349200"/>
                          <a:tab algn="l" pos="455760"/>
                          <a:tab algn="l" pos="576360"/>
                          <a:tab algn="l" pos="684360"/>
                          <a:tab algn="l" pos="804960"/>
                          <a:tab algn="l" pos="912960"/>
                          <a:tab algn="l" pos="1033560"/>
                          <a:tab algn="l" pos="11397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&lt;</a:t>
                      </a:r>
                      <a:r>
                        <a:rPr b="1" lang="en-US" sz="900" spc="-1" strike="noStrike">
                          <a:solidFill>
                            <a:srgbClr val="800000"/>
                          </a:solidFill>
                          <a:latin typeface="Courier New"/>
                        </a:rPr>
                        <a:t>S:Body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&gt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120600"/>
                          <a:tab algn="l" pos="228600"/>
                          <a:tab algn="l" pos="349200"/>
                          <a:tab algn="l" pos="455760"/>
                          <a:tab algn="l" pos="576360"/>
                          <a:tab algn="l" pos="684360"/>
                          <a:tab algn="l" pos="804960"/>
                          <a:tab algn="l" pos="912960"/>
                          <a:tab algn="l" pos="1033560"/>
                          <a:tab algn="l" pos="11397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&lt;</a:t>
                      </a:r>
                      <a:r>
                        <a:rPr b="1" lang="en-US" sz="900" spc="-1" strike="noStrike">
                          <a:solidFill>
                            <a:srgbClr val="800000"/>
                          </a:solidFill>
                          <a:latin typeface="Courier New"/>
                        </a:rPr>
                        <a:t>MyResponse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/&gt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120600"/>
                          <a:tab algn="l" pos="228600"/>
                          <a:tab algn="l" pos="349200"/>
                          <a:tab algn="l" pos="455760"/>
                          <a:tab algn="l" pos="576360"/>
                          <a:tab algn="l" pos="684360"/>
                          <a:tab algn="l" pos="804960"/>
                          <a:tab algn="l" pos="912960"/>
                          <a:tab algn="l" pos="1033560"/>
                          <a:tab algn="l" pos="11397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&lt;/</a:t>
                      </a:r>
                      <a:r>
                        <a:rPr b="1" lang="en-US" sz="900" spc="-1" strike="noStrike">
                          <a:solidFill>
                            <a:srgbClr val="800000"/>
                          </a:solidFill>
                          <a:latin typeface="Courier New"/>
                        </a:rPr>
                        <a:t>S:Body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&gt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120600"/>
                          <a:tab algn="l" pos="228600"/>
                          <a:tab algn="l" pos="349200"/>
                          <a:tab algn="l" pos="455760"/>
                          <a:tab algn="l" pos="576360"/>
                          <a:tab algn="l" pos="684360"/>
                          <a:tab algn="l" pos="804960"/>
                          <a:tab algn="l" pos="912960"/>
                          <a:tab algn="l" pos="1033560"/>
                          <a:tab algn="l" pos="11397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&lt;/</a:t>
                      </a:r>
                      <a:r>
                        <a:rPr b="1" lang="en-US" sz="900" spc="-1" strike="noStrike">
                          <a:solidFill>
                            <a:srgbClr val="800000"/>
                          </a:solidFill>
                          <a:latin typeface="Courier New"/>
                        </a:rPr>
                        <a:t>S:Envelope</a:t>
                      </a: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&gt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19B7E-6953-4C11-BDCC-2DC65DF2CE5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6560" y="419040"/>
            <a:ext cx="80265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31681"/>
                </a:solidFill>
                <a:latin typeface="Trebuchet MS"/>
              </a:rPr>
              <a:t>Questions</a:t>
            </a:r>
            <a:endParaRPr b="1" lang="en-US" sz="2400" spc="-1" strike="noStrike">
              <a:solidFill>
                <a:srgbClr val="431681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82760" y="1247760"/>
            <a:ext cx="839448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f you have further questions or would like to read the proposed profile document: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566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66640" indent="-2206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mail: </a:t>
            </a:r>
            <a:r>
              <a:rPr b="0" lang="en-US" sz="2000" spc="-1" strike="noStrike" u="sng">
                <a:solidFill>
                  <a:srgbClr val="97254e"/>
                </a:solidFill>
                <a:uFillTx/>
                <a:latin typeface="Trebuchet MS"/>
                <a:hlinkClick r:id="rId1"/>
              </a:rPr>
              <a:t>eric@reactivity.com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66640" indent="-2206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Web: www.reactivity.com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66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183FE-3D5D-4140-BB81-0EDF5ADE691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6560" y="419040"/>
            <a:ext cx="80265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31681"/>
                </a:solidFill>
                <a:latin typeface="Trebuchet MS"/>
              </a:rPr>
              <a:t>A Fully Secure and Reliable Message Exchange</a:t>
            </a:r>
            <a:endParaRPr b="1" lang="en-US" sz="2400" spc="-1" strike="noStrike">
              <a:solidFill>
                <a:srgbClr val="431681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82760" y="1247760"/>
            <a:ext cx="839448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Request – Response Message Exchange Pattern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31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Both parties must require of the other: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566640" indent="-2206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trong Authentica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indent="-228600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s this message from the right system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66640" indent="-2206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ryptographic Proof of Message Integrit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indent="-228600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as this message been tampered with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66640" indent="-2206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cknowledgement of Message Deliver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indent="-228600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id they get my message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31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And the requesting party Must require: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566640" indent="-2206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trong Correlation between Request and Respons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AA2F4-0386-4103-88A4-2D82BA16864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6560" y="419040"/>
            <a:ext cx="80265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31681"/>
                </a:solidFill>
                <a:latin typeface="Trebuchet MS"/>
              </a:rPr>
              <a:t>Why is Correlation Important?</a:t>
            </a:r>
            <a:endParaRPr b="1" lang="en-US" sz="2400" spc="-1" strike="noStrike">
              <a:solidFill>
                <a:srgbClr val="431681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82760" y="1247760"/>
            <a:ext cx="839448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566640" indent="-220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lice wants to ask Bob to add two numbers using his calculato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66640" indent="-220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lice creates a SOAP message and signs it: Add(1,3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66640" indent="-220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lice sends the message to Bob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66640" indent="-220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lice receives a response signed by Bob: 5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31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31840" indent="-231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Questions: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566640" indent="-220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s there a simple and secure way to know that Add(1, 3) = 5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66640" indent="-220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id Bob receive Add(1,3) or did Charlie intercept the message and send Add(1,4)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66640" indent="-220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id Charlie intercept the response and substitute an old copy of a signed response from Bob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66640" indent="-220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an Alice trust that Bob really checked her signature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66640" indent="-220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an she prove it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BF8C3-0D7E-422E-9D64-648E5601023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6560" y="419040"/>
            <a:ext cx="80265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31681"/>
                </a:solidFill>
                <a:latin typeface="Trebuchet MS"/>
              </a:rPr>
              <a:t>The Gap</a:t>
            </a:r>
            <a:endParaRPr b="1" lang="en-US" sz="2400" spc="-1" strike="noStrike">
              <a:solidFill>
                <a:srgbClr val="431681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82760" y="1247760"/>
            <a:ext cx="839448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ASIS Web Services Security: SOAP Message Securit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66640" indent="-22068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Defines Use of Digital Signatures to prove Integrity of Messag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indent="-228600">
              <a:spcBef>
                <a:spcPts val="451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ignature Proves Message was not Altered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ASIS WS-Reliabilit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66640" indent="-22068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Guaranteed Delivery with Acknowledgemen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mbining the Two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66640" indent="-22068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sponder Proves to Requester That 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Message was Delivered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566640" indent="-22068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Not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what was in the messag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566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e Gap – No Receip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66640" indent="-22068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 standardized mechanism for requesting delivery acknowledgements that include information about the messag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4FEF7-5389-4B65-B244-ED8BE47731F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6560" y="419040"/>
            <a:ext cx="80265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31681"/>
                </a:solidFill>
                <a:latin typeface="Trebuchet MS"/>
              </a:rPr>
              <a:t>How can receipts be used?</a:t>
            </a:r>
            <a:endParaRPr b="1" lang="en-US" sz="2400" spc="-1" strike="noStrike">
              <a:solidFill>
                <a:srgbClr val="431681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82760" y="1247760"/>
            <a:ext cx="839448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n a simple client/server request/response system: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he Client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566640" indent="-2206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mposes a reques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66640" indent="-2206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gns the request with its private ke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he Server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566640" indent="-2206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mposes a response and attaches a receip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66640" indent="-2206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gns the response and receipt with its private ke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Both Partie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566640" indent="-2206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alidate signatur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66640" indent="-2206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Write logs at each step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7019640" y="1589040"/>
            <a:ext cx="1739880" cy="2027880"/>
            <a:chOff x="7019640" y="1589040"/>
            <a:chExt cx="1739880" cy="2027880"/>
          </a:xfrm>
        </p:grpSpPr>
        <p:sp>
          <p:nvSpPr>
            <p:cNvPr id="91" name="Document"/>
            <p:cNvSpPr/>
            <p:nvPr/>
          </p:nvSpPr>
          <p:spPr>
            <a:xfrm rot="21190800">
              <a:off x="7123680" y="1673280"/>
              <a:ext cx="1531800" cy="1844640"/>
            </a:xfrm>
            <a:prstGeom prst="pie">
              <a:avLst/>
            </a:prstGeom>
            <a:solidFill>
              <a:srgbClr val="dbe4ff"/>
            </a:solidFill>
            <a:ln w="9360">
              <a:solidFill>
                <a:srgbClr val="969696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rot="21190800">
              <a:off x="7147080" y="1703880"/>
              <a:ext cx="1499760" cy="18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John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Please review my draft copy of a declaration of independence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Benjamin Frankli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Monotype Corsiva"/>
                </a:rPr>
                <a:t>B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7019640" y="4208400"/>
            <a:ext cx="1739880" cy="2026440"/>
            <a:chOff x="7019640" y="4208400"/>
            <a:chExt cx="1739880" cy="2026440"/>
          </a:xfrm>
        </p:grpSpPr>
        <p:sp>
          <p:nvSpPr>
            <p:cNvPr id="94" name="Document"/>
            <p:cNvSpPr/>
            <p:nvPr/>
          </p:nvSpPr>
          <p:spPr>
            <a:xfrm rot="21190800">
              <a:off x="7123680" y="4292640"/>
              <a:ext cx="1531800" cy="1844640"/>
            </a:xfrm>
            <a:prstGeom prst="pie">
              <a:avLst/>
            </a:prstGeom>
            <a:solidFill>
              <a:srgbClr val="dbe4ff"/>
            </a:solidFill>
            <a:ln w="9360">
              <a:solidFill>
                <a:srgbClr val="969696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rot="21190800">
              <a:off x="7147080" y="4321800"/>
              <a:ext cx="1499760" cy="18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Ben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I received your draft. Here are some of my comments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John Hanco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Monotype Corsiva"/>
                </a:rPr>
                <a:t>J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C2379-18E0-4E9F-85A5-959192AD832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6560" y="419040"/>
            <a:ext cx="80265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31681"/>
                </a:solidFill>
                <a:latin typeface="Trebuchet MS"/>
              </a:rPr>
              <a:t>What can we prove?</a:t>
            </a:r>
            <a:endParaRPr b="1" lang="en-US" sz="2400" spc="-1" strike="noStrike">
              <a:solidFill>
                <a:srgbClr val="431681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82760" y="1247760"/>
            <a:ext cx="839448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he secure logs prove: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566640" indent="-2206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at a transaction occurre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66640" indent="-2206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at our record of the transaction has not been altere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he signatures prove: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566640" indent="-2206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rver can prove that someone with the client’s private key sent the reques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66640" indent="-2206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ent can prove that someone with the server’s private key returned the response and the receipt togethe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he receipt proves: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566640" indent="-2206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ent can prove that someone with the sender’s private key received their request and that the response message is in response to the original reques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B2A41-EFCE-4B81-A4BF-2319FC1D774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6560" y="419040"/>
            <a:ext cx="80265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31681"/>
                </a:solidFill>
                <a:latin typeface="Trebuchet MS"/>
              </a:rPr>
              <a:t>How is this Done Outside of Web Services?</a:t>
            </a:r>
            <a:endParaRPr b="1" lang="en-US" sz="2400" spc="-1" strike="noStrike">
              <a:solidFill>
                <a:srgbClr val="431681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82760" y="1247760"/>
            <a:ext cx="839448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Enhanced Security Services for S/MIME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566640" indent="-2206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FC 2634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66640" indent="-2206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efines Signed Receip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66640" indent="-2206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llows Originator to demonstrate to a Third Party that the Recipient was able to verify the signature of the original messag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66640" indent="-2206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e Receipt itself is Signed by the Recipien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66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ecure Data Network System: Message Security Protoco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566640" indent="-2206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DN.701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66640" indent="-2206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lso defines signed receipts as a mechanism for verifying that the receiver has validated a signatur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AFAE5-7859-4167-9D96-51DADAE9820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6560" y="419040"/>
            <a:ext cx="80265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31681"/>
                </a:solidFill>
                <a:latin typeface="Trebuchet MS"/>
              </a:rPr>
              <a:t>Web Services Security: Receipt Token Profile</a:t>
            </a:r>
            <a:endParaRPr b="1" lang="en-US" sz="2400" spc="-1" strike="noStrike">
              <a:solidFill>
                <a:srgbClr val="431681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82760" y="1247760"/>
            <a:ext cx="839448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WSS: SOAP Message Security does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Trebuchet MS"/>
              </a:rPr>
              <a:t>not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provide a mechanism for receipt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31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31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WSS:RTP is Reactivity’s proposed extension to WSS that: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reates a new security token for requesting receipt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reates a new security token for receipt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fines both signed and unsigned receipt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Works alongside Guaranteed Delivery: WS-Reliability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41BD0-C7CD-4D72-B1C4-82641B428AD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6560" y="419040"/>
            <a:ext cx="80265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31681"/>
                </a:solidFill>
                <a:latin typeface="Trebuchet MS"/>
              </a:rPr>
              <a:t>RTP receipt mechanism</a:t>
            </a:r>
            <a:endParaRPr b="1" lang="en-US" sz="2400" spc="-1" strike="noStrike">
              <a:solidFill>
                <a:srgbClr val="431681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82760" y="1247760"/>
            <a:ext cx="839448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Provide a general purpose receipt request mechanism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29320" indent="-229320"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&lt;wsnr:ReceiptRequest&gt; provides: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560880" indent="-21816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/ReceiptRequest/@ReceiptFormat : signed or unsigned reques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60880" indent="-21816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/ReceiptRequest/@CorrelationId : UUID for tracking receip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60880" indent="-21816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/ReceiptRequest/ReceiptTo : how to send receip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60880" indent="-21816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/ReceiptRequest/SignatureRequest : what elements to be signe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60880" indent="-21816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/ReceiptRequest/wsu:TimeStamp : when this request was mad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29320" indent="-229320"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&lt;wsnr:Receipt&gt; provides: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560880" indent="-21816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/Receipt/@ReceiptFormat : signed or unsigned receip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60880" indent="-21816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/Receipt/@CorrelationId : same UUID as reques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60880" indent="-21816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/Receipt/SignatureResponse : signature of receipt generato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60880" indent="-21816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/Receipt/wsu:TimeStamp : when this receipt was generate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553EB-38E2-4825-8DB4-E67A44D4194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7T23:48:48Z</dcterms:created>
  <dc:creator>Glenn Osaka</dc:creator>
  <dc:description/>
  <dc:language>en-US</dc:language>
  <cp:lastModifiedBy>Jane Harnad</cp:lastModifiedBy>
  <cp:lastPrinted>1999-12-07T18:10:21Z</cp:lastPrinted>
  <dcterms:modified xsi:type="dcterms:W3CDTF">2004-05-04T15:15:56Z</dcterms:modified>
  <cp:revision>18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70461577</vt:r8>
  </property>
  <property fmtid="{D5CDD505-2E9C-101B-9397-08002B2CF9AE}" pid="3" name="_AuthorEmail">
    <vt:lpwstr>eric@reactivity.com</vt:lpwstr>
  </property>
  <property fmtid="{D5CDD505-2E9C-101B-9397-08002B2CF9AE}" pid="4" name="_AuthorEmailDisplayName">
    <vt:lpwstr>Eric Gravengaard</vt:lpwstr>
  </property>
  <property fmtid="{D5CDD505-2E9C-101B-9397-08002B2CF9AE}" pid="5" name="_EmailSubject">
    <vt:lpwstr>Presentation Materials...</vt:lpwstr>
  </property>
  <property fmtid="{D5CDD505-2E9C-101B-9397-08002B2CF9AE}" pid="6" name="_ReviewingToolsShownOnce">
    <vt:lpwstr/>
  </property>
</Properties>
</file>