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C54-D112-4505-B130-9B0CB499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33360" y="464976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C2F-17E7-4364-8770-52F29FD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2092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45B-9349-4168-AE6A-E4D7E62F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248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3124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3336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3248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3124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FC9-3FA5-4246-81E5-09497C00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762120"/>
            <a:ext cx="7543800" cy="69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E55-6C4F-454E-BF75-2742E507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2092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33360" y="464976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2092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248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31240" y="373392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3336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3248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31240" y="4649760"/>
            <a:ext cx="237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C12-D579-4F3A-BA75-6AD0A58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322-5265-4531-AAF7-2CC5464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4C2-CBA5-40A3-814C-4A033DB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762120"/>
            <a:ext cx="7543800" cy="69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F6E-24C5-41A9-A14C-19DBAB5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615-2CBA-4FDF-BE6B-3FA712F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20920" y="464976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1DF-AF9B-4067-BE60-E93EB32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36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20920" y="3733920"/>
            <a:ext cx="360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360" y="4649760"/>
            <a:ext cx="7391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60C-60AB-446A-BE79-9FE3379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753320" cy="1200240"/>
          </a:xfrm>
          <a:prstGeom prst="rect">
            <a:avLst/>
          </a:prstGeom>
          <a:gradFill rotWithShape="0">
            <a:gsLst>
              <a:gs pos="0">
                <a:srgbClr val="b4a596"/>
              </a:gs>
              <a:gs pos="100000">
                <a:srgbClr val="9220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7086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-19872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43080" indent="-19872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541160" indent="-198720">
              <a:spcBef>
                <a:spcPts val="9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541160" indent="-198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541160" indent="-198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61976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ASI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andsmall" descr="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1200240"/>
          </a:xfrm>
          <a:prstGeom prst="rect">
            <a:avLst/>
          </a:prstGeom>
          <a:ln w="0">
            <a:noFill/>
          </a:ln>
        </p:spPr>
      </p:pic>
      <p:pic>
        <p:nvPicPr>
          <p:cNvPr id="6" name="logo9" descr=""/>
          <p:cNvPicPr/>
          <p:nvPr/>
        </p:nvPicPr>
        <p:blipFill>
          <a:blip r:embed="rId3"/>
          <a:stretch/>
        </p:blipFill>
        <p:spPr>
          <a:xfrm>
            <a:off x="7715160" y="5622840"/>
            <a:ext cx="1333440" cy="949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05920" y="6095520"/>
            <a:ext cx="647640" cy="8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400" spc="-1" strike="noStrike">
                <a:solidFill>
                  <a:srgbClr val="cc99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1BE-A196-4E8A-A308-753D7C6B62AD}" type="slidenum">
              <a:rPr b="0" lang="en-US" sz="4400" spc="-1" strike="noStrike">
                <a:solidFill>
                  <a:srgbClr val="cc99ff"/>
                </a:solidFill>
                <a:latin typeface="Arial Blac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gradFill rotWithShape="0">
            <a:gsLst>
              <a:gs pos="0">
                <a:srgbClr val="92209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yoto-Tofuko-ji-hx" descr=""/>
          <p:cNvPicPr/>
          <p:nvPr/>
        </p:nvPicPr>
        <p:blipFill>
          <a:blip r:embed="rId2"/>
          <a:srcRect l="14168" t="0" r="-4990" b="0"/>
          <a:stretch/>
        </p:blipFill>
        <p:spPr>
          <a:xfrm>
            <a:off x="1905120" y="0"/>
            <a:ext cx="8305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7543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2133720" y="61718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4343400" y="6324480"/>
            <a:ext cx="274320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SI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9" descr=""/>
          <p:cNvPicPr/>
          <p:nvPr/>
        </p:nvPicPr>
        <p:blipFill>
          <a:blip r:embed="rId3"/>
          <a:stretch/>
        </p:blipFill>
        <p:spPr>
          <a:xfrm>
            <a:off x="114480" y="5562720"/>
            <a:ext cx="1714320" cy="121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45840" y="887040"/>
            <a:ext cx="6697800" cy="2886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11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pping OASIS Technical Work: 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here’s Reliability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ymposium_header" descr=""/>
          <p:cNvPicPr/>
          <p:nvPr/>
        </p:nvPicPr>
        <p:blipFill>
          <a:blip r:embed="rId1"/>
          <a:stretch/>
        </p:blipFill>
        <p:spPr>
          <a:xfrm>
            <a:off x="1884240" y="4300560"/>
            <a:ext cx="7888320" cy="86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65320" y="6195960"/>
            <a:ext cx="579780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mie.clark@oasis-ope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22120" y="5733720"/>
            <a:ext cx="5853240" cy="49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rleans, Apri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232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264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2592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ASIS Work (April 2004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38320" y="299088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981-52AB-4F17-80F2-2A19F6A906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337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6000" y="4106880"/>
            <a:ext cx="129204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66ff"/>
                </a:solidFill>
                <a:latin typeface="Arial Narrow"/>
              </a:rPr>
              <a:t>ebXML CP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8320" y="2370240"/>
            <a:ext cx="1292400" cy="58068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ff"/>
                </a:solidFill>
                <a:latin typeface="Arial Narrow"/>
              </a:rPr>
              <a:t>HumanML, UIML, WS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8040" y="4602240"/>
            <a:ext cx="129240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U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67480" y="5856120"/>
            <a:ext cx="1544760" cy="733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DITA*</a:t>
            </a:r>
            <a:r>
              <a:rPr b="1" i="1" lang="en-US" sz="1400" spc="-1" strike="noStrike">
                <a:solidFill>
                  <a:srgbClr val="996633"/>
                </a:solidFill>
                <a:latin typeface="Arial Narrow"/>
              </a:rPr>
              <a:t>, EntityRes, RELAX-NG, Topic Maps (3), XDI, X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06480" y="6045120"/>
            <a:ext cx="123012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Arial Narrow"/>
              </a:rPr>
              <a:t>ebXML MSG, WS-R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440" y="5187960"/>
            <a:ext cx="1352520" cy="733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69696"/>
                </a:solidFill>
                <a:latin typeface="Arial Narrow"/>
              </a:rPr>
              <a:t>[Conformance], ebXML IIC, XSLT Conf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4437000"/>
            <a:ext cx="159552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66"/>
                </a:solidFill>
                <a:latin typeface="Arial Narrow"/>
              </a:rPr>
              <a:t>DSS, PKI, SAML, WSS, XCB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5200" y="2495520"/>
            <a:ext cx="142092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cc33"/>
                </a:solidFill>
                <a:latin typeface="Arial Narrow"/>
              </a:rPr>
              <a:t>[DSML], RLTC, XACML, SP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4840" y="1857240"/>
            <a:ext cx="123336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cc"/>
                </a:solidFill>
                <a:latin typeface="Arial Narrow"/>
              </a:rPr>
              <a:t>WSDM,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WSRF*, WSN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2760" y="1117440"/>
            <a:ext cx="173988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ASAP, BTP, ebXML-BP, WSBPEL, WSC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62600" y="1011240"/>
            <a:ext cx="2094120" cy="94644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 Narrow"/>
              </a:rPr>
              <a:t>[Auto Repair], AVDL, eGov, Election, eProc, Emerg, Legal XML</a:t>
            </a:r>
            <a:r>
              <a:rPr b="1" i="1" lang="en-US" sz="1400" spc="-1" strike="noStrike">
                <a:solidFill>
                  <a:srgbClr val="3333cc"/>
                </a:solidFill>
                <a:latin typeface="Arial Narrow"/>
              </a:rPr>
              <a:t>(7),</a:t>
            </a:r>
            <a:r>
              <a:rPr b="1" i="1" lang="en-US" sz="1400" spc="-1" strike="noStrike">
                <a:solidFill>
                  <a:srgbClr val="0000ff"/>
                </a:solidFill>
                <a:latin typeface="Arial Narrow"/>
              </a:rPr>
              <a:t> Materials, PLCS, PPS, TaxML, W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5200" y="5087880"/>
            <a:ext cx="169884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ebXML Reg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382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02680" y="3173400"/>
            <a:ext cx="1506240" cy="58068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Arial Narrow"/>
              </a:rPr>
              <a:t>FWSI, TransWS, BCM, </a:t>
            </a:r>
            <a:r>
              <a:rPr b="1" i="1" lang="en-US" sz="1600" spc="-1" strike="noStrike">
                <a:solidFill>
                  <a:srgbClr val="ff0000"/>
                </a:solidFill>
                <a:latin typeface="Arial Narrow"/>
              </a:rPr>
              <a:t>ebSOA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ASIS Work (April 2004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40400" y="214200"/>
            <a:ext cx="1493640" cy="733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CIQ, DocBook, OpenOffice, UBL, XLI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204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48040" y="298944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55800" y="633240"/>
            <a:ext cx="990360" cy="30708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3920" y="6421320"/>
            <a:ext cx="1179360" cy="3988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* </a:t>
            </a:r>
            <a:r>
              <a:rPr b="1" i="1" lang="en-US" sz="1600" spc="-1" strike="noStrike">
                <a:solidFill>
                  <a:srgbClr val="ff0000"/>
                </a:solidFill>
                <a:latin typeface="Arial Narrow"/>
              </a:rPr>
              <a:t>New 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1D2-3CF6-45C4-8276-2D6CAF124B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458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490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’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“Reliability”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8040" y="298944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990600">
            <a:off x="2679480" y="1886040"/>
            <a:ext cx="1427040" cy="2808360"/>
          </a:xfrm>
          <a:prstGeom prst="ellipse">
            <a:avLst/>
          </a:prstGeom>
          <a:noFill/>
          <a:ln w="1015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88D-E7C9-4CB1-AF52-AC35D56A7B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9789200">
            <a:off x="3258720" y="3105000"/>
            <a:ext cx="2166840" cy="20019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807200">
            <a:off x="2204640" y="3095280"/>
            <a:ext cx="2284560" cy="1963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61800">
            <a:off x="1710000" y="2205720"/>
            <a:ext cx="2200320" cy="183996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55800">
            <a:off x="3678480" y="2262600"/>
            <a:ext cx="2300400" cy="1920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2535800">
            <a:off x="3187080" y="1294920"/>
            <a:ext cx="2260440" cy="1976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9001200">
            <a:off x="2273040" y="1294560"/>
            <a:ext cx="2128680" cy="1955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595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nday A.M.: TRANSAC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38320" y="299088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4840" y="1857240"/>
            <a:ext cx="123336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cc"/>
                </a:solidFill>
                <a:latin typeface="Arial Narrow"/>
              </a:rPr>
              <a:t>WSDM, WSRF, W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2760" y="1117440"/>
            <a:ext cx="173988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ASAP, BTP, ebXML-BP, WSBPEL, WSCA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55800" y="633240"/>
            <a:ext cx="990360" cy="30708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A02-D05F-4812-AE30-66E77605C0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9789200">
            <a:off x="3258720" y="3105000"/>
            <a:ext cx="2166840" cy="20019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807200">
            <a:off x="2204640" y="3095280"/>
            <a:ext cx="2284560" cy="1963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5461800">
            <a:off x="1710000" y="2205720"/>
            <a:ext cx="2200320" cy="1839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55800">
            <a:off x="3678480" y="2262600"/>
            <a:ext cx="2300400" cy="1920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2535800">
            <a:off x="3187080" y="1294920"/>
            <a:ext cx="2260440" cy="1976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9001200">
            <a:off x="2273040" y="1294560"/>
            <a:ext cx="2128680" cy="19558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702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nday P.M.: SECURIT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38320" y="299088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840" y="4181400"/>
            <a:ext cx="159516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66"/>
                </a:solidFill>
                <a:latin typeface="Arial Narrow"/>
              </a:rPr>
              <a:t>DSS, PKI, SAML, WSS, XCB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7960" y="2155680"/>
            <a:ext cx="142092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cc33"/>
                </a:solidFill>
                <a:latin typeface="Arial Narrow"/>
              </a:rPr>
              <a:t>DSML, RLTC, XACML, SP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927-3311-46C6-BD3C-EB500D3216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9789200">
            <a:off x="3258720" y="3105000"/>
            <a:ext cx="2166840" cy="20019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807200">
            <a:off x="2204640" y="3095280"/>
            <a:ext cx="2284560" cy="196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5461800">
            <a:off x="1710000" y="2205720"/>
            <a:ext cx="2200320" cy="183996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6255800">
            <a:off x="3678480" y="2262600"/>
            <a:ext cx="2300400" cy="1920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2535800">
            <a:off x="3187080" y="1294920"/>
            <a:ext cx="2260440" cy="197640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001200">
            <a:off x="2273040" y="1294560"/>
            <a:ext cx="2128680" cy="19558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808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1160" y="207720"/>
            <a:ext cx="7045200" cy="41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esday A.M.: MESSAG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38320" y="299088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0960" y="4651200"/>
            <a:ext cx="1230480" cy="52020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Arial Narrow"/>
              </a:rPr>
              <a:t>ebXML MSG, WS-R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396-F2D4-4640-84BF-2EB7BD2002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9789200">
            <a:off x="3258720" y="3105000"/>
            <a:ext cx="2166840" cy="200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807200">
            <a:off x="2204640" y="3095280"/>
            <a:ext cx="2284560" cy="1963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61800">
            <a:off x="1710000" y="2205720"/>
            <a:ext cx="2200320" cy="183996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16255800">
            <a:off x="3678480" y="2262600"/>
            <a:ext cx="2300400" cy="192096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2535800">
            <a:off x="3187080" y="1294920"/>
            <a:ext cx="2260440" cy="1976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9001200">
            <a:off x="2273040" y="1294560"/>
            <a:ext cx="2128680" cy="195588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71480" y="733320"/>
            <a:ext cx="1955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1040" y="1168560"/>
            <a:ext cx="1557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11600" y="1735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19680" y="180648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941640" y="1560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708440" y="2076480"/>
            <a:ext cx="196920" cy="2095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72280" y="2098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55880" y="5283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08160" y="5462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30800" y="1954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27640" y="1798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33800" y="372420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66b1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24080" y="30495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84480" y="274176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36760" y="2894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19523400">
            <a:off x="2674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89040" y="3046320"/>
            <a:ext cx="34164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2120" y="142704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73280" y="2349360"/>
            <a:ext cx="34164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913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24360" y="132732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98840" y="11793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65560" y="1193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14680" y="318276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73400" y="5284800"/>
            <a:ext cx="341280" cy="3427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24160" y="2655720"/>
            <a:ext cx="341280" cy="343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86240" y="1211400"/>
            <a:ext cx="341280" cy="3427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22880" y="1155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25680" y="3648240"/>
            <a:ext cx="486000" cy="54576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39880" y="236052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790720" y="2476440"/>
            <a:ext cx="486000" cy="546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43360" y="2629080"/>
            <a:ext cx="485640" cy="5457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76440" y="2604960"/>
            <a:ext cx="48600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629080" y="275760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03800" y="44514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781360" y="2909880"/>
            <a:ext cx="485640" cy="5461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62640" y="3716280"/>
            <a:ext cx="450720" cy="496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81160" y="208080"/>
            <a:ext cx="7045200" cy="909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esday P.M.: METADATA &amp; USE CAS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"/>
          <p:cNvSpPr/>
          <p:nvPr/>
        </p:nvSpPr>
        <p:spPr>
          <a:xfrm>
            <a:off x="3870360" y="27399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3200" y="1128600"/>
            <a:ext cx="333360" cy="3193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48320" y="176364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22600" y="207000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75240" y="2222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56160" y="192240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861080" y="2227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795920" y="19051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48200" y="2057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00480" y="220968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6120" y="175572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064120" y="1906560"/>
            <a:ext cx="182520" cy="21132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40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720960" y="2147760"/>
            <a:ext cx="182880" cy="2113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22320" y="5562720"/>
            <a:ext cx="182520" cy="210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1480" y="56037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45616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19200" y="2475000"/>
            <a:ext cx="182880" cy="2109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6b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38320" y="2990880"/>
            <a:ext cx="182520" cy="21096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27120" y="197316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98800" y="251784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051440" y="267012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566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77960" y="206064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305160" y="24289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8160" y="220032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7840" y="227340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406680" y="2060640"/>
            <a:ext cx="182520" cy="2109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056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346720" y="562284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467320" y="547704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65600" y="5308560"/>
            <a:ext cx="34164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50960" y="1871640"/>
            <a:ext cx="18288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84520" y="1938240"/>
            <a:ext cx="182520" cy="2113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25680" y="5437080"/>
            <a:ext cx="341280" cy="343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b4b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9040" y="5607000"/>
            <a:ext cx="182520" cy="211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049640" y="2336760"/>
            <a:ext cx="344520" cy="3729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663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61000" y="5494320"/>
            <a:ext cx="341280" cy="3430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759280" y="5326200"/>
            <a:ext cx="341640" cy="3427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656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088040" y="4602240"/>
            <a:ext cx="129240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U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85000" y="2529000"/>
            <a:ext cx="2025720" cy="115956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 Narrow"/>
              </a:rPr>
              <a:t>Auto Repair, AVDL, Ctrade, Educ, eGov, Election, eProc, Emerg, Legal XML(8), Materials, PLCS, PPS, TaxML, W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45200" y="5087880"/>
            <a:ext cx="169884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ebXML Reg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331040" y="1542960"/>
            <a:ext cx="1494000" cy="733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 Narrow"/>
              </a:rPr>
              <a:t>CIQ, DocBook, OpenOffice, UBL, XLI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38840" y="2568600"/>
            <a:ext cx="341280" cy="342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22680" y="3098880"/>
            <a:ext cx="486000" cy="5461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4015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14760" y="2610000"/>
            <a:ext cx="486000" cy="5461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59360" y="2862360"/>
            <a:ext cx="182520" cy="2109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562b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FA3-1F64-4957-9BA8-87877F4410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45840" y="887040"/>
            <a:ext cx="6697800" cy="2886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11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pping OASIS Technical Work: 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here’s Reliability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symposium_header" descr=""/>
          <p:cNvPicPr/>
          <p:nvPr/>
        </p:nvPicPr>
        <p:blipFill>
          <a:blip r:embed="rId1"/>
          <a:stretch/>
        </p:blipFill>
        <p:spPr>
          <a:xfrm>
            <a:off x="1884240" y="4300560"/>
            <a:ext cx="7888320" cy="86832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2965320" y="6195960"/>
            <a:ext cx="579780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mie.clark@oasis-ope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2922120" y="5733720"/>
            <a:ext cx="5853240" cy="49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rleans, Apri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11320" y="2201760"/>
            <a:ext cx="553248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s g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SIS g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iability g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C0A-A66F-41E2-A29A-9A42E05974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189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y do standards matter?  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OI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for e-commerc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76440"/>
            <a:ext cx="8123400" cy="49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izing data, processes and users costs time and m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I can come from operational savings and outweigh the costs,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ose savings are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tab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gs that help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Stab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ource and version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iable, stated </a:t>
            </a: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term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f availability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Interoperab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tanda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Arial"/>
              </a:rPr>
              <a:t>Converg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tanda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288-D368-478F-A0AA-F452379156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eroperability &amp; convergen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08120" y="3479760"/>
            <a:ext cx="60991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First filter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n standard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Second filter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proxim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eeds comparison &amp; convergence … and 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ust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convergence &amp;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Third filter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methods find their place in the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560" y="2273400"/>
            <a:ext cx="432000" cy="36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552760"/>
            <a:ext cx="4302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6480" y="1806480"/>
            <a:ext cx="566640" cy="513000"/>
          </a:xfrm>
          <a:prstGeom prst="hexagon">
            <a:avLst>
              <a:gd name="adj" fmla="val 27614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280" y="2930400"/>
            <a:ext cx="449280" cy="44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8400" y="2390760"/>
            <a:ext cx="530280" cy="260280"/>
          </a:xfrm>
          <a:prstGeom prst="rightArrow">
            <a:avLst>
              <a:gd name="adj1" fmla="val 50000"/>
              <a:gd name="adj2" fmla="val 50934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66960" y="2363760"/>
            <a:ext cx="432000" cy="36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4320" y="2643120"/>
            <a:ext cx="4302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1520" y="1897200"/>
            <a:ext cx="567000" cy="512640"/>
          </a:xfrm>
          <a:prstGeom prst="hexagon">
            <a:avLst>
              <a:gd name="adj" fmla="val 27651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32160" y="2347920"/>
            <a:ext cx="484200" cy="260280"/>
          </a:xfrm>
          <a:prstGeom prst="rightArrow">
            <a:avLst>
              <a:gd name="adj1" fmla="val 50000"/>
              <a:gd name="adj2" fmla="val 46508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92320" y="1830960"/>
            <a:ext cx="1263600" cy="1280520"/>
            <a:chOff x="4792320" y="1830960"/>
            <a:chExt cx="1263600" cy="1280520"/>
          </a:xfrm>
        </p:grpSpPr>
        <p:sp>
          <p:nvSpPr>
            <p:cNvPr id="107" name=""/>
            <p:cNvSpPr/>
            <p:nvPr/>
          </p:nvSpPr>
          <p:spPr>
            <a:xfrm rot="3937200">
              <a:off x="4865400" y="1919160"/>
              <a:ext cx="431640" cy="368280"/>
            </a:xfrm>
            <a:prstGeom prst="ellipse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cc99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937200">
              <a:off x="4857840" y="2616840"/>
              <a:ext cx="430200" cy="4222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ff66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937200">
              <a:off x="5421960" y="2269440"/>
              <a:ext cx="567000" cy="512640"/>
            </a:xfrm>
            <a:prstGeom prst="hexagon">
              <a:avLst>
                <a:gd name="adj" fmla="val 27651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6ff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316560" y="2346480"/>
            <a:ext cx="484200" cy="260280"/>
          </a:xfrm>
          <a:prstGeom prst="rightArrow">
            <a:avLst>
              <a:gd name="adj1" fmla="val 50000"/>
              <a:gd name="adj2" fmla="val 46508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539600">
            <a:off x="7473600" y="1971000"/>
            <a:ext cx="430200" cy="42228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539600">
            <a:off x="6862320" y="2538000"/>
            <a:ext cx="567000" cy="512640"/>
          </a:xfrm>
          <a:prstGeom prst="hexagon">
            <a:avLst>
              <a:gd name="adj" fmla="val 27651"/>
              <a:gd name="vf" fmla="val 115470"/>
            </a:avLst>
          </a:prstGeom>
          <a:gradFill rotWithShape="0">
            <a:gsLst>
              <a:gs pos="0">
                <a:srgbClr val="66ccff"/>
              </a:gs>
              <a:gs pos="100000">
                <a:srgbClr val="66ff6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6320" y="195984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2520" y="197244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89920" y="1985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898-DE0F-4A3B-BFCC-1F89EBDDDB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11320" y="1735200"/>
            <a:ext cx="55324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s g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SIS goo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nteroperability &amp;  convergence g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iability g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But 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re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AF8-EEA2-400A-9F53-FB2AB19438A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3560" y="636480"/>
            <a:ext cx="678204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9160" y="8683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6400" y="6275520"/>
            <a:ext cx="3400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8a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2360" y="58183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8a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915560" y="1127520"/>
            <a:ext cx="3941280" cy="4644000"/>
            <a:chOff x="1915560" y="1127520"/>
            <a:chExt cx="3941280" cy="4644000"/>
          </a:xfrm>
        </p:grpSpPr>
        <p:sp>
          <p:nvSpPr>
            <p:cNvPr id="123" name=""/>
            <p:cNvSpPr/>
            <p:nvPr/>
          </p:nvSpPr>
          <p:spPr>
            <a:xfrm rot="19789200">
              <a:off x="3307680" y="33606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807200">
              <a:off x="2253600" y="33508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61800">
              <a:off x="1759680" y="24613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55800">
              <a:off x="3727800" y="25185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2535800">
              <a:off x="3236400" y="15508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001200">
              <a:off x="2322360" y="15501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1600" y="269640"/>
            <a:ext cx="7548480" cy="80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didate alpha model for mapping OASIS e-Business wor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104920" y="1919160"/>
            <a:ext cx="3625560" cy="3139920"/>
            <a:chOff x="2104920" y="1919160"/>
            <a:chExt cx="3625560" cy="3139920"/>
          </a:xfrm>
        </p:grpSpPr>
        <p:sp>
          <p:nvSpPr>
            <p:cNvPr id="131" name=""/>
            <p:cNvSpPr/>
            <p:nvPr/>
          </p:nvSpPr>
          <p:spPr>
            <a:xfrm>
              <a:off x="4082760" y="4384440"/>
              <a:ext cx="13291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ice Discov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1360" y="3167640"/>
              <a:ext cx="132912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ice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2960" y="1939680"/>
              <a:ext cx="1670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chestration &amp;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04920" y="3076920"/>
              <a:ext cx="110988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curity &amp;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05520" y="4449960"/>
              <a:ext cx="13291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ss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3120" y="1919160"/>
              <a:ext cx="13291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ata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9523400">
            <a:off x="381600" y="293148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9840" y="1582200"/>
            <a:ext cx="2746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sely couple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able to end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self-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2AD-733E-4B3F-87B6-C13D809A0E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144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2520" y="281160"/>
            <a:ext cx="6419880" cy="46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ch specification is a do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523400">
            <a:off x="2800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5160" y="4402080"/>
            <a:ext cx="316080" cy="3272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4091040"/>
            <a:ext cx="316080" cy="326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4840" y="4640400"/>
            <a:ext cx="129240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U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59520" y="5202360"/>
            <a:ext cx="169884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 Narrow"/>
              </a:rPr>
              <a:t>ebXML Reg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50760" y="1368360"/>
            <a:ext cx="1955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70320" y="1082520"/>
            <a:ext cx="1557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B54-977F-43AB-ADA3-A90E3B0104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167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880" y="281160"/>
            <a:ext cx="6653520" cy="769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projects issue more than one spec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1368360"/>
            <a:ext cx="1955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70320" y="1082520"/>
            <a:ext cx="1557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523400">
            <a:off x="2800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76880" y="4340160"/>
            <a:ext cx="395280" cy="412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03800" y="4584600"/>
            <a:ext cx="395280" cy="412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62640" y="3838680"/>
            <a:ext cx="366480" cy="37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6B8-6D69-4E92-9BC3-AB4223EC18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6781680" cy="6019920"/>
          </a:xfrm>
          <a:prstGeom prst="roundRect">
            <a:avLst>
              <a:gd name="adj" fmla="val 16667"/>
            </a:avLst>
          </a:prstGeom>
          <a:solidFill>
            <a:srgbClr val="e0b5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612720"/>
            <a:ext cx="6172200" cy="53308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6019920"/>
            <a:ext cx="3400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transport (HTTP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5562720"/>
            <a:ext cx="3079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Common language 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66240" y="871920"/>
            <a:ext cx="3941280" cy="4644000"/>
            <a:chOff x="1866240" y="871920"/>
            <a:chExt cx="3941280" cy="4644000"/>
          </a:xfrm>
        </p:grpSpPr>
        <p:sp>
          <p:nvSpPr>
            <p:cNvPr id="195" name=""/>
            <p:cNvSpPr/>
            <p:nvPr/>
          </p:nvSpPr>
          <p:spPr>
            <a:xfrm rot="19789200">
              <a:off x="3258360" y="3105000"/>
              <a:ext cx="2166840" cy="200196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7200">
              <a:off x="2204280" y="3095280"/>
              <a:ext cx="2284200" cy="19638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61800">
              <a:off x="1710360" y="2205720"/>
              <a:ext cx="2200320" cy="18396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55800">
              <a:off x="3678480" y="2262960"/>
              <a:ext cx="2300400" cy="192060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2535800">
              <a:off x="3187080" y="1295280"/>
              <a:ext cx="2260080" cy="19764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001200">
              <a:off x="2273040" y="1294560"/>
              <a:ext cx="2128320" cy="19558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2880" y="281160"/>
            <a:ext cx="6653520" cy="769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ifications are at different approval sta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5165640" y="4753080"/>
            <a:ext cx="1557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9880" y="2951280"/>
            <a:ext cx="15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50760" y="1368360"/>
            <a:ext cx="1955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chestration &amp;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840" y="3284640"/>
            <a:ext cx="1299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&amp;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68400" y="5000760"/>
            <a:ext cx="1557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70320" y="1082520"/>
            <a:ext cx="1557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4160" y="387972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523400">
            <a:off x="280080" y="2880720"/>
            <a:ext cx="70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Times New Roman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05880" y="195120"/>
            <a:ext cx="341280" cy="34308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350120" y="581040"/>
            <a:ext cx="1347480" cy="361800"/>
            <a:chOff x="7350120" y="581040"/>
            <a:chExt cx="1347480" cy="361800"/>
          </a:xfrm>
        </p:grpSpPr>
        <p:sp>
          <p:nvSpPr>
            <p:cNvPr id="212" name=""/>
            <p:cNvSpPr/>
            <p:nvPr/>
          </p:nvSpPr>
          <p:spPr>
            <a:xfrm>
              <a:off x="7350120" y="581040"/>
              <a:ext cx="1336680" cy="361800"/>
            </a:xfrm>
            <a:prstGeom prst="leftRightArrow">
              <a:avLst>
                <a:gd name="adj1" fmla="val 50000"/>
                <a:gd name="adj2" fmla="val 73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50120" y="588960"/>
              <a:ext cx="13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proval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38480" y="4059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76800" y="403236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21164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26160" y="3967200"/>
            <a:ext cx="341280" cy="342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40120" y="4146480"/>
            <a:ext cx="341640" cy="343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83320" y="304920"/>
            <a:ext cx="182880" cy="2109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b406b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59840" y="0"/>
            <a:ext cx="485640" cy="5461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76880" y="420696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7880" y="4384800"/>
            <a:ext cx="485640" cy="546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9080" y="3732120"/>
            <a:ext cx="450720" cy="4971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b5600"/>
              </a:gs>
            </a:gsLst>
            <a:lin ang="108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54600" y="1376280"/>
            <a:ext cx="157320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ff"/>
                </a:solidFill>
                <a:latin typeface="Arial Narrow"/>
              </a:rPr>
              <a:t>Pre-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33960" y="1843200"/>
            <a:ext cx="157320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ff"/>
                </a:solidFill>
                <a:latin typeface="Arial Narrow"/>
              </a:rPr>
              <a:t>Committee 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08640" y="2340000"/>
            <a:ext cx="1623960" cy="337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ff"/>
                </a:solidFill>
                <a:latin typeface="Arial Narrow"/>
              </a:rPr>
              <a:t>OASIS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1FD-03C1-4CCE-99C7-4395DFECD55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8:53:40Z</dcterms:created>
  <dc:creator>James Bryce Clark</dc:creator>
  <dc:description>OASIS Symposium New Orleans April 2004 - 
jamie.clark@oasis-open.org</dc:description>
  <dc:language>en-US</dc:language>
  <cp:lastModifiedBy>James Bryce Clark</cp:lastModifiedBy>
  <cp:lastPrinted>2004-01-30T23:22:15Z</cp:lastPrinted>
  <dcterms:modified xsi:type="dcterms:W3CDTF">2004-05-04T21:17:48Z</dcterms:modified>
  <cp:revision>100</cp:revision>
  <dc:subject>Standards, Reliability, OASIS Conceptual Model</dc:subject>
  <dc:title>OASIS Symposium - Tech Model and Reliability</dc:title>
</cp:coreProperties>
</file>