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C276-8FEA-4898-9CE4-0FB2F03F4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2BC3-6F02-42D4-8FFA-5DF75F26B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AA63-C673-4CFD-8360-CE2A63C2B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35CE-73D0-4B0F-891F-B3315F840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25720" y="248760"/>
            <a:ext cx="674352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99CF-D3D4-4A3C-B995-D65431E8A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4D30-1927-42BB-B9DF-5E84D21367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025720" y="248760"/>
            <a:ext cx="674352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90ED-C0FB-4B21-B6B1-34AB675DD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C201-606E-44C1-AD56-6C25D0812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25720" y="248760"/>
            <a:ext cx="674352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EAD7-E917-4449-988C-532ECBE71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E4D1-566D-4C2F-8A9C-C6BA4151C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CA99-1C6D-4F8A-92B7-254623879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31D4-EEB2-4E4F-BCC2-8173D03B6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25720" y="248760"/>
            <a:ext cx="67435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06800" y="6359400"/>
            <a:ext cx="10796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815A-C026-4345-BE0C-2D1957032AB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14480" y="133200"/>
            <a:ext cx="133344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832040" y="6319800"/>
            <a:ext cx="59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</a:rPr>
              <a:t>Business Transaction Management Software for Application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987480"/>
            <a:ext cx="9144000" cy="25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4480" y="133200"/>
            <a:ext cx="1333440" cy="80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2040" y="6319800"/>
            <a:ext cx="59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</a:rPr>
              <a:t>Business Transaction Management Software for Application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987480"/>
            <a:ext cx="9144000" cy="25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480" y="133200"/>
            <a:ext cx="1333440" cy="809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184480" y="6191280"/>
            <a:ext cx="59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</a:rPr>
              <a:t>Business Transaction Management Software for Application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987480"/>
            <a:ext cx="9144000" cy="2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848200" y="334800"/>
            <a:ext cx="30672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 April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pyright © 2004, Choreology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cis.gsu.edu/~dstraub/Research/ACIT-APIT/clock.gif&amp;imgrefurl=http://www.cis.gsu.edu/~dstraub/Research/ACIT-APIT/checchi.htm&amp;h=540&amp;w=720&amp;sz=7&amp;tbnid=FxmA-ZWs9z8J:&amp;tbnh=104&amp;tbnw=138&amp;prev=/images%3Fq%3Dclock%26start%3D160%26hl%3Den%26lr%3D%26ie%3DUTF-8%26oe%3DUTF-8%26sa%3DN%26edition%3Dus" TargetMode="Externa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Narrow"/>
              </a:rPr>
              <a:t>OASIS BT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Narrow"/>
              </a:rPr>
              <a:t>scope, status and direction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eter Furni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horeology Lt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eter.furniss@choreology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2130480" y="5773680"/>
            <a:ext cx="4937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asis Symposium, New Orleans, 26 April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441360"/>
            <a:ext cx="30668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26 April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Narrow"/>
              </a:rPr>
              <a:t>Copyright © 2004, Choreology 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25720" y="371160"/>
            <a:ext cx="67435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osion of external effects…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00" y="3300480"/>
            <a:ext cx="1314360" cy="990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rot="5400000">
            <a:off x="4395960" y="626040"/>
            <a:ext cx="927360" cy="6348600"/>
          </a:xfrm>
          <a:custGeom>
            <a:avLst/>
            <a:gdLst>
              <a:gd name="textAreaLeft" fmla="*/ 305280 w 927360"/>
              <a:gd name="textAreaRight" fmla="*/ 622080 w 927360"/>
              <a:gd name="textAreaTop" fmla="*/ 2090520 h 6348600"/>
              <a:gd name="textAreaBottom" fmla="*/ 4258080 h 634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1947" y="21600"/>
                </a:lnTo>
                <a:lnTo>
                  <a:pt x="9653" y="216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ff33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5400000">
            <a:off x="7739640" y="3293280"/>
            <a:ext cx="1555560" cy="99540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74840" y="1805040"/>
          <a:ext cx="1671480" cy="12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840" y="1805040"/>
                    <a:ext cx="1671480" cy="12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046240" y="2197080"/>
          <a:ext cx="660708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46240" y="2197080"/>
                    <a:ext cx="660708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935000" y="4768920"/>
          <a:ext cx="6607440" cy="60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5000" y="4768920"/>
                    <a:ext cx="6607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69720" y="4402080"/>
          <a:ext cx="1671840" cy="128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9720" y="4402080"/>
                    <a:ext cx="1671840" cy="12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600120" y="4272120"/>
            <a:ext cx="1133280" cy="148716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43080" y="5305320"/>
            <a:ext cx="57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pensate that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25720" y="248760"/>
            <a:ext cx="67435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Cohesions and atom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ontrolling application wants a consistent resul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erhaps not all the candidates are includ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T can be cohesiv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ntrolling application will decide the final confirm set when it requests confirm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rior to that can tolerate or force exclu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T can be an “atom”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very participant that enrols is in the final confirm s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ll or none – each has veto pow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onfirm sets always have uniform outcom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25720" y="248760"/>
            <a:ext cx="67435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Implications of autonomy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articipants (or their owners) might have to break a promis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pplies an “autonomous decision” to its resour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T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articipant can inform superior immediatel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f autonomous decision = correct (superior) decision, treat as response before reque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eports broken promises (“hazard” = heuristic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has qualifiers to state time limit on promi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25720" y="248760"/>
            <a:ext cx="67435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The world around BTP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egacy  applications need to be linked and coordina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t all applications will be web-service enabl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TP needs to b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web-service cap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ut not web-service exclusi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o not assume rich underlying fun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on’t rely on ws-*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rovide necessary mechanisms within bt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xploit underlying function if availab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tp mechanisms can be dropped if the infrastructure does provi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25720" y="248760"/>
            <a:ext cx="67435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Message se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bstract defin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emantic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XML represen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inding proform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tates what must be specified for a binding to any carrier protoco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which btp mechanisms would be dropped – no limi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oap/http bin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a particular completion of the proform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inimal assumption – doesn’t use other ws-*, so uses btp mechanisms for final “routing”, redirection …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request/response exploit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25720" y="248760"/>
            <a:ext cx="67435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Bindings and transport optimisation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inding proforma allows explicit stat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doesn’t indirect through wsdl and wsdl bind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not limited to wsdl-expressi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only BTP implementations need to know (for which the wire format is the easy bi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ransport optimis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iggy-backing BTP messages on application traffi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one-shot” exchan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request/response exploit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ultiple addresses in a ro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different carriers (bindings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BTP address” is very like WS-Address, but identifies the binding intende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rimary and back-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last resort” and redirec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25720" y="248760"/>
            <a:ext cx="67435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Other binding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roposed in current revis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SDL-compatible (BP compliant) soap bind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verything is one-wa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ess efficient than “soap-http-1” bind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Choreology Cohesions also do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TP over Java RMI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TP over Corb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TP over JM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veloping an optimised binary format (non-xml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025720" y="248760"/>
            <a:ext cx="67435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any meetings March 2001 – May 200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Committee Specification 1.0, 3 June 200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TC decided not seek OASIS std until implementation/deployment experie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Kept revision issue lis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Currently resolving issu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lanned CD 1.1 so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25720" y="248760"/>
            <a:ext cx="67435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Revision issues – not finalised ye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ug fixes and minor improveme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Web-service friendlin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laim against BTP “it isn’t web-service friendly”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 WSD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xisting soap/http binding is difficult for wsd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efine a simpler bin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WS-I BP-complia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roviding WSDL for that for both control and outco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mplementation can mix-and-match in different ro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WSDL for control more usefu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025720" y="248760"/>
            <a:ext cx="67435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Implementation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HP WS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Objectweb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reat as just another atom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unpublished Australian gro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Choreology Cohes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Correctness proof using pi-calculu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aura Bocchi, Univ of Bologn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25720" y="248760"/>
            <a:ext cx="67435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origin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OASIS Business Transactions T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First meeting march 200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nitiator BE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nitial submissions BEA, HP, Chore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EA – outline based on produc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P – ancestor of WS-CAF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horeology – requirements outlin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tocol designed from scrat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Microsoft and IBM weren’t involv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62040" y="198000"/>
            <a:ext cx="735192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S-BA flexibility: or a completely separate specification 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8" name="wsba.figure1" descr=""/>
          <p:cNvPicPr/>
          <p:nvPr/>
        </p:nvPicPr>
        <p:blipFill>
          <a:blip r:embed="rId1"/>
          <a:stretch/>
        </p:blipFill>
        <p:spPr>
          <a:xfrm>
            <a:off x="835200" y="2114640"/>
            <a:ext cx="7667280" cy="3585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821200" y="3695760"/>
            <a:ext cx="1081080" cy="12621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025720" y="380520"/>
            <a:ext cx="6743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cost of bespoke coordination protocol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851040" y="1612800"/>
            <a:ext cx="12952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ordinat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642000" y="2146320"/>
            <a:ext cx="254160" cy="330120"/>
            <a:chOff x="6642000" y="2146320"/>
            <a:chExt cx="254160" cy="330120"/>
          </a:xfrm>
        </p:grpSpPr>
        <p:sp>
          <p:nvSpPr>
            <p:cNvPr id="233" name=""/>
            <p:cNvSpPr/>
            <p:nvPr/>
          </p:nvSpPr>
          <p:spPr>
            <a:xfrm rot="5400000">
              <a:off x="6662520" y="2242800"/>
              <a:ext cx="213120" cy="254160"/>
            </a:xfrm>
            <a:prstGeom prst="flowChartOnlineStorag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69360" y="2146320"/>
              <a:ext cx="199800" cy="1238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6383160" y="1967040"/>
            <a:ext cx="787680" cy="69372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646680" y="3544920"/>
            <a:ext cx="253800" cy="330120"/>
            <a:chOff x="6646680" y="3544920"/>
            <a:chExt cx="253800" cy="330120"/>
          </a:xfrm>
        </p:grpSpPr>
        <p:sp>
          <p:nvSpPr>
            <p:cNvPr id="237" name=""/>
            <p:cNvSpPr/>
            <p:nvPr/>
          </p:nvSpPr>
          <p:spPr>
            <a:xfrm rot="5400000">
              <a:off x="6666840" y="3641400"/>
              <a:ext cx="213120" cy="253800"/>
            </a:xfrm>
            <a:prstGeom prst="flowChartOnlineStorag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74400" y="3544920"/>
              <a:ext cx="199440" cy="1238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388200" y="3365640"/>
            <a:ext cx="787320" cy="69372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626160" y="4943520"/>
            <a:ext cx="254160" cy="330120"/>
            <a:chOff x="6626160" y="4943520"/>
            <a:chExt cx="254160" cy="330120"/>
          </a:xfrm>
        </p:grpSpPr>
        <p:sp>
          <p:nvSpPr>
            <p:cNvPr id="241" name=""/>
            <p:cNvSpPr/>
            <p:nvPr/>
          </p:nvSpPr>
          <p:spPr>
            <a:xfrm rot="5400000">
              <a:off x="6646680" y="5040000"/>
              <a:ext cx="213120" cy="254160"/>
            </a:xfrm>
            <a:prstGeom prst="flowChartOnlineStorag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53520" y="4943520"/>
              <a:ext cx="199800" cy="1238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367320" y="4764240"/>
            <a:ext cx="787680" cy="69372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55600" y="1689120"/>
            <a:ext cx="647640" cy="647640"/>
          </a:xfrm>
          <a:prstGeom prst="flowChartSummingJunction">
            <a:avLst/>
          </a:prstGeom>
          <a:solidFill>
            <a:srgbClr val="33cc3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854680" y="153684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pecific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51040" y="4813200"/>
            <a:ext cx="1295280" cy="1067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ordinat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55600" y="4889520"/>
            <a:ext cx="647640" cy="647640"/>
          </a:xfrm>
          <a:prstGeom prst="flowChartSummingJunction">
            <a:avLst/>
          </a:prstGeom>
          <a:solidFill>
            <a:srgbClr val="ffcc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70000" y="1994040"/>
            <a:ext cx="4267440" cy="533160"/>
          </a:xfrm>
          <a:prstGeom prst="leftRightArrow">
            <a:avLst>
              <a:gd name="adj1" fmla="val 50000"/>
              <a:gd name="adj2" fmla="val 15934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940200">
            <a:off x="1995120" y="2735280"/>
            <a:ext cx="4419720" cy="533520"/>
          </a:xfrm>
          <a:prstGeom prst="leftRightArrow">
            <a:avLst>
              <a:gd name="adj1" fmla="val 50000"/>
              <a:gd name="adj2" fmla="val 164914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785600">
            <a:off x="1747800" y="3594240"/>
            <a:ext cx="4876920" cy="533160"/>
          </a:xfrm>
          <a:prstGeom prst="leftRightArrow">
            <a:avLst>
              <a:gd name="adj1" fmla="val 50000"/>
              <a:gd name="adj2" fmla="val 18209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46320" y="5423040"/>
            <a:ext cx="4191120" cy="533160"/>
          </a:xfrm>
          <a:prstGeom prst="leftRightArrow">
            <a:avLst>
              <a:gd name="adj1" fmla="val 50000"/>
              <a:gd name="adj2" fmla="val 156490"/>
            </a:avLst>
          </a:prstGeom>
          <a:solidFill>
            <a:srgbClr val="ffcc99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PQ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20807400">
            <a:off x="2071440" y="4508280"/>
            <a:ext cx="4419360" cy="533160"/>
          </a:xfrm>
          <a:prstGeom prst="leftRightArrow">
            <a:avLst>
              <a:gd name="adj1" fmla="val 50000"/>
              <a:gd name="adj2" fmla="val 165012"/>
            </a:avLst>
          </a:prstGeom>
          <a:solidFill>
            <a:srgbClr val="ffcc99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Q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20218800">
            <a:off x="1928880" y="3728880"/>
            <a:ext cx="4726080" cy="533520"/>
          </a:xfrm>
          <a:prstGeom prst="leftRightArrow">
            <a:avLst>
              <a:gd name="adj1" fmla="val 50000"/>
              <a:gd name="adj2" fmla="val 176345"/>
            </a:avLst>
          </a:prstGeom>
          <a:solidFill>
            <a:srgbClr val="ffcc99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Q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75520" y="2374920"/>
            <a:ext cx="99072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175520" y="3746520"/>
            <a:ext cx="990720" cy="685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175520" y="5194440"/>
            <a:ext cx="990720" cy="68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672240" y="2851200"/>
            <a:ext cx="254160" cy="330120"/>
            <a:chOff x="6672240" y="2851200"/>
            <a:chExt cx="254160" cy="330120"/>
          </a:xfrm>
        </p:grpSpPr>
        <p:sp>
          <p:nvSpPr>
            <p:cNvPr id="258" name=""/>
            <p:cNvSpPr/>
            <p:nvPr/>
          </p:nvSpPr>
          <p:spPr>
            <a:xfrm rot="5400000">
              <a:off x="6692760" y="2947680"/>
              <a:ext cx="213120" cy="254160"/>
            </a:xfrm>
            <a:prstGeom prst="flowChartOnlineStora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99600" y="2851200"/>
              <a:ext cx="199800" cy="1238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413400" y="2671920"/>
            <a:ext cx="787680" cy="69372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646680" y="4222800"/>
            <a:ext cx="253800" cy="330120"/>
            <a:chOff x="6646680" y="4222800"/>
            <a:chExt cx="253800" cy="330120"/>
          </a:xfrm>
        </p:grpSpPr>
        <p:sp>
          <p:nvSpPr>
            <p:cNvPr id="262" name=""/>
            <p:cNvSpPr/>
            <p:nvPr/>
          </p:nvSpPr>
          <p:spPr>
            <a:xfrm rot="5400000">
              <a:off x="6666840" y="4319280"/>
              <a:ext cx="213120" cy="253800"/>
            </a:xfrm>
            <a:prstGeom prst="flowChartOnlineStora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74400" y="4222800"/>
              <a:ext cx="199440" cy="1238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388200" y="4043520"/>
            <a:ext cx="787320" cy="69372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595920" y="5670720"/>
            <a:ext cx="254160" cy="330120"/>
            <a:chOff x="6595920" y="5670720"/>
            <a:chExt cx="254160" cy="330120"/>
          </a:xfrm>
        </p:grpSpPr>
        <p:sp>
          <p:nvSpPr>
            <p:cNvPr id="266" name=""/>
            <p:cNvSpPr/>
            <p:nvPr/>
          </p:nvSpPr>
          <p:spPr>
            <a:xfrm rot="5400000">
              <a:off x="6616440" y="5767200"/>
              <a:ext cx="213120" cy="254160"/>
            </a:xfrm>
            <a:prstGeom prst="flowChartOnlineStora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3280" y="5670720"/>
              <a:ext cx="199800" cy="1238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6337440" y="5491080"/>
            <a:ext cx="787320" cy="69372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89320" y="156204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pecific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25720" y="248760"/>
            <a:ext cx="67435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Convergence ?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o is as important as what 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lternative binding could use WS-C or WS-CTX in place of own context, enroll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f WS-BA becomes more flexib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t does full BTM spectrum – not compensations onl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TP is histo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f WS-BA stays compensation-onl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hree competing standar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TP supports the full BTM spectrum with one protoco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WS-CAF needs three or mo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S-AT or WS-TXM ACID have a market ro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25720" y="248760"/>
            <a:ext cx="67435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Targe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ppropriate transactionality for loosely-coupled syste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Loosely-coupled = autonomous, but cooperat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nter-enterpri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bviously autonomous – different own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ntra-enterpri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inked applications have different purpos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4360" y="2492280"/>
            <a:ext cx="1600200" cy="990360"/>
            <a:chOff x="684360" y="2492280"/>
            <a:chExt cx="1600200" cy="990360"/>
          </a:xfrm>
        </p:grpSpPr>
        <p:sp>
          <p:nvSpPr>
            <p:cNvPr id="132" name=""/>
            <p:cNvSpPr/>
            <p:nvPr/>
          </p:nvSpPr>
          <p:spPr>
            <a:xfrm>
              <a:off x="684360" y="2492280"/>
              <a:ext cx="1494000" cy="9903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360" y="2492280"/>
              <a:ext cx="16002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 Narrow"/>
                </a:rPr>
                <a:t>CONTRO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 Narrow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Arial Narrow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516720" y="2781360"/>
            <a:ext cx="1600200" cy="1057680"/>
            <a:chOff x="6516720" y="2781360"/>
            <a:chExt cx="1600200" cy="1057680"/>
          </a:xfrm>
        </p:grpSpPr>
        <p:sp>
          <p:nvSpPr>
            <p:cNvPr id="135" name=""/>
            <p:cNvSpPr/>
            <p:nvPr/>
          </p:nvSpPr>
          <p:spPr>
            <a:xfrm>
              <a:off x="6516720" y="2781360"/>
              <a:ext cx="1494000" cy="99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16720" y="2781360"/>
              <a:ext cx="160020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 Narrow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 Narrow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403280" y="4797360"/>
            <a:ext cx="1935360" cy="1191240"/>
            <a:chOff x="1403280" y="4797360"/>
            <a:chExt cx="1935360" cy="1191240"/>
          </a:xfrm>
        </p:grpSpPr>
        <p:grpSp>
          <p:nvGrpSpPr>
            <p:cNvPr id="138" name=""/>
            <p:cNvGrpSpPr/>
            <p:nvPr/>
          </p:nvGrpSpPr>
          <p:grpSpPr>
            <a:xfrm>
              <a:off x="1650960" y="4797360"/>
              <a:ext cx="1687680" cy="1191240"/>
              <a:chOff x="1650960" y="4797360"/>
              <a:chExt cx="1687680" cy="1191240"/>
            </a:xfrm>
          </p:grpSpPr>
          <p:sp>
            <p:nvSpPr>
              <p:cNvPr id="139" name=""/>
              <p:cNvSpPr/>
              <p:nvPr/>
            </p:nvSpPr>
            <p:spPr>
              <a:xfrm>
                <a:off x="1650960" y="4797360"/>
                <a:ext cx="1687680" cy="11732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650960" y="4797360"/>
                <a:ext cx="1687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ffffff"/>
                    </a:solidFill>
                    <a:latin typeface="Arial Narrow"/>
                  </a:rPr>
                  <a:t>Coordin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ffffff"/>
                    </a:solidFill>
                    <a:latin typeface="Arial Narrow"/>
                  </a:rPr>
                  <a:t>Servi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ffffff"/>
                    </a:solidFill>
                    <a:latin typeface="Arial Narrow"/>
                  </a:rPr>
                  <a:t>(factory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403280" y="5025960"/>
              <a:ext cx="304920" cy="42696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61280" y="3970440"/>
            <a:ext cx="1687320" cy="990360"/>
            <a:chOff x="6461280" y="3970440"/>
            <a:chExt cx="1687320" cy="990360"/>
          </a:xfrm>
        </p:grpSpPr>
        <p:sp>
          <p:nvSpPr>
            <p:cNvPr id="143" name=""/>
            <p:cNvSpPr/>
            <p:nvPr/>
          </p:nvSpPr>
          <p:spPr>
            <a:xfrm>
              <a:off x="6805800" y="3970440"/>
              <a:ext cx="1050840" cy="9903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61280" y="4289400"/>
              <a:ext cx="16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 Narrow"/>
                </a:rPr>
                <a:t>participa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37560" y="4281480"/>
              <a:ext cx="304920" cy="42660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909600" y="4149720"/>
            <a:ext cx="3110040" cy="403200"/>
          </a:xfrm>
          <a:prstGeom prst="line">
            <a:avLst/>
          </a:prstGeom>
          <a:ln w="633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565360" y="4221000"/>
            <a:ext cx="1487520" cy="581040"/>
            <a:chOff x="2565360" y="4221000"/>
            <a:chExt cx="1487520" cy="581040"/>
          </a:xfrm>
        </p:grpSpPr>
        <p:sp>
          <p:nvSpPr>
            <p:cNvPr id="148" name=""/>
            <p:cNvSpPr/>
            <p:nvPr/>
          </p:nvSpPr>
          <p:spPr>
            <a:xfrm>
              <a:off x="2725560" y="4221000"/>
              <a:ext cx="1163880" cy="5810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65360" y="4324320"/>
              <a:ext cx="14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i="1" lang="en-GB" sz="1800" spc="-1" strike="noStrike">
                  <a:solidFill>
                    <a:srgbClr val="ffffff"/>
                  </a:solidFill>
                  <a:latin typeface="Arial Narrow"/>
                </a:rPr>
                <a:t>coordin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654200" y="3510000"/>
            <a:ext cx="455760" cy="1271520"/>
          </a:xfrm>
          <a:prstGeom prst="line">
            <a:avLst/>
          </a:prstGeom>
          <a:ln w="63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280" y="5726160"/>
            <a:ext cx="1590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 Narrow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5516640"/>
            <a:ext cx="1590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 Narrow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2997360"/>
            <a:ext cx="4175280" cy="0"/>
          </a:xfrm>
          <a:prstGeom prst="line">
            <a:avLst/>
          </a:prstGeom>
          <a:ln w="633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 rot="1245600">
            <a:off x="1373040" y="3858120"/>
            <a:ext cx="298440" cy="88452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rot="16200000">
            <a:off x="3599640" y="2312280"/>
            <a:ext cx="1152720" cy="21744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74680" y="3860640"/>
            <a:ext cx="3218040" cy="474840"/>
          </a:xfrm>
          <a:prstGeom prst="line">
            <a:avLst/>
          </a:prstGeom>
          <a:ln w="63360">
            <a:solidFill>
              <a:srgbClr val="99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3280" y="1700280"/>
            <a:ext cx="1590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 Narrow"/>
              </a:rPr>
              <a:t>PROPA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724360" y="4291920"/>
            <a:ext cx="216000" cy="142884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723640" y="2133720"/>
            <a:ext cx="304920" cy="187164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96000" y="1700280"/>
            <a:ext cx="1800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 Narrow"/>
              </a:rPr>
              <a:t>ENROLL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708440" y="3832200"/>
            <a:ext cx="900360" cy="368280"/>
            <a:chOff x="4708440" y="3832200"/>
            <a:chExt cx="900360" cy="368280"/>
          </a:xfrm>
        </p:grpSpPr>
        <p:sp>
          <p:nvSpPr>
            <p:cNvPr id="162" name=""/>
            <p:cNvSpPr/>
            <p:nvPr/>
          </p:nvSpPr>
          <p:spPr>
            <a:xfrm>
              <a:off x="4865760" y="3865320"/>
              <a:ext cx="561960" cy="309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08440" y="3832200"/>
              <a:ext cx="9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</a:rPr>
                <a:t>BT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025720" y="249120"/>
            <a:ext cx="67435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Functional parts of coordination p’c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25720" y="215640"/>
            <a:ext cx="6743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149400" y="4521240"/>
            <a:ext cx="1590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 Narrow"/>
              </a:rPr>
              <a:t>INI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 rot="1245000">
            <a:off x="2019240" y="3789000"/>
            <a:ext cx="152280" cy="2166840"/>
          </a:xfrm>
          <a:prstGeom prst="lightningBol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1920" y="3381480"/>
            <a:ext cx="619200" cy="861840"/>
          </a:xfrm>
          <a:prstGeom prst="line">
            <a:avLst/>
          </a:prstGeom>
          <a:ln w="63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25720" y="248760"/>
            <a:ext cx="67435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BTP coverag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niti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efined with Contro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nitiator:Factory – BEGIN, BEGU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ropag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etails are application’s proble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Application:application – CONTEXT, CONTEXT-REPL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nroll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efined with outcom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Enroller:Coordinator – ENROL, ENROLL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erminator:Coordinator - lo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uperior:Inferior - lo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025720" y="248760"/>
            <a:ext cx="67435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One outcome protoco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ach branch of a business transaction involv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ervice asked to do some work, under control of the business transa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ervice/participant </a:t>
            </a:r>
            <a:r>
              <a:rPr b="0" lang="en-GB" sz="2800" spc="-1" strike="noStrike">
                <a:solidFill>
                  <a:srgbClr val="ff0000"/>
                </a:solidFill>
                <a:latin typeface="Arial Narrow"/>
              </a:rPr>
              <a:t>promises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to abide by the decision of the coordina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oordinator makes the </a:t>
            </a:r>
            <a:r>
              <a:rPr b="0" lang="en-GB" sz="2800" spc="-1" strike="noStrike">
                <a:solidFill>
                  <a:srgbClr val="ff0000"/>
                </a:solidFill>
                <a:latin typeface="Arial Narrow"/>
              </a:rPr>
              <a:t>decision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to confirm or canc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utcome protocol is used to tell the participa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articipant applies decision and repl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25720" y="379080"/>
            <a:ext cx="67435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ectrum of approaches to leakage of effec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843280" y="1468440"/>
            <a:ext cx="5329080" cy="48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673280"/>
            <a:ext cx="7524720" cy="9018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The BTM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483640" y="1922400"/>
            <a:ext cx="5040360" cy="2414520"/>
          </a:xfrm>
          <a:prstGeom prst="rtTriangle">
            <a:avLst/>
          </a:prstGeom>
          <a:gradFill rotWithShape="0">
            <a:gsLst>
              <a:gs pos="0">
                <a:srgbClr val="cc0000">
                  <a:alpha val="98039"/>
                </a:srgbClr>
              </a:gs>
              <a:gs pos="100000">
                <a:srgbClr val="edadad">
                  <a:alpha val="74117"/>
                </a:srgbClr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5010120"/>
            <a:ext cx="4392720" cy="0"/>
          </a:xfrm>
          <a:prstGeom prst="line">
            <a:avLst/>
          </a:prstGeom>
          <a:ln w="475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27280" y="4076640"/>
            <a:ext cx="1404720" cy="36828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91280" y="1952640"/>
            <a:ext cx="2233440" cy="36828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Do-Compens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16360" y="2627280"/>
            <a:ext cx="2108160" cy="36828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Provisional-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51280" y="3290760"/>
            <a:ext cx="1404720" cy="36828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Validate-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5494320"/>
            <a:ext cx="1871640" cy="0"/>
          </a:xfrm>
          <a:prstGeom prst="line">
            <a:avLst/>
          </a:prstGeom>
          <a:ln w="4752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5969160"/>
            <a:ext cx="2016360" cy="0"/>
          </a:xfrm>
          <a:prstGeom prst="line">
            <a:avLst/>
          </a:prstGeom>
          <a:ln w="475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8320" y="4826160"/>
            <a:ext cx="42386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8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B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5494320"/>
            <a:ext cx="4392720" cy="0"/>
          </a:xfrm>
          <a:prstGeom prst="line">
            <a:avLst/>
          </a:prstGeom>
          <a:ln w="47520">
            <a:solidFill>
              <a:srgbClr val="ff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14520" y="5972040"/>
            <a:ext cx="4410000" cy="0"/>
          </a:xfrm>
          <a:prstGeom prst="line">
            <a:avLst/>
          </a:prstGeom>
          <a:ln w="47520">
            <a:solidFill>
              <a:srgbClr val="ff66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5010120"/>
            <a:ext cx="1871640" cy="0"/>
          </a:xfrm>
          <a:prstGeom prst="line">
            <a:avLst/>
          </a:prstGeom>
          <a:ln w="47520">
            <a:solidFill>
              <a:srgbClr val="ff66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74720" y="5310360"/>
            <a:ext cx="1495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8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WS-AT,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88000" y="5824440"/>
            <a:ext cx="1768320" cy="36828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8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WS-BA, L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98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212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3 participant implementation patter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1614600"/>
            <a:ext cx="815364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#1  Do-Compens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REPARE = do + log parameters, CANCEL = reverse, CONFIRM = fo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#2  Validate-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REPARE = validate + log parameters, CONFIRM = do, CANCEL = fo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#3  Provisional-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REPARE = do, mark pending, CONFIRM = mark final, CANCEL = 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ttern #3 permits “probabilistic inventory manag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Market-sensitive, rule-driven inventory comm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CID is a pure form of Provisional-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XA Emulation is an interesting use of Provisional-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47440" y="361440"/>
            <a:ext cx="70801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ens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ppropriate whe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arly visibility has no bad external effe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ystem cannot handle provisional states…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 provisional states cannot be managed by adapter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inappropriate whe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rreversible external effe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ending is a distinct, visible sta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15:38:42Z</dcterms:created>
  <dc:creator>Peter Furniss</dc:creator>
  <dc:description/>
  <dc:language>en-US</dc:language>
  <cp:lastModifiedBy>Jane Harnad</cp:lastModifiedBy>
  <dcterms:modified xsi:type="dcterms:W3CDTF">2004-05-04T14:57:44Z</dcterms:modified>
  <cp:revision>20</cp:revision>
  <dc:subject/>
  <dc:title>OASIS BTP scope, status and directions</dc:title>
</cp:coreProperties>
</file>