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716724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7160" y="4132800"/>
            <a:ext cx="716724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59880" y="260208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7160" y="413280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59880" y="413280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23076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0680" y="2602080"/>
            <a:ext cx="23076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3840" y="2602080"/>
            <a:ext cx="23076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160" y="4132800"/>
            <a:ext cx="23076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10680" y="4132800"/>
            <a:ext cx="23076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3840" y="4132800"/>
            <a:ext cx="23076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7160" y="2602080"/>
            <a:ext cx="716724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716724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349740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59880" y="2602080"/>
            <a:ext cx="349740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59880" y="2602080"/>
            <a:ext cx="349740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7160" y="413280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349740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59880" y="260208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59880" y="413280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3000" y="99360"/>
            <a:ext cx="8227800" cy="4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7160" y="260208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9880" y="2602080"/>
            <a:ext cx="349740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7160" y="4132800"/>
            <a:ext cx="7167240" cy="13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7160" y="2602080"/>
            <a:ext cx="716724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137520" indent="-4392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400" indent="-350280">
              <a:spcBef>
                <a:spcPts val="187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37520" indent="-281160">
              <a:spcBef>
                <a:spcPts val="1874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12280" indent="-28116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93440" indent="-1872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93440" indent="-1872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93440" indent="-1872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34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4680" y="2333520"/>
            <a:ext cx="58262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9706"/>
                </a:solidFill>
                <a:latin typeface="Arial Black"/>
              </a:rPr>
              <a:t>AIAG, CIDX, RosettaNet, OASIS, 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7560"/>
            <a:ext cx="6862680" cy="34448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440" y="3554280"/>
            <a:ext cx="68626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Implementing Standards to Achieve Reliable Transac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62680" y="0"/>
            <a:ext cx="2281320" cy="6858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62680" y="0"/>
            <a:ext cx="2286000" cy="695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flipV="1">
            <a:off x="0" y="141192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5320" y="30765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6200" y="55148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8000" y="488880"/>
            <a:ext cx="845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680" y="1897200"/>
            <a:ext cx="83566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20600" indent="-6120" algn="ctr">
              <a:lnSpc>
                <a:spcPct val="100000"/>
              </a:lnSpc>
              <a:spcBef>
                <a:spcPts val="16126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THANK YOU !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4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Black"/>
              </a:rPr>
              <a:t>THE</a:t>
            </a: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 STUMBLING BLOCKS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 Black"/>
              </a:rPr>
              <a:t>THAT PREVENT RELIA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680" y="1573200"/>
            <a:ext cx="641340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lvl="1" marL="630720" indent="-36936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ransport Layer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echnology ch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ck of RM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720" indent="-36936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pplication Layer Incompat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common XML vocabul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business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720" indent="-36936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Business Process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8400" indent="-175320">
              <a:lnSpc>
                <a:spcPct val="100000"/>
              </a:lnSpc>
              <a:spcBef>
                <a:spcPts val="751"/>
              </a:spcBef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ole of modeling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4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680" y="1573200"/>
            <a:ext cx="641340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520" y="1725480"/>
            <a:ext cx="641340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lvl="1" marL="664920" indent="-38952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Many factors limit reliability across the communication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38952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ransport layer reliability is only one par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38952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iscuss reliability issues BEYOND the pure technology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38952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Goal: Understand what major factors influence the overall quality of a complex B2B communication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38952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4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Black"/>
              </a:rPr>
              <a:t>REAL 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680" y="1763640"/>
            <a:ext cx="624204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5800" indent="-401760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Fred Falten, Director of Application Architecture and Integration at GM, representing AI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atrick Gannon, President and CEO of 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Ken Hutcheson, CIDX Chem eStandards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aul Tearnen, VP Standards Management, Rosett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999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1135" t="0" r="54104" b="0"/>
          <a:stretch/>
        </p:blipFill>
        <p:spPr>
          <a:xfrm>
            <a:off x="6561000" y="-28440"/>
            <a:ext cx="2583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0" y="141192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45320" y="30765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6200" y="55148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8000" y="488880"/>
            <a:ext cx="845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RANSPORT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680" y="1897200"/>
            <a:ext cx="83566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ransport layer– what is the state of affai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eed for convergenc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at are the option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oadmap/process to find a common s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re Web Services read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9280" indent="-1792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ultiple RM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9280" indent="-1792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mposabilit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9280" indent="-17928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8c8c8"/>
              </a:buClr>
              <a:buSzPct val="11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issing functional areas (Secur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anage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37764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0" y="141192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45320" y="30765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6200" y="55148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8000" y="488880"/>
            <a:ext cx="845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PPLICATION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80" y="1897200"/>
            <a:ext cx="83566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ow to convey business seman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common XML vocabulary – Science Fictio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mportance of cross-industry XML building bloc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at organization drives “Core Components”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essage construc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flipV="1">
            <a:off x="0" y="141192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45320" y="30765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6200" y="55148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" y="488880"/>
            <a:ext cx="845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USINESS PROCESS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680" y="1897200"/>
            <a:ext cx="83566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y a business layer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iscuss BPM technologies such as BPEL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mportance of modeling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0" y="141192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45320" y="30765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6200" y="55148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8000" y="488880"/>
            <a:ext cx="845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ROLE OF OASI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680" y="1897200"/>
            <a:ext cx="83566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dustry ver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dustry 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sensus bui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401760">
              <a:lnSpc>
                <a:spcPct val="100000"/>
              </a:lnSpc>
              <a:spcBef>
                <a:spcPts val="2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 jure standards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flipV="1">
            <a:off x="0" y="1411920"/>
            <a:ext cx="9144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45320" y="30765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6200" y="55148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000" y="488880"/>
            <a:ext cx="845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680" y="1897200"/>
            <a:ext cx="83566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20600" indent="-6120" algn="ctr">
              <a:lnSpc>
                <a:spcPct val="100000"/>
              </a:lnSpc>
              <a:spcBef>
                <a:spcPts val="21501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cc3300"/>
                </a:solidFill>
                <a:latin typeface="Arial Black"/>
                <a:ea typeface="Times New Roman"/>
              </a:rPr>
              <a:t>Q &amp; A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4:33:20Z</dcterms:created>
  <dc:creator>Michael Bechauf</dc:creator>
  <dc:description/>
  <dc:language>en-US</dc:language>
  <cp:lastModifiedBy>Michael Bechauf</cp:lastModifiedBy>
  <dcterms:modified xsi:type="dcterms:W3CDTF">2004-04-26T19:55:44Z</dcterms:modified>
  <cp:revision>914</cp:revision>
  <dc:subject/>
  <dc:title>Implementing Standards to Achieve Reliable Transac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89247523</vt:r8>
  </property>
  <property fmtid="{D5CDD505-2E9C-101B-9397-08002B2CF9AE}" pid="3" name="_AuthorEmailDisplayName">
    <vt:lpwstr>Bechauf, Michael</vt:lpwstr>
  </property>
  <property fmtid="{D5CDD505-2E9C-101B-9397-08002B2CF9AE}" pid="4" name="_EmailSubject">
    <vt:lpwstr>OASIS Symposium Panel</vt:lpwstr>
  </property>
  <property fmtid="{D5CDD505-2E9C-101B-9397-08002B2CF9AE}" pid="5" name="_PreviousAdHocReviewCycleID">
    <vt:r8>1025932841</vt:r8>
  </property>
</Properties>
</file>