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DD1-AA3D-4A22-8E29-1CBE4DA2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44D-1B9F-4A28-A0DA-B7037C25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E2E-B266-414C-B6DE-DEE40C3B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715-9288-4782-883B-E50C928B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9757-C698-4768-B379-D8F08EDE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5B7-F210-4D63-8E6F-73DFF24F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010-DE50-4D9A-A8B4-B6A7872D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3AF-E701-4027-9817-974B59BB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4B2-185A-430C-BCF3-2E8EB3DE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8CF-B47D-483B-8B65-FB95A186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1A7-65DB-486F-A705-E73B646D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C6D-99EC-4B30-AD7D-A4374106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x   OASIS Symposium 20040426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49EC-5B05-4D78-8353-DAFDA90E1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views/webservices/standards.jsp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!=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Proc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iam Cox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SIS Symposium on Reliabl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Orlea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 April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usiness Proces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redit Bureau may have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l requirement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n turn forces the lender to deal with three different recovery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sence of [a] well-defined protocol forces me to…over engineer error handling for every service and system as a whole.”  - CNA Insurance email to BTP-comment list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673-3B5A-4673-A828-320B63BB55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 and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Miscon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PEL and WS-BA not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Misconceptions (repr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7D3-89C8-4A28-8853-EC3A9884A1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BA emulating BP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-BA is a protocol, not an execution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-BA doesn’t express BPEL constructs such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ons and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eparate notion of state in WS-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5CE-2667-4EB7-B756-434B1A38BF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EL emulating WS-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but not qu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PEL join conditions are clumsy for WS-BA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Boolean optimization; all branches must 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use P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PICK order of selection is implementation-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nential state expansion to deal with incomplete bran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BA user can program join conditions without limitations of B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8976-2967-466C-BD8C-2209D79AE4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EL emulating WS-BA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EL expresses too much and too li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PEL is a programm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hard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ava, C#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agreement is not part of B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 platform-specific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PEL recognizes need for WS-TX or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4D2-79AD-4649-9201-8A59965738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EL emulating WS-BA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EL a hard way to express common transactional sit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EL is prescriptive on SOAP h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to layer without changes to the sp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D38-7E12-4935-B626-6B471A0D73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 and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Miscon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EL and WS-BA not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mmon Misconceptions (repr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0CA-F819-45EC-BDB1-E749F47F4F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Misconceptions (reprise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a transaction tree is similar to a business process graph, business processes can do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ilar doesn’t mean the same. BPEL can’t effectively do 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have business processes you don’t need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’ll need transactions for distributed agreement. Are you using web services for process step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have business processes you ONLY need atomic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low the level of this talk. Atomic transactions aren’t distribu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BusinessActivity requires WS-Coordination which requires a single coordinator, and that’s a problem for distribute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on-issue. Who’s running your business process, by the wa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626-E987-4BD8-8F1B-F04244321D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Misconceptions (reprise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 can be hidden completely within a business activity, so if you need them you can use anything you want (and mix and mat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if you care about recovery and need application logic you need to ex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business processes need transactions, and transactions can be implemented by business processes, isn’t this an infinite recur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. You don’t want to use business processes to implement transactions, only to describe their seman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don’t need transactions for business process failure 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you don’t. But you’ll save money and time by using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operation of transaction protocols isn’t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you have more than one business partner, and use more than one transaction protocol among your part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FB1-DFA8-44C1-8F4E-1B4EA2597D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 for multiple partnerships is hard. WS-BA can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BA cannot express business processes as can B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EL can superficially describe BusinessActivity transactions, but cannot express their semantics in a meaningful and effective 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try to push application logic into transaction protocols. Use transaction protocols to support application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believe everything you hear around th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65C-C6F1-4A54-89C1-002B948AC4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 and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Miscon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EL and WS-BA not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Misconceptions (repr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F5F-7267-45E0-8134-0DFE7AC515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-Coord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-Business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Lucida Grande"/>
                <a:hlinkClick r:id="rId1"/>
              </a:rPr>
              <a:t>http://www-106.ibm.com/developerworks/views/webservices/standards.jsp</a:t>
            </a:r>
            <a:r>
              <a:rPr b="0" lang="en-US" sz="9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phabetization problems--some under “WS-”, some under “Web Servic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rosoft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http://msdn.microsoft.com/library/default.asp?url=/library/en-us/dnglobspec/html/wsatspecindex.as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Grande"/>
              </a:rPr>
              <a:t>http://dev2dev.bea.com/technologies/webservices/standards.js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operability and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http://www-106.ibm.com/developerworks/offers/WS-Specworkshops/ws-tx200402post.html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http://msdn.microsoft.com/webservices/community/workshops/transactionws032004.aspx </a:t>
            </a:r>
            <a:br>
              <a:rPr sz="16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 Business Process Execution Language OASIS Technical 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Grande"/>
              </a:rPr>
              <a:t>http://www.oasis-open.org/committees/tc_home.php?wg_abbrev=wsbpe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925-959A-4275-BD96-8E1ED5B700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Processes and [long-running distributed] Transactions have some simila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conceptions about their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what that relationship is, and what it should/could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ansactions support business processes, and business processes can do transact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per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9AC-CB14-481E-BC2B-A9C7FA397B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A (X/Open) ACID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MG Object Transactio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Extended Structures for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P (similar goals but more compl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EL4WS (BEA, IBM, MS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 Business Process Execution Language OASIS Technical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examples and sketches are based on recent version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EL4WS 1.1 [BPE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-BusinessActivity 1.1 [WS-B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-Coordination 1.1 [WS-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1E0-8DD9-458D-B97C-4BFBFC9CCA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g-running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siness Transaction Spe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Transaction Process (OASIS TC 2000, C Draft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Transaction/WS-Coordination (BEA/IBM/Microsoft 2002-2003-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CAF (Sun/Oracle/Iona 2003, OASIS 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on protocols, coordination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t results of an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D81-6337-4794-B062-6DB5D0A9BF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 and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mmon Miscon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EL and WS-BA not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Misconceptions (repr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A1C-B90F-4C62-8F2A-4DAA3CD130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Miscon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d around the indust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ce a transaction tree is similar to a business process graph, business processes can do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have business processes you don’t need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have business processes you ONLY need atomic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-BusinessActivity requires WS-Coordination which requires a single coordinator, and that’s a problem for distribute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s can be hidden completely within a business activity, so if you need them you can use anything you want (and mix and mat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business processes need transactions, and transactions can be implemented by business processes, isn’t this an infinite recurs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don’t need transactions for business process failure 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operation of transaction protocols isn’t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E1D-BFA5-4044-B8DC-C5CAC4369B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ed for Distribut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enterprise error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much recovery is manual, expensive, and s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hone call can be expensive and not just in $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want a custom recovery algorithm for each pair of partne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biggest economic benefit of distributed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iseness of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EL is a clumsy way to express transactional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731-C1F6-4C1C-A754-AAEBD70AFE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usiness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lender who wants to create as part of a loan approval process a BP to get credit reports from three different credit bureaus then calculate a credit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371600" y="3124080"/>
            <a:ext cx="6553080" cy="3124080"/>
            <a:chOff x="1371600" y="3124080"/>
            <a:chExt cx="6553080" cy="3124080"/>
          </a:xfrm>
        </p:grpSpPr>
        <p:sp>
          <p:nvSpPr>
            <p:cNvPr id="60" name=""/>
            <p:cNvSpPr/>
            <p:nvPr/>
          </p:nvSpPr>
          <p:spPr>
            <a:xfrm flipV="1">
              <a:off x="2971800" y="36576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24280" y="3657600"/>
              <a:ext cx="1371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71800" y="4876560"/>
              <a:ext cx="137160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724280" y="4876200"/>
              <a:ext cx="137160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600" y="4647960"/>
              <a:ext cx="655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61960" y="4267080"/>
              <a:ext cx="9144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4800" y="4267080"/>
              <a:ext cx="9144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3600" y="4267080"/>
              <a:ext cx="9144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14800" y="5333760"/>
              <a:ext cx="9144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14800" y="3124080"/>
              <a:ext cx="9144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32D-BC73-4AD5-AB74-0A56B4B391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17:35:35Z</dcterms:created>
  <dc:creator>William Cox</dc:creator>
  <dc:description/>
  <dc:language>en-US</dc:language>
  <cp:lastModifiedBy>Jane Harnad</cp:lastModifiedBy>
  <dcterms:modified xsi:type="dcterms:W3CDTF">2004-05-04T14:57:21Z</dcterms:modified>
  <cp:revision>33</cp:revision>
  <dc:subject/>
  <dc:title>Advances in WS-Transaction and WS-Coordination</dc:title>
</cp:coreProperties>
</file>