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86551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51000" y="4205520"/>
            <a:ext cx="86551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510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862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77440" y="161928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103880" y="161928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51000" y="420552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77440" y="420552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103880" y="420552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51000" y="1619280"/>
            <a:ext cx="86551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86551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98200" y="463320"/>
            <a:ext cx="710244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510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51000" y="1619280"/>
            <a:ext cx="86551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862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51000" y="4205520"/>
            <a:ext cx="86551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86551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51000" y="4205520"/>
            <a:ext cx="86551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510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862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177440" y="161928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103880" y="161928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51000" y="420552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177440" y="420552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103880" y="420552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51000" y="1619280"/>
            <a:ext cx="86551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86551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86551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98200" y="463320"/>
            <a:ext cx="710244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510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862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1000" y="4205520"/>
            <a:ext cx="86551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86551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251000" y="4205520"/>
            <a:ext cx="86551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10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6862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7440" y="161928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103880" y="161928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251000" y="420552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7440" y="420552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103880" y="420552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98200" y="463320"/>
            <a:ext cx="710244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510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862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51000" y="4205520"/>
            <a:ext cx="86551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londonmarketsystems.com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hyperlink" Target="http://www.londonmarketsystems.com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158480" y="6933600"/>
            <a:ext cx="17280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34BA-5B35-4A11-8FEA-87247E710361}" type="slidenum">
              <a:rPr b="1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90800" y="6933600"/>
            <a:ext cx="255276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b59a8"/>
                </a:solidFill>
                <a:latin typeface="Arial"/>
              </a:rPr>
              <a:t>OASIS Symposium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726080" y="6933600"/>
            <a:ext cx="372420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b59a8"/>
                </a:solidFill>
                <a:latin typeface="Arial"/>
              </a:rPr>
              <a:t>Copyright </a:t>
            </a:r>
            <a:r>
              <a:rPr b="0" lang="en-GB" sz="800" spc="-1" strike="noStrike">
                <a:solidFill>
                  <a:srgbClr val="2b59a8"/>
                </a:solidFill>
                <a:latin typeface="Arial"/>
                <a:ea typeface="Arial"/>
              </a:rPr>
              <a:t>© 2005 London Market Systems Limited. 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92080" y="447840"/>
            <a:ext cx="9361440" cy="6297480"/>
            <a:chOff x="892080" y="447840"/>
            <a:chExt cx="9361440" cy="629748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10234440" y="965160"/>
              <a:ext cx="19080" cy="57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92080" y="6726240"/>
              <a:ext cx="9360000" cy="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4"/>
            <a:stretch/>
          </p:blipFill>
          <p:spPr>
            <a:xfrm>
              <a:off x="8089920" y="447840"/>
              <a:ext cx="2162160" cy="103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"/>
          <p:cNvSpPr/>
          <p:nvPr/>
        </p:nvSpPr>
        <p:spPr>
          <a:xfrm>
            <a:off x="9798120" y="6874920"/>
            <a:ext cx="44928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b59a8"/>
                </a:solidFill>
                <a:latin typeface="Arial"/>
              </a:rPr>
              <a:t>Slide #</a:t>
            </a:r>
            <a:fld id="{C397130F-47D5-46F7-9F27-17A70B24F9EA}" type="slidenum">
              <a:rPr b="0" lang="en-GB" sz="800" spc="-1" strike="noStrike">
                <a:solidFill>
                  <a:srgbClr val="2b59a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2b59a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251000" y="1619280"/>
            <a:ext cx="86551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spcBef>
                <a:spcPts val="1250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b59a8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lvl="1" marL="758880" indent="-374760">
              <a:spcBef>
                <a:spcPts val="1250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b59a8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lvl="2" marL="1152360" indent="-382320"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b59a8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lvl="3" marL="1536840" indent="-382680">
              <a:spcBef>
                <a:spcPts val="1250"/>
              </a:spcBef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b59a8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lvl="4" marL="1913040" indent="-366840">
              <a:spcBef>
                <a:spcPts val="1250"/>
              </a:spcBef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b59a8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lvl="5" marL="1913040" indent="-366840">
              <a:spcBef>
                <a:spcPts val="1250"/>
              </a:spcBef>
              <a:buSzPct val="100000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b59a8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lvl="6" marL="1913040" indent="-366840">
              <a:spcBef>
                <a:spcPts val="1250"/>
              </a:spcBef>
              <a:buSzPct val="100000"/>
              <a:buBlip>
                <a:blip r:embed="rId1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b59a8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90800" y="6933600"/>
            <a:ext cx="255276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b59a8"/>
                </a:solidFill>
                <a:latin typeface="Arial"/>
              </a:rPr>
              <a:t>OASIS Symposium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01800" y="450720"/>
            <a:ext cx="5757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londonmarketsystems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6080" y="6933600"/>
            <a:ext cx="372420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b59a8"/>
                </a:solidFill>
                <a:latin typeface="Arial"/>
              </a:rPr>
              <a:t>Copyright </a:t>
            </a:r>
            <a:r>
              <a:rPr b="0" lang="en-GB" sz="800" spc="-1" strike="noStrike">
                <a:solidFill>
                  <a:srgbClr val="2b59a8"/>
                </a:solidFill>
                <a:latin typeface="Arial"/>
                <a:ea typeface="Arial"/>
              </a:rPr>
              <a:t>© 2005 London Market Systems Limited. 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92080" y="447840"/>
            <a:ext cx="9361440" cy="6297480"/>
            <a:chOff x="892080" y="447840"/>
            <a:chExt cx="9361440" cy="62974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10234440" y="965160"/>
              <a:ext cx="19080" cy="57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4"/>
            <a:stretch/>
          </p:blipFill>
          <p:spPr>
            <a:xfrm>
              <a:off x="892080" y="6726240"/>
              <a:ext cx="9360000" cy="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5"/>
            <a:stretch/>
          </p:blipFill>
          <p:spPr>
            <a:xfrm>
              <a:off x="8089920" y="447840"/>
              <a:ext cx="2162160" cy="103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28520" y="2990880"/>
            <a:ext cx="7259400" cy="33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2b59a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588600" y="6559560"/>
            <a:ext cx="17280" cy="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1250"/>
              </a:spcBef>
              <a:buSzPct val="102792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1250"/>
              </a:spcBef>
              <a:buSzPct val="102792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1250"/>
              </a:spcBef>
              <a:buSzPct val="102792"/>
              <a:buBlip>
                <a:blip r:embed="rId1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1250"/>
              </a:spcBef>
              <a:buSzPct val="102792"/>
              <a:buBlip>
                <a:blip r:embed="rId1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9720" y="6743880"/>
            <a:ext cx="9801360" cy="1440"/>
          </a:xfrm>
          <a:prstGeom prst="line">
            <a:avLst/>
          </a:prstGeom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9720" y="7110360"/>
            <a:ext cx="9828360" cy="1800"/>
          </a:xfrm>
          <a:prstGeom prst="line">
            <a:avLst/>
          </a:prstGeom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90800" y="6933600"/>
            <a:ext cx="255276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80099"/>
                </a:solidFill>
                <a:latin typeface="Arial"/>
              </a:rPr>
              <a:t>18 November 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0360" y="374760"/>
            <a:ext cx="2120760" cy="1249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168800" y="360360"/>
            <a:ext cx="5757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londonmarketsystems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6080" y="6933600"/>
            <a:ext cx="32860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80099"/>
                </a:solidFill>
                <a:latin typeface="Arial"/>
              </a:rPr>
              <a:t>Copyright </a:t>
            </a:r>
            <a:r>
              <a:rPr b="0" lang="en-GB" sz="800" spc="-1" strike="noStrike">
                <a:solidFill>
                  <a:srgbClr val="280099"/>
                </a:solidFill>
                <a:latin typeface="Arial"/>
                <a:ea typeface="Arial"/>
              </a:rPr>
              <a:t>© 2004 London Market Systems. 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28520" y="2990880"/>
            <a:ext cx="7259400" cy="33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588600" y="6559560"/>
            <a:ext cx="17280" cy="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1250"/>
              </a:spcBef>
              <a:buSzPct val="102792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1250"/>
              </a:spcBef>
              <a:buSzPct val="102792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mailto:abcoates@londonmarketsystems.com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50800" y="1974960"/>
            <a:ext cx="956304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Reaching Consensus on Code Lists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2b59a8"/>
                </a:solidFill>
                <a:latin typeface="Arial"/>
                <a:ea typeface="Arial"/>
              </a:rPr>
              <a:t>Anthony B. Coates</a:t>
            </a:r>
            <a:br>
              <a:rPr sz="2400"/>
            </a:b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Arial"/>
              </a:rPr>
              <a:t>London Market Systems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Arial"/>
              </a:rPr>
              <a:t>OASIS Symposium 2005, New Orlean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94006b"/>
                </a:solidFill>
                <a:latin typeface="Arial"/>
              </a:rPr>
              <a:t>Turning the tables on code lists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What the “days of the week” example showed was that for each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conceptual code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in a list, there are many possible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associated value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Some of those associated values are suitable for use as unique codes, some are no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is leads to a tabular model, where each row of the table represents a conceptual code, and each column represents an associated value: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Turning the tables on code lists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973160" y="2000160"/>
          <a:ext cx="7689960" cy="40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3160" y="2000160"/>
                    <a:ext cx="768996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Turning the tables on code lists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Notice that the first 4 of the 5 columns are labelled as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key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column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is means that the values in those columns can be used to uniquely identify the rows, and hence they can be used as code list value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term key is used here is the same fashion as for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relational database tabl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is is the most common case, where a single column can be used as a key. However, consider the following modification: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Turning the tables on code lists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73160" y="2000160"/>
          <a:ext cx="8361360" cy="40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3160" y="2000160"/>
                    <a:ext cx="836136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Turning the tables on code lists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Here, the first two columns are each a key colum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last two columns are not individually key columns, but together they form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compound key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While the two individual columns do not contain unique values, the pair of values is unique within each row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is is again similar to what happens in some relational databases, that a key for the rows need not be constructed from a single column, but instead may be constructed by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combining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two or more column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28880" y="530280"/>
            <a:ext cx="597672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94006b"/>
                </a:solidFill>
                <a:latin typeface="Arial"/>
              </a:rPr>
              <a:t>The code list is in the eye</a:t>
            </a:r>
            <a:br>
              <a:rPr sz="2800"/>
            </a:br>
            <a:r>
              <a:rPr b="1" lang="en-GB" sz="2800" spc="-1" strike="noStrike">
                <a:solidFill>
                  <a:srgbClr val="94006b"/>
                </a:solidFill>
                <a:latin typeface="Arial"/>
              </a:rPr>
              <a:t> of the beholder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Once you see the tabular nature that underlies the information that can be associated with code lists, it becomes clear why they can be a source of so much debat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Different users need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different subsets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of the code list informatio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People are inclined to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assume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that the information they need is all the information that anyone need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28880" y="530280"/>
            <a:ext cx="590544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The code list is in the eye</a:t>
            </a:r>
            <a:br>
              <a:rPr sz="2800"/>
            </a:b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 of the beholder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at kind of thinking doesn't work with code lists, because code lists are sufficiently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generic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a concept that they are used across messages/documents, applications, and database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code list details that you need for the XML schemata often will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not be exactly the same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as the details that you need for your database or your applicatio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28520" y="530280"/>
            <a:ext cx="61326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The code list is in the eye</a:t>
            </a:r>
            <a:br>
              <a:rPr sz="2800"/>
            </a:b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 of the beholder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XML schema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may only require a set of 3-letter codes to represent the code lis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database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may require a set of numeric codes, plus display labels (possibly in different languages)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application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may need to know which 3-letter code corresponds to which numeric code, so that it can process the XML and update the databas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ll of this code list information needs to be able to be stored together in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single representation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of the code list, so that all usages of the code list can be generated from the same source informatio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94006b"/>
                </a:solidFill>
                <a:latin typeface="Arial"/>
              </a:rPr>
              <a:t>The only constant is change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Code lists chang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For a code list model to be useful, it has to account for the fact that the code lists will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change over tim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re is little use in having a code list model that works only for a code list that is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frozen in tim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code list model has to support changes between versions of a code lis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In terms of the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tabular model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of code lists that has been shown, the following are typical local customisations: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The only constant is change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dd or remove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row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(the set of values associated with a conceptual code)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dd or remove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column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(a type of value associated with each conceptual code)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dd or remove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key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. Adding a key involves specifying the column(s) to be used for the key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94006b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928520" y="1974960"/>
            <a:ext cx="798012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HG Mincho Light J"/>
              </a:rPr>
              <a:t>Introductio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HG Mincho Light J"/>
              </a:rPr>
              <a:t>What a difference a day make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HG Mincho Light J"/>
              </a:rPr>
              <a:t>Turning the tables on code list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HG Mincho Light J"/>
              </a:rPr>
              <a:t>The code list is in the eye of the beholder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HG Mincho Light J"/>
              </a:rPr>
              <a:t>The only constant is chang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HG Mincho Light J"/>
              </a:rPr>
              <a:t>I'm a model, you know what I mea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HG Mincho Light J"/>
              </a:rPr>
              <a:t>Example code list documen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HG Mincho Light J"/>
              </a:rPr>
              <a:t>Conclusio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The only constant is change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dd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one or more rows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from a set of code lists together. This implies that the columns are the same, or that null values will be used as required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dd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one or more columns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from a set of code lists together. This implies that there is at least one key in common in each row, and that there are no keys with conflicting values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Remove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rows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for which a key value matches the key value in another code list (this can be used to delete a particular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pre-defined subset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of the codes)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The only constant is change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Modify a cell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value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(one of the values associated with a code). Note that this may impact whether the affected column can be used as a key or not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Create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derived column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whose values are generated from the values in other column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The only constant is change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re should also be a way for users to understand easily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how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their local code list was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derived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from one or more other code list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re needs to be an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audit trail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is means that the code list model needs to model the ways that code lists are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modified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It also needs to be clear how to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regenerate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a derived code list when the underlying code lists chang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94006b"/>
                </a:solidFill>
                <a:latin typeface="Arial"/>
              </a:rPr>
              <a:t>I'm a model, you know what I mea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We will shortly publish a UBL code list document with diagrams of the code list model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However, detailed diagrams don't work so well in presentations, so I will summarise the content of the diagrams in a series of slide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re is both a model, in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UML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, and a W3C XML Schema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I will refer to the Schema to make things concrete, but understand that there is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separate model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which underpins it, and could be implemented in other (schema) language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I'm a model, you know what I mea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re are 3 kinds of documents that the Schema supports, and 3 global elements that can be the document roo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1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ColumnSet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Arial"/>
              </a:rPr>
              <a:t>—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defines a set of columns and keys that can be re-used in code list definition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1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CodeList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Arial"/>
              </a:rPr>
              <a:t>—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definition of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simple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or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derived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code lis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1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CodeListSet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Arial"/>
              </a:rPr>
              <a:t>— a set of code list versions, used to define a code list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  <a:ea typeface="Arial"/>
              </a:rPr>
              <a:t>configuratio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I'm a model, you know what I mea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ink back to the earlier tabular examples: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969920" y="2639880"/>
          <a:ext cx="8361360" cy="4016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9920" y="2639880"/>
                    <a:ext cx="836136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I'm a model, you know what I mea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column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is a class of value that can be associated with a code in a list, e.g. the code itself, or a human readable nam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 column has an identifier, and can have human readable and machine processable metadata (e.g. names)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Schem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annotation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structure is copied for thi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Each column has a data type.  By default, the W3C XML Schema datatypes are assumed, but the RELAX NG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datatype library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mechanism is copied so that alternative sets of datatypes could be used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I'm a model, you know what I mea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key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is a set of one or more columns whose</a:t>
            </a:r>
            <a:br>
              <a:rPr sz="2400"/>
            </a:b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value(s) can be used to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uniquely identify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an item in a code lis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ny code list must have at least one key (and hence at least one column), but there is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no upper limit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on the number of keys that can be defined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lso, there is no concept of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preferred key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.  Choice of a key is assumed to be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late binding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between a code list and a particular contextual usag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Like columns, each key has a unique identifier and optional metadata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I'm a model, you know what I mea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Columns and keys are defined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either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in a column set or code list definition.  They can be re-used from either in any code list definitio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 simple code list is a tabular definition of the contents of a code lis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Each item in the code list is represented by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&lt;Row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element, and each column is represented by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&lt;Value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in that row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 value can be associated with an explicit column; if not, the column is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inferred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from the order of both the values and columns in the tabl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I'm a model, you know what I mea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 value must be provided for each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required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column, but need not be for an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optional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colum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Only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required columns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can be used for key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94006b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28520" y="1974960"/>
            <a:ext cx="798012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It is not just XML element &amp; attribute names that need to be semantically unambiguous &amp; aligned for interoperability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Content models for elements need to be aligned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lexical form of element and attribute text content also needs to be aligned, i.e.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simple data items need to be represented the same way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is latter point is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more important for applications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than is alignment of content models or element &amp; attribute name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I'm a model, you know what I mea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derived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code list is actually a repeatable sequence of code list operations that can be audited and repeated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Operation types: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ColumnSetExclusion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ColumnSetInclusion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,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ColumnSetMatch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(required inclusion),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ColumnSetUnion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RowExclusion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RowInclusion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RowMatch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RowUnion&gt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 single derived code list definition can contain an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arbitrary depth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of operations, including embedded code list definition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I'm a model, you know what I mea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ll definitions have the following common features: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lvl="1" marL="75888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user-defined human and/or machine readable metadata can be added (validatable)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lvl="1" marL="75888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notional lists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versions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are identified by URI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lvl="1" marL="75888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URIs can be provided as possible locations from which to download a definitio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lvl="1" marL="75888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dereferencing of identifier URIs is not encouraged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pplies to values (not URIs), columns, keys, code lists, and code list set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28880" y="530280"/>
            <a:ext cx="60912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94006b"/>
                </a:solidFill>
                <a:latin typeface="Arial"/>
              </a:rPr>
              <a:t>Example code list document</a:t>
            </a:r>
            <a:br>
              <a:rPr sz="2800"/>
            </a:br>
            <a:r>
              <a:rPr b="1" lang="en-GB" sz="2800" spc="-1" strike="noStrike">
                <a:solidFill>
                  <a:srgbClr val="94006b"/>
                </a:solidFill>
                <a:latin typeface="Arial"/>
              </a:rPr>
              <a:t> (if time permits)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4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?xml version = "1.0"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   encoding = "UTF-8"?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gcl:CodeList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xmlns:gcl="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94006b"/>
                </a:solidFill>
                <a:latin typeface="Courier New"/>
              </a:rPr>
              <a:t>http://xml.genericode.org/2004/ns/CodeList/0.2/</a:t>
            </a:r>
            <a:br>
              <a:rPr sz="20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"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&lt;Identification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ShortNam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untryIdentificationCode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/ShortNam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Version&gt;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1.0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/Version&gt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Example code list document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4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CanonicalUri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urn:oasis:names:specification:ubl</a:t>
            </a:r>
            <a:br>
              <a:rPr sz="2400"/>
            </a:b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   :schema:xsd:CountryIdentificationCode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/CanonicalUri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CanonicalVersionUri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urn:oasis:names:specification</a:t>
            </a:r>
            <a:br>
              <a:rPr sz="2400"/>
            </a:b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   :ubl:schema:xsd</a:t>
            </a:r>
            <a:br>
              <a:rPr sz="2400"/>
            </a:b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   :CountryIdentificationCode-1.0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/CanonicalVersionUri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&lt;/Identification&gt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Example code list document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4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ColumnSet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Column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Id="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untryIdentificationCodeContent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"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Use="required"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ShortNam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untryIdentificationCodeContent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/ShortNam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Data Type="token"/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/Column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Column Id="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deName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" Use="required"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ShortName&gt;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deName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/ShortNam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Data Type="string"/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/Column&gt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Example code list document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4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Key Id="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untryIdentificationCodeContentKey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"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ShortNam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untryIdentificationCodeContentKey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/ShortNam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ColumnRef Ref="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untryIdentificationCodeContent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"/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/Key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&lt;/ColumnSet&gt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Example code list document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4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SimpleCodeList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Row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Value ColumnRef="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untryIdentificationCodeContent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"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 &lt;SimpleValue&gt;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AD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/SimpleValu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/Valu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Value ColumnRef="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deName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"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 &lt;SimpleValue&gt;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ANDORRA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/SimpleValu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/Valu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/Row&gt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Example code list document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4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Row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Value ColumnRef="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untryIdentificationCodeContent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"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 &lt;SimpleValue&gt;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ZW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/SimpleValu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/Valu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Value ColumnRef="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deName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"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 &lt;SimpleValue&gt;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ZIMBABWE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/SimpleValu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/Valu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/Row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&lt;/SimpleCodeList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/gcl:CodeList&gt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94006b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In this presentation, we have examined the reasons why code list models are often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too narrow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tabular model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of a code list, designed to cover a broad range and requirements and usages, has been presented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model captures the fact that code lists may be represented by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different sets of codes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in different circumstances, and that the choice of what is the code and what is associated content can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change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from one usage to another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model is also capable of representing the steps required to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derive a code list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from a set of existing code list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Relationships between code lists are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auditable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, and derivations are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repeatabl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Be aware that the work presented here is still an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early draf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Some items will certainly change as the model and associated WXS Schema are refined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28520" y="1974960"/>
            <a:ext cx="798012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idea that alignment of the lexical form of element and attribute text content is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more important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than alignment of content models or element &amp; attribute names isn't obviou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However, when you talk to the people who build and maintain back-end systems (e.g. in finance, where my background is), it becomes clear that changing code that handles low-level datatypes (often closely tied to a database) is typically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more expensive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than changing code to manage a change in a content model or to element or attribute name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So simple datatype formats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have to be aligned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lso, the work will not be complete until there is a reference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software implementation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that can process a derived code list definition to produce the equivalent simple code lis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Questions, comments?  Ask now, or come chat with me afterward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E-mail me: 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abcoates@londonmarketsystems.com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with “OASIS Symposium 2005” in the subject lin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28520" y="1974960"/>
            <a:ext cx="798012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wide popularity of the W3C XML Schema datatypes has helped somewhat, in terms of aligning date/time and numeric format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is presentation focusses on another key simple datatype –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code lists, </a:t>
            </a:r>
            <a:r>
              <a:rPr b="1" i="1" lang="en-GB" sz="2400" spc="-1" strike="noStrike">
                <a:solidFill>
                  <a:srgbClr val="94006b"/>
                </a:solidFill>
                <a:latin typeface="Arial"/>
              </a:rPr>
              <a:t>aka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 enumerations, </a:t>
            </a:r>
            <a:r>
              <a:rPr b="1" i="1" lang="en-GB" sz="2400" spc="-1" strike="noStrike">
                <a:solidFill>
                  <a:srgbClr val="94006b"/>
                </a:solidFill>
                <a:latin typeface="Arial"/>
              </a:rPr>
              <a:t>aka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 controlled vocabularie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For data-oriented XML particularly, code lists are as important as element &amp; attribute names – they form part of the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complete vocabulary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of the documen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However, every new XML spec takes its own approach to code lists – we need to change tha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94006b"/>
                </a:solidFill>
                <a:latin typeface="Arial"/>
              </a:rPr>
              <a:t>What a difference a day makes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28520" y="1974960"/>
            <a:ext cx="798012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What is a code list, then?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Most people would agree that the following is a code list: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{'SUN', 'MON', 'TUE', 'WED', 'THU', 'FRI', 'SAT'}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is is a perfectly reasonable set of alphabetic codes for representing days of the week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However, so is: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{'Sun', 'Mon', 'Tue', 'Wed', 'Thu', 'Fri', 'Sat'}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What a difference a day makes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28520" y="1974960"/>
            <a:ext cx="798012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se two code lists are very similar, but certainly not identical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at said, they can both be used to represent the days of the week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Of course, you could also use: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{'Dim', 'Lun', 'Mar', 'Mer', 'Jeu', 'Ven', 'Sam'}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What a difference a day makes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28520" y="1974960"/>
            <a:ext cx="798012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n again, you could use: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{0, 1, 2, 3, 4, 5, 6}</a:t>
            </a:r>
            <a:br>
              <a:rPr sz="2400"/>
            </a:b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which is suitable as a computer representation, e.g. for a database colum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On the other hand: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{'S', 'M', 'T', 'W', 'T', 'F', 'S'}</a:t>
            </a:r>
            <a:br>
              <a:rPr sz="2400"/>
            </a:b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is not suitable as a code list for the days of the week, because the values are not uniqu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What a difference a day makes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re is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choice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of code lists that can be used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answer to the question "which choice is the best?" depends on the needs of each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particular situatio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No wonder it is so hard to agree on “what is a code list”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Even agreeing on “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what are the codes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” is non-trivial, because there is no globally unique, unambiguous, one-size-fits-all answer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re are choices to be made, and any solution has to offer the necessary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freedom of choic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