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564688" cy="7278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B9F76-566B-454A-AC5A-15E8A1808E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93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3524400"/>
            <a:ext cx="8763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440240"/>
            <a:ext cx="8763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A66D4-7C7C-4DD3-BFDB-E8DDD62E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93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3524400"/>
            <a:ext cx="427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1160" y="3524400"/>
            <a:ext cx="427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440240"/>
            <a:ext cx="427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71160" y="4440240"/>
            <a:ext cx="427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8BA02-D1A7-4F18-8EEF-F2A047E6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193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3524400"/>
            <a:ext cx="282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3680" y="3524400"/>
            <a:ext cx="282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06480" y="3524400"/>
            <a:ext cx="282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440240"/>
            <a:ext cx="282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3680" y="4440240"/>
            <a:ext cx="282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06480" y="4440240"/>
            <a:ext cx="282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E60AB-4A39-4072-AF6C-B5378587B1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93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35244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93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35244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93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3524400"/>
            <a:ext cx="427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71160" y="3524400"/>
            <a:ext cx="427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93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193320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93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3524400"/>
            <a:ext cx="427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1160" y="3524400"/>
            <a:ext cx="427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440240"/>
            <a:ext cx="427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93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35244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4E912-B0D2-47F5-80B6-8E13A9C4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93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3524400"/>
            <a:ext cx="427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1160" y="3524400"/>
            <a:ext cx="427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71160" y="4440240"/>
            <a:ext cx="427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93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3524400"/>
            <a:ext cx="427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1160" y="3524400"/>
            <a:ext cx="427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4440240"/>
            <a:ext cx="8763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93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3524400"/>
            <a:ext cx="8763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4440240"/>
            <a:ext cx="8763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93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3524400"/>
            <a:ext cx="427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1160" y="3524400"/>
            <a:ext cx="427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4440240"/>
            <a:ext cx="427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71160" y="4440240"/>
            <a:ext cx="427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93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3524400"/>
            <a:ext cx="282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3680" y="3524400"/>
            <a:ext cx="282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06480" y="3524400"/>
            <a:ext cx="282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4440240"/>
            <a:ext cx="282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3680" y="4440240"/>
            <a:ext cx="282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06480" y="4440240"/>
            <a:ext cx="282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93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35244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1B0D8-CEFC-4D82-BFB7-178078CD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93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3524400"/>
            <a:ext cx="427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1160" y="3524400"/>
            <a:ext cx="427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414E7-7965-4354-BB97-D7542E89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93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500FA-F55E-4614-8A72-8A5F2BE9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193320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1BB5A-C2DB-427B-9069-9E658694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93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3524400"/>
            <a:ext cx="427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1160" y="3524400"/>
            <a:ext cx="427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440240"/>
            <a:ext cx="427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2F25F-598E-4C07-9F46-52A5E673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93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3524400"/>
            <a:ext cx="4276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1160" y="3524400"/>
            <a:ext cx="427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71160" y="4440240"/>
            <a:ext cx="427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41EBF-1782-4483-8B87-5F0DCDC4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93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3524400"/>
            <a:ext cx="427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1160" y="3524400"/>
            <a:ext cx="42760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440240"/>
            <a:ext cx="8763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4F84F-1626-409E-A3D1-9F5EED21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47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619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88F5-88CA-42C7-B807-3456CA8B30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85800" y="73080"/>
            <a:ext cx="2286000" cy="5364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5715000" y="380880"/>
            <a:ext cx="2651040" cy="171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98400" y="698400"/>
            <a:ext cx="7772400" cy="889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97680" y="5996160"/>
            <a:ext cx="1081080" cy="709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93320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9384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algn="ctr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20024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54296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asis-open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oasis-open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oasis-open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oasis-open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oasis-open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asis-open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asis-open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asis-open.org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162540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he OASIS Symposium on the Future of XML Vocabularie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78000" y="3354480"/>
            <a:ext cx="87660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Multi-Layer XML Data Model for EPC/RF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Ash Parik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Robert Sm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OASIS">
            <a:hlinkClick r:id="rId1"/>
          </p:cNvPr>
          <p:cNvPicPr/>
          <p:nvPr/>
        </p:nvPicPr>
        <p:blipFill>
          <a:blip r:embed="rId2"/>
          <a:srcRect l="0" t="0" r="68540" b="0"/>
          <a:stretch/>
        </p:blipFill>
        <p:spPr>
          <a:xfrm>
            <a:off x="388800" y="6058080"/>
            <a:ext cx="2600640" cy="7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0400" y="43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20"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XML’s Relevant Benefits For EPC/RFID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3204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PC/RFID Data and Supply-Chain Applications In The Domain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st of the EPC/RFID Standards Are XML-Bas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ata Should Be Represented In An Hierarchical Structu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volves Multiple Data Types – EPC, Sensor, Location, PO, ASN, ePedigree, etc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quires Querying and Transformation Of Dat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52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520560" indent="-3204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XML And Related Technologies Such As XQuery, XSLT…: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XML Can Embed Multiple Data Typ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XML Can Embed Existing Dat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XML Can Represent Data In A Hierarchical Structur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XML Can Re-Use Technology And Enable Inter-System Integrat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XQuery Can Provide A Single Point Of Access To All Enterprise System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XQuery / XSLT Can Be Used To Transform Into and From Multiple Forma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XQuery Allows the Comparison And Aggregation Of Dat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XML And Related Technologies Have Rapid Adoption By The Indust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473AA-7A7B-40C7-8684-0D930F84B3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78000" y="2744640"/>
            <a:ext cx="876600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The Multi-Layer Data Model Vocabulary And Schemas For EPC/RF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 Joint Research Effort Between Raining Data Corp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MIT Web Services WAN S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Tentative Release Date July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OASIS">
            <a:hlinkClick r:id="rId1"/>
          </p:cNvPr>
          <p:cNvPicPr/>
          <p:nvPr/>
        </p:nvPicPr>
        <p:blipFill>
          <a:blip r:embed="rId2"/>
          <a:srcRect l="0" t="0" r="68540" b="0"/>
          <a:stretch/>
        </p:blipFill>
        <p:spPr>
          <a:xfrm>
            <a:off x="388800" y="6058080"/>
            <a:ext cx="2600640" cy="7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4127400" y="1054080"/>
            <a:ext cx="4835520" cy="2916360"/>
            <a:chOff x="4127400" y="1054080"/>
            <a:chExt cx="4835520" cy="2916360"/>
          </a:xfrm>
        </p:grpSpPr>
        <p:pic>
          <p:nvPicPr>
            <p:cNvPr id="112" name="epcNetwork" descr=""/>
            <p:cNvPicPr/>
            <p:nvPr/>
          </p:nvPicPr>
          <p:blipFill>
            <a:blip r:embed="rId1"/>
            <a:stretch/>
          </p:blipFill>
          <p:spPr>
            <a:xfrm>
              <a:off x="4127400" y="1216080"/>
              <a:ext cx="4835520" cy="275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5473800" y="1054080"/>
              <a:ext cx="232416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6520" y="6346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20"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he Next-Gen Supply Chain – EPC/RFID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69000" y="6424560"/>
            <a:ext cx="33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PC NETWORK FUNCTIONAL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4160" y="1473120"/>
            <a:ext cx="3609720" cy="4849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221080" y="6424560"/>
            <a:ext cx="26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EDERATED EPC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02746-65A8-4B3B-8DA5-C3120F483C8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305080" y="1860480"/>
            <a:ext cx="317520" cy="4546800"/>
          </a:xfrm>
          <a:prstGeom prst="upDownArrow">
            <a:avLst>
              <a:gd name="adj1" fmla="val 50000"/>
              <a:gd name="adj2" fmla="val 28506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3920" y="6346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20"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he Multi-Layer Data Model Layer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886040" y="1835280"/>
            <a:ext cx="317520" cy="4546440"/>
          </a:xfrm>
          <a:prstGeom prst="upDownArrow">
            <a:avLst>
              <a:gd name="adj1" fmla="val 50000"/>
              <a:gd name="adj2" fmla="val 285046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87520" y="3797280"/>
            <a:ext cx="152640" cy="698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761760" y="1866960"/>
            <a:ext cx="1057320" cy="4533840"/>
          </a:xfrm>
          <a:prstGeom prst="triangle">
            <a:avLst>
              <a:gd name="adj" fmla="val 50000"/>
            </a:avLst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NULARITY OF INFORMATION AND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360" y="6421320"/>
            <a:ext cx="108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E GRAI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7120" y="1608120"/>
            <a:ext cx="132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ARSE GRAI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7000" t="0" r="0" b="0"/>
          <a:stretch/>
        </p:blipFill>
        <p:spPr>
          <a:xfrm>
            <a:off x="2928960" y="1879560"/>
            <a:ext cx="567036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18330-598F-4B8B-BF9E-9ECD2744DE9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847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APPLICATION LEVEL EVENT (ALE) INTERFACE</a:t>
            </a:r>
            <a:endParaRPr b="1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04880" y="1619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 Narrow"/>
              </a:rPr>
              <a:t>ALE – Main API Class will look like this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efine(specname:String, spec:ECSpec) :voi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undefined(specName:String) :voi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getECSpec(specName:String) : ECSpec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getECSpecNames() : List  //returns a list of spec name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bscribe(specName:String, notificationURI:string) : voi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unsubscribe(specName:String, notificationURI:string) : voi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oll(specName:String) : ECReport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mmediate(spec:ECSpec) : ECReport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getSubscribers(specName:String) : List //of notification URI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getStandardVersion() : String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getVendorVersion() : String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&lt;extension point&gt;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 Narrow"/>
              </a:rPr>
              <a:t>ECSpec details</a:t>
            </a: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aders: List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//list of logical reader name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oundaries: ECBoundarySpec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portSpecs: List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//list of one or more ECReportSpec instances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includeSpecInreport: Boolean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4629240" y="4702320"/>
            <a:ext cx="4514760" cy="1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CBoundarySpec, specifies how the beginning and end of event cycles are to be determined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tartTrigger : ECTrig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repeatPeriod : ECTi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topTrigger : ECTrig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uration : ECTi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tableSetIntervals : ECTi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&lt;extension point&gt;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F0B3E-37A2-476D-B630-17CE6863C356}" type="slidenum">
              <a:t>14</a:t>
            </a:fld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47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PPLICATION LEVEL EVENT – CONT.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04880" y="1619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ECTim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, denotes a span of time measured in physical time units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uration : lo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unit : ECTimeUnit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millisecond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ECReportSpec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, specifies one report to be returned from executing an event cycle. An ECSpec contains a list of one or more ECReportSpec instances: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eportName : string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eportSet: ECReportSetSpec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ilter : ECFilterSpec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roup : ECGroupSpec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utput : ECReportOutputSpec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eportIfEmpty : Boolea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eportOnlyOnChange : Boolea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ECReportSetSpec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: CURRENT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|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DDITIONS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|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ELETION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ECFilterSpec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, specifies what EPCs are to be included in the final report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cludePatterns : List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list of epc patterns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xcludePatterns : List //list of epc patterns to exclude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667C9-84A8-4971-800B-F4AE11801514}" type="slidenum">
              <a:t>15</a:t>
            </a:fld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847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vent &amp; Master Data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612800" y="1789920"/>
            <a:ext cx="5486040" cy="4230360"/>
            <a:chOff x="1612800" y="1789920"/>
            <a:chExt cx="5486040" cy="4230360"/>
          </a:xfrm>
        </p:grpSpPr>
        <p:sp>
          <p:nvSpPr>
            <p:cNvPr id="133" name=""/>
            <p:cNvSpPr/>
            <p:nvPr/>
          </p:nvSpPr>
          <p:spPr>
            <a:xfrm>
              <a:off x="3155760" y="3013200"/>
              <a:ext cx="914400" cy="114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izStep Vocabul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eiving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hipping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74840" y="4411440"/>
              <a:ext cx="194292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izLocation Vocabul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rn:epc:id:sgln:0614141.12345.0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rn:epc:id:sgln:0614141.33254.0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rn:epc:id:sgln:0614141.33254.1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…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26920" y="2819160"/>
              <a:ext cx="525780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70320" y="2475360"/>
              <a:ext cx="91440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Event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41720" y="2819160"/>
              <a:ext cx="1143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Master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84520" y="3390480"/>
              <a:ext cx="171432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izLocationRequired = true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84520" y="4533480"/>
              <a:ext cx="1371600" cy="68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ddress = 123 Elm St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ity = Anytown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stalCode = 12345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69920" y="2361240"/>
              <a:ext cx="342720" cy="1257840"/>
            </a:xfrm>
            <a:custGeom>
              <a:avLst/>
              <a:gdLst/>
              <a:ahLst/>
              <a:rect l="l" t="t" r="r" b="b"/>
              <a:pathLst>
                <a:path w="540" h="1980">
                  <a:moveTo>
                    <a:pt x="0" y="0"/>
                  </a:moveTo>
                  <a:lnTo>
                    <a:pt x="180" y="0"/>
                  </a:lnTo>
                  <a:lnTo>
                    <a:pt x="180" y="1980"/>
                  </a:lnTo>
                  <a:lnTo>
                    <a:pt x="540" y="19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89000" y="2441160"/>
              <a:ext cx="228600" cy="11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12800" y="1789920"/>
              <a:ext cx="27432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bserveEv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ime = 1:23pm 15 Mar 2004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EPC = urn:epc:id:sgtin:0614141.100734.400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bizStep = shipping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bizLocation = urn:epc:id:sgln:0614141.12345.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41320" y="2590200"/>
              <a:ext cx="571320" cy="2171520"/>
            </a:xfrm>
            <a:custGeom>
              <a:avLst/>
              <a:gdLst/>
              <a:ahLst/>
              <a:rect l="l" t="t" r="r" b="b"/>
              <a:pathLst>
                <a:path w="900" h="3420">
                  <a:moveTo>
                    <a:pt x="0" y="0"/>
                  </a:moveTo>
                  <a:lnTo>
                    <a:pt x="0" y="3420"/>
                  </a:lnTo>
                  <a:lnTo>
                    <a:pt x="900" y="34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84520" y="339048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84520" y="453348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41800" y="476172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84320" y="3619440"/>
              <a:ext cx="159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4012920" y="4533120"/>
              <a:ext cx="227880" cy="2057400"/>
            </a:xfrm>
            <a:custGeom>
              <a:avLst/>
              <a:gdLst>
                <a:gd name="textAreaLeft" fmla="*/ 0 w 227880"/>
                <a:gd name="textAreaRight" fmla="*/ 82080 w 22788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6013440" y="4704480"/>
              <a:ext cx="227880" cy="1714320"/>
            </a:xfrm>
            <a:custGeom>
              <a:avLst/>
              <a:gdLst>
                <a:gd name="textAreaLeft" fmla="*/ 0 w 227880"/>
                <a:gd name="textAreaRight" fmla="*/ 82080 w 227880"/>
                <a:gd name="textAreaTop" fmla="*/ 44640 h 1714320"/>
                <a:gd name="textAreaBottom" fmla="*/ 1669680 h 171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13000" y="5676840"/>
              <a:ext cx="194292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Master Data Vocabula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70400" y="5676840"/>
              <a:ext cx="171432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 Narrow"/>
                </a:rPr>
                <a:t>Master Data Attribu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98800" y="1789920"/>
              <a:ext cx="91440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 Narrow"/>
                </a:rPr>
                <a:t>Event fiel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670200" y="1904040"/>
              <a:ext cx="684720" cy="45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0854-FED3-44F5-8388-6A4C958253D2}" type="slidenum">
              <a:t>16</a:t>
            </a:fld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847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Capture - Core Event Type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7360" y="1361880"/>
            <a:ext cx="828648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EPCISEvent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- is intended to serve as a generic base class for all event types in this module as well as                 others. 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jectEvent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- represents an event that happened to one or more entities denoted by EPCs.    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       Includes list of EPCs in this object.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sociationEvent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- represents an event that implies an association between one or more entities denoted by EPCs. Example: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ggregation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ifferent EPCs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uantityEvent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- represents an event concerned with a specific quantity of entities sharing a common EPC class, but where the individual identities of the entities are not known. (Individual not reported)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006640" y="3467160"/>
            <a:ext cx="5153040" cy="306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B7D18-5ACF-4C89-8940-13E771F715C6}" type="slidenum">
              <a:t>17</a:t>
            </a:fld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847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EPCIS Query Interface 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04880" y="1619280"/>
          <a:ext cx="7772040" cy="4495320"/>
        </p:xfrm>
        <a:graphic>
          <a:graphicData uri="http://schemas.openxmlformats.org/drawingml/2006/table">
            <a:tbl>
              <a:tblPr/>
              <a:tblGrid>
                <a:gridCol w="4879800"/>
                <a:gridCol w="289224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e(queryname:String, query:Quer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ster query with EAGEPC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defined(queryName:Strin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move the query by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cribe(queryName:String, dest:URI, SubscriptionControls control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ster a subscriber for previously defined qu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subscribe(queryName:String, dest:URI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moves previously registered subscrip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l(queryName:String) : QueryResu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okes a previously defined qu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mediate(query:Query) : QueryResul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okes a query as specified by the query parameter returning 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tQuerynames(): Li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a list of all query na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tSubscriptions(queryName:String) : Li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a list of all URIs currently subscribed to the specified named qu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tQuery(queryName:String) : Que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urns the query associated with a specified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3312-D188-44B3-A02E-AF17150B047E}" type="slidenum">
              <a:t>18</a:t>
            </a:fld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1320" y="8506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20"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chema For L1: Raw EPC/Sensor Data Feed Event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657" t="17856" r="50164" b="37012"/>
          <a:stretch/>
        </p:blipFill>
        <p:spPr>
          <a:xfrm>
            <a:off x="2158920" y="2135160"/>
            <a:ext cx="4797360" cy="318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CF95D-A18C-4A46-886B-B16C24113BF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99760" y="1504800"/>
            <a:ext cx="8001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3204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troduc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0560" indent="-3204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Next-Gen Supply Chai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0560" indent="-3204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hat Makes XML Ideally Suited for EPC/RFID Data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0560" indent="-3204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Multi-Layer Data Model Vocabulary And Schemas For EPC/RFI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0560" indent="-3204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MLDM and Other OASIS Standards – Working Together In The EPC/RFID Domai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0560" indent="-3204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enefits of the MLD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0560" indent="-32040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52600" y="460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20"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Presentation Agenda 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15AF4-31BD-4A9C-A2E4-FC0AEDF2553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6346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20"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chema For L2: EPC Filtered Event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938" t="31830" r="38071" b="32477"/>
          <a:stretch/>
        </p:blipFill>
        <p:spPr>
          <a:xfrm>
            <a:off x="1463760" y="2475000"/>
            <a:ext cx="594828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C6D02-FEC0-49A0-B502-FE1A4AD5A5A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1320" y="6346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20"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chema For L3: EPC Business Event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938" t="36105" r="61324" b="36105"/>
          <a:stretch/>
        </p:blipFill>
        <p:spPr>
          <a:xfrm>
            <a:off x="2693880" y="2535120"/>
            <a:ext cx="3681360" cy="19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A70E5-7738-415B-9192-D39D6138BAC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320" y="6346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20"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chema For L4: EPC Edge Event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19971" t="33257" r="19598" b="9705"/>
          <a:stretch/>
        </p:blipFill>
        <p:spPr>
          <a:xfrm>
            <a:off x="1643040" y="1967040"/>
            <a:ext cx="5894280" cy="4030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244520" y="5423040"/>
            <a:ext cx="990720" cy="11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03720" y="5460840"/>
            <a:ext cx="990720" cy="115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19840" y="5334120"/>
            <a:ext cx="990720" cy="11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10280" y="3301920"/>
            <a:ext cx="990720" cy="115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6803E-6196-41C8-A456-0D211A58EC6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1320" y="8506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20"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chema For L5: EPC Coordination Event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 rot="10800000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-1312" t="2000" r="-1312" b="-1992"/>
          <a:stretch/>
        </p:blipFill>
        <p:spPr>
          <a:xfrm>
            <a:off x="1511280" y="1943280"/>
            <a:ext cx="6105600" cy="391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F4BE2-F4AB-48BC-A1A7-4CF0A3D8E70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1320" y="8506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20"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Schema For L6: Enterprise Application Event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52760" y="2352600"/>
            <a:ext cx="3610080" cy="29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69D4C-A972-49AA-B452-8BC03F04BD8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78000" y="2744640"/>
            <a:ext cx="876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The MLDM And Other OASIS Standards – Working Together In The EPC/RFID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OASIS">
            <a:hlinkClick r:id="rId1"/>
          </p:cNvPr>
          <p:cNvPicPr/>
          <p:nvPr/>
        </p:nvPicPr>
        <p:blipFill>
          <a:blip r:embed="rId2"/>
          <a:srcRect l="0" t="0" r="68540" b="0"/>
          <a:stretch/>
        </p:blipFill>
        <p:spPr>
          <a:xfrm>
            <a:off x="388800" y="6058080"/>
            <a:ext cx="2600640" cy="7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762280" y="3543480"/>
            <a:ext cx="1676520" cy="1752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ebM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406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he OASIS Standards And The MLDM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759040" y="5372280"/>
            <a:ext cx="167652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SO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62280" y="2933640"/>
            <a:ext cx="16765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ebXML REGIS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62280" y="2324160"/>
            <a:ext cx="16765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WS-BPEL/eb B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25520" y="6324480"/>
            <a:ext cx="271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ASIS WEB SERVICES STANDARDS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4560" y="5372280"/>
            <a:ext cx="167652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MESS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4560" y="4762440"/>
            <a:ext cx="16765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ROU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MESSAG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4560" y="4152960"/>
            <a:ext cx="16765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COORDINA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OF 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BETW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WEB SERVI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4560" y="3543480"/>
            <a:ext cx="167652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TRANSA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(ACI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1480" y="634824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OGICAL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4560" y="2933640"/>
            <a:ext cx="16765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DISCOVE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AN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AGGREG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4560" y="2324160"/>
            <a:ext cx="16765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BUSINESS PRO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SERVICE ORCHESTR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59040" y="1714680"/>
            <a:ext cx="16765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CPP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80" y="1714680"/>
            <a:ext cx="167616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REQUIR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AND CAPABILITIES OF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WEB SERVICE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  <a:ea typeface="Times New Roman"/>
              </a:rPr>
              <a:t>TRADING PARTNER AGR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915080" y="1359000"/>
            <a:ext cx="3609720" cy="4849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451480" y="6297480"/>
            <a:ext cx="25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PC NETWORK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LDM FUNCTIONAL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5FD16-8280-4EFE-90C0-28D19600EF6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78000" y="2744640"/>
            <a:ext cx="876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Benefits Of The ML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OASIS">
            <a:hlinkClick r:id="rId1"/>
          </p:cNvPr>
          <p:cNvPicPr/>
          <p:nvPr/>
        </p:nvPicPr>
        <p:blipFill>
          <a:blip r:embed="rId2"/>
          <a:srcRect l="0" t="0" r="68540" b="0"/>
          <a:stretch/>
        </p:blipFill>
        <p:spPr>
          <a:xfrm>
            <a:off x="388800" y="6058080"/>
            <a:ext cx="2600640" cy="7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90400" y="43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20"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Benefits Of The MLDM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320400">
              <a:spcBef>
                <a:spcPts val="601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MLDM Recommends A Standards-Based XML Model For Data And Meta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20560" indent="-320400">
              <a:spcBef>
                <a:spcPts val="601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 Can Be Used For Representing Information And The Flow Of Information In A Value Chain Covering All Domai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20560" indent="-320400">
              <a:spcBef>
                <a:spcPts val="601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 Can Be Combined With Other XML-Based Standards To Enable 100% COLLABORATION Between Collaborators In The Value Cha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20560" indent="-320400">
              <a:spcBef>
                <a:spcPts val="601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 Can Be Used To Represent And Model Events and Business Processes Ranging From Coarsest To Finest In Granularit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20560" indent="0">
              <a:spcBef>
                <a:spcPts val="601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B641C-76F3-496E-9A16-2B2805E8C3E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57120" y="162540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he OASIS Symposium on the Future of XML Vocabularie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78000" y="3354480"/>
            <a:ext cx="876600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Multi-Layer XML Data Model for EPC/RF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Ash Parik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Robert Sm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OASIS">
            <a:hlinkClick r:id="rId1"/>
          </p:cNvPr>
          <p:cNvPicPr/>
          <p:nvPr/>
        </p:nvPicPr>
        <p:blipFill>
          <a:blip r:embed="rId2"/>
          <a:srcRect l="0" t="0" r="68540" b="0"/>
          <a:stretch/>
        </p:blipFill>
        <p:spPr>
          <a:xfrm>
            <a:off x="388800" y="6058080"/>
            <a:ext cx="2600640" cy="7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78000" y="2744640"/>
            <a:ext cx="876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Introd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OASIS">
            <a:hlinkClick r:id="rId1"/>
          </p:cNvPr>
          <p:cNvPicPr/>
          <p:nvPr/>
        </p:nvPicPr>
        <p:blipFill>
          <a:blip r:embed="rId2"/>
          <a:srcRect l="0" t="0" r="68540" b="0"/>
          <a:stretch/>
        </p:blipFill>
        <p:spPr>
          <a:xfrm>
            <a:off x="388800" y="6058080"/>
            <a:ext cx="2600640" cy="7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71320" y="1542600"/>
            <a:ext cx="8265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320400">
              <a:lnSpc>
                <a:spcPct val="115000"/>
              </a:lnSpc>
              <a:spcBef>
                <a:spcPts val="700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peaker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Ash Parikh 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(ash.parikh@rainingdata.com)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lvl="2" marL="1200240" indent="-32076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Arial Narrow"/>
              <a:buChar char="•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 Narrow"/>
              </a:rPr>
              <a:t>Director of Development And Technology - Enterprise Applications Group, Raining Data Corporation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</a:rPr>
              <a:t>Robert Smik 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(robert.smik@rainingdata.com)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lvl="2" marL="1200240" indent="-320760">
              <a:lnSpc>
                <a:spcPct val="115000"/>
              </a:lnSpc>
              <a:spcBef>
                <a:spcPts val="476"/>
              </a:spcBef>
              <a:buClr>
                <a:srgbClr val="000000"/>
              </a:buClr>
              <a:buFont typeface="Arial Narrow"/>
              <a:buChar char="•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 Narrow"/>
              </a:rPr>
              <a:t>Lead Architect - Enterprise Applications Group, Raining Data Corporation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 marL="520560" indent="-320400">
              <a:lnSpc>
                <a:spcPct val="115000"/>
              </a:lnSpc>
              <a:spcBef>
                <a:spcPts val="700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aining Data Corpor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 Public XML, Web Services and Data Management Software Company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Over 30 Years of Successful Operating History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22m+ Revenue Per Year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Public Company (RDTA)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ustomers Successes Across All Industries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Active on Standards Bodies / Orgs</a:t>
            </a:r>
            <a:endParaRPr b="0" lang="en-US" sz="1500" spc="-1" strike="noStrike">
              <a:solidFill>
                <a:srgbClr val="000000"/>
              </a:solidFill>
              <a:latin typeface="Arial Narrow"/>
            </a:endParaRPr>
          </a:p>
          <a:p>
            <a:pPr lvl="2" marL="1200240" indent="-320760">
              <a:lnSpc>
                <a:spcPct val="115000"/>
              </a:lnSpc>
              <a:spcBef>
                <a:spcPts val="524"/>
              </a:spcBef>
              <a:buClr>
                <a:srgbClr val="000000"/>
              </a:buClr>
              <a:buFont typeface="Arial Narrow"/>
              <a:buChar char="•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OASIS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, EPCGlobal, W3C, MIT Auto-ID Labs,, JCP, CDISC, HL7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  <a:p>
            <a:pPr marL="52056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571680" y="41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20"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About U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9272F-53C3-4D7A-9418-31D29DB9855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78000" y="2744640"/>
            <a:ext cx="8766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The Next-Gen Supply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OASIS">
            <a:hlinkClick r:id="rId1"/>
          </p:cNvPr>
          <p:cNvPicPr/>
          <p:nvPr/>
        </p:nvPicPr>
        <p:blipFill>
          <a:blip r:embed="rId2"/>
          <a:srcRect l="0" t="0" r="68540" b="0"/>
          <a:stretch/>
        </p:blipFill>
        <p:spPr>
          <a:xfrm>
            <a:off x="388800" y="6058080"/>
            <a:ext cx="2600640" cy="7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61960" y="43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20"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The Next-Gen Supply Chain Is…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6200" y="1638000"/>
            <a:ext cx="828684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3204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Next-Gen Supply Chain Is Made Up Of New Technologies That Provide A Greater Degree Of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AUTOMATION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VISIBILITY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5205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marL="520560" indent="-3204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Next-Gen Supply Chain Is Designed To Remove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TIME,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COST, 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-320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COMPLEXITY 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lvl="1" marL="860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. Out Of The Equatio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2C72A-5327-4335-8F66-93091093095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560" y="41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20"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Our Hypothesis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-142920" y="2206800"/>
            <a:ext cx="5191200" cy="30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0560" indent="-320400">
              <a:lnSpc>
                <a:spcPct val="80000"/>
              </a:lnSpc>
              <a:spcBef>
                <a:spcPts val="425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upply Chain Planning (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SCP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) 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320400">
              <a:lnSpc>
                <a:spcPct val="80000"/>
              </a:lnSpc>
              <a:spcBef>
                <a:spcPts val="425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upply Chain Event Management (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SCEM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) 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320400">
              <a:lnSpc>
                <a:spcPct val="80000"/>
              </a:lnSpc>
              <a:spcBef>
                <a:spcPts val="425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upply Chain Integration (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SCI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) +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320400">
              <a:lnSpc>
                <a:spcPct val="80000"/>
              </a:lnSpc>
              <a:spcBef>
                <a:spcPts val="425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Supply Chain Execution Systems (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SCES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) 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20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Warehouse Management Systems (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WMS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) 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20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Manufacturing Resource Planning Systems (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MRP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) 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207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Transportation Management Systems (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TMS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) 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320400">
              <a:lnSpc>
                <a:spcPct val="80000"/>
              </a:lnSpc>
              <a:spcBef>
                <a:spcPts val="425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Global Trade Identification Number (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GTIN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) 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320400">
              <a:lnSpc>
                <a:spcPct val="80000"/>
              </a:lnSpc>
              <a:spcBef>
                <a:spcPts val="425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Global Location Number (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GLN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) 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320400">
              <a:lnSpc>
                <a:spcPct val="80000"/>
              </a:lnSpc>
              <a:spcBef>
                <a:spcPts val="425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Global Data Synchronization Network (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GDSN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320400">
              <a:lnSpc>
                <a:spcPct val="80000"/>
              </a:lnSpc>
              <a:spcBef>
                <a:spcPts val="425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Product Information Managemen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(PIM)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2200320"/>
            <a:ext cx="457200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0560" indent="-320400">
              <a:lnSpc>
                <a:spcPct val="80000"/>
              </a:lnSpc>
              <a:spcBef>
                <a:spcPts val="425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Customer Relationship Management (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CRM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) 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320400">
              <a:lnSpc>
                <a:spcPct val="80000"/>
              </a:lnSpc>
              <a:spcBef>
                <a:spcPts val="425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Order Management Systems (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OMS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) 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320400">
              <a:lnSpc>
                <a:spcPct val="80000"/>
              </a:lnSpc>
              <a:spcBef>
                <a:spcPts val="425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Enterprise Resource Planning Systems (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ERP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) 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320400">
              <a:lnSpc>
                <a:spcPct val="80000"/>
              </a:lnSpc>
              <a:spcBef>
                <a:spcPts val="425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Web Services Definition Language (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WSDL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) 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320400">
              <a:lnSpc>
                <a:spcPct val="80000"/>
              </a:lnSpc>
              <a:spcBef>
                <a:spcPts val="425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Business Process Execution Language (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BPEL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) 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320400">
              <a:lnSpc>
                <a:spcPct val="80000"/>
              </a:lnSpc>
              <a:spcBef>
                <a:spcPts val="425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E-Business Xtensible Mark-up Language (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ebXML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) 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320400">
              <a:lnSpc>
                <a:spcPct val="80000"/>
              </a:lnSpc>
              <a:spcBef>
                <a:spcPts val="425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Automatic Identification and Capture (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AIDC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) 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320400">
              <a:lnSpc>
                <a:spcPct val="80000"/>
              </a:lnSpc>
              <a:spcBef>
                <a:spcPts val="425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Radio Frequency Identification Systems (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RFID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) 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320400">
              <a:lnSpc>
                <a:spcPct val="80000"/>
              </a:lnSpc>
              <a:spcBef>
                <a:spcPts val="425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Object Naming Service (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ONS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) 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320400">
              <a:lnSpc>
                <a:spcPct val="80000"/>
              </a:lnSpc>
              <a:spcBef>
                <a:spcPts val="425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Electronic Product Code (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EPC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) +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320400">
              <a:lnSpc>
                <a:spcPct val="80000"/>
              </a:lnSpc>
              <a:spcBef>
                <a:spcPts val="425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8440" y="5226120"/>
            <a:ext cx="830268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99680" indent="-307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Realize Real ROI, The Next-Gen Supply Chain Should Focus On Using These Technologies To Drive Visibility And Contro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840" indent="-307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Goo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840" indent="-307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Fun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840" indent="-3078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4840" y="1514520"/>
            <a:ext cx="8286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3204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Issue Is That Many Existing And Valuable Technologies And Standards Are Converging…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921CF-0DDA-4CB4-9749-98862C78768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8320" y="585360"/>
            <a:ext cx="823464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Next-Gen Supply Chain And The  Technology Evolution</a:t>
            </a:r>
            <a:endParaRPr b="1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63680" y="1951200"/>
            <a:ext cx="6343560" cy="2076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6560" y="4130640"/>
            <a:ext cx="82296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20560" indent="-3204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Opportun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2076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90% Of Real Gains In Deploying RFID/EPC Solutions Will Happen In The </a:t>
            </a:r>
            <a:r>
              <a:rPr b="1" lang="en-US" sz="1700" spc="-1" strike="noStrike">
                <a:solidFill>
                  <a:srgbClr val="000000"/>
                </a:solidFill>
                <a:latin typeface="Arial Narrow"/>
              </a:rPr>
              <a:t>COLLABORATION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 Zone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3204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ebdings" charset="2"/>
              <a:buChar char="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Challe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0400" indent="-320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 Narrow"/>
              <a:buChar char="–"/>
              <a:tabLst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Using XML And Web Services Technologies To Work Together In A Standards-Based Manner To Improve The Velocity And Flow Of Funds, Goods And Information Throughout Complex Global Supply Chains While Reducing Production, Distribution and Inventory Co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D37F6-414F-44A4-AA02-871D67CCDB0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78000" y="2744640"/>
            <a:ext cx="876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What Makes XML Ideally Suited for EPC/RFID Da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OASIS">
            <a:hlinkClick r:id="rId1"/>
          </p:cNvPr>
          <p:cNvPicPr/>
          <p:nvPr/>
        </p:nvPicPr>
        <p:blipFill>
          <a:blip r:embed="rId2"/>
          <a:srcRect l="0" t="0" r="68540" b="0"/>
          <a:stretch/>
        </p:blipFill>
        <p:spPr>
          <a:xfrm>
            <a:off x="388800" y="6058080"/>
            <a:ext cx="2600640" cy="78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23:00:51Z</dcterms:created>
  <dc:creator/>
  <dc:description/>
  <cp:keywords/>
  <dc:language>en-US</dc:language>
  <cp:lastModifiedBy>Robert Smik</cp:lastModifiedBy>
  <cp:lastPrinted>1999-01-12T02:47:09Z</cp:lastPrinted>
  <dcterms:modified xsi:type="dcterms:W3CDTF">2005-04-26T00:42:01Z</dcterms:modified>
  <cp:revision>1306</cp:revision>
  <dc:subject/>
  <dc:title>Raining Data Corporation  Technology for Innovative Solu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filetime>2002-10-08T07:00:00Z</vt:filetime>
  </property>
  <property fmtid="{D5CDD505-2E9C-101B-9397-08002B2CF9AE}" pid="3" name="Department">
    <vt:lpwstr>Marketing</vt:lpwstr>
  </property>
  <property fmtid="{D5CDD505-2E9C-101B-9397-08002B2CF9AE}" pid="4" name="Owner">
    <vt:lpwstr>Mario Barrenechea</vt:lpwstr>
  </property>
  <property fmtid="{D5CDD505-2E9C-101B-9397-08002B2CF9AE}" pid="5" name="Project">
    <vt:lpwstr>Company Presentation</vt:lpwstr>
  </property>
  <property fmtid="{D5CDD505-2E9C-101B-9397-08002B2CF9AE}" pid="6" name="Reference">
    <vt:lpwstr>Presentations</vt:lpwstr>
  </property>
</Properties>
</file>