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4.png" ContentType="image/png"/>
  <Override PartName="/ppt/media/image4.wmf" ContentType="image/x-wmf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9948D5C-345F-41CC-BFFA-DAF97EBC44B7}" type="datetime3">
              <a:rPr b="0" lang="en-US" sz="900" spc="-1" strike="noStrike">
                <a:solidFill>
                  <a:srgbClr val="000000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8800" y="653760"/>
            <a:ext cx="5078160" cy="380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e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23400" y="4618080"/>
            <a:ext cx="5086440" cy="4000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8"/>
          </p:nvPr>
        </p:nvSpPr>
        <p:spPr>
          <a:xfrm>
            <a:off x="392904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9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29EC3FC-A475-43BB-8374-FF1060B83D49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27000" y="654120"/>
            <a:ext cx="5079960" cy="3809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23400" y="4615920"/>
            <a:ext cx="5086440" cy="400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am the Information Architect for Tektronix.  I work in the Technical Communications group (mostly on XML and related developm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92904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6F89A2-8DDF-4670-9CD2-CAB4EDE21F2E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2904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08DD91-2351-4E2A-8290-DC91B3CD9E44}" type="datetime3">
              <a:rPr b="0" lang="en-US" sz="900" spc="-1" strike="noStrike">
                <a:solidFill>
                  <a:srgbClr val="000000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27000" y="654120"/>
            <a:ext cx="5079960" cy="38098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23400" y="4615920"/>
            <a:ext cx="5086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92904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403E414-68EB-48C0-A2E9-20F6E4896364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2904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78BEE5-8BF1-44D1-A27B-0FD03C4A2953}" type="datetime3">
              <a:rPr b="0" lang="en-US" sz="900" spc="-1" strike="noStrike">
                <a:solidFill>
                  <a:srgbClr val="000000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7000" y="654120"/>
            <a:ext cx="5079960" cy="3809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3400" y="4615920"/>
            <a:ext cx="5086440" cy="400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ake a brief look at some of those heroic meas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92904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A1B2828-7F0F-4031-BB13-50846E52E1D3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2904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938FA1-BB40-45AB-B814-00A5C7670985}" type="datetime3">
              <a:rPr b="0" lang="en-US" sz="900" spc="-1" strike="noStrike">
                <a:solidFill>
                  <a:srgbClr val="000000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7000" y="654120"/>
            <a:ext cx="5079960" cy="3809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615920"/>
            <a:ext cx="5086440" cy="400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imalist approac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392904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D810C32-663F-4F45-85A4-C67349FC20D7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92904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341CE16-2C31-4B6F-AC53-F9E2BC344B34}" type="datetime3">
              <a:rPr b="0" lang="en-US" sz="900" spc="-1" strike="noStrike">
                <a:solidFill>
                  <a:srgbClr val="000000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7000" y="654120"/>
            <a:ext cx="5079960" cy="38098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3400" y="4615920"/>
            <a:ext cx="5086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2904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493E48A-9C59-4E49-8E7C-9F8CEA8DCAC9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92904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6F764F-25E7-4C02-92BC-06B700E9E987}" type="datetime3">
              <a:rPr b="0" lang="en-US" sz="900" spc="-1" strike="noStrike">
                <a:solidFill>
                  <a:srgbClr val="000000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27000" y="654120"/>
            <a:ext cx="5079960" cy="38098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23400" y="4615920"/>
            <a:ext cx="5086440" cy="4002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malist approac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92904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DC257C8-EA7D-4943-A400-FE4E81D6BE94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92904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A70185D-82EB-4073-B170-7C69CD8C2B93}" type="datetime3">
              <a:rPr b="0" lang="en-US" sz="900" spc="-1" strike="noStrike">
                <a:solidFill>
                  <a:srgbClr val="000000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27000" y="654120"/>
            <a:ext cx="5079960" cy="38098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23400" y="4615920"/>
            <a:ext cx="5086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2904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BEED7EC-F463-41FC-84E6-871702DC3666}" type="slidenum">
              <a:rPr b="0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877212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92904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DACECA-C05E-494C-B1BB-C6544C45824F}" type="datetime3">
              <a:rPr b="0" lang="en-US" sz="900" spc="-1" strike="noStrike">
                <a:solidFill>
                  <a:srgbClr val="000000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27000" y="654120"/>
            <a:ext cx="5079960" cy="38098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23400" y="4615920"/>
            <a:ext cx="5086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E96F-796F-43FD-B504-06888654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B60-131D-43E6-9CC1-CFA79288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875-AA8F-4258-BAB4-CCEC62EB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DF8-550C-4C04-83B9-FA989ADC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0B49C-1F8C-4087-AE9A-FF03F4F146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A2A34-9689-4F0E-98E2-E1FE5691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07016-A886-43A9-A148-EF1A641C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E9A25-9C86-4248-A094-58DEF68F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4D5EC-B909-4F7F-AF77-1B052C09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2A0C3-1300-449E-B067-6F40D7F9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24868-A19A-4418-92D8-3ABEFE22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A418-BE9E-43B0-9EF1-12AF75F8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0617B-41FD-4D58-A69A-B8420EBA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20990-5C8C-48FD-A874-F5095E61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FB883-2E4F-48CD-9B5B-F2938DFF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980A4-AD7F-4CA3-B91E-9113F3E8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186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CED4C-A7F3-48B8-905D-A80CBB3B13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4810-1F9E-4A16-A1D2-4DE2B15D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BDD-E5C9-49BE-BCB0-207E560F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349-0B76-4D92-AF75-440177B8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D98-C8CF-48BF-8955-FC128A77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354-5539-4909-95AF-25515EBC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186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E6E-C29A-4053-B99E-A3ACA39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186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FB5-B7F8-44EA-9CF7-7422242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Click to edit the title text format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1100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2" marL="1262160" indent="-344520">
              <a:spcBef>
                <a:spcPts val="1100"/>
              </a:spcBef>
              <a:buClr>
                <a:srgbClr val="b00000"/>
              </a:buClr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3" marL="1719360" indent="-343080">
              <a:spcBef>
                <a:spcPts val="1100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4" marL="2176560" indent="-343080">
              <a:spcBef>
                <a:spcPts val="1100"/>
              </a:spcBef>
              <a:buClr>
                <a:srgbClr val="b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5" marL="2176560" indent="-343080">
              <a:spcBef>
                <a:spcPts val="11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6" marL="2176560" indent="-343080">
              <a:spcBef>
                <a:spcPts val="11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D308-7E59-4920-B752-34DB23FBA4CA}" type="datetime3">
              <a:rPr b="0" lang="en-US" sz="900" spc="-1" strike="noStrike">
                <a:solidFill>
                  <a:srgbClr val="ffffff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6320" y="655272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E7E-E3CE-4CBB-95EC-3D3500FBC78F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33520" y="6608880"/>
            <a:ext cx="1440" cy="11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000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5e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5331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5D57-23B8-447B-952C-CF753A0BEAF2}" type="datetime3">
              <a:rPr b="0" lang="en-US" sz="900" spc="-1" strike="noStrike">
                <a:solidFill>
                  <a:srgbClr val="ffffff"/>
                </a:solidFill>
                <a:latin typeface="Tahoma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76320" y="655272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CAF-BFD5-47FC-85BA-23F748C8B26B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6608880"/>
            <a:ext cx="1440" cy="11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1" marL="457200" indent="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2" marL="911160" indent="6480" algn="ctr">
              <a:spcBef>
                <a:spcPts val="201"/>
              </a:spcBef>
              <a:buClr>
                <a:srgbClr val="b00000"/>
              </a:buClr>
              <a:buFont typeface="Wingdings 3" charset="2"/>
              <a:buChar char="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10000"/>
              </a:solidFill>
              <a:latin typeface="Tahoma"/>
            </a:endParaRPr>
          </a:p>
          <a:p>
            <a:pPr lvl="3" marL="1312920" indent="63360" algn="ctr">
              <a:spcBef>
                <a:spcPts val="176"/>
              </a:spcBef>
              <a:buClr>
                <a:srgbClr val="b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Fourth Outline Level</a:t>
            </a:r>
            <a:endParaRPr b="0" lang="en-US" sz="1400" spc="-1" strike="noStrike">
              <a:solidFill>
                <a:srgbClr val="010000"/>
              </a:solidFill>
              <a:latin typeface="Tahoma"/>
            </a:endParaRPr>
          </a:p>
          <a:p>
            <a:pPr lvl="4" marL="1655640" indent="177840" algn="ctr">
              <a:spcBef>
                <a:spcPts val="176"/>
              </a:spcBef>
              <a:buClr>
                <a:srgbClr val="b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Fifth Outline Level</a:t>
            </a:r>
            <a:endParaRPr b="0" lang="en-US" sz="1400" spc="-1" strike="noStrike">
              <a:solidFill>
                <a:srgbClr val="010000"/>
              </a:solidFill>
              <a:latin typeface="Tahoma"/>
            </a:endParaRPr>
          </a:p>
          <a:p>
            <a:pPr lvl="5" marL="1655640" indent="17784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Sixth Outline Level</a:t>
            </a:r>
            <a:endParaRPr b="0" lang="en-US" sz="1400" spc="-1" strike="noStrike">
              <a:solidFill>
                <a:srgbClr val="010000"/>
              </a:solidFill>
              <a:latin typeface="Tahoma"/>
            </a:endParaRPr>
          </a:p>
          <a:p>
            <a:pPr lvl="6" marL="1655640" indent="177840">
              <a:spcBef>
                <a:spcPts val="34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Tahoma"/>
              </a:rPr>
              <a:t>Seventh Outline Level</a:t>
            </a:r>
            <a:endParaRPr b="0" lang="en-US" sz="1400" spc="-1" strike="noStrike">
              <a:solidFill>
                <a:srgbClr val="01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sourceforge.net/projects/xliffroundtrip/" TargetMode="External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5e"/>
                </a:solidFill>
                <a:latin typeface="Tahoma"/>
              </a:rPr>
              <a:t>The Nuts and Bolts; </a:t>
            </a:r>
            <a:br>
              <a:rPr sz="3600"/>
            </a:br>
            <a:r>
              <a:rPr b="0" lang="en-US" sz="2800" spc="-1" strike="noStrike">
                <a:solidFill>
                  <a:srgbClr val="00005e"/>
                </a:solidFill>
                <a:latin typeface="Tahoma"/>
              </a:rPr>
              <a:t>How to use XLIFF Vocabularies, and other Open Standards for XML Translation and Localization</a:t>
            </a:r>
            <a:r>
              <a:rPr b="0" lang="en-US" sz="3600" spc="-1" strike="noStrike">
                <a:solidFill>
                  <a:srgbClr val="00005e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43000" y="40381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The OASIS Symposium on the Future of XML Vocabularie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26 April, 2005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Bryan Schnabel, Tektronix, Inc.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29B15-0D91-45EB-9258-07BDFDDAAAF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237C0C-2051-42C0-A6AB-44382068762C}" type="datetime3">
              <a:rPr lang="en-US"/>
              <a:t>July 28, 20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Afterall. . .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832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“</a:t>
            </a:r>
            <a:r>
              <a:rPr b="0" lang="en-US" sz="2600" spc="-1" strike="noStrike">
                <a:solidFill>
                  <a:srgbClr val="010000"/>
                </a:solidFill>
                <a:latin typeface="Tahoma"/>
              </a:rPr>
              <a:t>Successful business integration relies on agreement between parties on the vocabularies that define the messages they exchange, and the understanding of both the syntax and semantics of the exchanges.”</a:t>
            </a:r>
            <a:endParaRPr b="0" lang="en-US" sz="2600" spc="-1" strike="noStrike">
              <a:solidFill>
                <a:srgbClr val="010000"/>
              </a:solidFill>
              <a:latin typeface="Tahoma"/>
            </a:endParaRPr>
          </a:p>
          <a:p>
            <a:pPr marL="328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28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William Cox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28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Jishnu Mukerji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28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Symposium Co-Chair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28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28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283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* from The OASIS Symposium on the Future of XML Vocabularies, http://www.oasis-open.org/events/symposium_2005/about.php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DB8-1FA1-4D26-B306-921B7397E9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2177C-6CDC-4F46-8E40-5DD157CBAD24}" type="datetime3">
              <a:rPr lang="en-US"/>
              <a:t>July 28, 20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Part II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ahoma"/>
              </a:rPr>
              <a:t>To set the stage for the next parts, here’s an example: a case study</a:t>
            </a:r>
            <a:endParaRPr b="0" lang="en-US" sz="3200" spc="-1" strike="noStrike">
              <a:solidFill>
                <a:srgbClr val="01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172200" y="3048120"/>
            <a:ext cx="2437920" cy="1371240"/>
            <a:chOff x="6172200" y="3048120"/>
            <a:chExt cx="2437920" cy="1371240"/>
          </a:xfrm>
        </p:grpSpPr>
        <p:sp>
          <p:nvSpPr>
            <p:cNvPr id="118" name=""/>
            <p:cNvSpPr/>
            <p:nvPr/>
          </p:nvSpPr>
          <p:spPr>
            <a:xfrm>
              <a:off x="6172200" y="3048120"/>
              <a:ext cx="2302200" cy="1371240"/>
            </a:xfrm>
            <a:prstGeom prst="foldedCorner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72200" y="3048120"/>
              <a:ext cx="243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t III and Part IV will be framed in the context of this case study (most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5A1-BC95-4DDF-A46C-2EFD58D5F8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08D3C-C186-46BB-A968-8E6B9D63F29B}" type="datetime3">
              <a:rPr lang="en-US"/>
              <a:t>July 28, 20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Tektronix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ektronix, Technical Communications department, is typical of many publishing group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taff of about 40 people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b00000"/>
              </a:buClr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tech writers, editors, graphic artists, production people, managers, 2 developers, 1 localization project manager</a:t>
            </a:r>
            <a:endParaRPr b="0" lang="en-US" sz="1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Many thousand pages per year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2" marL="1143000" indent="-228600">
              <a:spcBef>
                <a:spcPts val="201"/>
              </a:spcBef>
              <a:buClr>
                <a:srgbClr val="b00000"/>
              </a:buClr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paper manuals, cd – dvds, online help, manuals on the web (pdf), marketing product datasheets (html), important internal documents</a:t>
            </a:r>
            <a:endParaRPr b="0" lang="en-US" sz="16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F8E-DC45-4175-BBAB-8D071A9048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6F653-AC06-4A4B-BC29-EBF072676B7D}" type="datetime3">
              <a:rPr lang="en-US"/>
              <a:t>July 28, 20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ahoma"/>
              </a:rPr>
              <a:t>For a long time we just published paper, lots of paper</a:t>
            </a:r>
            <a:endParaRPr b="0" lang="en-US" sz="28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We got by rather well, for 17 years, using mostly Interleaf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2173320"/>
            <a:ext cx="7088040" cy="3290760"/>
            <a:chOff x="914400" y="2173320"/>
            <a:chExt cx="7088040" cy="3290760"/>
          </a:xfrm>
        </p:grpSpPr>
        <p:grpSp>
          <p:nvGrpSpPr>
            <p:cNvPr id="125" name=""/>
            <p:cNvGrpSpPr/>
            <p:nvPr/>
          </p:nvGrpSpPr>
          <p:grpSpPr>
            <a:xfrm>
              <a:off x="914400" y="3900240"/>
              <a:ext cx="1613880" cy="1002240"/>
              <a:chOff x="914400" y="3900240"/>
              <a:chExt cx="1613880" cy="1002240"/>
            </a:xfrm>
          </p:grpSpPr>
          <p:graphicFrame>
            <p:nvGraphicFramePr>
              <p:cNvPr id="126" name=""/>
              <p:cNvGraphicFramePr/>
              <p:nvPr/>
            </p:nvGraphicFramePr>
            <p:xfrm>
              <a:off x="1029240" y="3900240"/>
              <a:ext cx="1328040" cy="7401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029240" y="3900240"/>
                        <a:ext cx="1328040" cy="74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8" name=""/>
              <p:cNvSpPr/>
              <p:nvPr/>
            </p:nvSpPr>
            <p:spPr>
              <a:xfrm>
                <a:off x="914400" y="4626000"/>
                <a:ext cx="16138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rvice manu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849480" y="2173320"/>
              <a:ext cx="1804680" cy="929520"/>
              <a:chOff x="3849480" y="2173320"/>
              <a:chExt cx="1804680" cy="929520"/>
            </a:xfrm>
          </p:grpSpPr>
          <p:graphicFrame>
            <p:nvGraphicFramePr>
              <p:cNvPr id="130" name=""/>
              <p:cNvGraphicFramePr/>
              <p:nvPr/>
            </p:nvGraphicFramePr>
            <p:xfrm>
              <a:off x="4072320" y="2173320"/>
              <a:ext cx="1408680" cy="732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1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072320" y="2173320"/>
                        <a:ext cx="1408680" cy="73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" name=""/>
              <p:cNvSpPr/>
              <p:nvPr/>
            </p:nvSpPr>
            <p:spPr>
              <a:xfrm>
                <a:off x="3849480" y="2826360"/>
                <a:ext cx="180468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 manu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6711840" y="3725640"/>
              <a:ext cx="1290600" cy="1543320"/>
              <a:chOff x="6711840" y="3725640"/>
              <a:chExt cx="1290600" cy="15433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7048440" y="3725640"/>
                <a:ext cx="569880" cy="1204920"/>
                <a:chOff x="7048440" y="3725640"/>
                <a:chExt cx="569880" cy="12049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056360" y="3909600"/>
                  <a:ext cx="561960" cy="1020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7056360" y="3725640"/>
                  <a:ext cx="403200" cy="182520"/>
                </a:xfrm>
                <a:prstGeom prst="rtTriangle">
                  <a:avLst/>
                </a:prstGeom>
                <a:solidFill>
                  <a:srgbClr val="00004e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048440" y="4038120"/>
                  <a:ext cx="495360" cy="24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31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000000"/>
                      </a:solidFill>
                      <a:latin typeface="Arial"/>
                    </a:rPr>
                    <a:t>TDS3000Reference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129440" y="4355640"/>
                  <a:ext cx="91800" cy="50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259400" y="4355640"/>
                  <a:ext cx="92160" cy="50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404120" y="4355640"/>
                  <a:ext cx="91800" cy="50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6711840" y="4992480"/>
                <a:ext cx="1290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ference car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>
              <a:off x="3417840" y="3444840"/>
              <a:ext cx="266868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flipH="1">
              <a:off x="2840040" y="445140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752720" y="3106800"/>
              <a:ext cx="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00560" y="445284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02D-0259-46CF-9014-401A268267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8D5AB-2B02-4B1D-8F84-EE444BDC7B3A}" type="datetime3">
              <a:rPr lang="en-US"/>
              <a:t>July 28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14400" y="2514600"/>
            <a:ext cx="53352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le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1981080"/>
            <a:ext cx="4038840" cy="2514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58120" y="2057400"/>
            <a:ext cx="269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lation provider – extraneous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2514600"/>
            <a:ext cx="8380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5029200"/>
            <a:ext cx="1219320" cy="5335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ransl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Word in Trado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2438280"/>
            <a:ext cx="12952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d Ile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3505320"/>
            <a:ext cx="12952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d 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T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581280"/>
            <a:ext cx="83808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r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2133720"/>
            <a:ext cx="53352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le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2286000"/>
            <a:ext cx="53316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le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2438280"/>
            <a:ext cx="53352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lea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352680"/>
            <a:ext cx="53352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3505320"/>
            <a:ext cx="53352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657600"/>
            <a:ext cx="53316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819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3200400"/>
            <a:ext cx="0" cy="3808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733920"/>
            <a:ext cx="259092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31240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29000" y="28195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8160" y="2362320"/>
            <a:ext cx="70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mp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743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1371600"/>
            <a:ext cx="53352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16765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5840" y="1447920"/>
            <a:ext cx="21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hanges during translation 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12400" y="5105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8160" y="3124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5400" y="19810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55400" y="30481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55760" y="1981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$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55760" y="30481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Arial"/>
              </a:rPr>
              <a:t>$$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Translating with Interleaf was complicated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1905120"/>
            <a:ext cx="12193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464796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38680" y="53341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lated documents were usually not main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822-A0A6-4E21-A462-B7127EEE9C7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538F1-A611-43AA-8D50-431350FB6DE8}" type="datetime3">
              <a:rPr lang="en-US"/>
              <a:t>July 28, 2026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An unplanned “what if” happened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nterleaf was purchased by Broadvis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roadvision’s roadmap for Interleaf departed from our requiremen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933-A069-47E2-88B1-083398980C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891C7-F2B5-400A-91DD-F563704AC15A}" type="datetime3">
              <a:rPr lang="en-US"/>
              <a:t>July 28, 20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We had to make a choice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We chose to develop a new system based on open standards, starting with XML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57D-E39C-446F-9270-7A5EE59242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F752A-FC14-418F-B315-743B5FD27143}" type="datetime3">
              <a:rPr lang="en-US"/>
              <a:t>July 28, 20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The price of change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“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Rescue” Interleaf files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Develop a means to transform Interleaf files to XM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Develop the means to extract embedded Interleaf graphics (preserving fonts and vectors)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Select XML tool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Develop XML application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raining and implementat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8C70-C3E9-44FF-8320-E1FDA3560A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56EE7-19F6-4AE7-A52B-932750B9107A}" type="datetime3">
              <a:rPr lang="en-US"/>
              <a:t>July 28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Why it was worth the price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Future proof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If any XML tool evolves away from Tektronix’ requirements, just get a new tool.  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Data needs no “rescue operation”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ne source can be published in many forma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PDF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HTM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Online help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Single sourcing is enabled in a non-proprietary way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ranslation becomes less problematic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B06-87BE-4561-AB11-941B48FE53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C2E58-5641-4EC2-86A9-6B99EB0228EB}" type="datetime3">
              <a:rPr lang="en-US"/>
              <a:t>July 28, 20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Let’s explore this point further: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3b3b3"/>
                </a:solidFill>
                <a:latin typeface="Tahoma"/>
              </a:rPr>
              <a:t>Future proof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Tahoma"/>
              </a:rPr>
              <a:t>If any XML tool evolves away from Tektronix’ requirements, just get a new tool.  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Tahoma"/>
              </a:rPr>
              <a:t>Data needs no “rescue operation”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3b3b3"/>
                </a:solidFill>
                <a:latin typeface="Tahoma"/>
              </a:rPr>
              <a:t>One source can be published in many forma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Tahoma"/>
              </a:rPr>
              <a:t>PDF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Tahoma"/>
              </a:rPr>
              <a:t>HTM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b3b3"/>
                </a:solidFill>
                <a:latin typeface="Tahoma"/>
              </a:rPr>
              <a:t>Online help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3b3b3"/>
                </a:solidFill>
                <a:latin typeface="Tahoma"/>
              </a:rPr>
              <a:t>Single sourcing is enabled in a non-proprietary way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Translation becomes less problematic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404-4512-4662-BDEA-0CC48247C4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CF95C-B2D3-42D8-9184-08B638CBC89B}" type="datetime3">
              <a:rPr lang="en-US"/>
              <a:t>July 28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The thing about language translation. . .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f you are involved in translation, you know just how tricky it can b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It’s never the easiest part of the operation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ome of these topics might really be useful for you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f you’re not involved in translation, just watch this presentation in terms of an OASIS success story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The interaction between different XML vocabularies is an interesting concept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BF0-D11C-448F-A0A0-D7C1B1017A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08994-8D26-41A1-9275-7AE71B3121D5}" type="datetime3">
              <a:rPr lang="en-US"/>
              <a:t>July 28, 20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XML-based translation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1600200"/>
            <a:ext cx="91440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glis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ML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051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4114800"/>
            <a:ext cx="91440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ansla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ML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6600" y="1600200"/>
            <a:ext cx="9144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XLIF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che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171480" y="44197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rot="16200000">
            <a:off x="7238880" y="312408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36040" y="2970360"/>
            <a:ext cx="105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anslates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162920" y="4114800"/>
            <a:ext cx="9144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XLIF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che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53080" y="2514600"/>
            <a:ext cx="2210040" cy="17524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7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Transform XML content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From authoring DTD</a:t>
            </a:r>
            <a:endParaRPr b="0" lang="en-US" sz="1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To XLIFF Schema</a:t>
            </a:r>
            <a:endParaRPr b="0" lang="en-US" sz="16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Transform XML content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From XLIFF Schema</a:t>
            </a:r>
            <a:endParaRPr b="0" lang="en-US" sz="1600" spc="-1" strike="noStrike">
              <a:solidFill>
                <a:srgbClr val="010000"/>
              </a:solidFill>
              <a:latin typeface="Tahoma"/>
            </a:endParaRPr>
          </a:p>
          <a:p>
            <a:pPr lvl="1" marL="743040" indent="-285840">
              <a:spcBef>
                <a:spcPts val="201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To authoring DTD</a:t>
            </a:r>
            <a:endParaRPr b="0" lang="en-US" sz="16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219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b2b XML transa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4038480"/>
            <a:ext cx="13716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86200" y="533412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54864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lated documents are maintained (become ass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8305920" y="4266720"/>
            <a:ext cx="759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5486400"/>
            <a:ext cx="38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, the translation vendors helped write XLIFF; they are quite comfortable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D80-86EC-4D46-B782-B4B2DC83DC9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919F7-F8F1-4BEA-AAA9-F6D8FE03CA28}" type="datetime3">
              <a:rPr lang="en-US"/>
              <a:t>July 28, 2026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Part III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ahoma"/>
              </a:rPr>
              <a:t>The nuts and bolts: here’s a brief look at how XLIFF works.</a:t>
            </a:r>
            <a:endParaRPr b="0" lang="en-US" sz="32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7035-324F-4031-993E-14E6F701CAF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FF4D6-E0A7-4C67-BA65-A92084906790}" type="datetime3">
              <a:rPr lang="en-US"/>
              <a:t>July 28, 20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XLIFF and XML Vocabularies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he XLIFF document stores bilingual source-target strings and metadata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he XLIFF document preserves the structure from the original document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he XLIFF document can contain metadata to aid in other aspects of the translat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Word count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Translation memory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Alternate translations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8D0-E85D-48D5-9A8C-CE857542105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EF508-28A4-45BF-97B4-98948C6292E0}" type="datetime3">
              <a:rPr lang="en-US"/>
              <a:t>July 28, 20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What is XLIFF like to the user?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At Tektronix, for example it goes like this: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006-F62A-4E99-B118-26D8E58D419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F358F-C6A6-4540-986F-2C4E6EFDACBB}" type="datetime3">
              <a:rPr lang="en-US"/>
              <a:t>July 28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Browse XML Repository for English file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79320" y="1517760"/>
          <a:ext cx="734868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517760"/>
                    <a:ext cx="734868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448-C395-495E-B4BD-7A9EB4410EB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8F050-B236-48A8-BFE6-3F4B88DAFABB}" type="datetime3">
              <a:rPr lang="en-US"/>
              <a:t>July 28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Make final edits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066680" y="1089000"/>
          <a:ext cx="6858000" cy="53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89000"/>
                    <a:ext cx="685800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6172200" y="3048120"/>
            <a:ext cx="2437920" cy="1371240"/>
            <a:chOff x="6172200" y="3048120"/>
            <a:chExt cx="2437920" cy="1371240"/>
          </a:xfrm>
        </p:grpSpPr>
        <p:sp>
          <p:nvSpPr>
            <p:cNvPr id="225" name=""/>
            <p:cNvSpPr/>
            <p:nvPr/>
          </p:nvSpPr>
          <p:spPr>
            <a:xfrm>
              <a:off x="6172200" y="3048120"/>
              <a:ext cx="2302200" cy="1371240"/>
            </a:xfrm>
            <a:prstGeom prst="foldedCorner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2200" y="3048120"/>
              <a:ext cx="243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writer uses an “authoring” DTD to do their 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394-36D9-424C-9249-3C5492D1CC8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BE46B-D0AE-46E2-AC80-95E88F4CF7AA}" type="datetime3">
              <a:rPr lang="en-US"/>
              <a:t>July 28, 2026</a:t>
            </a:fld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Select “Translation Tools” (custom feature)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1676520"/>
          <a:ext cx="7545240" cy="32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54524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228600" y="5334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An XLIFF file is created from the English XML, and ftp’d to the translation vendor (along with the image files, and a composed PDF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F781-3F2B-4F98-B3DD-A0291356770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B98E4F-4B71-4E95-AAF4-75D6B54A8397}" type="datetime3">
              <a:rPr lang="en-US"/>
              <a:t>July 28, 20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Snip of an XLIFF file: prepared for the vendor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&lt;trans-unit resname="Para" tek:trk="n c 7" id="n-c-7"&gt;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&lt;source xml:lang="EN"&gt;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Assignments between logical links and protocols must always be unique. This is especially important if your measurement includes a protocol stack that contains both MTP and LAPx parameters. You can check for uniqueness in the &lt;g id="guilabel-x-d0e318" xmrk:ancs="5" ctype="x guilabel"&gt;Short View&lt;/g&gt; pane. 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&lt;/source&gt;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cc00ff"/>
                </a:solidFill>
                <a:latin typeface="Tahoma"/>
              </a:rPr>
              <a:t>&lt;target state="needs-translation" xml:lang=“ZH"&gt;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Assignments between logical links and protocols must always be unique. This is especially important if your measurement includes a protocol stack that contains both MTP and LAPx parameters. You can check for uniqueness in the &lt;g id="guilabel-x-d0e318" xmrk:ancs="5" ctype="x guilabel"&gt;Short View&lt;/g&gt; pane. 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cc00ff"/>
                </a:solidFill>
                <a:latin typeface="Tahoma"/>
              </a:rPr>
              <a:t>&lt;/target&gt;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&lt;/trans-unit&gt;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572000" y="4038480"/>
            <a:ext cx="4267080" cy="2286000"/>
            <a:chOff x="4572000" y="4038480"/>
            <a:chExt cx="4267080" cy="2286000"/>
          </a:xfrm>
        </p:grpSpPr>
        <p:sp>
          <p:nvSpPr>
            <p:cNvPr id="234" name=""/>
            <p:cNvSpPr/>
            <p:nvPr/>
          </p:nvSpPr>
          <p:spPr>
            <a:xfrm>
              <a:off x="4572000" y="4043520"/>
              <a:ext cx="4267080" cy="2280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24280" y="4038480"/>
              <a:ext cx="4114800" cy="22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All Hierarchical information is preserved in XLIFF fi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Text is presented as Source and Target elements in English; state attribute set to “needs translation”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8D47-42A1-4AE2-87B0-F977FC9B00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7353A-04A3-49D9-8DC9-1E8DB7A79C25}" type="datetime3">
              <a:rPr lang="en-US"/>
              <a:t>July 28, 2026</a:t>
            </a:fld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Vendor translates the target; changes state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&lt;trans-unit resname="Para" tek:trk="n c 7" id="n-c-7"&gt;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&lt;source xml:lang="EN"&gt;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Assignments between logical links and protocols must always be unique. This is especially important if your measurement includes a protocol stack that contains both MTP and LAPx parameters. You can check for uniqueness in the &lt;g id="guilabel-x-d0e318" xmrk:ancs="5" ctype="x guilabel"&gt;Short View&lt;/g&gt; pane. 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&lt;/source&gt;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cc00ff"/>
                </a:solidFill>
                <a:latin typeface="Tahoma"/>
              </a:rPr>
              <a:t>&lt;target </a:t>
            </a:r>
            <a:r>
              <a:rPr b="0" lang="en-US" sz="2000" spc="-1" strike="noStrike">
                <a:solidFill>
                  <a:srgbClr val="d17519"/>
                </a:solidFill>
                <a:latin typeface="Tahoma"/>
              </a:rPr>
              <a:t>state="needs-review-translation"</a:t>
            </a:r>
            <a:r>
              <a:rPr b="0" lang="en-US" sz="2000" spc="-1" strike="noStrike">
                <a:solidFill>
                  <a:srgbClr val="cc00ff"/>
                </a:solidFill>
                <a:latin typeface="Tahoma"/>
              </a:rPr>
              <a:t> xml:lang=“ZH" &gt;</a:t>
            </a:r>
            <a:r>
              <a:rPr b="0" lang="zh-CN" sz="2000" spc="-1" strike="noStrike">
                <a:solidFill>
                  <a:srgbClr val="010000"/>
                </a:solidFill>
                <a:latin typeface="Tahoma"/>
                <a:ea typeface="SimSun"/>
              </a:rPr>
              <a:t>逻辑链接和协议之间的分配必须总是唯一的。如果测量中存在同时包含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  <a:ea typeface="SimSun"/>
              </a:rPr>
              <a:t>MTP </a:t>
            </a:r>
            <a:r>
              <a:rPr b="0" lang="zh-CN" sz="2000" spc="-1" strike="noStrike">
                <a:solidFill>
                  <a:srgbClr val="010000"/>
                </a:solidFill>
                <a:latin typeface="Tahoma"/>
                <a:ea typeface="SimSun"/>
              </a:rPr>
              <a:t>和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  <a:ea typeface="SimSun"/>
              </a:rPr>
              <a:t>LAPx </a:t>
            </a:r>
            <a:r>
              <a:rPr b="0" lang="zh-CN" sz="2000" spc="-1" strike="noStrike">
                <a:solidFill>
                  <a:srgbClr val="010000"/>
                </a:solidFill>
                <a:latin typeface="Tahoma"/>
                <a:ea typeface="SimSun"/>
              </a:rPr>
              <a:t>参数的协议堆栈，那么这一点至关重要。您可以在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  <a:ea typeface="SimSun"/>
              </a:rPr>
              <a:t>&lt;g id="guilabel-x-d0e123" xmrk:ancs="5" ctype="x-guilabel" &gt;Short View</a:t>
            </a:r>
            <a:r>
              <a:rPr b="0" lang="zh-CN" sz="2000" spc="-1" strike="noStrike">
                <a:solidFill>
                  <a:srgbClr val="010000"/>
                </a:solidFill>
                <a:latin typeface="Tahoma"/>
                <a:ea typeface="SimSun"/>
              </a:rPr>
              <a:t>（短视图）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  <a:ea typeface="SimSun"/>
              </a:rPr>
              <a:t>&lt;/g&gt;</a:t>
            </a:r>
            <a:r>
              <a:rPr b="0" lang="zh-CN" sz="2000" spc="-1" strike="noStrike">
                <a:solidFill>
                  <a:srgbClr val="010000"/>
                </a:solidFill>
                <a:latin typeface="Tahoma"/>
                <a:ea typeface="SimSun"/>
              </a:rPr>
              <a:t>窗格中检查其唯一性。</a:t>
            </a:r>
            <a:r>
              <a:rPr b="0" lang="zh-CN" sz="2000" spc="-1" strike="noStrike">
                <a:solidFill>
                  <a:srgbClr val="01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cc00ff"/>
                </a:solidFill>
                <a:latin typeface="Tahoma"/>
              </a:rPr>
              <a:t>&lt;/target&gt;</a:t>
            </a: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&lt;/trans-unit&gt;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663F-4ACA-4BCA-A021-C016FAACE1E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A07BA-9700-4AD4-8494-36A584154530}" type="datetime3">
              <a:rPr lang="en-US"/>
              <a:t>July 28, 20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Translated “pack” is ftp’d back to Tektronix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79320" y="1444680"/>
          <a:ext cx="6291360" cy="32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444680"/>
                    <a:ext cx="6291360" cy="32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685800" y="4800600"/>
            <a:ext cx="7238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sed Chinese PDF file (showp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lated Image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lated English / Chinese XLIFF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927-0D82-46AD-A6D4-EEF96C21FC3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35BC7-596F-4039-B90D-49F9EC9C3A6E}" type="datetime3">
              <a:rPr lang="en-US"/>
              <a:t>July 28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I will tell my story in Parts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art I: Good thing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Why XLIFF is good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Why Open Standards are vita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Why diversity is good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art II: Sketch a quick example (case study)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art III: How does XLIFF work?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Nuts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Bolts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art IV: Demonstrations: interacting XML vocabularie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Technical Documentation and XLIFF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SVG and XLIFF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Online Help and XLIFF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FFC-A5E0-4733-8335-9C031B3C91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F83C4-8115-463F-B035-BB34FC8924D0}" type="datetime3">
              <a:rPr lang="en-US"/>
              <a:t>July 28, 20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Import the translated XLIFF file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362320" y="4952880"/>
            <a:ext cx="1828800" cy="76320"/>
          </a:xfrm>
          <a:prstGeom prst="line">
            <a:avLst/>
          </a:prstGeom>
          <a:ln w="38160">
            <a:solidFill>
              <a:srgbClr val="b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679320" y="1371600"/>
          <a:ext cx="6524640" cy="37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371600"/>
                    <a:ext cx="652464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143000" y="1066680"/>
          <a:ext cx="708660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066680"/>
                    <a:ext cx="708660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685800" y="4952880"/>
            <a:ext cx="7848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LIFF is transformed back into authoring D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s and hierarchy are pre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ed file is checked into XML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DD7-80CE-41B7-AAE4-F22277BD4A6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37287-953C-4636-A4F7-121F4FF334A1}" type="datetime3">
              <a:rPr lang="en-US"/>
              <a:t>July 28, 202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Translated file can go on its merry way . . .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838080" y="1098720"/>
          <a:ext cx="7467840" cy="54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98720"/>
                    <a:ext cx="7467840" cy="54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B9C6-719D-4C19-9EE9-C512F3A9EED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AADE3-607B-43F3-8512-2D2FD5DA214D}" type="datetime3">
              <a:rPr lang="en-US"/>
              <a:t>July 28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PDF file is automatically created for print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143000" y="1012680"/>
          <a:ext cx="678168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12680"/>
                    <a:ext cx="678168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017-8043-4016-B6A1-AA3C90A95C4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C2B2B-4BE9-4896-87B7-1A648FB1CB57}" type="datetime3">
              <a:rPr lang="en-US"/>
              <a:t>July 28, 20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Other media from the same translated XLIFF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28600" y="1219320"/>
          <a:ext cx="5029200" cy="34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5029200" cy="34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572000" y="2666880"/>
          <a:ext cx="4419720" cy="362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666880"/>
                    <a:ext cx="441972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" name=""/>
          <p:cNvGrpSpPr/>
          <p:nvPr/>
        </p:nvGrpSpPr>
        <p:grpSpPr>
          <a:xfrm>
            <a:off x="609480" y="4648320"/>
            <a:ext cx="2438280" cy="1523880"/>
            <a:chOff x="609480" y="4648320"/>
            <a:chExt cx="2438280" cy="1523880"/>
          </a:xfrm>
        </p:grpSpPr>
        <p:grpSp>
          <p:nvGrpSpPr>
            <p:cNvPr id="261" name=""/>
            <p:cNvGrpSpPr/>
            <p:nvPr/>
          </p:nvGrpSpPr>
          <p:grpSpPr>
            <a:xfrm>
              <a:off x="609480" y="5105520"/>
              <a:ext cx="2438280" cy="1066680"/>
              <a:chOff x="609480" y="5105520"/>
              <a:chExt cx="2438280" cy="1066680"/>
            </a:xfrm>
          </p:grpSpPr>
          <p:sp>
            <p:nvSpPr>
              <p:cNvPr id="262" name=""/>
              <p:cNvSpPr/>
              <p:nvPr/>
            </p:nvSpPr>
            <p:spPr>
              <a:xfrm>
                <a:off x="609480" y="5105520"/>
                <a:ext cx="2302560" cy="1066680"/>
              </a:xfrm>
              <a:prstGeom prst="foldedCorner">
                <a:avLst>
                  <a:gd name="adj" fmla="val 125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09480" y="5105520"/>
                <a:ext cx="2438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hinese HTML generated from translated XLIFF f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 flipH="1" flipV="1">
              <a:off x="1523880" y="4648320"/>
              <a:ext cx="763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172200" y="1295280"/>
            <a:ext cx="2590560" cy="1371600"/>
            <a:chOff x="6172200" y="1295280"/>
            <a:chExt cx="2590560" cy="1371600"/>
          </a:xfrm>
        </p:grpSpPr>
        <p:grpSp>
          <p:nvGrpSpPr>
            <p:cNvPr id="266" name=""/>
            <p:cNvGrpSpPr/>
            <p:nvPr/>
          </p:nvGrpSpPr>
          <p:grpSpPr>
            <a:xfrm>
              <a:off x="6172200" y="1295280"/>
              <a:ext cx="2590560" cy="1067040"/>
              <a:chOff x="6172200" y="1295280"/>
              <a:chExt cx="2590560" cy="1067040"/>
            </a:xfrm>
          </p:grpSpPr>
          <p:sp>
            <p:nvSpPr>
              <p:cNvPr id="267" name=""/>
              <p:cNvSpPr/>
              <p:nvPr/>
            </p:nvSpPr>
            <p:spPr>
              <a:xfrm>
                <a:off x="6172200" y="1295280"/>
                <a:ext cx="2446200" cy="1067040"/>
              </a:xfrm>
              <a:prstGeom prst="foldedCorner">
                <a:avLst>
                  <a:gd name="adj" fmla="val 125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72200" y="1295280"/>
                <a:ext cx="2590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hinese Online Help generated from translated XLIFF f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H="1">
              <a:off x="7238880" y="2362320"/>
              <a:ext cx="1526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F74-54E7-4C86-B786-CF93400D8B9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312EF-44DC-4BD6-85AF-B9D296840090}" type="datetime3">
              <a:rPr lang="en-US"/>
              <a:t>July 28, 20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Part IV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ahoma"/>
              </a:rPr>
              <a:t>The demonstrations</a:t>
            </a:r>
            <a:endParaRPr b="0" lang="en-US" sz="3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echnical Documentation and XLIFF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xliffRoundTrip – Tool that converts </a:t>
            </a:r>
            <a:r>
              <a:rPr b="0" i="1" lang="en-US" sz="1800" spc="-1" strike="noStrike">
                <a:solidFill>
                  <a:srgbClr val="0100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5a8600"/>
                </a:solidFill>
                <a:latin typeface="Tahoma"/>
              </a:rPr>
              <a:t>XML</a:t>
            </a: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 to </a:t>
            </a:r>
            <a:r>
              <a:rPr b="0" lang="en-US" sz="18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, and back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SVG and XLIFF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8600"/>
                </a:solidFill>
                <a:latin typeface="Tahoma"/>
              </a:rPr>
              <a:t>SVG</a:t>
            </a: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 to </a:t>
            </a:r>
            <a:r>
              <a:rPr b="0" lang="en-US" sz="18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 to </a:t>
            </a:r>
            <a:r>
              <a:rPr b="0" lang="en-US" sz="1800" spc="-1" strike="noStrike">
                <a:solidFill>
                  <a:srgbClr val="5a8600"/>
                </a:solidFill>
                <a:latin typeface="Tahoma"/>
              </a:rPr>
              <a:t>SVG</a:t>
            </a: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 – Tool for translating text in image files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nline Help and XLIFF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Translate a document via </a:t>
            </a:r>
            <a:r>
              <a:rPr b="0" lang="en-US" sz="18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, and publishing each language as an online help system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0EB-6848-403F-82CE-A9680A9EE45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E04B9-9320-4A92-BFC3-B90B44E44696}" type="datetime3">
              <a:rPr lang="en-US"/>
              <a:t>July 28, 20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5e"/>
                </a:solidFill>
                <a:latin typeface="Tahoma"/>
              </a:rPr>
              <a:t>xliffRoundTrip</a:t>
            </a: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 tool: any doctype will do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Complete round trip for ANY well-formed </a:t>
            </a:r>
            <a:r>
              <a:rPr b="0" lang="en-US" sz="2400" spc="-1" strike="noStrike">
                <a:solidFill>
                  <a:srgbClr val="5a8600"/>
                </a:solidFill>
                <a:latin typeface="Tahoma"/>
              </a:rPr>
              <a:t>XML</a:t>
            </a:r>
            <a:r>
              <a:rPr b="0" lang="en-US" sz="2400" spc="-1" strike="noStrike">
                <a:solidFill>
                  <a:srgbClr val="010000"/>
                </a:solidFill>
                <a:latin typeface="Tahoma"/>
              </a:rPr>
              <a:t> instance and </a:t>
            </a:r>
            <a:r>
              <a:rPr b="0" lang="en-US" sz="24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i="1" lang="en-US" sz="2400" spc="-1" strike="noStrike">
                <a:solidFill>
                  <a:srgbClr val="010000"/>
                </a:solidFill>
                <a:latin typeface="Tahoma"/>
              </a:rPr>
              <a:t>. . . </a:t>
            </a: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10000"/>
                </a:solidFill>
                <a:latin typeface="Tahoma"/>
              </a:rPr>
              <a:t>*</a:t>
            </a:r>
            <a:r>
              <a:rPr b="0" i="1" lang="en-US" sz="2000" spc="-1" strike="noStrike">
                <a:solidFill>
                  <a:srgbClr val="01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10000"/>
                </a:solidFill>
                <a:latin typeface="Tahoma"/>
              </a:rPr>
              <a:t>xliffRoundTrip tool consists of two XSL files I developed for the XLIFF Technical Committee, and a Java application that processes the XML.  I offer them free to the public under GNU license at </a:t>
            </a:r>
            <a:r>
              <a:rPr b="0" lang="en-US" sz="2000" spc="-1" strike="noStrike" u="sng">
                <a:solidFill>
                  <a:srgbClr val="00004e"/>
                </a:solidFill>
                <a:uFillTx/>
                <a:latin typeface="Tahoma"/>
                <a:hlinkClick r:id="rId1"/>
              </a:rPr>
              <a:t>https://sourceforge.net/projects/xliffroundtrip/</a:t>
            </a:r>
            <a:r>
              <a:rPr b="0" lang="en-US" sz="2000" spc="-1" strike="noStrike" u="sng">
                <a:solidFill>
                  <a:srgbClr val="01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943600" y="350496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2666880"/>
            <a:ext cx="1066680" cy="580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XML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7160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3200400"/>
            <a:ext cx="1066680" cy="580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 XLIFF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32767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2666880"/>
            <a:ext cx="1447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48320" y="3124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XLIFF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2971800"/>
            <a:ext cx="1295280" cy="3373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2xliff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708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3352680"/>
            <a:ext cx="1295280" cy="3373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liff2xml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96080" y="2666880"/>
            <a:ext cx="1219320" cy="1067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d (same) XML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934320" y="30481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275-8A62-4E11-8C35-66913F5553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36EC1-613C-47BF-99A9-307F6E4C2A9A}" type="datetime3">
              <a:rPr lang="en-US"/>
              <a:t>July 28, 20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How about that Demo?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478320" y="1447920"/>
            <a:ext cx="2438280" cy="4419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33520" y="17524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t’s break away from PowerPoint for a few minutes for a live demonstration of XLIFF and Technical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DB7E-CF28-4E9A-84CF-7D11C434606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080C9-F330-415D-92C7-DE1D9E56646B}" type="datetime3">
              <a:rPr lang="en-US"/>
              <a:t>July 28, 20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5e"/>
                </a:solidFill>
                <a:latin typeface="Tahoma"/>
              </a:rPr>
              <a:t>SVG to XLIFF to SVG</a:t>
            </a:r>
            <a:endParaRPr b="0" lang="en-US" sz="26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he generic roundtrip can be a good starting point, but sometimes complex document types require specified coding.  Still, open standards should be embraced.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Using open standards, in this demo we will: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View an English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SVG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file in a text editor, the browser, and in Adobe Illustrator   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ransform the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SVG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to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using only standards (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SLT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)   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ranslate the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to some mythical language   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ransform the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back to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SVG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  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View the mythical language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SVG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file in the browser and AI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Look “under the hood” at the code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5A53-4CB3-4151-9E9A-57FDFBD700D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52593-7954-45A9-9DF1-823EEFDDC447}" type="datetime3">
              <a:rPr lang="en-US"/>
              <a:t>July 28, 20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Why do we need more than just the generic tool?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880" y="3429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Namespace challenge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277560" indent="-277560">
              <a:spcBef>
                <a:spcPts val="1001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Less-than-well-formed instance from some SVG tool makers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  <a:p>
            <a:pPr marL="277560" indent="-277560">
              <a:spcBef>
                <a:spcPts val="1001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Judgment call: given the complexity of an SVG file, the generic xliffRoundTrip Tool creates a “difficult-to-read” file (lots of XML “goo” which makes use of vocabularies to model the image geometry)</a:t>
            </a:r>
            <a:endParaRPr b="0" lang="en-US" sz="20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1828800"/>
            <a:ext cx="1066680" cy="580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VG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2362320"/>
            <a:ext cx="1067040" cy="580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id XLIFF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2133720"/>
            <a:ext cx="144792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3623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XLIFF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00200" y="1905120"/>
            <a:ext cx="1295280" cy="580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l – “well form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911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666880"/>
            <a:ext cx="1295280" cy="3373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liff2svg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0120" y="1828800"/>
            <a:ext cx="1218960" cy="824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d SVG in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391520" y="20574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2666880"/>
            <a:ext cx="1295280" cy="3373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vg2xliff.x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5880" y="1905120"/>
            <a:ext cx="1295640" cy="5806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l – “back form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781680" y="2514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8E1-CED9-4A75-BC70-F14B7605B2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63965-81B1-49AB-8B4B-EC2EC0F12AF5}" type="datetime3">
              <a:rPr lang="en-US"/>
              <a:t>July 28, 20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How about that Demo?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478320" y="1447920"/>
            <a:ext cx="2438280" cy="4419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33520" y="17524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t’s break away from PowerPoint for a few minutes for a live demonstration of XLIFF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C6A-B194-422D-9902-4A369101481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A60A2-2C24-4FCC-8CB2-2DB909052B16}" type="datetime3">
              <a:rPr lang="en-US"/>
              <a:t>July 28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Part I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000"/>
                </a:solidFill>
                <a:latin typeface="Tahoma"/>
              </a:rPr>
              <a:t>The Goodness: XLIFF, Open Standards, and Diversity are each good.  And they are related. . .</a:t>
            </a:r>
            <a:endParaRPr b="0" lang="en-US" sz="3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906-2C62-4C6B-A883-6C90DA4E89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60BE9-AAFF-4590-AB6D-5081DA35F6BE}" type="datetime3">
              <a:rPr lang="en-US"/>
              <a:t>July 28, 20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5e"/>
                </a:solidFill>
                <a:latin typeface="Tahoma"/>
              </a:rPr>
              <a:t>Compiling translated XML to online help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Using mostly open standards (exception: the help compiler), we will: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View an English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ML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file in the  Epic Editor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ransform the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ML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to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using open standards (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SLT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)   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ranslate the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to Chinese and German   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Transform the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LIFF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to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HTML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  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Compile the </a:t>
            </a:r>
            <a:r>
              <a:rPr b="0" lang="en-US" sz="2200" spc="-1" strike="noStrike">
                <a:solidFill>
                  <a:srgbClr val="5a8600"/>
                </a:solidFill>
                <a:latin typeface="Tahoma"/>
              </a:rPr>
              <a:t>XHTML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to Compiled online help (alas, MS HTML Help compiler, free but not open standard)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View the Chinese and German online help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88F-3A8E-47B9-859C-71614710BFC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FCD82-9F5B-4D91-86C0-10B4BF5B0995}" type="datetime3">
              <a:rPr lang="en-US"/>
              <a:t>July 28, 20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Open standards produce non-roundtrip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1447920"/>
            <a:ext cx="45720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22096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lish XML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1752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1752480"/>
            <a:ext cx="457200" cy="609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25146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XLIFF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1981080"/>
            <a:ext cx="762120" cy="762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2819520"/>
            <a:ext cx="106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late to Chinese and Ge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1828800"/>
            <a:ext cx="45720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22860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1981080"/>
            <a:ext cx="457200" cy="6098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2743200"/>
            <a:ext cx="99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translated XLIFF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33920" y="2057400"/>
            <a:ext cx="457200" cy="609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0574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SLT 2.0 Transform to XHTML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3200400"/>
            <a:ext cx="289548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SLT: Create the configuration files drawn from the translated XLIFF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ex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7543800" y="3130560"/>
          <a:ext cx="68724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130560"/>
                    <a:ext cx="68724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7391520" y="39625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ine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191120" y="23623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3657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880" y="4648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Difference: the starting point and ending point are not the same doc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2209680"/>
            <a:ext cx="533520" cy="6098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2286000"/>
            <a:ext cx="533160" cy="6094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FC0-E24A-43B8-B33E-FC8B0C37DFEB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C0B1A-FB92-4AB6-B4B3-CF8A57E9C409}" type="datetime3">
              <a:rPr lang="en-US"/>
              <a:t>July 28, 20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How about that Demo?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478320" y="1447920"/>
            <a:ext cx="2438280" cy="4419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33520" y="175248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t’s break away from PowerPoint for a few minutes for a live demonstration of XLIFF and Online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F6F-E149-4A53-87CF-59BD0A7E959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E6718-A5AC-4B51-B622-F0588C29667A}" type="datetime3">
              <a:rPr lang="en-US"/>
              <a:t>July 28, 20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questions . . .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977-C8E4-417D-AEBA-476938E87B9B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6DFF9-31B5-4929-90AE-04A27302099C}" type="datetime3">
              <a:rPr lang="en-US"/>
              <a:t>July 28, 20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In some ways, the relationship is hierarchical or layered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678040" y="1371600"/>
            <a:ext cx="378612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803-4B14-4614-A6F6-B923F100BD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AD572-BDAA-4779-A2CD-6E880908012C}" type="datetime3">
              <a:rPr lang="en-US"/>
              <a:t>July 28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In some ways it’s linear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2625840" cy="60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A71-3333-419C-B75C-2CED1FB4A7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64FFB-30AF-4089-A4AD-735D5A70A54E}" type="datetime3">
              <a:rPr lang="en-US"/>
              <a:t>July 28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XLIFF is good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ML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L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calization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nterchange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F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le </a:t>
            </a:r>
            <a:r>
              <a:rPr b="1" lang="en-US" sz="2200" spc="-1" strike="noStrike">
                <a:solidFill>
                  <a:srgbClr val="010000"/>
                </a:solidFill>
                <a:latin typeface="Tahoma"/>
              </a:rPr>
              <a:t>F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rmat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(from the charter, http://www.oasis-open.org/committees/xliff/charter.php)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urpose of the OASIS XLIFF TC is to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define, throug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XML vocabular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extensible specif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the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interchange of localization inform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specification will provide the ability to mark up and capture localizable data and interoperate with different processes or phases without loss of information.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he vocabularies will be tool-neutr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upport the localization-related aspects of internationalization and the entire localization process.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. . . 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EA1-908D-4523-B81B-B3ABC82C14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10DC5-A2D2-43DD-AC60-7DEAFE730A2F}" type="datetime3">
              <a:rPr lang="en-US"/>
              <a:t>July 28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So, why is XLIFF good?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t’s an open standard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It has been developed by people from all the important disciplines in translation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Tool makers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Translation and localization vendors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End users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2" marL="1262160" indent="-344520">
              <a:spcBef>
                <a:spcPts val="201"/>
              </a:spcBef>
              <a:buClr>
                <a:srgbClr val="b00000"/>
              </a:buClr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Technical communicators and technical developers</a:t>
            </a:r>
            <a:endParaRPr b="0" lang="en-US" sz="1600" spc="-1" strike="noStrike">
              <a:solidFill>
                <a:srgbClr val="010000"/>
              </a:solidFill>
              <a:latin typeface="Tahoma"/>
            </a:endParaRPr>
          </a:p>
          <a:p>
            <a:pPr lvl="2" marL="1262160" indent="-344520">
              <a:spcBef>
                <a:spcPts val="201"/>
              </a:spcBef>
              <a:buClr>
                <a:srgbClr val="b00000"/>
              </a:buClr>
              <a:buFont typeface="Wingdings 3" charset="2"/>
              <a:buChar char="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000"/>
                </a:solidFill>
                <a:latin typeface="Tahoma"/>
              </a:rPr>
              <a:t>Software developers</a:t>
            </a:r>
            <a:endParaRPr b="0" lang="en-US" sz="16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Being and open standard, and having been developed by a wide range of disciplines, XLIFF vocabularies reflect diversity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0EB-4495-424C-9AB3-8D3E39D28C0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4FA54-BA4A-4CE7-9E5E-B142A5079BDA}" type="datetime3">
              <a:rPr lang="en-US"/>
              <a:t>July 28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5e"/>
                </a:solidFill>
                <a:latin typeface="Tahoma"/>
              </a:rPr>
              <a:t>Open Standards are vital</a:t>
            </a:r>
            <a:endParaRPr b="0" lang="en-US" sz="3000" spc="-1" strike="noStrike">
              <a:solidFill>
                <a:srgbClr val="00005e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A company’s </a:t>
            </a:r>
            <a:r>
              <a:rPr b="0" i="1" lang="en-US" sz="2200" spc="-1" strike="noStrike">
                <a:solidFill>
                  <a:srgbClr val="010000"/>
                </a:solidFill>
                <a:latin typeface="Tahoma"/>
              </a:rPr>
              <a:t>Information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 is one of its most valuable resources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Proprietary tools and formats place </a:t>
            </a:r>
            <a:r>
              <a:rPr b="0" i="1" lang="en-US" sz="2200" spc="-1" strike="noStrike">
                <a:solidFill>
                  <a:srgbClr val="010000"/>
                </a:solidFill>
                <a:latin typeface="Tahoma"/>
              </a:rPr>
              <a:t>Information</a:t>
            </a: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, at risk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The information is difficult to access without the proprietary tool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lvl="1" marL="803160" indent="-342720">
              <a:spcBef>
                <a:spcPts val="224"/>
              </a:spcBef>
              <a:buClr>
                <a:srgbClr val="b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Tahoma"/>
              </a:rPr>
              <a:t>Tool makers are not bound to maintain their tool in ways consistent with the requirements of a company</a:t>
            </a:r>
            <a:endParaRPr b="0" lang="en-US" sz="18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pen standards facilitate “future-proofing”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-345960">
              <a:spcBef>
                <a:spcPts val="1100"/>
              </a:spcBef>
              <a:buClr>
                <a:srgbClr val="b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Tahoma"/>
              </a:rPr>
              <a:t>Open standards provide industry standard vocabularies to exchange information (peer to peer; vendor to client; apple to orange)</a:t>
            </a: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  <a:p>
            <a:pPr marL="34596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33D-ACB0-4D78-BCA3-708D019534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4DDDC-0054-4D8D-B6BB-468108256D91}" type="datetime3">
              <a:rPr lang="en-US"/>
              <a:t>July 28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2:24:12Z</dcterms:created>
  <dc:creator>Bryan Schnabel</dc:creator>
  <dc:description/>
  <dc:language>en-US</dc:language>
  <cp:lastModifiedBy>Bryan Schnabel</cp:lastModifiedBy>
  <cp:lastPrinted>2004-06-23T03:59:07Z</cp:lastPrinted>
  <dcterms:modified xsi:type="dcterms:W3CDTF">2005-04-26T02:39:18Z</dcterms:modified>
  <cp:revision>190</cp:revision>
  <dc:subject/>
  <dc:title>Slide 1</dc:title>
</cp:coreProperties>
</file>