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86F4-A330-45AC-89F4-C07F92342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3B9D-C210-4A53-A77A-491E61D72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811-9799-418B-BBA1-3E716F03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D58B-9787-447B-8528-7B0EA467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164F-AB22-4524-B93B-04C972D91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0545-4052-406B-B9E1-05B234AB4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DB06-783D-4495-AF1B-F576E5E94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B0CA-05B8-4A5E-B0C5-1E65E98B2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5C4D-8C14-4E6A-BA6E-8BC07F6A0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4FC6-7C97-420D-92C1-B20283153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99BC-4AEA-49F2-A389-9413B0ADC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7FB1-A730-495F-BB6C-FBCF960DB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F99-2F7D-445D-AACB-7005A7A4E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DDB7-3C4E-4077-8919-49753E8CF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85E5-F206-4763-B48A-28A4A354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6DAE-8E24-4D79-A49E-8711156E7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10C7-EE14-4EAC-8B93-20117A69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1848-A16B-4272-89A2-BD494E0A8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7DF-4F9A-4B52-9EF2-8A15AA84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E7D-CFEB-4785-8657-7E4A90D7F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1160" y="47484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98560" y="4429080"/>
            <a:ext cx="536256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ation cov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finition of what is XML Mess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how XML Messaging came to be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description of the fundamentals of XML Messaging, and fi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cription of where XML Messaging is n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2A67-7A05-46AB-977F-BF08BEB02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238B-07A1-4F51-9FCF-1966C8492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5D53-D8AF-4CC3-83DF-A89A19857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B73D-13EE-43D8-AC1B-BB870A2EA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0B49-5C1F-4960-AF6D-96177B66B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452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3600" y="177624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44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452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3600" y="3814560"/>
            <a:ext cx="25034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A31A0-3D0E-4C08-BC88-EC55C7DB2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145FE-D4D8-41FC-8E69-677041D084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39CE-E901-41BD-9E7C-156AEB714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6182-A92D-415F-BB74-FD888DA48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939C-6726-404C-A423-937C480F5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9920" y="381456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D58B-40D7-4F33-B21F-066DB1A50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776240"/>
            <a:ext cx="37944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14560"/>
            <a:ext cx="777564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6D54-54BB-4D53-9E11-8CD6A6875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469"/>
          <a:stretch/>
        </p:blipFill>
        <p:spPr>
          <a:xfrm>
            <a:off x="0" y="6470640"/>
            <a:ext cx="9144000" cy="385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8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776240"/>
            <a:ext cx="777564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dfff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27160">
              <a:spcBef>
                <a:spcPts val="788"/>
              </a:spcBef>
              <a:spcAft>
                <a:spcPts val="337"/>
              </a:spcAft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682560" indent="-223920">
              <a:spcBef>
                <a:spcPts val="788"/>
              </a:spcBef>
              <a:spcAft>
                <a:spcPts val="337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912960" indent="-228600">
              <a:spcBef>
                <a:spcPts val="788"/>
              </a:spcBef>
              <a:spcAft>
                <a:spcPts val="337"/>
              </a:spcAft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143000" indent="-228600">
              <a:spcBef>
                <a:spcPts val="788"/>
              </a:spcBef>
              <a:spcAft>
                <a:spcPts val="337"/>
              </a:spcAft>
              <a:buClr>
                <a:srgbClr val="dfff66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143000" indent="-228600">
              <a:spcBef>
                <a:spcPts val="788"/>
              </a:spcBef>
              <a:spcAft>
                <a:spcPts val="337"/>
              </a:spcAft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143000" indent="-228600">
              <a:spcBef>
                <a:spcPts val="788"/>
              </a:spcBef>
              <a:spcAft>
                <a:spcPts val="337"/>
              </a:spcAft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1360" y="52560"/>
            <a:ext cx="345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ftware Group / Emerging Technolo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F0A6-CF9F-4129-87FC-36807C344399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143000" y="6476760"/>
            <a:ext cx="228600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BICS V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90720" y="647064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6997680" y="6483240"/>
            <a:ext cx="206388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rcRect l="0" t="0" r="0" b="469"/>
          <a:stretch/>
        </p:blipFill>
        <p:spPr>
          <a:xfrm>
            <a:off x="0" y="5164200"/>
            <a:ext cx="9144000" cy="1692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89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622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Group / Emerg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63720" y="4217760"/>
            <a:ext cx="0" cy="933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5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613480" y="5354640"/>
            <a:ext cx="2913120" cy="5205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ff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  <a:p>
            <a:pPr lvl="1" marL="457200" indent="-227160" algn="ctr">
              <a:spcBef>
                <a:spcPts val="561"/>
              </a:spcBef>
              <a:spcAft>
                <a:spcPts val="337"/>
              </a:spcAft>
              <a:buClr>
                <a:srgbClr val="d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455760" algn="ctr">
              <a:spcBef>
                <a:spcPts val="451"/>
              </a:spcBef>
              <a:buClr>
                <a:srgbClr val="d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d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dfff66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1806480"/>
            <a:ext cx="7077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S V2.0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siness Information Conformance Statements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….d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clare YOUR exact information constraints for B2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9400" y="4419360"/>
            <a:ext cx="6400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tt Hinkelman</a:t>
            </a: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Software Engineer</a:t>
            </a:r>
            <a:endParaRPr b="0" lang="en-US" sz="1800" spc="-1" strike="noStrike">
              <a:solidFill>
                <a:srgbClr val="dfff66"/>
              </a:solidFill>
              <a:latin typeface="Arial"/>
            </a:endParaRPr>
          </a:p>
        </p:txBody>
      </p:sp>
      <p:pic>
        <p:nvPicPr>
          <p:cNvPr id="103" name="" descr="OASIS Symposium: The Future of XML Vocabularies"/>
          <p:cNvPicPr/>
          <p:nvPr/>
        </p:nvPicPr>
        <p:blipFill>
          <a:blip r:embed="rId1"/>
          <a:stretch/>
        </p:blipFill>
        <p:spPr>
          <a:xfrm>
            <a:off x="2057400" y="3352680"/>
            <a:ext cx="557208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ICS 2.0 Specification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2.0 (the core framewor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aint Processi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 Constraint Mech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3C XML Schema Constraint Mechanism 1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matron Constraint Mechanism 1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 Constraint Mechanism 1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other constraint mechanisms are possible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776E-5183-44F7-B393-29793D2DBD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552840" y="3191040"/>
            <a:ext cx="933480" cy="3036600"/>
          </a:xfrm>
          <a:custGeom>
            <a:avLst/>
            <a:gdLst/>
            <a:ahLst/>
            <a:rect l="l" t="t" r="r" b="b"/>
            <a:pathLst>
              <a:path w="588" h="1913">
                <a:moveTo>
                  <a:pt x="504" y="0"/>
                </a:moveTo>
                <a:cubicBezTo>
                  <a:pt x="546" y="681"/>
                  <a:pt x="588" y="1363"/>
                  <a:pt x="504" y="1638"/>
                </a:cubicBezTo>
                <a:cubicBezTo>
                  <a:pt x="420" y="1913"/>
                  <a:pt x="84" y="1650"/>
                  <a:pt x="0" y="1650"/>
                </a:cubicBezTo>
              </a:path>
            </a:pathLst>
          </a:custGeom>
          <a:noFill/>
          <a:ln w="76320">
            <a:solidFill>
              <a:srgbClr val="0000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79080"/>
            <a:ext cx="838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– Use Any Mechanisms to State Your Constraint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39360" y="3770280"/>
            <a:ext cx="336564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typ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869640" y="525960"/>
            <a:ext cx="1163520" cy="531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f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800" y="1484280"/>
            <a:ext cx="8344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CS provides declaring information constraints using pervasive mechanisms, or whatever emer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4400" y="4113360"/>
            <a:ext cx="27716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ME typ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4648320"/>
            <a:ext cx="36576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chema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50840" indent="-15084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sser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29160" y="4913280"/>
            <a:ext cx="35053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hatever mechanis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00600" y="2684520"/>
            <a:ext cx="19238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F020-77B3-4CA1-B487-2E0E3A9EEF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80" y="491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2.0 is Simpl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4495680"/>
            <a:ext cx="336600" cy="168480"/>
          </a:xfrm>
          <a:prstGeom prst="rect">
            <a:avLst/>
          </a:prstGeom>
          <a:solidFill>
            <a:srgbClr val="cc3300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33" idx="2"/>
            <a:endCxn id="131" idx="1"/>
          </p:cNvCxnSpPr>
          <p:nvPr/>
        </p:nvCxnSpPr>
        <p:spPr>
          <a:xfrm>
            <a:off x="1638360" y="3695760"/>
            <a:ext cx="343440" cy="88488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cxnSp>
        <p:nvCxnSpPr>
          <p:cNvPr id="134" name=""/>
          <p:cNvCxnSpPr>
            <a:stCxn id="135" idx="2"/>
            <a:endCxn id="131" idx="0"/>
          </p:cNvCxnSpPr>
          <p:nvPr/>
        </p:nvCxnSpPr>
        <p:spPr>
          <a:xfrm flipH="1">
            <a:off x="2149200" y="3847680"/>
            <a:ext cx="861120" cy="64836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1373040" y="4937040"/>
            <a:ext cx="1418040" cy="477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traint Process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68640" y="4800600"/>
            <a:ext cx="914400" cy="477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01200" y="5943600"/>
            <a:ext cx="1814400" cy="2462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ample: W3C XML Schem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35480" y="4724280"/>
            <a:ext cx="533160" cy="648000"/>
          </a:xfrm>
          <a:prstGeom prst="verticalScroll">
            <a:avLst>
              <a:gd name="adj" fmla="val 12500"/>
            </a:avLst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9160" y="5867280"/>
            <a:ext cx="723960" cy="381240"/>
          </a:xfrm>
          <a:prstGeom prst="horizontalScroll">
            <a:avLst>
              <a:gd name="adj" fmla="val 12500"/>
            </a:avLst>
          </a:prstGeom>
          <a:solidFill>
            <a:srgbClr val="8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40040" y="5410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533520"/>
            <a:ext cx="624852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d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BICS document contains an constraint processing mode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d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raint processing model contains one or more constraint mechanisms, and an indicator that specifies how to process the constraint mechanisms (sequentially, etc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d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constraint mechanism type in the core BICS framework is abstract, and is the primary extension point for defining concrete constraint mechanism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d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processing of a constraint mechanism results in pass/fail, and the overall pass/fail processing of the BICS document is determined by how the constraint mechanisms are considered within the processing mode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36560" y="5029200"/>
            <a:ext cx="545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bstrac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5040" y="594360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ncre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3048120"/>
            <a:ext cx="533520" cy="647640"/>
          </a:xfrm>
          <a:prstGeom prst="verticalScroll">
            <a:avLst>
              <a:gd name="adj" fmla="val 12500"/>
            </a:avLst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3200400"/>
            <a:ext cx="533520" cy="647640"/>
          </a:xfrm>
          <a:prstGeom prst="verticalScroll">
            <a:avLst>
              <a:gd name="adj" fmla="val 12500"/>
            </a:avLst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962520"/>
            <a:ext cx="533520" cy="647640"/>
          </a:xfrm>
          <a:prstGeom prst="verticalScroll">
            <a:avLst>
              <a:gd name="adj" fmla="val 12500"/>
            </a:avLst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5" idx="3"/>
            <a:endCxn id="131" idx="1"/>
          </p:cNvCxnSpPr>
          <p:nvPr/>
        </p:nvCxnSpPr>
        <p:spPr>
          <a:xfrm>
            <a:off x="695160" y="4286160"/>
            <a:ext cx="1286640" cy="29448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cxnSp>
        <p:nvCxnSpPr>
          <p:cNvPr id="147" name=""/>
          <p:cNvCxnSpPr>
            <a:stCxn id="131" idx="3"/>
            <a:endCxn id="143" idx="1"/>
          </p:cNvCxnSpPr>
          <p:nvPr/>
        </p:nvCxnSpPr>
        <p:spPr>
          <a:xfrm>
            <a:off x="2317320" y="4579920"/>
            <a:ext cx="1118160" cy="558000"/>
          </a:xfrm>
          <a:prstGeom prst="straightConnector1">
            <a:avLst/>
          </a:prstGeom>
          <a:ln w="6480">
            <a:solidFill>
              <a:srgbClr val="ffff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E76D-1D22-4044-9532-2112D363F9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3505320"/>
            <a:ext cx="7848720" cy="190476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ing a Concrete Constraint Mechanis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straint Mechanism can represent anything that can have an implementation for checking/constraining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ressed in W3C XML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an XML Schema which provides a concrete extension of the BICS InformationConstraintMechanismTyp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data specific to the constraint 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xs:complexType name="TreeDepthTyp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xs:complexContent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xs:extension base="bics:InformationConstraintMechanismTyp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xs:sequence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xs:element name="MaxDepth" type="xs:nonNegativeInteger" minOccurs="0"/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12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514600"/>
            <a:ext cx="2857680" cy="1828800"/>
          </a:xfrm>
          <a:custGeom>
            <a:avLst/>
            <a:gdLst/>
            <a:ahLst/>
            <a:rect l="l" t="t" r="r" b="b"/>
            <a:pathLst>
              <a:path w="1800" h="1152">
                <a:moveTo>
                  <a:pt x="0" y="0"/>
                </a:moveTo>
                <a:cubicBezTo>
                  <a:pt x="684" y="72"/>
                  <a:pt x="1368" y="144"/>
                  <a:pt x="1584" y="336"/>
                </a:cubicBezTo>
                <a:cubicBezTo>
                  <a:pt x="1800" y="528"/>
                  <a:pt x="1548" y="840"/>
                  <a:pt x="1296" y="1152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2895480"/>
            <a:ext cx="3543120" cy="2133720"/>
          </a:xfrm>
          <a:custGeom>
            <a:avLst/>
            <a:gdLst/>
            <a:ahLst/>
            <a:rect l="l" t="t" r="r" b="b"/>
            <a:pathLst>
              <a:path w="1800" h="1152">
                <a:moveTo>
                  <a:pt x="0" y="0"/>
                </a:moveTo>
                <a:cubicBezTo>
                  <a:pt x="684" y="72"/>
                  <a:pt x="1368" y="144"/>
                  <a:pt x="1584" y="336"/>
                </a:cubicBezTo>
                <a:cubicBezTo>
                  <a:pt x="1800" y="528"/>
                  <a:pt x="1548" y="840"/>
                  <a:pt x="1296" y="1152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D82D-D648-4921-9D7E-4EB287F0C1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8600" y="2362320"/>
            <a:ext cx="7848720" cy="38098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a Concrete Constraint Mechanism in a BICS Instance Docu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ICS instance document is the Conformance Stat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lare namespace for the concrete Constraint Mechanis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y an instance of mechanism type within the BICS processing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InformationConformanceStatement xmlns=“……“ xmlns:tdcm=“….“ xmlns:xsi=“…." xsi:schemaLocation=“….”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Name&gt;….&lt;/Name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escription&gt;……&lt;/Description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InformationConstraintProcessingModel modelType="sequenc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InformationConstraint xsi:type="tdcm:TreeDepthTyp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Name&gt;…..&lt;/Name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TypeName&gt;Tree Depth Constraint Mechanism&lt;/TypeName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Description&gt;….&lt;/Description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tdcm:MaxDepth&gt;4&lt;/tdcm:MaxDepth&gt;&lt;xs:complexType name="TreeDepthTyp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901800"/>
            <a:ext cx="4280040" cy="1689120"/>
          </a:xfrm>
          <a:custGeom>
            <a:avLst/>
            <a:gdLst/>
            <a:ahLst/>
            <a:rect l="l" t="t" r="r" b="b"/>
            <a:pathLst>
              <a:path w="2696" h="1064">
                <a:moveTo>
                  <a:pt x="2064" y="152"/>
                </a:moveTo>
                <a:cubicBezTo>
                  <a:pt x="2380" y="76"/>
                  <a:pt x="2696" y="0"/>
                  <a:pt x="2352" y="152"/>
                </a:cubicBezTo>
                <a:cubicBezTo>
                  <a:pt x="2008" y="304"/>
                  <a:pt x="1004" y="684"/>
                  <a:pt x="0" y="1064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1346040"/>
            <a:ext cx="1612800" cy="1244880"/>
          </a:xfrm>
          <a:custGeom>
            <a:avLst/>
            <a:gdLst/>
            <a:ahLst/>
            <a:rect l="l" t="t" r="r" b="b"/>
            <a:pathLst>
              <a:path w="1016" h="784">
                <a:moveTo>
                  <a:pt x="624" y="112"/>
                </a:moveTo>
                <a:cubicBezTo>
                  <a:pt x="820" y="56"/>
                  <a:pt x="1016" y="0"/>
                  <a:pt x="912" y="112"/>
                </a:cubicBezTo>
                <a:cubicBezTo>
                  <a:pt x="808" y="224"/>
                  <a:pt x="404" y="504"/>
                  <a:pt x="0" y="784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1574640"/>
            <a:ext cx="3314880" cy="2845080"/>
          </a:xfrm>
          <a:custGeom>
            <a:avLst/>
            <a:gdLst/>
            <a:ahLst/>
            <a:rect l="l" t="t" r="r" b="b"/>
            <a:pathLst>
              <a:path w="2088" h="1792">
                <a:moveTo>
                  <a:pt x="1584" y="256"/>
                </a:moveTo>
                <a:cubicBezTo>
                  <a:pt x="1836" y="128"/>
                  <a:pt x="2088" y="0"/>
                  <a:pt x="1824" y="256"/>
                </a:cubicBezTo>
                <a:cubicBezTo>
                  <a:pt x="1560" y="512"/>
                  <a:pt x="780" y="1152"/>
                  <a:pt x="0" y="1792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1F1A-683C-477C-A898-01E7B99C49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3809880"/>
            <a:ext cx="7848720" cy="198144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aint Processing Model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ICS instance document contains an Information Constraint Processing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s 1 or more Information Constrai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es a Model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quential: all must be processed successfully, order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: all must be processed successfully, order does not ma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: at least one must be processed successfully, order does not ma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InformationConstraintProcessingModel modelType="sequence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InformationConstraint xsi:type=“………….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...............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InformationConstraint xsi:type=“…………."&gt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...............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43434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1333440"/>
            <a:ext cx="2540160" cy="3467160"/>
          </a:xfrm>
          <a:custGeom>
            <a:avLst/>
            <a:gdLst/>
            <a:ahLst/>
            <a:rect l="l" t="t" r="r" b="b"/>
            <a:pathLst>
              <a:path w="1600" h="2184">
                <a:moveTo>
                  <a:pt x="96" y="312"/>
                </a:moveTo>
                <a:cubicBezTo>
                  <a:pt x="848" y="156"/>
                  <a:pt x="1600" y="0"/>
                  <a:pt x="1584" y="312"/>
                </a:cubicBezTo>
                <a:cubicBezTo>
                  <a:pt x="1568" y="624"/>
                  <a:pt x="784" y="1404"/>
                  <a:pt x="0" y="2184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22860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0" y="0"/>
                </a:moveTo>
                <a:cubicBezTo>
                  <a:pt x="0" y="0"/>
                  <a:pt x="864" y="528"/>
                  <a:pt x="1728" y="1056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A6D1-1C0A-4558-A6E7-43E139361B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Schemas processed sequenti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schema owned by a standards organ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schema specifies additional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ld be advertised as: “We support schema 1 from standards body X and have additional constraint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F4C22-F35B-4C13-8CDA-1E6BE844E9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762120"/>
            <a:ext cx="8915400" cy="563868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…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557280"/>
            <a:ext cx="883944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0">
              <a:lnSpc>
                <a:spcPct val="80000"/>
              </a:lnSpc>
              <a:spcBef>
                <a:spcPts val="2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InformationConformanceStatement xmlns="http://ibm.com/xml/namespaces/businessinformationconformancestatement" xmlns:xs="http://www.w3.org/2001/XMLSchema" xmlns:w3ccm="http://ibm.com/xml/namespaces/w3cxmlschemainformationconstraint" xmlns:xsi="http://www.w3.org/2001/XMLSchema-instance" xsi:schemaLocation="http://ibm.com/xml/namespaces/businessinformationconformancestatemen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/businessinformationconformancestatement.xsd http://ibm.com/xml/namespaces/w3cxmlschemainformationconstraint 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/w3cmechanism.xsd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escription&gt;This conformance statement defines two W3C XML Schema constraint mechanisms by referencing a URLs.&lt;/Description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InformationConstraintProcessingModel modelType="sequence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InformationConstraint xsi:type="w3ccm:W3CXMLSchemaInformationConstraintMechanismType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Name&gt;Industry standard schema reference&lt;/Na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TypeName&gt;W3C XML Schema&lt;/TypeNa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escription&gt;This constraint mechanism, a W3C XML Schema for member information, and is located at the URL below.&lt;/Description&gt;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ProcessableConstraintURL&gt;http://members.org/constraintmechanisms/w3cxmlschema/member.xsd&lt;/ProcessableConstraintURL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straint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InformationConstraint xsi:type="w3ccm:W3CXMLSchemaInformationConstraintMechanismType"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Name&gt;Additional Constraints&lt;/Na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TypeName&gt;W3C XML Schema&lt;/TypeName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escription&gt;This constraint mechanism, a W3C XML Schema has increased constraint types for member information, and is located at the URL below.&lt;/Description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ProcessableConstraintURL&gt;http://company.com/constraintmechanisms/w3cxmlschema/modified-member.xsd&lt;/ProcessableConstraintURL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straint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straintProcessingModel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formanceStatement&gt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9D90-A080-4DFD-A92D-B2AA554A8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MIME types specified – information to be processed as an “any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MIME type is a . Jpg image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MIME type is a .gif image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preted as: “Information is conformant if either a .jpg or .gi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36C7-1139-48B2-ABF9-54BB4FDF4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52280" y="762120"/>
            <a:ext cx="8915400" cy="4876560"/>
          </a:xfrm>
          <a:prstGeom prst="rect">
            <a:avLst/>
          </a:prstGeom>
          <a:solidFill>
            <a:srgbClr val="00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…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557280"/>
            <a:ext cx="883944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InformationConformanceStatement xmlns="http://ibm.com/xml/namespaces/businessinformationconformancestatement" xmlns:xs="http://www.w3.org/2001/XMLSchema" xmlns:mime="http://ibm.com/xml/namespaces/mimeinformationconstraint" xmlns:xsi="http://www.w3.org/2001/XMLSchema-instance" xsi:schemaLocation="http://ibm.com/xml/namespaces/businessinformationconformancestat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/businessinformationconformancestatement.xsd http://ibm.com/xml/namespaces/mimeinformationconstrai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/mimemechanism.xsd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InformationConstraintProcessingModel modelType="any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InformationConstraint xsi:type="mime:MIMEInformationConstraintMechanismType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Name&gt;jpg image constraint&lt;/Na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TypeName&gt;MIME Constraint Mechanism&lt;/TypeNa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escription&gt;This constraint, a MIME type, indicates jpg information.&lt;/Description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mime:MIMEType&gt;image/.jpg&lt;/mime:MIME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strai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InformationConstraint xsi:type="mime:MIMEInformationConstraintMechanismType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Name&gt;gif image constraint&lt;/Na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TypeName&gt;MIME Constraint Mechanism&lt;/TypeNa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mime:MIMEType&gt;image/.gif&lt;/mime:MIME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strai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straintProcessingMode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/InformationConformanceStat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5519-BF68-478E-AE2F-D13FE48695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316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out this Tutoria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89856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ABOUT BICS – a presentation about IBM’s BICS 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ICS DEMO – a demonstration of B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FUTURE AND DISCUSSION – a round table discussion of BICS, interest, and input for it’s fu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D415-2553-4687-AD5F-60172EC08D9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316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s and Possibiliti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89856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essentially provides and indirection between information and what constraints mechanisms are needed for syntax/structural con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does not address semantics, just syntax/struct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ting to explore BICS supporting seman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a B2B environment, performance could be a concern using BIC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every B2B enviro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ep in mind separation of what is declared in BICS from what form it could take at run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compli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ting to explore BICS as an extension to J2EE deployment descript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ting to explore BICS as an Axis handl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87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87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83CB2-E0E9-4B67-90CC-7EDCA0984A5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 Business Content –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lassic View of Schema-Based Constraint Processing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80" idx="3"/>
          </p:cNvCxnSpPr>
          <p:nvPr/>
        </p:nvCxnSpPr>
        <p:spPr>
          <a:xfrm>
            <a:off x="1765440" y="4774680"/>
            <a:ext cx="2349720" cy="1080"/>
          </a:xfrm>
          <a:prstGeom prst="curved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74720" y="4432320"/>
            <a:ext cx="990720" cy="685800"/>
          </a:xfrm>
          <a:prstGeom prst="flowChartDocumen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Inst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86080" y="5533920"/>
            <a:ext cx="1238040" cy="533520"/>
          </a:xfrm>
          <a:prstGeom prst="flowChartDocumen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ff"/>
                </a:solidFill>
                <a:latin typeface="Arial"/>
                <a:ea typeface="Arial"/>
              </a:rPr>
              <a:t>XML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2819520"/>
            <a:ext cx="4191120" cy="2971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4127400"/>
            <a:ext cx="228600" cy="14479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1" idx="3"/>
            <a:endCxn id="183" idx="1"/>
          </p:cNvCxnSpPr>
          <p:nvPr/>
        </p:nvCxnSpPr>
        <p:spPr>
          <a:xfrm flipV="1">
            <a:off x="2723760" y="4850640"/>
            <a:ext cx="1391040" cy="95004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74680"/>
            <a:ext cx="2293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28600" y="3122640"/>
            <a:ext cx="2971800" cy="121932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118750"/>
              <a:gd name="adj5" fmla="val 109898"/>
              <a:gd name="adj6" fmla="val 135578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Schema Valid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  <a:ea typeface="Arial"/>
              </a:rPr>
              <a:t>(syntax/structure checkin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2760" y="4809960"/>
            <a:ext cx="209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7080" y="1382760"/>
            <a:ext cx="8167680" cy="5035320"/>
            <a:chOff x="757080" y="1382760"/>
            <a:chExt cx="8167680" cy="5035320"/>
          </a:xfrm>
        </p:grpSpPr>
        <p:sp>
          <p:nvSpPr>
            <p:cNvPr id="189" name=""/>
            <p:cNvSpPr/>
            <p:nvPr/>
          </p:nvSpPr>
          <p:spPr>
            <a:xfrm>
              <a:off x="4581360" y="4343400"/>
              <a:ext cx="533520" cy="990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15080" y="1382760"/>
              <a:ext cx="2209680" cy="1219320"/>
            </a:xfrm>
            <a:prstGeom prst="borderCallout2">
              <a:avLst>
                <a:gd name="adj1" fmla="val 18750"/>
                <a:gd name="adj2" fmla="val -8333"/>
                <a:gd name="adj3" fmla="val 9375"/>
                <a:gd name="adj4" fmla="val -57185"/>
                <a:gd name="adj5" fmla="val 268750"/>
                <a:gd name="adj6" fmla="val -7730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  <a:ea typeface="Arial"/>
                </a:rPr>
                <a:t>Application checks additional syntax </a:t>
              </a:r>
              <a:r>
                <a:rPr b="1" lang="en-US" sz="1600" spc="-1" strike="noStrike">
                  <a:solidFill>
                    <a:srgbClr val="00ffff"/>
                  </a:solidFill>
                  <a:latin typeface="Wingdings"/>
                  <a:ea typeface="Wingdings"/>
                </a:rPr>
                <a:t>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752560" y="6049800"/>
              <a:ext cx="518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Application Must Also Check Syntax </a:t>
              </a:r>
              <a:r>
                <a:rPr b="1" lang="en-US" sz="1800" spc="-1" strike="noStrike">
                  <a:solidFill>
                    <a:srgbClr val="ff0000"/>
                  </a:solidFill>
                  <a:latin typeface="Wingdings"/>
                  <a:ea typeface="Wingdings"/>
                </a:rPr>
                <a:t>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7080" y="1646280"/>
              <a:ext cx="1905120" cy="1219320"/>
            </a:xfrm>
            <a:prstGeom prst="borderCallout2">
              <a:avLst>
                <a:gd name="adj1" fmla="val 18750"/>
                <a:gd name="adj2" fmla="val -8333"/>
                <a:gd name="adj3" fmla="val 9375"/>
                <a:gd name="adj4" fmla="val 155250"/>
                <a:gd name="adj5" fmla="val 250129"/>
                <a:gd name="adj6" fmla="val 208666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  <a:ea typeface="Arial"/>
                </a:rPr>
                <a:t>More syntax/structure checking (and semantic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037D-58F2-4467-ACE5-F1B9A58588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09680" y="3600360"/>
            <a:ext cx="1009440" cy="876240"/>
          </a:xfrm>
          <a:prstGeom prst="flowChartDocumen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Ins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320" y="5335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 Business Content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– Based Constraint Processing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418760" y="3105000"/>
            <a:ext cx="2591280" cy="1362240"/>
            <a:chOff x="1418760" y="3105000"/>
            <a:chExt cx="2591280" cy="1362240"/>
          </a:xfrm>
        </p:grpSpPr>
        <p:cxnSp>
          <p:nvCxnSpPr>
            <p:cNvPr id="196" name=""/>
            <p:cNvCxnSpPr>
              <a:stCxn id="193" idx="3"/>
              <a:endCxn id="197" idx="1"/>
            </p:cNvCxnSpPr>
            <p:nvPr/>
          </p:nvCxnSpPr>
          <p:spPr>
            <a:xfrm>
              <a:off x="1418760" y="4038120"/>
              <a:ext cx="963000" cy="104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97" name=""/>
            <p:cNvSpPr/>
            <p:nvPr/>
          </p:nvSpPr>
          <p:spPr>
            <a:xfrm>
              <a:off x="2381400" y="3629160"/>
              <a:ext cx="1523880" cy="8380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Schema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lid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181320" y="3105000"/>
              <a:ext cx="828720" cy="486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905280" y="3286080"/>
            <a:ext cx="1600200" cy="1181160"/>
            <a:chOff x="3905280" y="3286080"/>
            <a:chExt cx="1600200" cy="1181160"/>
          </a:xfrm>
        </p:grpSpPr>
        <p:cxnSp>
          <p:nvCxnSpPr>
            <p:cNvPr id="200" name=""/>
            <p:cNvCxnSpPr>
              <a:stCxn id="197" idx="3"/>
              <a:endCxn id="201" idx="1"/>
            </p:cNvCxnSpPr>
            <p:nvPr/>
          </p:nvCxnSpPr>
          <p:spPr>
            <a:xfrm>
              <a:off x="3905280" y="4047840"/>
              <a:ext cx="381600" cy="108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4286160" y="3629160"/>
              <a:ext cx="1219320" cy="8380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XSL Proces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2040" y="3286080"/>
              <a:ext cx="666720" cy="3142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71640" y="2486160"/>
            <a:ext cx="8848800" cy="3429000"/>
            <a:chOff x="971640" y="2486160"/>
            <a:chExt cx="8848800" cy="3429000"/>
          </a:xfrm>
        </p:grpSpPr>
        <p:sp>
          <p:nvSpPr>
            <p:cNvPr id="204" name=""/>
            <p:cNvSpPr/>
            <p:nvPr/>
          </p:nvSpPr>
          <p:spPr>
            <a:xfrm>
              <a:off x="971640" y="5410080"/>
              <a:ext cx="8848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Example: Two Constraint Mechanisms, Sequence Conformance Mod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685880" y="2486160"/>
              <a:ext cx="5810400" cy="2390760"/>
              <a:chOff x="1685880" y="2486160"/>
              <a:chExt cx="5810400" cy="2390760"/>
            </a:xfrm>
          </p:grpSpPr>
          <p:sp>
            <p:nvSpPr>
              <p:cNvPr id="206" name=""/>
              <p:cNvSpPr/>
              <p:nvPr/>
            </p:nvSpPr>
            <p:spPr>
              <a:xfrm>
                <a:off x="1685880" y="2486160"/>
                <a:ext cx="3962520" cy="2390760"/>
              </a:xfrm>
              <a:prstGeom prst="rect">
                <a:avLst/>
              </a:prstGeom>
              <a:noFill/>
              <a:ln w="9360">
                <a:solidFill>
                  <a:srgbClr val="0000f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85880" y="2505240"/>
                <a:ext cx="243828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Conform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      Engin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305160" y="2562120"/>
                <a:ext cx="1533600" cy="962280"/>
              </a:xfrm>
              <a:prstGeom prst="flowChartDocumen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Conforma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Statemen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76960" y="3571920"/>
                <a:ext cx="1219320" cy="8380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Arial"/>
                    <a:ea typeface="Arial"/>
                  </a:rPr>
                  <a:t>Applic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5533560" y="1438200"/>
            <a:ext cx="3164400" cy="2733840"/>
            <a:chOff x="5533560" y="1438200"/>
            <a:chExt cx="3164400" cy="2733840"/>
          </a:xfrm>
        </p:grpSpPr>
        <p:sp>
          <p:nvSpPr>
            <p:cNvPr id="211" name=""/>
            <p:cNvSpPr/>
            <p:nvPr/>
          </p:nvSpPr>
          <p:spPr>
            <a:xfrm>
              <a:off x="6821640" y="1438200"/>
              <a:ext cx="1876320" cy="971640"/>
            </a:xfrm>
            <a:prstGeom prst="borderCallout2">
              <a:avLst>
                <a:gd name="adj1" fmla="val 18750"/>
                <a:gd name="adj2" fmla="val -8333"/>
                <a:gd name="adj3" fmla="val 11763"/>
                <a:gd name="adj4" fmla="val -15481"/>
                <a:gd name="adj5" fmla="val 245425"/>
                <a:gd name="adj6" fmla="val -23689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  <a:ea typeface="Arial"/>
                </a:rPr>
                <a:t>Applications do not check syntax or structure </a:t>
              </a:r>
              <a:r>
                <a:rPr b="1" lang="en-US" sz="1600" spc="-1" strike="noStrike">
                  <a:solidFill>
                    <a:srgbClr val="00ffff"/>
                  </a:solidFill>
                  <a:latin typeface="Wingdings"/>
                  <a:ea typeface="Wingdings"/>
                </a:rPr>
                <a:t>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05400" y="3867120"/>
              <a:ext cx="13824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V="1">
              <a:off x="5533560" y="4039920"/>
              <a:ext cx="724680" cy="8640"/>
            </a:xfrm>
            <a:prstGeom prst="curvedConnector5">
              <a:avLst>
                <a:gd name="adj1" fmla="val 50000"/>
                <a:gd name="adj2" fmla="val 47826"/>
                <a:gd name="adj3" fmla="val 50000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14" name=""/>
          <p:cNvSpPr/>
          <p:nvPr/>
        </p:nvSpPr>
        <p:spPr>
          <a:xfrm>
            <a:off x="2943360" y="295272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66D0-7EBF-4369-87CA-35A0F03844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2247840" y="1114560"/>
            <a:ext cx="5334120" cy="4238640"/>
            <a:chOff x="2247840" y="1114560"/>
            <a:chExt cx="5334120" cy="4238640"/>
          </a:xfrm>
        </p:grpSpPr>
        <p:sp>
          <p:nvSpPr>
            <p:cNvPr id="216" name=""/>
            <p:cNvSpPr/>
            <p:nvPr/>
          </p:nvSpPr>
          <p:spPr>
            <a:xfrm>
              <a:off x="4124160" y="3433680"/>
              <a:ext cx="1514520" cy="1381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62360" y="3152880"/>
              <a:ext cx="3762360" cy="2076480"/>
            </a:xfrm>
            <a:prstGeom prst="rect">
              <a:avLst/>
            </a:prstGeom>
            <a:noFill/>
            <a:ln w="9360">
              <a:solidFill>
                <a:srgbClr val="0000f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7840" y="1114560"/>
              <a:ext cx="1171800" cy="723600"/>
            </a:xfrm>
            <a:prstGeom prst="flowChartDocumen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ploy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scrip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48320" y="1214280"/>
              <a:ext cx="1990440" cy="533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Business Service Logi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29000" y="1428840"/>
              <a:ext cx="118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8640" y="3529080"/>
              <a:ext cx="12952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ain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48240" y="4800600"/>
              <a:ext cx="21337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a"/>
                  </a:solidFill>
                  <a:latin typeface="Arial"/>
                  <a:ea typeface="Arial"/>
                </a:rPr>
                <a:t>Application Serv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23" name=""/>
            <p:cNvCxnSpPr>
              <a:stCxn id="218" idx="3"/>
              <a:endCxn id="216" idx="0"/>
            </p:cNvCxnSpPr>
            <p:nvPr/>
          </p:nvCxnSpPr>
          <p:spPr>
            <a:xfrm>
              <a:off x="3419280" y="1476000"/>
              <a:ext cx="1462680" cy="195804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224" name=""/>
          <p:cNvGrpSpPr/>
          <p:nvPr/>
        </p:nvGrpSpPr>
        <p:grpSpPr>
          <a:xfrm>
            <a:off x="266760" y="1876320"/>
            <a:ext cx="7343640" cy="4000680"/>
            <a:chOff x="266760" y="1876320"/>
            <a:chExt cx="7343640" cy="4000680"/>
          </a:xfrm>
        </p:grpSpPr>
        <p:sp>
          <p:nvSpPr>
            <p:cNvPr id="225" name=""/>
            <p:cNvSpPr/>
            <p:nvPr/>
          </p:nvSpPr>
          <p:spPr>
            <a:xfrm>
              <a:off x="266760" y="2352600"/>
              <a:ext cx="1171440" cy="723960"/>
            </a:xfrm>
            <a:prstGeom prst="flowChartDocumen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nform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tat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2000" y="2343240"/>
              <a:ext cx="1743120" cy="1419120"/>
            </a:xfrm>
            <a:prstGeom prst="flowChartDocumen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Conforman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scrip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buClr>
                  <a:srgbClr val="00ffff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ffff"/>
                  </a:solidFill>
                  <a:latin typeface="Arial"/>
                  <a:ea typeface="Arial"/>
                </a:rPr>
                <a:t>App involvement sty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2619360" y="1876320"/>
              <a:ext cx="1908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495080" y="2647800"/>
              <a:ext cx="4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8760" y="5324400"/>
              <a:ext cx="7181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Extend Deployment descriptor</a:t>
              </a:r>
              <a:br>
                <a:rPr sz="1400"/>
              </a:b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 Ref Conformance Statement + “Application Involvement Style”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09680"/>
            <a:ext cx="823896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Product Deploym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399960" y="4148280"/>
            <a:ext cx="7181640" cy="2224080"/>
            <a:chOff x="399960" y="4148280"/>
            <a:chExt cx="7181640" cy="2224080"/>
          </a:xfrm>
        </p:grpSpPr>
        <p:sp>
          <p:nvSpPr>
            <p:cNvPr id="232" name=""/>
            <p:cNvSpPr/>
            <p:nvPr/>
          </p:nvSpPr>
          <p:spPr>
            <a:xfrm>
              <a:off x="4219200" y="4148280"/>
              <a:ext cx="1295640" cy="495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orm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g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9960" y="5819760"/>
              <a:ext cx="71816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Conformance Engine function inside container</a:t>
              </a:r>
              <a:br>
                <a:rPr sz="1400"/>
              </a:b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28760" y="1800360"/>
            <a:ext cx="8238960" cy="4819680"/>
            <a:chOff x="428760" y="1800360"/>
            <a:chExt cx="8238960" cy="4819680"/>
          </a:xfrm>
        </p:grpSpPr>
        <p:sp>
          <p:nvSpPr>
            <p:cNvPr id="235" name=""/>
            <p:cNvSpPr/>
            <p:nvPr/>
          </p:nvSpPr>
          <p:spPr>
            <a:xfrm>
              <a:off x="428760" y="6067440"/>
              <a:ext cx="82389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buClr>
                  <a:srgbClr val="00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ffff"/>
                  </a:solidFill>
                  <a:latin typeface="Arial"/>
                  <a:ea typeface="Arial"/>
                </a:rPr>
                <a:t>Container executes the engine prior to  application handof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9760" y="4429080"/>
              <a:ext cx="1009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448240" y="1800360"/>
              <a:ext cx="0" cy="22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9E63-6B99-46F5-994A-008B87B5FE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90920" y="2314440"/>
            <a:ext cx="1514520" cy="1381320"/>
          </a:xfrm>
          <a:prstGeom prst="rect">
            <a:avLst/>
          </a:prstGeom>
          <a:solidFill>
            <a:srgbClr val="0000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2033640"/>
            <a:ext cx="3762360" cy="2076480"/>
          </a:xfrm>
          <a:prstGeom prst="rect">
            <a:avLst/>
          </a:prstGeom>
          <a:noFill/>
          <a:ln w="9360">
            <a:solidFill>
              <a:srgbClr val="000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43280" y="1143000"/>
            <a:ext cx="1990800" cy="533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usiness Service Log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05040" y="2409840"/>
            <a:ext cx="1295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14640" y="3681360"/>
            <a:ext cx="2133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14760" y="3029040"/>
            <a:ext cx="1295280" cy="495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g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3376440"/>
            <a:ext cx="1009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80880"/>
            <a:ext cx="82389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ent-Style Application Involv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52280" y="1676160"/>
            <a:ext cx="8763120" cy="4648320"/>
            <a:chOff x="152280" y="1676160"/>
            <a:chExt cx="8763120" cy="4648320"/>
          </a:xfrm>
        </p:grpSpPr>
        <p:cxnSp>
          <p:nvCxnSpPr>
            <p:cNvPr id="247" name=""/>
            <p:cNvCxnSpPr>
              <a:endCxn id="243" idx="3"/>
            </p:cNvCxnSpPr>
            <p:nvPr/>
          </p:nvCxnSpPr>
          <p:spPr>
            <a:xfrm rot="5400000">
              <a:off x="3564720" y="2157120"/>
              <a:ext cx="1600920" cy="63900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152280" y="5715000"/>
              <a:ext cx="8763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1000"/>
            </a:bodyPr>
            <a:p>
              <a:pPr marL="277560" indent="-277560">
                <a:lnSpc>
                  <a:spcPct val="90000"/>
                </a:lnSpc>
                <a:spcBef>
                  <a:spcPts val="788"/>
                </a:spcBef>
                <a:spcAft>
                  <a:spcPts val="337"/>
                </a:spcAft>
                <a:buClr>
                  <a:srgbClr val="00ffff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 receives Go/Cancel from Container’s 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277560" indent="-277560">
                <a:lnSpc>
                  <a:spcPct val="90000"/>
                </a:lnSpc>
                <a:spcBef>
                  <a:spcPts val="788"/>
                </a:spcBef>
                <a:spcAft>
                  <a:spcPts val="337"/>
                </a:spcAft>
                <a:buClr>
                  <a:srgbClr val="00ffff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ther Involvement Styles – for DOM, DataBinding (JAXB, XMLBeans), et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01560" indent="-231480">
                <a:lnSpc>
                  <a:spcPct val="90000"/>
                </a:lnSpc>
                <a:spcBef>
                  <a:spcPts val="374"/>
                </a:spcBef>
                <a:spcAft>
                  <a:spcPts val="224"/>
                </a:spcAft>
                <a:buClr>
                  <a:srgbClr val="dfff66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01560" indent="-231480">
                <a:lnSpc>
                  <a:spcPct val="90000"/>
                </a:lnSpc>
                <a:spcBef>
                  <a:spcPts val="374"/>
                </a:spcBef>
                <a:spcAft>
                  <a:spcPts val="224"/>
                </a:spcAft>
                <a:buClr>
                  <a:srgbClr val="dfff66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32040" y="2438280"/>
              <a:ext cx="198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Go / Cance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6320" y="1409760"/>
            <a:ext cx="8762760" cy="4097160"/>
            <a:chOff x="76320" y="1409760"/>
            <a:chExt cx="8762760" cy="4097160"/>
          </a:xfrm>
        </p:grpSpPr>
        <p:cxnSp>
          <p:nvCxnSpPr>
            <p:cNvPr id="251" name=""/>
            <p:cNvCxnSpPr>
              <a:stCxn id="240" idx="1"/>
              <a:endCxn id="243" idx="0"/>
            </p:cNvCxnSpPr>
            <p:nvPr/>
          </p:nvCxnSpPr>
          <p:spPr>
            <a:xfrm flipV="1" rot="10800000">
              <a:off x="3361680" y="1409400"/>
              <a:ext cx="381600" cy="1620000"/>
            </a:xfrm>
            <a:prstGeom prst="curvedConnector2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76320" y="4316400"/>
              <a:ext cx="8762760" cy="11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3000"/>
            </a:bodyPr>
            <a:p>
              <a:pPr marL="284400" indent="-284400">
                <a:lnSpc>
                  <a:spcPct val="90000"/>
                </a:lnSpc>
                <a:spcBef>
                  <a:spcPts val="788"/>
                </a:spcBef>
                <a:spcAft>
                  <a:spcPts val="337"/>
                </a:spcAft>
                <a:buClr>
                  <a:srgbClr val="00ffff"/>
                </a:buClr>
                <a:buSzPct val="11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 receives Event Objects from 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16680" indent="-237240">
                <a:lnSpc>
                  <a:spcPct val="90000"/>
                </a:lnSpc>
                <a:spcBef>
                  <a:spcPts val="561"/>
                </a:spcBef>
                <a:spcAft>
                  <a:spcPts val="337"/>
                </a:spcAft>
                <a:buClr>
                  <a:srgbClr val="00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ainer’s Conformance Engine processes Conformance State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16680" indent="-237240">
                <a:lnSpc>
                  <a:spcPct val="90000"/>
                </a:lnSpc>
                <a:spcBef>
                  <a:spcPts val="561"/>
                </a:spcBef>
                <a:spcAft>
                  <a:spcPts val="337"/>
                </a:spcAft>
                <a:buClr>
                  <a:srgbClr val="00ffff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 receives Event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2" marL="948600" indent="-189720">
                <a:lnSpc>
                  <a:spcPct val="90000"/>
                </a:lnSpc>
                <a:spcBef>
                  <a:spcPts val="451"/>
                </a:spcBef>
                <a:buClr>
                  <a:srgbClr val="00ffff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hink SAX Even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lvl="4" marL="1707480" indent="-189720">
                <a:lnSpc>
                  <a:spcPct val="90000"/>
                </a:lnSpc>
                <a:spcBef>
                  <a:spcPts val="300"/>
                </a:spcBef>
                <a:buClr>
                  <a:srgbClr val="dfff66"/>
                </a:buClr>
                <a:buFont typeface="Arial"/>
                <a:buChar char="&gt;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616680" indent="-237240">
                <a:lnSpc>
                  <a:spcPct val="90000"/>
                </a:lnSpc>
                <a:spcBef>
                  <a:spcPts val="374"/>
                </a:spcBef>
                <a:spcAft>
                  <a:spcPts val="224"/>
                </a:spcAft>
                <a:buClr>
                  <a:srgbClr val="dfff66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85840" y="1614600"/>
              <a:ext cx="1314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  <a:ea typeface="Arial"/>
                </a:rPr>
                <a:t>Event Objec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29000" y="1709640"/>
              <a:ext cx="228600" cy="228600"/>
            </a:xfrm>
            <a:prstGeom prst="ellipse">
              <a:avLst/>
            </a:prstGeom>
            <a:solidFill>
              <a:srgbClr val="7889f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819F-DA0A-46AA-84D1-D32C3B9472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360" y="3859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Value in an On Demand Worl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80720" y="996840"/>
            <a:ext cx="8762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usiness can declare/advertise precise and comprehensive B2B constrai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profiled industry-level content standards if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format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usiness can still advertise support for a industry stand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imination of structural conformance checking in application logi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server runtime can provide comprehensive payload chec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a Conformance Statement prior to application logic hando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unction of the IBM AlphaWorks Conformanc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s the B2B application programmi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DFE8-9B8D-46BA-8AD8-209663397D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375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’s AlphaWorks Proof of Concep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30040" y="882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 be Updated to support for BICS 2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‘Conformance Engine’  that interprets the conformance statement and calls appropriate ‘Conformance Enforcer’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UI ‘Manipulator’ for building/editing an BICS and checking conformance against a file of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ented toward function not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t on Java 1.5, Apache XML Beans, Xerces, Xa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g-in framework for increasing constraint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de possible by BICS 2.0 XML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DA85-F775-4713-B977-5A19CFC3A3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3859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ormance Engine interfac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9960" y="955800"/>
            <a:ext cx="7407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920" y="1182600"/>
            <a:ext cx="6746040" cy="47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establish a Conformance 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formanceEngine ce= new ConformanceEng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check informance conforma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formanceResult cr= ce.enforceStatement(ICS, businessinf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Note: typical use is through the engine’s stream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Check if information is conform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(cr.getResult()==ConformanceResult.RESULT_YES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info is conform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(cr.getResult()==ConformanceResult.RESULT_NO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info is not conform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f(cr.getResult()==ConformanceResult.RESULT_UNKNOWN)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//info conformance not known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FE05C-F544-4AD6-92FC-D0FE2BD41C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3760" y="871560"/>
            <a:ext cx="8255160" cy="27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troduction Article from BI-ICS 1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-106.ibm.com/developerworks/xml/library/x-biics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I-ICS 1.0 Spe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p://www6.software.ibm.com/software/developer/library/x-biics/BI-ICSSpec_v1.ht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BM AlphaWorks Java implementation for BI-ICS 1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lphaworks.ibm.com/tech/biics4j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12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12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12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12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0" y="388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0 Link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96B9-E6F2-47B3-A831-586DFC9B4D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123720" y="2514240"/>
            <a:ext cx="2667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BICS Dem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9938-F202-49DB-9D35-537859EE71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3720" y="2514240"/>
            <a:ext cx="2667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About BIC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60C6-00AB-4D4B-A24A-18E97D7D9A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09320" y="2549160"/>
            <a:ext cx="4953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CS Future and Discuss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C58A-F0FD-49F6-AE48-0EFBFC2C47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3720" y="2133360"/>
            <a:ext cx="2667240" cy="17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tt Hinkelm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rh@us.ibm.co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7AA1-693B-4433-96B0-A46A8453B9F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360" y="33984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BIC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siness Information Conformance Statements”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pecification to state exact constraints on business information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0" algn="ctr">
              <a:spcBef>
                <a:spcPts val="788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1336-7C71-4AC3-BC9B-FFC39C4EE3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316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89856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cognition that increased B2B interoperability at the business information layers results from custom information constrai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ost businesses can not use industry-level standards out of the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ization of the industry-level standards is typically requ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natural result from industry-level consortium’s relaxed/loosely-defined spec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s more difficult to reach exact requirements for specifications compared to working within infrastructure-level consorti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consortiums now explicitly design toward relax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bsence of, and need for, a single comprehensive constraint declaration 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kind of data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kind of constraint mech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constraint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87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00FB-D8CA-4C5D-9DD9-507ECF0410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Industry B2B Constraint Trends and Reality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080" y="761760"/>
            <a:ext cx="85057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ustry-level B2B standards consortiums typically are Relax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typical vertical.org defines standards with mass op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ficult to get all members to agree on requir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s in “kitchen-sink” standa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ery possible element but none requ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thing everyone can agree 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ificantly impacts business-level interoper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hing new – since EDI 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groups (OAGIS) explicitly align to this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augment standards with custom partner-specific constra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ICS is founded in this Re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need for multilevel B2B constrai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sinesses define additional constraints beyond a vertical.org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tical.org standards out of the box need profiled – likely per busi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ybe hack the vertical.org schema, maybe a second schema, maybe another mechan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ICS is founded in this n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C226-0B5A-4D82-811F-646B026BE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316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BICS Provide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89856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ramework for defining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Information Constraint Mechanism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sinesses exchange all kinds of information over various infrastruc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straint mechanism is information-cen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constraint mechanism is infrastructure agno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aint mechanisms can be defined for any format of information – XML, binary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aint mechanisms for information keep 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D, XML Schemas, RELAX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onstraint Mechanism Processing Mod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he constraint mechanisms are to be proces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quentially, any order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87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587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F9F7F-473B-4FEC-A3DE-1B9253B4E21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760" y="380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Capabilities using BIC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2360" y="953640"/>
            <a:ext cx="8561520" cy="49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usiness can advertise that it supports a specific industry-level standard, but with additional constraints required for its busi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 Schema X with these additional constraints in Schema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constraint mechanisms alone are insufficient for defining comprehensive constraints. An Industry consortium can use BICS to specify a comprehensive standard by using more than one constraint mechanism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ma X with XPath assertion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Business can advertise that it will accept either of two types of infor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haps a .jpg or .g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……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0BD74-0566-4937-B77B-36935BDEC5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280" y="2631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onship to Previous Specification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938160"/>
            <a:ext cx="8607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-ICS V1.0 – initial specif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-only spec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shed on IBM DeveloperWorks 1/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ing IBM AlphaWorks toolkit released – BI-ICS4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ed and discussed at several industry-level consortiums with posi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00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CS 2.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-only spec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amed (Simplified to just “BICS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 replac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e fundamental functionality as BI-ICS 1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in framework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6680" indent="-1522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parate specif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23880" indent="-1522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e frame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23880" indent="-15228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 constraint mechanis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3B7C-F3D0-4212-A162-1A408F96EA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21:15:19Z</dcterms:created>
  <dc:creator>IBM</dc:creator>
  <dc:description/>
  <dc:language>en-US</dc:language>
  <cp:lastModifiedBy>Scott Hinkelman</cp:lastModifiedBy>
  <dcterms:modified xsi:type="dcterms:W3CDTF">2005-04-01T17:10:04Z</dcterms:modified>
  <cp:revision>133</cp:revision>
  <dc:subject/>
  <dc:title>BICS V2.0 OASIS Symposium April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3267191</vt:r8>
  </property>
  <property fmtid="{D5CDD505-2E9C-101B-9397-08002B2CF9AE}" pid="3" name="_AuthorEmail">
    <vt:lpwstr>jane.harnad@oasis-open.org</vt:lpwstr>
  </property>
  <property fmtid="{D5CDD505-2E9C-101B-9397-08002B2CF9AE}" pid="4" name="_AuthorEmailDisplayName">
    <vt:lpwstr>Jane Harnad</vt:lpwstr>
  </property>
  <property fmtid="{D5CDD505-2E9C-101B-9397-08002B2CF9AE}" pid="5" name="_EmailSubject">
    <vt:lpwstr>Scott Hinkelman's tutorial slides</vt:lpwstr>
  </property>
</Properties>
</file>