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7.wmf" ContentType="image/x-wmf"/>
  <Override PartName="/ppt/media/image15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68061E7-0CC1-4BD5-8901-B56FA7315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7C38202-E21A-455A-8BFF-8DB696395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n example of a control system.  From a graphical screen the operator can easily navigate through the system to determine if there are problems, as well as responding to occupants compl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8FE5B51-1CF5-4B4D-9C54-186196975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quipment diagnostics will typically go down to the room level allowing for changes not possible in older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F1B31C5-59BE-45B0-BF48-B19E87F19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most critical applications for efficient operations is Time of Day Scheduling.  By only having the facility operating and ventilated during actual occupancy great energy savings i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13D9D-544F-429D-8DB5-8DD8A6BB73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18356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92D6A-8EB4-493C-9BBF-107B374249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18356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840" y="418356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A8D8F-2228-49F0-9402-9A77D04C44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0680" y="167616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080" y="167616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18356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0680" y="418356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080" y="418356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431AC-53B9-4EEB-82DB-AA7D87BEAA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7F85E-D33A-44F3-9940-067594A5C4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16761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0CA89-DB43-44B0-B7DA-0F1539F5EB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D7D92-8D45-45F2-B4B4-AA5250A45D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BDDD0-9E10-4779-A520-1E075772F3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B191F-D799-4B51-8CEC-7AECCF2541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78B65-ACBF-41FB-BB86-FDFE98C9E2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418356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E92E5-858F-4506-9ED2-6A2892653D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6761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893C7-1A4F-46E8-84A4-DE96117E01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7840" y="418356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92594-9D0B-435B-A673-5AEE133B3D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418356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69698-AF12-4A7A-83AB-71D9E55668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418356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98DF2-E815-40BC-B9FB-4B2D4BFEA2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418356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7840" y="418356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0652D-1F12-4FF2-8635-481E14DFFF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0680" y="167616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6080" y="167616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418356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0680" y="418356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6080" y="418356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49109-13E3-4018-8812-5864AB3961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E3386-28D7-4449-8793-576B9587E9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03A0A-59BE-4A18-A11E-C32D2B6117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CBE17-BCD0-472D-A209-1F856C1D8C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E5FA6-37BB-4A1C-B43A-1498A04B89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18356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81324-1CCD-4449-B5A7-2056C4E69E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840" y="418356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D848E-85E7-4E54-92BA-7042DC6386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840" y="167616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18356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9BEFE-20A5-4F4A-B6A2-8997E1BECE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0" y="65527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91EB-FB89-4B1C-B66D-6E68B79FD3E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306440"/>
            <a:ext cx="9144000" cy="0"/>
          </a:xfrm>
          <a:prstGeom prst="line">
            <a:avLst/>
          </a:prstGeom>
          <a:ln w="127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6761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3048120" y="228600"/>
            <a:ext cx="5790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810560" y="6429240"/>
            <a:ext cx="1333440" cy="4287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2619360" cy="990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87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06440"/>
            <a:ext cx="9144000" cy="0"/>
          </a:xfrm>
          <a:prstGeom prst="line">
            <a:avLst/>
          </a:prstGeom>
          <a:ln w="1620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0" y="6552720"/>
            <a:ext cx="53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E9BA-D5D3-4486-AE0F-153EB3F198D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76320"/>
            <a:ext cx="640080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OASIS Member Logo"/>
          <p:cNvPicPr/>
          <p:nvPr/>
        </p:nvPicPr>
        <p:blipFill>
          <a:blip r:embed="rId3"/>
          <a:stretch/>
        </p:blipFill>
        <p:spPr>
          <a:xfrm>
            <a:off x="7810560" y="6429240"/>
            <a:ext cx="1333440" cy="4287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onnecting Buildings to the Enterpris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ul Ehrlich, 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ident Building Intelligence Gro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-Chair of the OASIS oBIX Technical Committ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380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ustry His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1600" y="1523880"/>
            <a:ext cx="7681680" cy="495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4E14B-90FB-43D9-BB6E-52AC4198CE8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operabl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wners are looking fo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access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the fu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standards provide these sol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net - now a Global (ISO)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Talk - easily implemented for small control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bus - industry defacto standar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5867280"/>
            <a:ext cx="723888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But today 65% of new installations are still proprietary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FEDF9-8F4E-43F5-B06F-6CF9D96B72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n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etwork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IP) provides full time conne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ML / Web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Open system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ke connections easi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net, LonTalk, Modbus, oBIX,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Global competi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uts a focus on effici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pplication Develop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nvironments allow for solution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6938C-5605-4529-8AA7-36810E739D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66880" y="410760"/>
            <a:ext cx="60199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is change thing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manage groups of buildi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available for manage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making can be central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tential to improve efficiency – lowering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666880" y="4038480"/>
            <a:ext cx="6477120" cy="2819520"/>
            <a:chOff x="2666880" y="4038480"/>
            <a:chExt cx="6477120" cy="2819520"/>
          </a:xfrm>
        </p:grpSpPr>
        <p:sp>
          <p:nvSpPr>
            <p:cNvPr id="124" name=""/>
            <p:cNvSpPr/>
            <p:nvPr/>
          </p:nvSpPr>
          <p:spPr>
            <a:xfrm>
              <a:off x="2666880" y="4038480"/>
              <a:ext cx="6477120" cy="281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3972240" y="4293000"/>
              <a:ext cx="4570560" cy="2205360"/>
              <a:chOff x="3972240" y="4293000"/>
              <a:chExt cx="4570560" cy="2205360"/>
            </a:xfrm>
          </p:grpSpPr>
          <p:sp>
            <p:nvSpPr>
              <p:cNvPr id="126" name=""/>
              <p:cNvSpPr/>
              <p:nvPr/>
            </p:nvSpPr>
            <p:spPr>
              <a:xfrm>
                <a:off x="4198320" y="4325400"/>
                <a:ext cx="3340080" cy="1870200"/>
              </a:xfrm>
              <a:prstGeom prst="rect">
                <a:avLst/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871520" y="5324040"/>
                <a:ext cx="524880" cy="181080"/>
              </a:xfrm>
              <a:prstGeom prst="rightArrow">
                <a:avLst>
                  <a:gd name="adj1" fmla="val 50000"/>
                  <a:gd name="adj2" fmla="val 72465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45000" bIns="450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172760" y="5188320"/>
                <a:ext cx="104688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marL="230040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254a"/>
                    </a:solidFill>
                    <a:latin typeface="Arial"/>
                  </a:rPr>
                  <a:t>Incremental value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254a"/>
                    </a:solidFill>
                    <a:latin typeface="Arial"/>
                  </a:rPr>
                  <a:t>leveling off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685920" y="4755600"/>
                <a:ext cx="94500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289080"/>
                    <a:tab algn="l" pos="577800"/>
                    <a:tab algn="l" pos="866880"/>
                    <a:tab algn="l" pos="1155600"/>
                    <a:tab algn="l" pos="1444680"/>
                    <a:tab algn="l" pos="1733400"/>
                    <a:tab algn="l" pos="2022480"/>
                    <a:tab algn="l" pos="2311560"/>
                    <a:tab algn="l" pos="2600280"/>
                    <a:tab algn="l" pos="2889360"/>
                    <a:tab algn="l" pos="3178080"/>
                    <a:tab algn="l" pos="3467160"/>
                    <a:tab algn="l" pos="3755880"/>
                    <a:tab algn="l" pos="4044960"/>
                    <a:tab algn="l" pos="4334040"/>
                    <a:tab algn="l" pos="4622760"/>
                    <a:tab algn="l" pos="4911840"/>
                    <a:tab algn="l" pos="5200560"/>
                    <a:tab algn="l" pos="5489640"/>
                    <a:tab algn="l" pos="57783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036840" y="4709880"/>
                <a:ext cx="569880" cy="240840"/>
              </a:xfrm>
              <a:prstGeom prst="rightArrow">
                <a:avLst>
                  <a:gd name="adj1" fmla="val 50000"/>
                  <a:gd name="adj2" fmla="val 59155"/>
                </a:avLst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143320" y="4445280"/>
                <a:ext cx="12034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marL="230040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254a"/>
                    </a:solidFill>
                    <a:latin typeface="Arial"/>
                  </a:rPr>
                  <a:t>Next wave of Improvement 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254a"/>
                    </a:solidFill>
                    <a:latin typeface="Arial"/>
                  </a:rPr>
                  <a:t>driven by Operational Excellenc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212000" y="5072400"/>
                <a:ext cx="1724040" cy="676080"/>
              </a:xfrm>
              <a:custGeom>
                <a:avLst/>
                <a:gdLst/>
                <a:ahLst/>
                <a:rect l="l" t="t" r="r" b="b"/>
                <a:pathLst>
                  <a:path w="2112" h="776">
                    <a:moveTo>
                      <a:pt x="0" y="776"/>
                    </a:moveTo>
                    <a:cubicBezTo>
                      <a:pt x="196" y="752"/>
                      <a:pt x="392" y="728"/>
                      <a:pt x="528" y="680"/>
                    </a:cubicBezTo>
                    <a:cubicBezTo>
                      <a:pt x="664" y="632"/>
                      <a:pt x="736" y="544"/>
                      <a:pt x="816" y="488"/>
                    </a:cubicBezTo>
                    <a:cubicBezTo>
                      <a:pt x="896" y="432"/>
                      <a:pt x="944" y="392"/>
                      <a:pt x="1008" y="344"/>
                    </a:cubicBezTo>
                    <a:cubicBezTo>
                      <a:pt x="1072" y="296"/>
                      <a:pt x="1128" y="248"/>
                      <a:pt x="1200" y="200"/>
                    </a:cubicBezTo>
                    <a:cubicBezTo>
                      <a:pt x="1272" y="152"/>
                      <a:pt x="1368" y="88"/>
                      <a:pt x="1440" y="56"/>
                    </a:cubicBezTo>
                    <a:cubicBezTo>
                      <a:pt x="1512" y="24"/>
                      <a:pt x="1520" y="16"/>
                      <a:pt x="1632" y="8"/>
                    </a:cubicBezTo>
                    <a:cubicBezTo>
                      <a:pt x="1744" y="0"/>
                      <a:pt x="1928" y="4"/>
                      <a:pt x="2112" y="8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43240" y="6237720"/>
                <a:ext cx="598320" cy="2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990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672160" y="6240240"/>
                <a:ext cx="598320" cy="2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000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6197000">
                <a:off x="3768480" y="5210640"/>
                <a:ext cx="667440" cy="25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200840" y="6207480"/>
                <a:ext cx="3341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V="1">
                <a:off x="4207680" y="4293000"/>
                <a:ext cx="0" cy="1914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214520" y="5366880"/>
                <a:ext cx="1920240" cy="766440"/>
              </a:xfrm>
              <a:custGeom>
                <a:avLst/>
                <a:gdLst/>
                <a:ahLst/>
                <a:rect l="l" t="t" r="r" b="b"/>
                <a:pathLst>
                  <a:path w="2352" h="880">
                    <a:moveTo>
                      <a:pt x="0" y="880"/>
                    </a:moveTo>
                    <a:cubicBezTo>
                      <a:pt x="124" y="856"/>
                      <a:pt x="248" y="832"/>
                      <a:pt x="384" y="784"/>
                    </a:cubicBezTo>
                    <a:cubicBezTo>
                      <a:pt x="520" y="736"/>
                      <a:pt x="696" y="664"/>
                      <a:pt x="816" y="592"/>
                    </a:cubicBezTo>
                    <a:cubicBezTo>
                      <a:pt x="936" y="520"/>
                      <a:pt x="1016" y="416"/>
                      <a:pt x="1104" y="352"/>
                    </a:cubicBezTo>
                    <a:cubicBezTo>
                      <a:pt x="1192" y="288"/>
                      <a:pt x="1272" y="248"/>
                      <a:pt x="1344" y="208"/>
                    </a:cubicBezTo>
                    <a:cubicBezTo>
                      <a:pt x="1416" y="168"/>
                      <a:pt x="1448" y="144"/>
                      <a:pt x="1536" y="112"/>
                    </a:cubicBezTo>
                    <a:cubicBezTo>
                      <a:pt x="1624" y="80"/>
                      <a:pt x="1736" y="32"/>
                      <a:pt x="1872" y="16"/>
                    </a:cubicBezTo>
                    <a:cubicBezTo>
                      <a:pt x="2008" y="0"/>
                      <a:pt x="2180" y="8"/>
                      <a:pt x="2352" y="16"/>
                    </a:cubicBezTo>
                  </a:path>
                </a:pathLst>
              </a:custGeom>
              <a:noFill/>
              <a:ln w="28440">
                <a:solidFill>
                  <a:srgbClr val="33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 rot="5400000">
                <a:off x="6248160" y="4347360"/>
                <a:ext cx="891360" cy="1185840"/>
              </a:xfrm>
              <a:custGeom>
                <a:avLst/>
                <a:gdLst/>
                <a:ahLst/>
                <a:rect l="l" t="t" r="r" b="b"/>
                <a:pathLst>
                  <a:path w="1680" h="480">
                    <a:moveTo>
                      <a:pt x="0" y="480"/>
                    </a:moveTo>
                    <a:cubicBezTo>
                      <a:pt x="60" y="412"/>
                      <a:pt x="120" y="344"/>
                      <a:pt x="336" y="288"/>
                    </a:cubicBezTo>
                    <a:cubicBezTo>
                      <a:pt x="552" y="232"/>
                      <a:pt x="1072" y="192"/>
                      <a:pt x="1296" y="144"/>
                    </a:cubicBezTo>
                    <a:cubicBezTo>
                      <a:pt x="1520" y="96"/>
                      <a:pt x="1600" y="48"/>
                      <a:pt x="1680" y="0"/>
                    </a:cubicBezTo>
                  </a:path>
                </a:pathLst>
              </a:custGeom>
              <a:noFill/>
              <a:ln w="28440">
                <a:solidFill>
                  <a:srgbClr val="00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064560" y="5371920"/>
                <a:ext cx="645480" cy="45360"/>
              </a:xfrm>
              <a:custGeom>
                <a:avLst/>
                <a:gdLst/>
                <a:ahLst/>
                <a:rect l="l" t="t" r="r" b="b"/>
                <a:pathLst>
                  <a:path w="792" h="51">
                    <a:moveTo>
                      <a:pt x="0" y="3"/>
                    </a:moveTo>
                    <a:cubicBezTo>
                      <a:pt x="110" y="1"/>
                      <a:pt x="220" y="0"/>
                      <a:pt x="312" y="3"/>
                    </a:cubicBezTo>
                    <a:cubicBezTo>
                      <a:pt x="404" y="6"/>
                      <a:pt x="472" y="11"/>
                      <a:pt x="552" y="19"/>
                    </a:cubicBezTo>
                    <a:cubicBezTo>
                      <a:pt x="632" y="27"/>
                      <a:pt x="752" y="46"/>
                      <a:pt x="792" y="51"/>
                    </a:cubicBezTo>
                  </a:path>
                </a:pathLst>
              </a:custGeom>
              <a:noFill/>
              <a:ln w="28440">
                <a:solidFill>
                  <a:srgbClr val="3366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235840" y="5661360"/>
                <a:ext cx="125784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003000"/>
                    </a:solidFill>
                    <a:latin typeface="Arial"/>
                  </a:rPr>
                  <a:t>Cost and Efficiency Focu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129000" y="6260760"/>
                <a:ext cx="2413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114480" indent="-1144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urce: Du Pont / ARC Advisory Group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F3D31-88A9-48AE-92B0-5FA7536178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428640" y="457200"/>
            <a:ext cx="52578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ges and Univers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tional Account retail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ool Distri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ver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lthc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ercial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pit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str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5517C-0DE9-4D47-9BE7-28B98DF5B2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24080" y="228600"/>
            <a:ext cx="228312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lle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day many vendors are using XML and web services in their products in a non-standard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are needed sooner rather then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will not replace industry specific standards such as BACnet and LonTal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mitment is being made by the industry to accomplish this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2C982-48C2-4A1E-8999-EEC705E0CC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352320" y="152280"/>
            <a:ext cx="342900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ort started in a trade group (CABA) 3 years ago.  Moved to OASIS in 2004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technical progress made – internally at a .6 rel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 public demonstration with 4 vendors in M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e to release V1 later this ye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 starting on defining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8D94D-3EC4-4418-AFB0-CD46D5D8F2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04960" y="274680"/>
            <a:ext cx="518148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at kind of dat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imple: Room Temperature of Lob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engthy: List of people currently in East Wing with time of ent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lex: Current state of all systems across an entire university camp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ports: Variation of internal humidity of sports hall over the last 6 mont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AF9D2-7DA9-45D4-988E-402594BDFB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428640" y="274320"/>
            <a:ext cx="5257800" cy="63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How is the data struct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imple data follows the SI syste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ass in kil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ength in met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ime in 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t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ore complex data structures are built from the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595A9-F843-4428-B8A9-CA62E7A17B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352320" y="274320"/>
            <a:ext cx="5334120" cy="7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How is the data access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ata is accessed at a ‘Datapoint’ and exposed by a ‘Point Service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atapoints are revealed by a ‘Discovery Service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ata trends are reported by a ‘History Service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itical events are signalled by the ‘Alarm Service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A71CC-C49D-4215-9C70-BB92BC2D561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733920" y="274680"/>
            <a:ext cx="495288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oBI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Open – all technical details freely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Building – any and all build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formation – pertinent system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Xchange – interoper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B16BE-9319-42AD-9358-2A0548C7EE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124080" y="228600"/>
            <a:ext cx="228312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590920" y="1981080"/>
          <a:ext cx="3348000" cy="346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981080"/>
                    <a:ext cx="3348000" cy="34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AEBF7-E3FF-421F-8A69-A60D1956BA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Facility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should facilities tie into the enterpr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story of open standards work to d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going on in the oBIX technical committe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CF043-5AEC-49CC-B6B8-D5395293B8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cility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management covers real time control and monitoring of all mechanical and electrical systems in a buil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ting, ventilation, air conditioning (HV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e alarm and security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distribution and met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systems (medical gas, generator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MS Defini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facility management system should be a comprehensive resource… a collection of data that helps you mange your business, whether it be the utilities, energy, human resources, work orders or inventories. 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E2704-4B87-4A0B-8498-8422247249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6A4E2-BD63-4798-8414-2339D83F4F1B}" type="slidenum">
              <a:t>5</a:t>
            </a:fld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777C8-E356-42E7-BBB0-79EB20061400}" type="slidenum">
              <a:t>6</a:t>
            </a:fld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-14400"/>
            <a:ext cx="9161640" cy="687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16BA5-AAA0-402B-8DE9-A304B516F5FB}" type="slidenum">
              <a:t>7</a:t>
            </a:fld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828800" y="1434960"/>
            <a:ext cx="7315200" cy="54230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76720" y="304560"/>
            <a:ext cx="4952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cilities Hierarchy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B009D-11EE-4A2E-B026-4F7BADAC0D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57600" y="274680"/>
            <a:ext cx="5029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siness Hierarchy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398600"/>
            <a:ext cx="6324480" cy="5459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1463760"/>
            <a:ext cx="6248520" cy="5394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0" y="1398600"/>
            <a:ext cx="6324480" cy="54594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0" y="1463760"/>
            <a:ext cx="6248520" cy="5394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0" y="1463760"/>
            <a:ext cx="6248520" cy="5394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3527280" y="1673280"/>
            <a:ext cx="5616720" cy="5184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0" y="1463760"/>
            <a:ext cx="6248520" cy="53942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0" y="1463760"/>
            <a:ext cx="6248520" cy="5394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35527-6D0A-4E06-AE5F-17003CC908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21:39:08Z</dcterms:created>
  <dc:creator>Anto Budiardjo</dc:creator>
  <dc:description/>
  <dc:language>en-US</dc:language>
  <cp:lastModifiedBy>William Cox</cp:lastModifiedBy>
  <cp:lastPrinted>2003-10-01T21:45:55Z</cp:lastPrinted>
  <dcterms:modified xsi:type="dcterms:W3CDTF">2005-04-26T16:57:09Z</dcterms:modified>
  <cp:revision>19</cp:revision>
  <dc:subject/>
  <dc:title>Background</dc:title>
</cp:coreProperties>
</file>