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4F5E-4EE6-493F-8D0B-AAF329A37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254F-F885-475C-A571-7603B4623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10E0-7CD4-4EE0-A2AD-8B6508A85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E8B8-7B83-4D88-AB68-0F8E1BAB4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E51C-1164-49D1-9DB0-B4077A83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6464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5600" y="167652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6464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5600" y="4064760"/>
            <a:ext cx="24289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E6E0-FB9A-4FEF-91B4-A1F714701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F22-8ABB-457A-8495-AC1305628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F385-F8F4-4488-B2C8-7A7186AE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7551-364D-4D21-85E0-9C565B2CDC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DB42-7ED7-4E38-A43F-1D0EB6FEE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79720" y="406476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DC40-3337-45EF-B19F-ECE4C383E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79720" y="1676520"/>
            <a:ext cx="3681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040" y="4064760"/>
            <a:ext cx="7543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9EB-0679-45B4-8A77-1EDD7BD2E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85640" y="1380960"/>
            <a:ext cx="8658360" cy="54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4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14440" y="0"/>
            <a:ext cx="8629560" cy="140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41480" indent="-1270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270080" indent="-114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270080" indent="-114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270080" indent="-114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5790960" y="6505200"/>
            <a:ext cx="20574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0707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07070"/>
                </a:solidFill>
                <a:latin typeface="Verdana"/>
              </a:rPr>
              <a:t>©2004 BEA Systems, Inc.  |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   </a:t>
            </a:r>
            <a:fld id="{71BC738A-FF46-4391-AE71-36A90DECEBCC}" type="slidenum">
              <a:rPr b="0" lang="en-US" sz="800" spc="-1" strike="noStrike">
                <a:solidFill>
                  <a:srgbClr val="70707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077320" y="6157800"/>
            <a:ext cx="838080" cy="4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81000" y="5448240"/>
            <a:ext cx="816300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28880" y="0"/>
            <a:ext cx="8115120" cy="550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974000" y="6095880"/>
            <a:ext cx="94140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28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lvl="1" marL="11448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406440" indent="228600" algn="ctr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736560" indent="177840" algn="ctr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028880" indent="126720" algn="ctr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1028880" indent="12672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1028880" indent="126720">
              <a:spcBef>
                <a:spcPts val="2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chieving Distributed Extensibility and Versioning in XM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1460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ave Orchard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W3C Lead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BEA System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nent Version Identification fac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compatible ev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ically means retaining namespace 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schema for extensions/ver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 tools u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ion #s may preclude usage o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sion: Component version identif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components in new namespace(s) per ver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                                                 &lt;ns2:nam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&lt;ns:first&gt;Dave&lt;/ns:first&gt;                         &lt;ns2:first&gt;Dave&lt;/ns2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&lt;ns:last&gt;Orchard&lt;/ns:last&gt;                     &lt;ns2:last&gt;Orchard&lt;/ns2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&lt;ns2:middle&gt;Bryce&lt;/ns2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                                                &lt;/ns2: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new components in new namespace for each compatible ver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first&gt;Dave&lt;/ns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last&gt;Orchard&lt;/ns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2:middle&gt;Bryce&lt;/ns2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new components in existing or new namespace(s) for each compatible ver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first&gt;Dave&lt;/ns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last&gt;Orchard&lt;/ns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middle&gt;Bryce&lt;/ns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new components in existing or new namespace for each version + version identif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 version=“1.0”&gt;                           &lt;ns:name version=“2.0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&lt;ns:first&gt;Dave&lt;/ns:first&gt;                         &lt;ns:first&gt;Dave&lt;/ns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&lt;ns:last&gt;Orchard&lt;/ns:last&gt;                     &lt;ns:last&gt;Orchard&lt;/ns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                                                &lt;ns:middle&gt;Bryce&lt;/ns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                                                &lt;/ns: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Solution: CVI Strategy #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Type"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 &lt;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name=“last" type="s:string" minOccurs="1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any“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&lt;ns:middle&gt;Bryce&lt;/ns:midd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st Solution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roblem: Can’t create new Schema for the exten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llega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Typ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 &lt;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name=“la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name=“middle" type="s:string" minOccurs=“0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any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 fact, many if not most schemas have optional content at end in V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terministic Content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ML DTDs and XML Schema require “deterministic content models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“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the content model </a:t>
            </a:r>
            <a:r>
              <a:rPr b="0" lang="en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(b, c) | (b, d))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 is non-deterministic, because given an initial </a:t>
            </a:r>
            <a:r>
              <a:rPr b="0" lang="en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 the XML processor cannot know which </a:t>
            </a:r>
            <a:r>
              <a:rPr b="0" lang="en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 in the model is being matched without looking ahead to see which element follows the </a:t>
            </a:r>
            <a:r>
              <a:rPr b="0" lang="en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Verdana"/>
                <a:ea typeface="Arial"/>
              </a:rPr>
              <a:t>Optional element followed by &lt;any targetNamespace=“ns”&gt; are NOT allow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element name=“middle" type="s:string" minOccurs=“0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any processContents="lax" namespace="##any“ minOccurs="0"  maxOccurs="unbounded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element ref=“ns2:middle” minOccurs=“0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any processContents="lax" namespace="##other” minOccurs="0"  maxOccurs="unbounded" /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Solution: CVI Strategy #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Type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 &lt;s:sequenc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name=“last" type="s:string" minOccurs="1" maxOccurs="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other“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1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1400" indent="-2214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&lt;ns2:middle&gt;Orchard&lt;/ns2:middl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1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14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1400" indent="-2214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is is the most common extensibility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VI Strategy #2 Probl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Problem: Can’t create new Schema for th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lleg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Typ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 &lt;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name=“la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element ref=“ns2:middle" minOccurs=“0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other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nsion schema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on is required - in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on is optional, th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e the extensibility poi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660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means only 1 new ver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not add the extension into the sch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660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lidate any extensions found if you c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660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’t validate the “right” extensions are in the “right” pl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76520" indent="-76212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name&gt;&lt;first/&gt;&lt;areacode/&gt;….. &lt;phone&gt;&lt;last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VI Strategy #3: Schema design #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complex ways to write the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rite a compatible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ons &amp; ver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1: Extension element for same namesp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element has only a wildc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does the “swap” extensibility for element content tri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#2: Dare Obasanjo’s Sentry techni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nsion el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 &lt;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&lt;s:element name=“last" type="s:string" minOccurs="1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&lt;s:element name="Extension" type=“ns:ExtensionType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maxOccurs="1"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other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 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s:complexType name="ExtensionType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  &lt;s:any processContents="lax" namespace="##targetnamespace“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        minOccurs="0"maxOccurs="unbounded" 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/s:sequenc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s:anyAttribute/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s:complexType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nsion &amp; Versio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haps the biggest goal of loose coupling is to allow distributed extension and evolu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framework for designing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s and Decisions Facing Desig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p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extensi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middle&gt;Bryce&lt;/ns:middl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extens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other rev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extensi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middle&gt;Bryce&lt;/ns:middl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extension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prefix&gt;Mr.&lt;/ns:prefix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extens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extension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ma V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complexType name=“name"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&lt;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first" type="s:string" minOccurs="1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last" type="s:string" minOccurs="1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"Extension" type=“ns:MiddleExtensionType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other“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/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 &lt;s:anyAttribute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lt;/s:complexType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 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s:complexType name="MiddleExtensionType"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“middle" type="s:string" minOccurs=“0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    &lt;s:element name="Extension" type=“ns:ExtensionType"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maxOccurs="1"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&lt;s:any processContents="lax" namespace="##other“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                     minOccurs="0"  maxOccurs="unbounded" 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/s:sequence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&lt;s:anyAttribute/&g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s:complexType&gt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s:complexType name="ExtensionTyp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#5: Incompatible Exte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dding required functiona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on authors don’t “own” namespa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igner provides mechanism to indicate extension is requir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st Understand” rule is a good 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must fault if extension with mU isn’t understo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rides the Must Ignore ru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add required ns2:middle as SOAP hea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soap:head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2:middle xmlns:ns2=“extns” soap:mustUnderstand=“1”&gt;Bryce&lt;/ns2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soap:header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soap:body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name xmlns:ns=“myns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&lt;ns:first&gt;Dave&lt;/ns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     &lt;ns:last&gt;Orchard&lt;/ns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/ns:name&gt; 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Another solution: provide a mustUnderstand mod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 xmlns:ns=“myns” xmlns:ns2=“extns”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first&gt;Dave&lt;/ns:fir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:last&gt;Orchard&lt;/ns:last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&lt;ns2:middle ns:mustUnderstand=“1”&gt;Orchard&lt;/ns2:middle&gt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plexities: scope of mU, partia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sioning activ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3C TAG 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b architecture doc, fin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Schema 1.1(2.0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0 doesn’t make extensibility eas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plicit wildcards and determinism constra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“must ignore unknowns”, “must understand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1 may relax determinism for wildca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xNG, OWL/RDF have open cont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o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onal, mand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langu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stitution mod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 version identification strateg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k you, Ques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ter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Version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ttp://www.xml.com/pub/a/2003/12/03/versioni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Version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ttp://www.xml.com/pub/a/2004/10/27/extend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s: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ttp://www.pacificspirit.com/Authoring/Compat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for W3C TAG Finding on Extensibility and Version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ttp://www.w3.org/2001/tag/doc/ver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or the Web Architecture documen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ttp://www.w3.org/TR/webarch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at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wards 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er software can read older versions of docu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e. Update Schema and older documents valid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s Compat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lder software can read newer versions of docu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ompatible mea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t software mu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 upgra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5410080"/>
            <a:ext cx="1981080" cy="838440"/>
          </a:xfrm>
          <a:prstGeom prst="roundRect">
            <a:avLst>
              <a:gd name="adj" fmla="val 16667"/>
            </a:avLst>
          </a:prstGeom>
          <a:solidFill>
            <a:srgbClr val="2b6a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 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5410080"/>
            <a:ext cx="1981440" cy="838440"/>
          </a:xfrm>
          <a:prstGeom prst="roundRect">
            <a:avLst>
              <a:gd name="adj" fmla="val 16667"/>
            </a:avLst>
          </a:prstGeom>
          <a:solidFill>
            <a:srgbClr val="2b6a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3" idx="3"/>
            <a:endCxn id="94" idx="1"/>
          </p:cNvCxnSpPr>
          <p:nvPr/>
        </p:nvCxnSpPr>
        <p:spPr>
          <a:xfrm>
            <a:off x="5486040" y="5829120"/>
            <a:ext cx="15246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96" name=""/>
          <p:cNvSpPr/>
          <p:nvPr/>
        </p:nvSpPr>
        <p:spPr>
          <a:xfrm>
            <a:off x="3581280" y="4038480"/>
            <a:ext cx="1981440" cy="838440"/>
          </a:xfrm>
          <a:prstGeom prst="roundRect">
            <a:avLst>
              <a:gd name="adj" fmla="val 16667"/>
            </a:avLst>
          </a:prstGeom>
          <a:solidFill>
            <a:srgbClr val="2b6a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 + 1 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3"/>
            <a:endCxn id="94" idx="1"/>
          </p:cNvCxnSpPr>
          <p:nvPr/>
        </p:nvCxnSpPr>
        <p:spPr>
          <a:xfrm>
            <a:off x="5562360" y="4457880"/>
            <a:ext cx="14482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98" name=""/>
          <p:cNvSpPr/>
          <p:nvPr/>
        </p:nvSpPr>
        <p:spPr>
          <a:xfrm>
            <a:off x="7010280" y="41148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2b6a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N + 1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3" idx="3"/>
            <a:endCxn id="98" idx="1"/>
          </p:cNvCxnSpPr>
          <p:nvPr/>
        </p:nvCxnSpPr>
        <p:spPr>
          <a:xfrm flipV="1">
            <a:off x="5486040" y="4533120"/>
            <a:ext cx="1524600" cy="129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00" name=""/>
          <p:cNvSpPr/>
          <p:nvPr/>
        </p:nvSpPr>
        <p:spPr>
          <a:xfrm>
            <a:off x="6251760" y="5029200"/>
            <a:ext cx="13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41560" y="4114800"/>
            <a:ext cx="13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nguage Designer’s Cho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Designer extend language in a compatible w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wards-compatible requires substitution ru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form newer extension into older inst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r can always do incompatible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extend language in compatible w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y extend language in incompatible w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language stand-alone or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 deci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ma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n extension schemas be writte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iven schema language, constructs for exten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’s compatible extension is the wildc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tion mechanism: needed for compat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st Ignore Unknown: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Any unknown component is ign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thers: XSLT Fallback model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nent version ident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espaces, version #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cating incompatible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5713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w version, mandatory extens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sion: Extensibil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Wild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xs:any processContents="" namespace=""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Contents for schema vali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800280" indent="-16524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x allows WSDL to control valid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space for which namespaces are allow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does not have a “default” extensibility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open cont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bility Rule: Allow new elements or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cision: Substitution mechan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itution Rule: Provide substitution mechan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critical for compatible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nder can put new information in without breaking recei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didate: Must Ignore Unkn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ivers must ignore content they don’t underst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, receiver must ignore ns2:midd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name xmlns:ns=“myns” xmlns:ns2=“extns”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first&gt;Dave&lt;/ns:firs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:last&gt;Orchard&lt;/ns:last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s2:middle&gt;Bryce&lt;/ns2:middl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/ns:nam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tension vs 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on: Additional content by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sion: Additional/changed content by desig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torically version identification is by “x.y”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 changes are major and usually incompat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 changes are minor and often compat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spaces allow designers to control ver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ularize their langu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ties to make ad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tible vs incompat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urry distin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nguage designer references another languag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20560" indent="-177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0a00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on author makes incompatible 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6:59:35Z</dcterms:created>
  <dc:creator>Leslie Uptain</dc:creator>
  <dc:description/>
  <dc:language>en-US</dc:language>
  <cp:lastModifiedBy>dorchard</cp:lastModifiedBy>
  <dcterms:modified xsi:type="dcterms:W3CDTF">2005-01-06T18:42:37Z</dcterms:modified>
  <cp:revision>60</cp:revision>
  <dc:subject/>
  <dc:title>Title Master</dc:title>
</cp:coreProperties>
</file>