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E9AA-6E87-43C8-AFAF-FDBF33FD4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lide 7, add a new one about http://xml.coverpages.org/ni2005-03-21-a.html (alternate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scussions of standards development, people sometimes use these terms loosely, so I wanted to zero in more on what they mean and what the differences ar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ing the theme of flexibility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f you use Dublin Core terms for attribute names and your business partner uses them for element names, there’s a little bandwidth mismatch there. Not a lot, but some, and a stylesheet or something has to be written to deal with i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liance Working Group founded in 19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 of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Dublin Core for the periodical industry. At first this meant mostly newstand magazines, but there’s been more interest from academic jou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metadata terms and controlled vocabularies to use as values for some of these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s” in the Dublin Core sense of the 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wanted you to see the general categories of things covered. Note the Dublin Core te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M originally described as being based on RDF and Dublin Core. They saw RDF as the W3C standard for storing metadata, and PRISM is metadata for a certain industry. They saw an advantage of RDF in the flexibility it gives—if the metadata with a Time Magazine article had prism:creationDate in an attribute and Mcgraw-Hill had it as a subelement in a metadata header with a Business Week article, an aggregator like LexisNexis would still be able to find the creationDate value, even though the XML structure of the article metadata might have been different. Time Inc. and McGraw Hill and Hearst and the other publishers didn’t have to be forced to use the same DTD. Sounds great,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guess what: they wanted to use the same DTD. RDF/XML may be flexible, but it’s difficult to understand where it’s flexible and where it’s not until you study it pretty closely, and people who oversee content workflow at weekly magazines don’t have the time or inclination to study RDF closely.For them, having a DTD is like having a form to fill out, and for them that’s a good thing. It’s obviously a good thing for an aggregator like LexisNexis if different suppliers are sending us data in XML that conforms to the same DTD. I think we still have a way to go before we see inter-company exchange of data using R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urse of developing the first DTD, it turned out that the distinction between data and  metadata wasn’t always so cl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An article title is part of the content, but useful as metadata. Think of an RSS file: the name of a piece’s creator and the date it was created are metadata, but I like to see a byline in a newspaper article and to know the date it was publ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 Inline content: Most of what I think of as content metadata could be stored in header element delivered with a magazine article. But metadata can go inline as well. For example, when Business Week mentions a company, they often put its ticker symbol in parentheses after the company name. In the print edition, that’s part of the content. On the web, the ticker symbol links to a “Corporate Snapshot” of the company, so you know that in their data they’re identifying that ticker symbol as a string of text with a specific role to play. Magazine publishers wanted the PRISM DTD to provide a way to add metadata inline for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we got into this gray area between data and metadata, some magazine publishers started describing needs for components that were flat-out structural content. Describing these things was not in the original mission of the PRISM group, but the members needed it, so the group did it by adapting the appropriate modules of XHTML to describe magazine content and showing exactly how the metadata would fit into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M for content, such as actual magazine 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Lots of debate about the names of the levels; didn’t want one to look more compliant than the oth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e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whether vocab/dtd/schemas (and which schemas) would work best for your standards’ audience (industry, whate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developing a DTD or a schema, don’t say “vocabulary.” Say what you mea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the marketingspeak trick of describing something vaguely in order to make it sound like it applies to a broader domain than it really does. You’re offering a technical resource; make it clear who can benefit from that re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talk about what Dublin Core is just because in my later discussion I’ll be referring to it a lot as an examp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nge of possible meanings for the wor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in an metadata workshop in Dublin, Ohio in 19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ore of a data modeling vocabulary than a markup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see namespace prefix of dc:, for example in an RSS file, that’s a DC name. With RSS being one of the most successful XML applications ever, that’s a lot of Dublin Core out there, and it’s in many places besides RSS. Many apps that need names like those in bullet 5 know that they’re better off using the DC name than making up a new on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dustry standard group is creating a vocabulary. What exactly is their work product? What is the format of the file they create that we’ll download from standardnam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chema” just as vague as “vocabulary.” Some use it as a generic term to refer to DTDs, W3C Schemas, and RELAX NG schemas. People with a strong background in markup languages use the word “schemas” by itself to refer to any XML-based representation of DTD-like information, which generally means both W3C Schema and RELAX NG, and the submissions to the W3C that lead to XSD. Some use it to mean W3C Schemas and nothing el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talk more about RDF schema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ot of these vocabularies are created for business partners to communicate, and you want to make sure that both business partners have the same understanding of what “publishing date” means. The date that a magazine is printed, the date that it shows up on newstands, and the date printed on the cover are three different 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already done with the mandatory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hy optional? Restricting values increases the chances that a receiving process understands what it’s getting, but fewer restrictions mean greater flexibility, and greater flexibility can mean greater adoption. If I have a million record in a database where my Approved field always has the values T or F, then I’ll be happy to see the standards group standardize on T and F as the standard values, but I won’t be as happy about seeing them standardize on Y and N. This brings up the political advantage of flexibility: it’s easier for everyone to agree on flexibility than to agree on which constraints to imp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C has a nice compromise between imposing a set of choices and leaving it completely open: they recommend that you pick a controlled vocabulary. For example, for the DC term “identifier,” they recommend that you pick a system like URIs, ISBNs, or DOIs. ISBNs are a good example of the value of this flexibility, because they make so much sense for a book publishing app and so little sense for something like RS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 is a good example of an important yet vague term. To some people at LexisNexis, it might mean the choice between hard copy, CD, and web delivery? To other people it might mean the choice betwee Word, PDF, and an ASCII file.  Or is “ASCII” descriptive enough—maybe I mean XML or HTML or RDF?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t these together because, for better or worse, many people do them together. As they think out the relationships, they express them in the schema language of their cho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modeling. Are there pieces of information where you may need more than one, like author? (If you’re modeling document metadata, could a document have more than one author?) If there may be more than one, do they need a container element? What else should be grouped together into containers? Is there a piece of information that doesn’t make sense unless you have a value filled out for other o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DTD or schema. Advantages of a storing rules in a machine-readable  form. No matter how hard you try to separate these steps, more data modeling is bound to happen, as you decide which pieces of information are XML elements and which are attribut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RDF data being created out there is not being created to conform to an RDF schema. There are people busily creating RDF schemas, often using the Web Ontology Language, or OWL, but very few are creating data conforming to i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E19BD-CD33-4CD5-BF85-EAB70B78F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37720" y="1922400"/>
            <a:ext cx="7620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837720" y="4071960"/>
            <a:ext cx="7620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FB561-BC0F-4B21-8AE8-937BBA7D5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83772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4264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837720" y="407196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42640" y="407196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43CD0-0409-44DF-9137-814D53840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837720" y="192240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414240" y="192240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90760" y="192240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837720" y="407196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414240" y="407196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90760" y="4071960"/>
            <a:ext cx="2453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F4CD9-2E58-48AD-BBF1-CCDB2DF46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837720" y="192240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2EBBF-320C-4701-B1CB-1EAA75C58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F2212-7859-4D5F-9C9A-CC98CEC1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837720" y="1922400"/>
            <a:ext cx="37184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42640" y="1922400"/>
            <a:ext cx="37184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FCB2-6289-4A95-B399-99BAD1202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B7608-E074-4E97-A424-99EDD0D2A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590920" y="62676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C2C03-EB4F-41E6-8798-A414C6108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83772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42640" y="1922400"/>
            <a:ext cx="37184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837720" y="407196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AEA58-F050-47DD-A207-2465D0020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837720" y="1922400"/>
            <a:ext cx="37184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4264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42640" y="407196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6B519-D702-4BCD-B501-428A75140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83772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42640" y="1922400"/>
            <a:ext cx="37184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837720" y="4071960"/>
            <a:ext cx="7620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61D2-EAFE-46AC-8944-F58A34759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37720" y="1922400"/>
            <a:ext cx="762012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65800"/>
            <a:ext cx="1905120" cy="457200"/>
          </a:xfrm>
          <a:prstGeom prst="rect">
            <a:avLst/>
          </a:prstGeom>
          <a:noFill/>
          <a:ln w="0">
            <a:noFill/>
          </a:ln>
        </p:spPr>
        <p:txBody>
          <a:bodyPr lIns="92160" rIns="92160" tIns="46080" bIns="4608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65800"/>
            <a:ext cx="2895840" cy="4572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B111-305B-428E-AAD9-1FD689AA047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65800"/>
            <a:ext cx="190512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A4F8-40B7-4A9E-B6D8-1DDDBEC0A5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 name=""/>
          <p:cNvSpPr/>
          <p:nvPr/>
        </p:nvSpPr>
        <p:spPr>
          <a:xfrm>
            <a:off x="0" y="171360"/>
            <a:ext cx="5226120" cy="1371600"/>
          </a:xfrm>
          <a:custGeom>
            <a:avLst/>
            <a:gdLst/>
            <a:ahLst/>
            <a:rect l="l" t="t" r="r" b="b"/>
            <a:pathLst>
              <a:path w="3292" h="864">
                <a:moveTo>
                  <a:pt x="0" y="864"/>
                </a:moveTo>
                <a:lnTo>
                  <a:pt x="330" y="723"/>
                </a:lnTo>
                <a:lnTo>
                  <a:pt x="637" y="606"/>
                </a:lnTo>
                <a:lnTo>
                  <a:pt x="957" y="492"/>
                </a:lnTo>
                <a:lnTo>
                  <a:pt x="1270" y="393"/>
                </a:lnTo>
                <a:lnTo>
                  <a:pt x="1566" y="315"/>
                </a:lnTo>
                <a:lnTo>
                  <a:pt x="1867" y="252"/>
                </a:lnTo>
                <a:lnTo>
                  <a:pt x="2230" y="189"/>
                </a:lnTo>
                <a:lnTo>
                  <a:pt x="2713" y="129"/>
                </a:lnTo>
                <a:lnTo>
                  <a:pt x="3283" y="81"/>
                </a:lnTo>
                <a:lnTo>
                  <a:pt x="3292" y="0"/>
                </a:lnTo>
                <a:lnTo>
                  <a:pt x="7" y="0"/>
                </a:lnTo>
                <a:lnTo>
                  <a:pt x="0" y="864"/>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0"/>
            <a:ext cx="9163080" cy="1371600"/>
          </a:xfrm>
          <a:custGeom>
            <a:avLst/>
            <a:gdLst/>
            <a:ahLst/>
            <a:rect l="l" t="t" r="r" b="b"/>
            <a:pathLst>
              <a:path w="5772" h="864">
                <a:moveTo>
                  <a:pt x="5772" y="177"/>
                </a:moveTo>
                <a:lnTo>
                  <a:pt x="5763" y="0"/>
                </a:lnTo>
                <a:lnTo>
                  <a:pt x="0" y="0"/>
                </a:lnTo>
                <a:lnTo>
                  <a:pt x="0" y="864"/>
                </a:lnTo>
                <a:lnTo>
                  <a:pt x="351" y="726"/>
                </a:lnTo>
                <a:lnTo>
                  <a:pt x="729" y="600"/>
                </a:lnTo>
                <a:lnTo>
                  <a:pt x="1134" y="480"/>
                </a:lnTo>
                <a:lnTo>
                  <a:pt x="1545" y="384"/>
                </a:lnTo>
                <a:lnTo>
                  <a:pt x="2049" y="301"/>
                </a:lnTo>
                <a:lnTo>
                  <a:pt x="2652" y="234"/>
                </a:lnTo>
                <a:lnTo>
                  <a:pt x="3210" y="199"/>
                </a:lnTo>
                <a:lnTo>
                  <a:pt x="3728" y="180"/>
                </a:lnTo>
                <a:lnTo>
                  <a:pt x="4324" y="180"/>
                </a:lnTo>
                <a:lnTo>
                  <a:pt x="4875" y="177"/>
                </a:lnTo>
                <a:lnTo>
                  <a:pt x="5448" y="177"/>
                </a:lnTo>
                <a:lnTo>
                  <a:pt x="5772"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0800000">
            <a:off x="3914280" y="5508360"/>
            <a:ext cx="5224680" cy="1352520"/>
          </a:xfrm>
          <a:custGeom>
            <a:avLst/>
            <a:gdLst/>
            <a:ahLst/>
            <a:rect l="l" t="t" r="r" b="b"/>
            <a:pathLst>
              <a:path w="3291" h="852">
                <a:moveTo>
                  <a:pt x="0" y="852"/>
                </a:moveTo>
                <a:lnTo>
                  <a:pt x="294" y="735"/>
                </a:lnTo>
                <a:lnTo>
                  <a:pt x="636" y="606"/>
                </a:lnTo>
                <a:lnTo>
                  <a:pt x="1008" y="474"/>
                </a:lnTo>
                <a:lnTo>
                  <a:pt x="1269" y="393"/>
                </a:lnTo>
                <a:lnTo>
                  <a:pt x="1617" y="303"/>
                </a:lnTo>
                <a:lnTo>
                  <a:pt x="1866" y="252"/>
                </a:lnTo>
                <a:lnTo>
                  <a:pt x="2229" y="189"/>
                </a:lnTo>
                <a:lnTo>
                  <a:pt x="2712" y="129"/>
                </a:lnTo>
                <a:lnTo>
                  <a:pt x="3282" y="81"/>
                </a:lnTo>
                <a:lnTo>
                  <a:pt x="3291" y="0"/>
                </a:lnTo>
                <a:lnTo>
                  <a:pt x="6" y="0"/>
                </a:lnTo>
                <a:lnTo>
                  <a:pt x="0" y="85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0800000">
            <a:off x="-1440" y="5655600"/>
            <a:ext cx="9144000" cy="1219320"/>
          </a:xfrm>
          <a:custGeom>
            <a:avLst/>
            <a:gdLst/>
            <a:ahLst/>
            <a:rect l="l" t="t" r="r" b="b"/>
            <a:pathLst>
              <a:path w="5760" h="768">
                <a:moveTo>
                  <a:pt x="5760" y="321"/>
                </a:moveTo>
                <a:lnTo>
                  <a:pt x="5760" y="0"/>
                </a:lnTo>
                <a:lnTo>
                  <a:pt x="0" y="0"/>
                </a:lnTo>
                <a:lnTo>
                  <a:pt x="0" y="768"/>
                </a:lnTo>
                <a:lnTo>
                  <a:pt x="295" y="652"/>
                </a:lnTo>
                <a:lnTo>
                  <a:pt x="768" y="491"/>
                </a:lnTo>
                <a:lnTo>
                  <a:pt x="1134" y="384"/>
                </a:lnTo>
                <a:lnTo>
                  <a:pt x="1607" y="277"/>
                </a:lnTo>
                <a:lnTo>
                  <a:pt x="2049" y="205"/>
                </a:lnTo>
                <a:lnTo>
                  <a:pt x="2652" y="138"/>
                </a:lnTo>
                <a:lnTo>
                  <a:pt x="3210" y="103"/>
                </a:lnTo>
                <a:lnTo>
                  <a:pt x="3728" y="98"/>
                </a:lnTo>
                <a:lnTo>
                  <a:pt x="4318" y="129"/>
                </a:lnTo>
                <a:lnTo>
                  <a:pt x="4885" y="183"/>
                </a:lnTo>
                <a:lnTo>
                  <a:pt x="5434" y="263"/>
                </a:lnTo>
                <a:lnTo>
                  <a:pt x="5760" y="3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 name="" descr=""/>
          <p:cNvPicPr/>
          <p:nvPr/>
        </p:nvPicPr>
        <p:blipFill>
          <a:blip r:embed="rId2"/>
          <a:stretch/>
        </p:blipFill>
        <p:spPr>
          <a:xfrm>
            <a:off x="152280" y="0"/>
            <a:ext cx="1371600" cy="8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12189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mas or Vocabularies?</a:t>
            </a:r>
            <a:endParaRPr b="0" lang="en-US" sz="3600" spc="-1" strike="noStrike">
              <a:solidFill>
                <a:srgbClr val="000000"/>
              </a:solidFill>
              <a:latin typeface="Times New Roman"/>
            </a:endParaRPr>
          </a:p>
        </p:txBody>
      </p:sp>
      <p:sp>
        <p:nvSpPr>
          <p:cNvPr id="54" name="PlaceHolder 2"/>
          <p:cNvSpPr>
            <a:spLocks noGrp="1"/>
          </p:cNvSpPr>
          <p:nvPr>
            <p:ph type="subTitle"/>
          </p:nvPr>
        </p:nvSpPr>
        <p:spPr>
          <a:xfrm>
            <a:off x="-360" y="3429000"/>
            <a:ext cx="8839080" cy="2209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l 26, 200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SIS Symposium on the Future of XML Vocabulari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DuCharm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isNexi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lexibility</a:t>
            </a:r>
            <a:endParaRPr b="0" lang="en-US" sz="3600" spc="-1" strike="noStrike">
              <a:solidFill>
                <a:srgbClr val="000000"/>
              </a:solidFill>
              <a:latin typeface="Times New Roman"/>
            </a:endParaRPr>
          </a:p>
        </p:txBody>
      </p:sp>
      <p:sp>
        <p:nvSpPr>
          <p:cNvPr id="72"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 more systems can adapt, politically easier to sel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advantage: fuzziness, more work to adopt a standar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SM</a:t>
            </a:r>
            <a:endParaRPr b="0" lang="en-US" sz="3600" spc="-1" strike="noStrike">
              <a:solidFill>
                <a:srgbClr val="000000"/>
              </a:solidFill>
              <a:latin typeface="Times New Roman"/>
            </a:endParaRPr>
          </a:p>
        </p:txBody>
      </p:sp>
      <p:sp>
        <p:nvSpPr>
          <p:cNvPr id="74"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blishing Requirements for Industry Standard Metadat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eveloping a standard XML metadata vocabulary for the publishing indust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prismstandard.o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 1.0: 2001; current version: 1.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SM 1. 2 “elements”</a:t>
            </a:r>
            <a:endParaRPr b="0" lang="en-US" sz="3600" spc="-1" strike="noStrike">
              <a:solidFill>
                <a:srgbClr val="000000"/>
              </a:solidFill>
              <a:latin typeface="Times New Roman"/>
            </a:endParaRPr>
          </a:p>
        </p:txBody>
      </p:sp>
      <p:graphicFrame>
        <p:nvGraphicFramePr>
          <p:cNvPr id="76" name=""/>
          <p:cNvGraphicFramePr/>
          <p:nvPr/>
        </p:nvGraphicFramePr>
        <p:xfrm>
          <a:off x="228600" y="1676520"/>
          <a:ext cx="8763120" cy="5062320"/>
        </p:xfrm>
        <a:graphic>
          <a:graphicData uri="http://schemas.openxmlformats.org/drawingml/2006/table">
            <a:tbl>
              <a:tblPr/>
              <a:tblGrid>
                <a:gridCol w="914400"/>
                <a:gridCol w="990720"/>
                <a:gridCol w="1143000"/>
                <a:gridCol w="1066680"/>
                <a:gridCol w="1371600"/>
                <a:gridCol w="1143000"/>
                <a:gridCol w="1143000"/>
                <a:gridCol w="990720"/>
              </a:tblGrid>
              <a:tr h="956880">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l Purpose</a:t>
                      </a:r>
                      <a:endParaRPr b="0" lang="en-US" sz="11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venance</a:t>
                      </a: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es and Time</a:t>
                      </a: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bjec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scrip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lations</a:t>
                      </a: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ghts</a:t>
                      </a: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ntrolled</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ocab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line Markup</a:t>
                      </a:r>
                      <a:endParaRPr b="0" lang="en-US" sz="1100" spc="-1" strike="noStrike">
                        <a:solidFill>
                          <a:srgbClr val="000000"/>
                        </a:solidFill>
                        <a:latin typeface="Arial"/>
                      </a:endParaRPr>
                    </a:p>
                  </a:txBody>
                  <a:tcPr anchor="t" marL="45720" marR="45720">
                    <a:lnL w="5760">
                      <a:solidFill>
                        <a:srgbClr val="000000"/>
                      </a:solidFill>
                    </a:lnL>
                    <a:lnR w="13680">
                      <a:solidFill>
                        <a:srgbClr val="000000"/>
                      </a:solidFill>
                    </a:lnR>
                    <a:lnT w="13680">
                      <a:solidFill>
                        <a:srgbClr val="000000"/>
                      </a:solidFill>
                    </a:lnT>
                    <a:lnB w="5760">
                      <a:solidFill>
                        <a:srgbClr val="000000"/>
                      </a:solidFill>
                    </a:lnB>
                    <a:noFill/>
                  </a:tcPr>
                </a:tc>
              </a:tr>
              <a:tr h="4105440">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dentifie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tl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ibut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p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nguag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a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yp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egor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she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tribut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di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s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sueNam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mbe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rtingPag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lum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reation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iration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ification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blication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ease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eptionDa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verag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jec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ustr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ca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CorrectionOf</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Correc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PartOf</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Par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VersionOf</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Vers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FormatOf</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Forma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ferenc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ReferencedB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Based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BasisF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TranslationOf</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Transla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quire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RequiredB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sAlternativeF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sAlternativ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c:</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s</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is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pyrigh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pirationTim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easeTim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ightsAgen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ograph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ustr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cv:</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erTer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d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fini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criptor</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bel</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rrowerTer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atedTer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ynony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cabular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nt</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dustry</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ca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bjectTitl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rganizati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so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quote</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133720" y="609120"/>
            <a:ext cx="6324480" cy="1125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SM DTDs</a:t>
            </a:r>
            <a:endParaRPr b="0" lang="en-US" sz="3600" spc="-1" strike="noStrike">
              <a:solidFill>
                <a:srgbClr val="000000"/>
              </a:solidFill>
              <a:latin typeface="Times New Roman"/>
            </a:endParaRPr>
          </a:p>
        </p:txBody>
      </p:sp>
      <p:sp>
        <p:nvSpPr>
          <p:cNvPr id="78"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data vs.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cle titles, byl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ing inline entit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SM Aggregator DTD (P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levels of compli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one: well-formed XML, dc:identifi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vel two: RDF profile, rdf:ab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SM RDF Schema</a:t>
            </a:r>
            <a:endParaRPr b="0" lang="en-US" sz="3600" spc="-1" strike="noStrike">
              <a:solidFill>
                <a:srgbClr val="000000"/>
              </a:solidFill>
              <a:latin typeface="Times New Roman"/>
            </a:endParaRPr>
          </a:p>
        </p:txBody>
      </p:sp>
      <p:sp>
        <p:nvSpPr>
          <p:cNvPr id="80" name="PlaceHolder 2"/>
          <p:cNvSpPr>
            <a:spLocks noGrp="1"/>
          </p:cNvSpPr>
          <p:nvPr>
            <p:ph/>
          </p:nvPr>
        </p:nvSpPr>
        <p:spPr>
          <a:xfrm>
            <a:off x="837720" y="2590560"/>
            <a:ext cx="7620120" cy="34462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ny Hammond, Nature Publishing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 “contributed resources” on PRISM websi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ssons Learned</a:t>
            </a:r>
            <a:endParaRPr b="0" lang="en-US" sz="3600" spc="-1" strike="noStrike">
              <a:solidFill>
                <a:srgbClr val="000000"/>
              </a:solidFill>
              <a:latin typeface="Times New Roman"/>
            </a:endParaRPr>
          </a:p>
        </p:txBody>
      </p:sp>
      <p:sp>
        <p:nvSpPr>
          <p:cNvPr id="82"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works best for your industry: vocabulary, DTD, XSD, R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ed approach a good op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y what you me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12189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mas or Vocabularies?</a:t>
            </a: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360" y="3429000"/>
            <a:ext cx="8839080" cy="22096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ril 26, 2005</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SIS Symposium on the Future of XML Vocabularie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DuCharm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xisNexi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56"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Dublin C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vocabular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vocabularies (and maybe schemas): required and optional ste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se study: P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blin Core</a:t>
            </a:r>
            <a:endParaRPr b="0" lang="en-US" sz="3600" spc="-1" strike="noStrike">
              <a:solidFill>
                <a:srgbClr val="000000"/>
              </a:solidFill>
              <a:latin typeface="Times New Roman"/>
            </a:endParaRPr>
          </a:p>
        </p:txBody>
      </p:sp>
      <p:sp>
        <p:nvSpPr>
          <p:cNvPr id="58" name="PlaceHolder 2"/>
          <p:cNvSpPr>
            <a:spLocks noGrp="1"/>
          </p:cNvSpPr>
          <p:nvPr>
            <p:ph/>
          </p:nvPr>
        </p:nvSpPr>
        <p:spPr>
          <a:xfrm>
            <a:off x="837720" y="1599840"/>
            <a:ext cx="7620120" cy="4437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blin Core Metadata Initi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blincore.or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MI Metadata Terms: elements, element refinements, encoding schemes, and vocabulary term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ment: “A discrete unit of data or metadata. An element may contain subelements that are called qualifiers in Dublin Cor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or, date, description, format, identifi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vocabulary”?</a:t>
            </a:r>
            <a:endParaRPr b="0" lang="en-US" sz="3600" spc="-1" strike="noStrike">
              <a:solidFill>
                <a:srgbClr val="000000"/>
              </a:solidFill>
              <a:latin typeface="Times New Roman"/>
            </a:endParaRPr>
          </a:p>
        </p:txBody>
      </p:sp>
      <p:sp>
        <p:nvSpPr>
          <p:cNvPr id="60"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w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T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ma?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3C Schema?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X NG schem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DF Schem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76360" y="626760"/>
            <a:ext cx="5181480" cy="592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step 1</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1523520"/>
            <a:ext cx="7620120" cy="4513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your standard list of words:</a:t>
            </a:r>
            <a:endParaRPr b="0" lang="en-US" sz="2800" spc="-1" strike="noStrike">
              <a:solidFill>
                <a:srgbClr val="000000"/>
              </a:solidFill>
              <a:latin typeface="Times New Roman"/>
            </a:endParaRPr>
          </a:p>
          <a:p>
            <a:pPr marL="343080" indent="-343080">
              <a:lnSpc>
                <a:spcPct val="13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tual words to use (PublishDate? publish-date? PubDate?)</a:t>
            </a:r>
            <a:endParaRPr b="0" lang="en-US" sz="2400" spc="-1" strike="noStrike">
              <a:solidFill>
                <a:srgbClr val="000000"/>
              </a:solidFill>
              <a:latin typeface="Times New Roman"/>
            </a:endParaRPr>
          </a:p>
          <a:p>
            <a:pPr marL="343080" indent="-343080">
              <a:lnSpc>
                <a:spcPct val="13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meanings.</a:t>
            </a:r>
            <a:endParaRPr b="0" lang="en-US" sz="2400" spc="-1" strike="noStrike">
              <a:solidFill>
                <a:srgbClr val="000000"/>
              </a:solidFill>
              <a:latin typeface="Times New Roman"/>
            </a:endParaRPr>
          </a:p>
          <a:p>
            <a:pPr marL="343080" indent="-343080">
              <a:lnSpc>
                <a:spcPct val="13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Value restrictions, e.g.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ting, such as ISO 8601 for dates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05-04-26T09:2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of values to choose from (Y/N, True/False, ISO 3166 country co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Dublin Core definition</a:t>
            </a:r>
            <a:endParaRPr b="0" lang="en-US" sz="3200" spc="-1" strike="noStrike">
              <a:solidFill>
                <a:srgbClr val="000000"/>
              </a:solidFill>
              <a:latin typeface="Times New Roman"/>
            </a:endParaRPr>
          </a:p>
        </p:txBody>
      </p:sp>
      <p:graphicFrame>
        <p:nvGraphicFramePr>
          <p:cNvPr id="64" name=""/>
          <p:cNvGraphicFramePr/>
          <p:nvPr/>
        </p:nvGraphicFramePr>
        <p:xfrm>
          <a:off x="1066680" y="1143000"/>
          <a:ext cx="7772400" cy="5516640"/>
        </p:xfrm>
        <a:graphic>
          <a:graphicData uri="http://schemas.openxmlformats.org/drawingml/2006/table">
            <a:tbl>
              <a:tblPr/>
              <a:tblGrid>
                <a:gridCol w="1906560"/>
                <a:gridCol w="5865840"/>
              </a:tblGrid>
              <a:tr h="457200">
                <a:tc gridSpan="2">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 Name: format</a:t>
                      </a:r>
                      <a:r>
                        <a:rPr b="0" lang="en-US" sz="2200" spc="-1" strike="noStrike">
                          <a:solidFill>
                            <a:srgbClr val="000000"/>
                          </a:solidFill>
                          <a:latin typeface="Times New Roman"/>
                        </a:rPr>
                        <a:t> </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5520">
                <a:tc>
                  <a:txBody>
                    <a:bodyPr lIns="45720" rIns="4572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RI:</a:t>
                      </a:r>
                      <a:endParaRPr b="0" lang="en-US" sz="22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ttp://purl.org/dc/elements/1.1/form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abel:</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m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3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finition:</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hysical or digital manifestation of the resource.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6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men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ically, Format may include the media-type or dimensions of the resource. Format may be used to determine the software, hardware or other equipment needed to display or operate the resource. Examples of dimensions include size and duration. Recommended best practice is to select a value from a controlled vocabulary (for example, the list of Internet Media Types [MIME] defining computer media forma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ferenc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ME] http://www.iana.org/assignments/media-typ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03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ype of Term:</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lemen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atu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mmended</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e Issued:</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999-07-02 </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tional Steps 2 and 3</a:t>
            </a:r>
            <a:endParaRPr b="0" lang="en-US" sz="3600" spc="-1" strike="noStrike">
              <a:solidFill>
                <a:srgbClr val="000000"/>
              </a:solidFill>
              <a:latin typeface="Times New Roman"/>
            </a:endParaRPr>
          </a:p>
        </p:txBody>
      </p:sp>
      <p:sp>
        <p:nvSpPr>
          <p:cNvPr id="66" name="PlaceHolder 2"/>
          <p:cNvSpPr>
            <a:spLocks noGrp="1"/>
          </p:cNvSpPr>
          <p:nvPr>
            <p:ph/>
          </p:nvPr>
        </p:nvSpPr>
        <p:spPr>
          <a:xfrm>
            <a:off x="837720" y="2362320"/>
            <a:ext cx="7620120" cy="36748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gure out the relationships of your labeled pieces of inform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it down in a machine-readable fo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8120" y="626760"/>
            <a:ext cx="5410080" cy="592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DF Schemas</a:t>
            </a:r>
            <a:endParaRPr b="0" lang="en-US" sz="3200" spc="-1" strike="noStrike">
              <a:solidFill>
                <a:srgbClr val="000000"/>
              </a:solidFill>
              <a:latin typeface="Times New Roman"/>
            </a:endParaRPr>
          </a:p>
        </p:txBody>
      </p:sp>
      <p:sp>
        <p:nvSpPr>
          <p:cNvPr id="68" name="PlaceHolder 2"/>
          <p:cNvSpPr>
            <a:spLocks noGrp="1"/>
          </p:cNvSpPr>
          <p:nvPr>
            <p:ph/>
          </p:nvPr>
        </p:nvSpPr>
        <p:spPr>
          <a:xfrm>
            <a:off x="837720" y="1371600"/>
            <a:ext cx="7620120" cy="50292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DF user communities also need the ability to define the </a:t>
            </a:r>
            <a:r>
              <a:rPr b="0" i="1" lang="en-US" sz="3200" spc="-1" strike="noStrike">
                <a:solidFill>
                  <a:srgbClr val="000000"/>
                </a:solidFill>
                <a:latin typeface="Times New Roman"/>
              </a:rPr>
              <a:t>vocabularies</a:t>
            </a:r>
            <a:r>
              <a:rPr b="0" lang="en-US" sz="3200" spc="-1" strike="noStrike">
                <a:solidFill>
                  <a:srgbClr val="000000"/>
                </a:solidFill>
                <a:latin typeface="Times New Roman"/>
              </a:rPr>
              <a:t> (terms) they intend to use in those statements, specifically, to indicate that they are describing specific kinds or classes of resources, and will use specific properties in describing those resourc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W3C RDF Tutori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90920" y="626760"/>
            <a:ext cx="586728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ation?</a:t>
            </a:r>
            <a:endParaRPr b="0" lang="en-US" sz="3600" spc="-1" strike="noStrike">
              <a:solidFill>
                <a:srgbClr val="000000"/>
              </a:solidFill>
              <a:latin typeface="Times New Roman"/>
            </a:endParaRPr>
          </a:p>
        </p:txBody>
      </p:sp>
      <p:sp>
        <p:nvSpPr>
          <p:cNvPr id="70" name="PlaceHolder 2"/>
          <p:cNvSpPr>
            <a:spLocks noGrp="1"/>
          </p:cNvSpPr>
          <p:nvPr>
            <p:ph/>
          </p:nvPr>
        </p:nvSpPr>
        <p:spPr>
          <a:xfrm>
            <a:off x="837720" y="1922400"/>
            <a:ext cx="7620120" cy="41148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RDF classes and properties are in some respects very different from programming language types. RDF class and property descriptions do not create a straightjacket into which information must be forced, but instead provide additional information about the RDF resources they describ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9:27:10Z</dcterms:created>
  <dc:creator>ducharbx</dc:creator>
  <dc:description/>
  <dc:language>en-US</dc:language>
  <cp:lastModifiedBy>ducharbx</cp:lastModifiedBy>
  <dcterms:modified xsi:type="dcterms:W3CDTF">2005-03-31T21:08:35Z</dcterms:modified>
  <cp:revision>18</cp:revision>
  <dc:subject/>
  <dc:title>Schemas or Vocabularies?</dc:title>
</cp:coreProperties>
</file>