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6A8-E656-4F12-AD7A-19796C34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691-5569-4AE1-AFFF-7AAB4A89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612-A4FA-42F8-9DBF-E97598C4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22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86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D72-0B83-4110-82ED-59581821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F8A-8559-480D-A650-DC7F690F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2FF-17B0-422A-B128-84E18FBB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D75-3C5E-4507-912B-E273023A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183-9DB5-4ABA-A870-F8965264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96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833-C6F8-412B-8BA5-FB4F2AF0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0A4-3AE6-484F-B062-7A4891F7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86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63D-76C1-45C5-BA6E-6C1913F9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22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86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FF1-59DF-4CD1-AB65-F13CE6BF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5A3F-CFE1-4C22-B197-61AFD46E9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76320" y="-76320"/>
            <a:ext cx="9296640" cy="625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122960" y="6477120"/>
            <a:ext cx="1944720" cy="3618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6477120"/>
            <a:ext cx="9144000" cy="533160"/>
          </a:xfrm>
          <a:prstGeom prst="rect">
            <a:avLst/>
          </a:prstGeom>
          <a:gradFill rotWithShape="0">
            <a:gsLst>
              <a:gs pos="0">
                <a:srgbClr val="448c44">
                  <a:alpha val="10196"/>
                </a:srgbClr>
              </a:gs>
              <a:gs pos="100000">
                <a:srgbClr val="006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osettanet.org/" TargetMode="External"/><Relationship Id="rId2" Type="http://schemas.openxmlformats.org/officeDocument/2006/relationships/hyperlink" Target="http://www.oasis-open.org/" TargetMode="External"/><Relationship Id="rId3" Type="http://schemas.openxmlformats.org/officeDocument/2006/relationships/hyperlink" Target="http://www.acord.org/" TargetMode="External"/><Relationship Id="rId4" Type="http://schemas.openxmlformats.org/officeDocument/2006/relationships/hyperlink" Target="http://www.fixprotocol.org/" TargetMode="External"/><Relationship Id="rId5" Type="http://schemas.openxmlformats.org/officeDocument/2006/relationships/hyperlink" Target="http://www.ifxforum.org/" TargetMode="External"/><Relationship Id="rId6" Type="http://schemas.openxmlformats.org/officeDocument/2006/relationships/hyperlink" Target="http://www.mddl.org/" TargetMode="Externa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IMPACT OF VOCABULARIES ON END USER SOA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ssion Abstr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/25 (Monday) 3:15 P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PANEL: THE IMPACT OF VOCABULARIES ON END USER SOA STRATE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-oriented architectures (SOAs) are considered by many to be the solution for a myriad of challenges faced by today's IT organizations. This year's OASIS Symposium will feature a panel of users from major companies who will share overviews of their companies' SOA plans/initiatives. They also will address the current challenges faced in understanding, creating, and implementing an SOA strategy and how the various industry vocabularies impact these pla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el Agenda In Br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ing the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key 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A Initiative Ov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e: Business v.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benefits of S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cabul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m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. 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ing 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eous v.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ASIS &amp; Other Standards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ryn Breininger, Bo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Roth, C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Jackson, 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fael Martinez, JP Morgan C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Nida, Lockheed Mar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 – collection of metadata describing tag names, types, structure &amp; sometimes process for data interchange; aka: language,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y – a store for metadata and policies, possibly including vocabu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 – examples: an XML Schema, a security enti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mediary – a hardware or software proxy deployed between systems to provide services, example: SOAP intermed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 – service oriented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Vocabul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ettaNet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osettane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L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asis-open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RD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acord.or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ml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ixprotoco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X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ifxforum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DL –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mdd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ical v. Horizontal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225440"/>
            <a:ext cx="75438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7T22:44:47Z</dcterms:created>
  <dc:creator>Eugene Kuznetsov</dc:creator>
  <dc:description/>
  <dc:language>en-US</dc:language>
  <cp:lastModifiedBy>Eugene Kuznetsov</cp:lastModifiedBy>
  <dcterms:modified xsi:type="dcterms:W3CDTF">2005-04-25T18:03:59Z</dcterms:modified>
  <cp:revision>35</cp:revision>
  <dc:subject/>
  <dc:title>THE IMPACT OF VOCABULARIES ON END USER SOA STRATEGIES</dc:title>
</cp:coreProperties>
</file>