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1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5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jpeg" ContentType="image/jpeg"/>
  <Override PartName="/ppt/media/image1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image19.png" ContentType="image/png"/>
  <Override PartName="/ppt/media/image28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34.jpeg" ContentType="image/jpeg"/>
  <Override PartName="/ppt/media/image17.wmf" ContentType="image/x-wmf"/>
  <Override PartName="/ppt/media/image38.jpeg" ContentType="image/jpeg"/>
  <Override PartName="/ppt/media/image40.jpeg" ContentType="image/jpeg"/>
  <Override PartName="/ppt/media/image44.jpeg" ContentType="image/jpeg"/>
  <Override PartName="/ppt/media/image22.jpeg" ContentType="image/jpeg"/>
  <Override PartName="/ppt/media/image9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13.png" ContentType="image/png"/>
  <Override PartName="/ppt/media/image42.jpeg" ContentType="image/jpeg"/>
  <Override PartName="/ppt/media/image43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5.jpeg" ContentType="image/jpeg"/>
  <Override PartName="/ppt/media/image16.wmf" ContentType="image/x-wmf"/>
  <Override PartName="/ppt/media/image1.jpeg" ContentType="image/jpeg"/>
  <Override PartName="/ppt/media/image10.png" ContentType="image/png"/>
  <Override PartName="/ppt/media/image35.jpeg" ContentType="image/jpeg"/>
  <Override PartName="/ppt/media/image5.jpeg" ContentType="image/jpeg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56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C8DE-A5DF-4077-9968-B5385B9CD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325E-A983-4062-9ECA-147983E9A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AAFB-73AB-48DA-B08E-D71E7EE61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30400" y="9921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1036800" y="4726080"/>
            <a:ext cx="472896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79B0-EE5B-40E5-B7E1-73235967D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30400" y="99216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1036800" y="4726080"/>
            <a:ext cx="4728960" cy="37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F60C-7CD6-43C3-A858-998863547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DE9-5AF3-47AA-97F8-78E14716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AD2-2039-49FF-9CBC-93FCE17E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E00-5AA6-4D13-BD86-A51EE037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A1A-34FE-4BB8-BB2B-4A70A5E58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29BD-A3B1-4265-BE03-84845EA0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486-1B7D-43D6-912B-E1F6171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6BB-B477-4A94-B254-495B76FF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F4D4-B219-422F-8DF1-9CC8EA66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6FF-0E3B-4FD3-8AC9-2206ABC9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3B8-B912-4814-994B-DEE55A75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6B9-0005-41BE-ACAC-30A3C7D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995F-4733-452B-97F2-9FCC12B5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464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1C6-368E-4FF2-9ACF-EDB017EDEE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"/>
              </a:rPr>
              <a:t>2005 OASIS Symposi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887B-E05F-4A14-9307-139858CF62E2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1042920" cy="10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66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3863880"/>
            <a:ext cx="237492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Christoph Buss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"/>
                <a:ea typeface="Arial"/>
              </a:rPr>
              <a:t>Adrian Moc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Matthew Mo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Michael Stoll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Michal Zarem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4821120"/>
            <a:ext cx="1613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Liliana Ca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"/>
                <a:ea typeface="Arial"/>
              </a:rPr>
              <a:t>John Dom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833480" y="5634000"/>
          <a:ext cx="1225800" cy="113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3480" y="5634000"/>
                    <a:ext cx="12258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724360" y="5708520"/>
            <a:ext cx="1690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800680" y="0"/>
            <a:ext cx="1473120" cy="1150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2556000" y="122400"/>
            <a:ext cx="1025280" cy="1025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47800" y="351000"/>
            <a:ext cx="568440" cy="568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903840" y="320760"/>
            <a:ext cx="568080" cy="568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image" Target="../media/image27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8.jpeg"/><Relationship Id="rId14" Type="http://schemas.openxmlformats.org/officeDocument/2006/relationships/image" Target="../media/image28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hyperlink" Target="http://kmi.open.ac.uk/projects/irs/" TargetMode="External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hyperlink" Target="http://www.wsmo.org/" TargetMode="External"/><Relationship Id="rId2" Type="http://schemas.openxmlformats.org/officeDocument/2006/relationships/hyperlink" Target="http://www.wsml.org/" TargetMode="External"/><Relationship Id="rId3" Type="http://schemas.openxmlformats.org/officeDocument/2006/relationships/hyperlink" Target="http://www.wsml.org/" TargetMode="External"/><Relationship Id="rId4" Type="http://schemas.openxmlformats.org/officeDocument/2006/relationships/hyperlink" Target="http://www.wsmx.org/" TargetMode="External"/><Relationship Id="rId5" Type="http://schemas.openxmlformats.org/officeDocument/2006/relationships/hyperlink" Target="http://www.wsmx.org/" TargetMode="External"/><Relationship Id="rId6" Type="http://schemas.openxmlformats.org/officeDocument/2006/relationships/hyperlink" Target="https://sourceforge.net/projects/wsmx/" TargetMode="External"/><Relationship Id="rId7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hyperlink" Target="http://www.stencilgroup.com/ideas_scope_200106wsdefined.html" TargetMode="External"/><Relationship Id="rId2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hyperlink" Target="http://ceur-ws.org/Vol-113/paper3.pdf" TargetMode="External"/><Relationship Id="rId2" Type="http://schemas.openxmlformats.org/officeDocument/2006/relationships/hyperlink" Target="http://ceur-ws.org/Vol-113/paper7.pdf" TargetMode="External"/><Relationship Id="rId3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tology Languages</a:t>
            </a:r>
            <a:r>
              <a:rPr b="1" lang="en-US" sz="3200" spc="-1" strike="noStrike">
                <a:solidFill>
                  <a:srgbClr val="9b0707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vity“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theory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ing support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nd (unambiguous, decida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reasoners / inference eng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Web languag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compati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W3C Recommend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, RDF, OW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0F4-7688-42E0-B179-E741E3BCB3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932360" y="3789360"/>
            <a:ext cx="1800360" cy="792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fter discovery, th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horeography instance for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goal requester is checked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for next step in intera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58A-C081-4E60-942A-85E70CC49EA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071-F549-4E13-8E78-FF7440FF1BB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B9C-C085-4DBE-BC3C-383BC9EE6CC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340000" y="3860640"/>
            <a:ext cx="2016000" cy="79236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ext step in choreography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s to return set of discovered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Web services to goal request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048-3E3A-42C3-BD78-CC5A0EDED81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10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1042920" y="3284280"/>
            <a:ext cx="1152720" cy="649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468360" y="4076640"/>
            <a:ext cx="208908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et of Web Service descriptions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pressed in WSML sent to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ppropriate adap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15C-44D8-44D7-9697-E11116B068B6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113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7164360" y="3141720"/>
            <a:ext cx="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7164360" y="2924280"/>
            <a:ext cx="21600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2123640" y="2924280"/>
            <a:ext cx="525636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124000" y="3141720"/>
            <a:ext cx="7164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 flipV="1">
            <a:off x="1042920" y="3284280"/>
            <a:ext cx="1152720" cy="649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H="1">
            <a:off x="468360" y="3284640"/>
            <a:ext cx="574560" cy="288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4000" y="2276640"/>
            <a:ext cx="2232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et of Web Service descriptions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pressed in requester’s own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format returned to goal reque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5E3-30DA-4719-89AD-E326DDC662E6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X 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nt based component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ptual model is W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d to end functionality for executing S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as a formal execution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pen source code base at 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velopers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DEE-6BE5-43E5-B404-D2939061E31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X Useful Lin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smx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smo.org/2004/d13/d13.0/v0.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smo.org/2004/d13/d13.4/v0.2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smo.org/2004/d13/d13.3/v0.2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wsmo.org/2004/d13/d13.2/v0.1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 source code base at SourceFo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s://sourceforge.net/projects/wsm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BEE-2EC1-43F8-80C5-44066FD93A9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RS-III: A framework and platform for Semantic Web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11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iana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25D5-A3C8-40E9-A255-F4DDD0FB93C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76000" y="2205000"/>
            <a:ext cx="64832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Reasoning Service is an infrastructure for publishing, locating, executing and compo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antic Web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ganized according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S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ceptual mode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B83-0822-439A-BC0F-C71CA9E81166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mantic Web Language Layer Cake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1766880"/>
          <a:ext cx="8032680" cy="38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6880"/>
                    <a:ext cx="8032680" cy="38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BBB-6019-426A-99E5-2FFFD07403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912960" y="1603440"/>
            <a:ext cx="3574800" cy="34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692360" y="16286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IRS-III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187280" y="2205000"/>
            <a:ext cx="1846440" cy="507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Osaka"/>
              </a:rPr>
              <a:t>Domai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187280" y="3429000"/>
            <a:ext cx="3176640" cy="73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Web Service Descriptions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+ Registry of Implemen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87280" y="2781360"/>
            <a:ext cx="25322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Goal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942160" y="1952640"/>
            <a:ext cx="226836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4487400" y="2203560"/>
            <a:ext cx="142092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465800" y="304164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 flipV="1">
            <a:off x="4481280" y="3704760"/>
            <a:ext cx="1485720" cy="1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H="1" flipV="1">
            <a:off x="4500720" y="4057200"/>
            <a:ext cx="1390320" cy="63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rot="10800000">
            <a:off x="5005440" y="1733400"/>
            <a:ext cx="434880" cy="4229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rot="5400000">
            <a:off x="3815280" y="3819960"/>
            <a:ext cx="28004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S      O     A      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809720" y="5105520"/>
            <a:ext cx="1781280" cy="1080000"/>
            <a:chOff x="1809720" y="5105520"/>
            <a:chExt cx="1781280" cy="1080000"/>
          </a:xfrm>
        </p:grpSpPr>
        <p:sp>
          <p:nvSpPr>
            <p:cNvPr id="1182" name=""/>
            <p:cNvSpPr/>
            <p:nvPr/>
          </p:nvSpPr>
          <p:spPr>
            <a:xfrm>
              <a:off x="1888200" y="5725800"/>
              <a:ext cx="162108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R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2693880" y="5105520"/>
              <a:ext cx="12600" cy="61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4" name=""/>
            <p:cNvGrpSpPr/>
            <p:nvPr/>
          </p:nvGrpSpPr>
          <p:grpSpPr>
            <a:xfrm>
              <a:off x="1809720" y="5265360"/>
              <a:ext cx="1781280" cy="368280"/>
              <a:chOff x="1809720" y="5265360"/>
              <a:chExt cx="1781280" cy="368280"/>
            </a:xfrm>
          </p:grpSpPr>
          <p:sp>
            <p:nvSpPr>
              <p:cNvPr id="1185" name=""/>
              <p:cNvSpPr/>
              <p:nvPr/>
            </p:nvSpPr>
            <p:spPr>
              <a:xfrm>
                <a:off x="1809720" y="5306400"/>
                <a:ext cx="1781280" cy="25344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308320" y="5265360"/>
                <a:ext cx="82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Osaka"/>
                  </a:rPr>
                  <a:t>SOA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7" name=""/>
          <p:cNvSpPr/>
          <p:nvPr/>
        </p:nvSpPr>
        <p:spPr>
          <a:xfrm>
            <a:off x="5916600" y="2793960"/>
            <a:ext cx="2268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94280" y="3635280"/>
            <a:ext cx="226872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896080" y="4537080"/>
            <a:ext cx="226836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Osaka"/>
              </a:rPr>
              <a:t>I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506720" y="23893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Osaka"/>
              </a:rPr>
              <a:t>L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459200" y="3240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Osaka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831000" y="4102200"/>
            <a:ext cx="14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Osaka"/>
              </a:rPr>
              <a:t>Java 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Frame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87280" y="4292640"/>
            <a:ext cx="3105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Osaka"/>
              </a:rPr>
              <a:t>Mediator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26F-EC5E-4D54-A7DE-19A421202CA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RS-III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76708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pability-cent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ice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uilt-in brokering and service discovery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support for variety of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Web Services, Java, Lisp, Web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publication of ‘standard code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lever wrappers automatically, which turn code into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click publishing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Java API for clien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Soap messaging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10D-6600-4957-B833-31C94BBE64C5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4003560" y="2657520"/>
            <a:ext cx="4807080" cy="2889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949200" y="525132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Lisp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2016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275440" y="2913120"/>
            <a:ext cx="3373200" cy="23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083720" y="48798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Osaka"/>
              </a:rPr>
              <a:t>IRS-II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6967440" y="3054240"/>
            <a:ext cx="1506600" cy="5202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S Publishe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6837480" y="3835440"/>
            <a:ext cx="1711080" cy="650880"/>
            <a:chOff x="6837480" y="3835440"/>
            <a:chExt cx="1711080" cy="650880"/>
          </a:xfrm>
        </p:grpSpPr>
        <p:sp>
          <p:nvSpPr>
            <p:cNvPr id="1204" name=""/>
            <p:cNvSpPr/>
            <p:nvPr/>
          </p:nvSpPr>
          <p:spPr>
            <a:xfrm>
              <a:off x="6900840" y="3840480"/>
              <a:ext cx="1647720" cy="645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6837480" y="3835440"/>
              <a:ext cx="8776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OCM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981480" y="4096080"/>
              <a:ext cx="1409040" cy="30708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WSMO 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5853240" y="5781600"/>
            <a:ext cx="1655640" cy="3070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OWL(-S) Hand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968720" y="5927760"/>
            <a:ext cx="84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6523200" y="4462560"/>
            <a:ext cx="517320" cy="132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091760" y="576900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Osaka"/>
              </a:rPr>
              <a:t>OWL(-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465280" y="20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411480" y="2874960"/>
            <a:ext cx="834480" cy="808560"/>
            <a:chOff x="411480" y="2874960"/>
            <a:chExt cx="834480" cy="808560"/>
          </a:xfrm>
        </p:grpSpPr>
        <p:pic>
          <p:nvPicPr>
            <p:cNvPr id="1213" name="" descr=""/>
            <p:cNvPicPr/>
            <p:nvPr/>
          </p:nvPicPr>
          <p:blipFill>
            <a:blip r:embed="rId1"/>
            <a:stretch/>
          </p:blipFill>
          <p:spPr>
            <a:xfrm>
              <a:off x="550800" y="2874960"/>
              <a:ext cx="4874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411480" y="33764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305280" y="5006880"/>
            <a:ext cx="1046520" cy="939240"/>
            <a:chOff x="305280" y="5006880"/>
            <a:chExt cx="1046520" cy="939240"/>
          </a:xfrm>
        </p:grpSpPr>
        <p:pic>
          <p:nvPicPr>
            <p:cNvPr id="1216" name="" descr=""/>
            <p:cNvPicPr/>
            <p:nvPr/>
          </p:nvPicPr>
          <p:blipFill>
            <a:blip r:embed="rId2"/>
            <a:stretch/>
          </p:blipFill>
          <p:spPr>
            <a:xfrm>
              <a:off x="515880" y="5006880"/>
              <a:ext cx="625320" cy="46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305280" y="5425920"/>
              <a:ext cx="104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302400" y="3903840"/>
            <a:ext cx="1054080" cy="882000"/>
            <a:chOff x="302400" y="3903840"/>
            <a:chExt cx="1054080" cy="882000"/>
          </a:xfrm>
        </p:grpSpPr>
        <p:sp>
          <p:nvSpPr>
            <p:cNvPr id="1219" name=""/>
            <p:cNvSpPr/>
            <p:nvPr/>
          </p:nvSpPr>
          <p:spPr>
            <a:xfrm>
              <a:off x="302400" y="4265640"/>
              <a:ext cx="1054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ing </a:t>
              </a:r>
              <a:br>
                <a:rPr sz="1400"/>
              </a:b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Cli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0" name="" descr=""/>
            <p:cNvPicPr/>
            <p:nvPr/>
          </p:nvPicPr>
          <p:blipFill>
            <a:blip r:embed="rId3"/>
            <a:stretch/>
          </p:blipFill>
          <p:spPr>
            <a:xfrm>
              <a:off x="399960" y="3903840"/>
              <a:ext cx="774720" cy="39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1" name=""/>
          <p:cNvSpPr/>
          <p:nvPr/>
        </p:nvSpPr>
        <p:spPr>
          <a:xfrm flipV="1">
            <a:off x="2185920" y="4309560"/>
            <a:ext cx="2148120" cy="1171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144880" y="3711600"/>
            <a:ext cx="2222280" cy="469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162160" y="2039760"/>
            <a:ext cx="2162160" cy="198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317840" y="3927600"/>
            <a:ext cx="760680" cy="4590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SOAP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Osaka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852640" y="2476440"/>
            <a:ext cx="470160" cy="301860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  <a:ea typeface="Osaka"/>
              </a:rPr>
              <a:t>SOA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062680" y="412740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4097160" y="1882800"/>
            <a:ext cx="236700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Publishing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4689000" y="2211480"/>
            <a:ext cx="9720" cy="175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7442280" y="15796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Web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7463160" y="194004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Jav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440120" y="224316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Osaka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276800" y="3040200"/>
            <a:ext cx="831600" cy="368280"/>
          </a:xfrm>
          <a:prstGeom prst="rect">
            <a:avLst/>
          </a:prstGeom>
          <a:solidFill>
            <a:srgbClr val="dddddd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442200" y="2055960"/>
            <a:ext cx="106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448320" y="2157480"/>
            <a:ext cx="1035000" cy="247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6454800" y="1716120"/>
            <a:ext cx="1042920" cy="218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5416560" y="3168720"/>
            <a:ext cx="1189080" cy="1984320"/>
            <a:chOff x="5416560" y="3168720"/>
            <a:chExt cx="1189080" cy="1984320"/>
          </a:xfrm>
        </p:grpSpPr>
        <p:sp>
          <p:nvSpPr>
            <p:cNvPr id="1237" name=""/>
            <p:cNvSpPr/>
            <p:nvPr/>
          </p:nvSpPr>
          <p:spPr>
            <a:xfrm>
              <a:off x="5416560" y="3168720"/>
              <a:ext cx="1189080" cy="19843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563080" y="3209760"/>
              <a:ext cx="893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Brow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514480" y="3876840"/>
              <a:ext cx="99288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Publi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475600" y="4543560"/>
              <a:ext cx="1070640" cy="520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Hand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1" name=""/>
          <p:cNvSpPr/>
          <p:nvPr/>
        </p:nvSpPr>
        <p:spPr>
          <a:xfrm>
            <a:off x="6610320" y="41241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965160" y="1635120"/>
            <a:ext cx="1160280" cy="4480920"/>
            <a:chOff x="965160" y="1635120"/>
            <a:chExt cx="1160280" cy="4480920"/>
          </a:xfrm>
        </p:grpSpPr>
        <p:sp>
          <p:nvSpPr>
            <p:cNvPr id="1243" name=""/>
            <p:cNvSpPr/>
            <p:nvPr/>
          </p:nvSpPr>
          <p:spPr>
            <a:xfrm>
              <a:off x="1606320" y="1635120"/>
              <a:ext cx="519120" cy="44809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J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v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A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P</a:t>
              </a:r>
              <a:br>
                <a:rPr sz="3200"/>
              </a:br>
              <a:r>
                <a:rPr b="0" i="1" lang="en-GB" sz="3200" spc="-1" strike="noStrike">
                  <a:solidFill>
                    <a:srgbClr val="000000"/>
                  </a:solidFill>
                  <a:latin typeface="Arial"/>
                  <a:ea typeface="Osaka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965160" y="1932120"/>
              <a:ext cx="619560" cy="458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129320" y="3119400"/>
              <a:ext cx="452520" cy="144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1222920" y="4575240"/>
              <a:ext cx="382320" cy="46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1114560" y="5802480"/>
              <a:ext cx="496800" cy="20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8" name=""/>
          <p:cNvSpPr/>
          <p:nvPr/>
        </p:nvSpPr>
        <p:spPr>
          <a:xfrm>
            <a:off x="1195560" y="2138400"/>
            <a:ext cx="328320" cy="28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01600" y="3160800"/>
            <a:ext cx="43668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227240" y="4097160"/>
            <a:ext cx="3286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1176480" y="5145120"/>
            <a:ext cx="390240" cy="10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433440" y="1763640"/>
            <a:ext cx="792000" cy="891360"/>
            <a:chOff x="433440" y="1763640"/>
            <a:chExt cx="792000" cy="891360"/>
          </a:xfrm>
        </p:grpSpPr>
        <p:graphicFrame>
          <p:nvGraphicFramePr>
            <p:cNvPr id="1253" name=""/>
            <p:cNvGraphicFramePr/>
            <p:nvPr/>
          </p:nvGraphicFramePr>
          <p:xfrm>
            <a:off x="506160" y="1763640"/>
            <a:ext cx="64800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06160" y="1763640"/>
                      <a:ext cx="64800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5" name=""/>
            <p:cNvSpPr/>
            <p:nvPr/>
          </p:nvSpPr>
          <p:spPr>
            <a:xfrm>
              <a:off x="433440" y="234792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WSM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42E-8C1F-4E98-B8B6-436386A440AD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5002200" y="5392800"/>
            <a:ext cx="109368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619280" y="358560"/>
            <a:ext cx="7308720" cy="76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blishing Platform 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360600" y="2058840"/>
            <a:ext cx="4883400" cy="255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800600" y="2198520"/>
            <a:ext cx="3227400" cy="20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069520" y="2205000"/>
            <a:ext cx="27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RS-III Publishing 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427200" y="426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HTTP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494880" y="2689200"/>
            <a:ext cx="99288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OA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Hand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32360" y="2565360"/>
            <a:ext cx="1192320" cy="1565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4932360" y="2708280"/>
            <a:ext cx="115236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Registr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49720" y="3429000"/>
            <a:ext cx="97020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nvo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6227640" y="2924280"/>
            <a:ext cx="1368720" cy="58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WS Service Regis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2301840" y="2982960"/>
            <a:ext cx="1243080" cy="673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76600" y="3484440"/>
            <a:ext cx="1447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Garamond Bold"/>
                <a:ea typeface="Osaka"/>
              </a:rPr>
              <a:t>IRS-III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942840" y="4808520"/>
            <a:ext cx="997200" cy="73836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564120" y="5486400"/>
            <a:ext cx="188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Invocation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1449360" y="3817800"/>
            <a:ext cx="9720" cy="981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455920" y="3171960"/>
            <a:ext cx="8398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1031760" y="4179960"/>
            <a:ext cx="8398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87760" y="2992320"/>
            <a:ext cx="44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"/>
          <p:cNvGrpSpPr/>
          <p:nvPr/>
        </p:nvGrpSpPr>
        <p:grpSpPr>
          <a:xfrm>
            <a:off x="811800" y="1600200"/>
            <a:ext cx="1310040" cy="1206000"/>
            <a:chOff x="811800" y="1600200"/>
            <a:chExt cx="1310040" cy="1206000"/>
          </a:xfrm>
        </p:grpSpPr>
        <p:sp>
          <p:nvSpPr>
            <p:cNvPr id="1276" name=""/>
            <p:cNvSpPr/>
            <p:nvPr/>
          </p:nvSpPr>
          <p:spPr>
            <a:xfrm>
              <a:off x="811800" y="216360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Publishing </a:t>
              </a:r>
              <a:br>
                <a:rPr sz="1800"/>
              </a:br>
              <a:r>
                <a:rPr b="0" i="1" lang="en-GB" sz="1800" spc="-1" strike="noStrike">
                  <a:solidFill>
                    <a:srgbClr val="000000"/>
                  </a:solidFill>
                  <a:latin typeface="Verdana"/>
                  <a:ea typeface="Osaka"/>
                </a:rPr>
                <a:t>Cli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7" name="" descr=""/>
            <p:cNvPicPr/>
            <p:nvPr/>
          </p:nvPicPr>
          <p:blipFill>
            <a:blip r:embed="rId2"/>
            <a:stretch/>
          </p:blipFill>
          <p:spPr>
            <a:xfrm>
              <a:off x="874080" y="1600200"/>
              <a:ext cx="118368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8" name=""/>
          <p:cNvSpPr/>
          <p:nvPr/>
        </p:nvSpPr>
        <p:spPr>
          <a:xfrm flipV="1">
            <a:off x="1460520" y="2688840"/>
            <a:ext cx="0" cy="808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054080" y="2887560"/>
            <a:ext cx="827280" cy="368280"/>
          </a:xfrm>
          <a:prstGeom prst="rect">
            <a:avLst/>
          </a:prstGeom>
          <a:solidFill>
            <a:srgbClr val="b2b2b2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Verdana"/>
                <a:ea typeface="Osaka"/>
              </a:rPr>
              <a:t>SO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811760" y="4672080"/>
            <a:ext cx="10922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324400" y="4741920"/>
            <a:ext cx="10940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4406760" y="5003640"/>
            <a:ext cx="109404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462640" y="5054760"/>
            <a:ext cx="1093680" cy="6253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4405320" y="5234040"/>
            <a:ext cx="1093680" cy="6271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619600" y="5264280"/>
            <a:ext cx="109224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553000" y="4737240"/>
            <a:ext cx="1092240" cy="6267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4977720" y="49179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4398480" y="515772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750560" y="546876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Osaka"/>
              </a:rPr>
              <a:t>Web Service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V="1">
            <a:off x="5477040" y="4005000"/>
            <a:ext cx="31680" cy="725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F8C-9C1B-4985-8DBC-F560A4F14B52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/WSMO differen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lying language OC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als have inputs and 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RS-III broker finds applicable web services via med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 mediator within WS cap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ator source =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services have inputs and outputs ‘inherited’ from goal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 service selected via assumption (in cap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31C9-0990-4C9E-96F9-7DEC56D8D35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/>
          <p:nvPr/>
        </p:nvSpPr>
        <p:spPr>
          <a:xfrm>
            <a:off x="1363680" y="1042920"/>
            <a:ext cx="0" cy="5050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5518080" y="3949560"/>
            <a:ext cx="3565080" cy="1911240"/>
            <a:chOff x="5518080" y="3949560"/>
            <a:chExt cx="3565080" cy="1911240"/>
          </a:xfrm>
        </p:grpSpPr>
        <p:sp>
          <p:nvSpPr>
            <p:cNvPr id="1295" name=""/>
            <p:cNvSpPr/>
            <p:nvPr/>
          </p:nvSpPr>
          <p:spPr>
            <a:xfrm>
              <a:off x="5518080" y="394956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English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57840" y="4322520"/>
              <a:ext cx="273816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Austrian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93360" y="475128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German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348240" y="5035320"/>
              <a:ext cx="2734920" cy="8254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French Train Ticket </a:t>
              </a:r>
              <a:br>
                <a:rPr sz="2400"/>
              </a:b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ing Web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169920" y="2200320"/>
            <a:ext cx="894240" cy="1154160"/>
            <a:chOff x="169920" y="2200320"/>
            <a:chExt cx="894240" cy="1154160"/>
          </a:xfrm>
        </p:grpSpPr>
        <p:pic>
          <p:nvPicPr>
            <p:cNvPr id="1300" name="" descr=""/>
            <p:cNvPicPr/>
            <p:nvPr/>
          </p:nvPicPr>
          <p:blipFill>
            <a:blip r:embed="rId1"/>
            <a:stretch/>
          </p:blipFill>
          <p:spPr>
            <a:xfrm>
              <a:off x="169920" y="2200320"/>
              <a:ext cx="585720" cy="86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171720" y="3078000"/>
              <a:ext cx="8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  <a:ea typeface="Osaka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2" name="" descr=""/>
          <p:cNvPicPr/>
          <p:nvPr/>
        </p:nvPicPr>
        <p:blipFill>
          <a:blip r:embed="rId2"/>
          <a:stretch/>
        </p:blipFill>
        <p:spPr>
          <a:xfrm>
            <a:off x="324000" y="4005360"/>
            <a:ext cx="2111400" cy="2023920"/>
          </a:xfrm>
          <a:prstGeom prst="rect">
            <a:avLst/>
          </a:prstGeom>
          <a:ln w="0">
            <a:noFill/>
          </a:ln>
        </p:spPr>
      </p:pic>
      <p:grpSp>
        <p:nvGrpSpPr>
          <p:cNvPr id="1303" name=""/>
          <p:cNvGrpSpPr/>
          <p:nvPr/>
        </p:nvGrpSpPr>
        <p:grpSpPr>
          <a:xfrm>
            <a:off x="1982880" y="3645000"/>
            <a:ext cx="3268440" cy="1304280"/>
            <a:chOff x="1982880" y="3645000"/>
            <a:chExt cx="3268440" cy="1304280"/>
          </a:xfrm>
        </p:grpSpPr>
        <p:sp>
          <p:nvSpPr>
            <p:cNvPr id="1304" name=""/>
            <p:cNvSpPr/>
            <p:nvPr/>
          </p:nvSpPr>
          <p:spPr>
            <a:xfrm>
              <a:off x="1982880" y="3645000"/>
              <a:ext cx="190116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uy book go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117880" y="3927600"/>
              <a:ext cx="213912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ook Flight go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22280" y="4208400"/>
              <a:ext cx="30290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uy cinema tickets go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439000" y="4489560"/>
              <a:ext cx="25718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Buy train ticket go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8" name=""/>
          <p:cNvSpPr/>
          <p:nvPr/>
        </p:nvSpPr>
        <p:spPr>
          <a:xfrm>
            <a:off x="4275000" y="2249640"/>
            <a:ext cx="1689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923760" y="2625840"/>
            <a:ext cx="8845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359320" y="1190520"/>
            <a:ext cx="0" cy="505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3492360" y="5373720"/>
            <a:ext cx="2489040" cy="674280"/>
            <a:chOff x="3492360" y="5373720"/>
            <a:chExt cx="2489040" cy="674280"/>
          </a:xfrm>
        </p:grpSpPr>
        <p:graphicFrame>
          <p:nvGraphicFramePr>
            <p:cNvPr id="1312" name=""/>
            <p:cNvGraphicFramePr/>
            <p:nvPr/>
          </p:nvGraphicFramePr>
          <p:xfrm>
            <a:off x="4085640" y="5632200"/>
            <a:ext cx="384120" cy="41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85640" y="5632200"/>
                      <a:ext cx="384120" cy="41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4" name=""/>
            <p:cNvGraphicFramePr/>
            <p:nvPr/>
          </p:nvGraphicFramePr>
          <p:xfrm>
            <a:off x="4954320" y="5647320"/>
            <a:ext cx="356760" cy="386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54320" y="5647320"/>
                      <a:ext cx="356760" cy="38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16" name="" descr=""/>
            <p:cNvPicPr/>
            <p:nvPr/>
          </p:nvPicPr>
          <p:blipFill>
            <a:blip r:embed="rId7"/>
            <a:stretch/>
          </p:blipFill>
          <p:spPr>
            <a:xfrm>
              <a:off x="4465080" y="5373720"/>
              <a:ext cx="494640" cy="535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7" name=""/>
            <p:cNvGrpSpPr/>
            <p:nvPr/>
          </p:nvGrpSpPr>
          <p:grpSpPr>
            <a:xfrm>
              <a:off x="3492360" y="5506560"/>
              <a:ext cx="524520" cy="320760"/>
              <a:chOff x="3492360" y="5506560"/>
              <a:chExt cx="524520" cy="320760"/>
            </a:xfrm>
          </p:grpSpPr>
          <p:sp>
            <p:nvSpPr>
              <p:cNvPr id="1318" name=""/>
              <p:cNvSpPr/>
              <p:nvPr/>
            </p:nvSpPr>
            <p:spPr>
              <a:xfrm>
                <a:off x="3492360" y="5506560"/>
                <a:ext cx="0" cy="3207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3493800" y="5812200"/>
                <a:ext cx="5230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>
              <a:off x="5969160" y="5481720"/>
              <a:ext cx="0" cy="320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474880" y="5787720"/>
              <a:ext cx="506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39144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WS in IRS 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6026040" y="1198440"/>
            <a:ext cx="2538720" cy="2647440"/>
            <a:chOff x="6026040" y="1198440"/>
            <a:chExt cx="2538720" cy="2647440"/>
          </a:xfrm>
        </p:grpSpPr>
        <p:sp>
          <p:nvSpPr>
            <p:cNvPr id="1324" name=""/>
            <p:cNvSpPr/>
            <p:nvPr/>
          </p:nvSpPr>
          <p:spPr>
            <a:xfrm>
              <a:off x="6093360" y="338616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Osaka"/>
                </a:rPr>
                <a:t>Development T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5" name="" descr=""/>
            <p:cNvPicPr/>
            <p:nvPr/>
          </p:nvPicPr>
          <p:blipFill>
            <a:blip r:embed="rId8"/>
            <a:stretch/>
          </p:blipFill>
          <p:spPr>
            <a:xfrm>
              <a:off x="6026040" y="1309680"/>
              <a:ext cx="77760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6" name="" descr=""/>
            <p:cNvPicPr/>
            <p:nvPr/>
          </p:nvPicPr>
          <p:blipFill>
            <a:blip r:embed="rId9"/>
            <a:stretch/>
          </p:blipFill>
          <p:spPr>
            <a:xfrm>
              <a:off x="6608520" y="1198440"/>
              <a:ext cx="7779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10"/>
            <a:stretch/>
          </p:blipFill>
          <p:spPr>
            <a:xfrm>
              <a:off x="6797520" y="1987560"/>
              <a:ext cx="77796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8" name="" descr=""/>
            <p:cNvPicPr/>
            <p:nvPr/>
          </p:nvPicPr>
          <p:blipFill>
            <a:blip r:embed="rId11"/>
            <a:stretch/>
          </p:blipFill>
          <p:spPr>
            <a:xfrm>
              <a:off x="6167160" y="2066760"/>
              <a:ext cx="77796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9" name=""/>
          <p:cNvGrpSpPr/>
          <p:nvPr/>
        </p:nvGrpSpPr>
        <p:grpSpPr>
          <a:xfrm>
            <a:off x="1893600" y="1266840"/>
            <a:ext cx="2068920" cy="2063160"/>
            <a:chOff x="1893600" y="1266840"/>
            <a:chExt cx="2068920" cy="2063160"/>
          </a:xfrm>
        </p:grpSpPr>
        <p:pic>
          <p:nvPicPr>
            <p:cNvPr id="1330" name="" descr=""/>
            <p:cNvPicPr/>
            <p:nvPr/>
          </p:nvPicPr>
          <p:blipFill>
            <a:blip r:embed="rId12"/>
            <a:stretch/>
          </p:blipFill>
          <p:spPr>
            <a:xfrm>
              <a:off x="2230560" y="1353960"/>
              <a:ext cx="7048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1" name="" descr=""/>
            <p:cNvPicPr/>
            <p:nvPr/>
          </p:nvPicPr>
          <p:blipFill>
            <a:blip r:embed="rId13"/>
            <a:stretch/>
          </p:blipFill>
          <p:spPr>
            <a:xfrm>
              <a:off x="2131920" y="191124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14"/>
            <a:stretch/>
          </p:blipFill>
          <p:spPr>
            <a:xfrm>
              <a:off x="2744640" y="126684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15"/>
            <a:stretch/>
          </p:blipFill>
          <p:spPr>
            <a:xfrm>
              <a:off x="2797200" y="1800360"/>
              <a:ext cx="7048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1893600" y="2870280"/>
              <a:ext cx="206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ustomer T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4F7-0854-4AE1-9F7C-4860D5C690B1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WS Creation &amp; Usage Ste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goal de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e.g. book-train-go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 input and output 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clude role type and soap b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wg-mediator de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ink a goal to a 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 component =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ssibly add a mediatio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a web servic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-mediator of WS capability = wg-mediator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sh Lisp function against web servic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oke web service by ‘achieve go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DD5-98F0-41B4-9131-19617699A154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Web Services for a Go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WS links to a Goal through the mediator in the used-mediator slot of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WS may share a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 a constraint for solving the Goal - a logical expression for assumption slot of WS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gical expressio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kappa (?goal) &lt;ocml relations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tting the value of an input 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smo-role-value ?goal &lt;role-name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8CE-50AF-472E-9249-68E2F1C79A4B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Valid Logical Expressions (relation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2880" y="1492200"/>
            <a:ext cx="8217000" cy="55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are unary re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country ?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ts are binary rel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(is-capital-of ?x ?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relations in base (OCML toplevel) ontolog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, ==, &lt;, &gt;,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kappa (?go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ember (wsmo-role-value ?goal 'has_source_currency) '(euro pound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15A-0134-43C1-BF9F-BAB8E65D404C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ing a WG-Mediato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340000" y="1771560"/>
            <a:ext cx="1727280" cy="1154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445080" y="1843200"/>
            <a:ext cx="17290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282920" y="3068640"/>
            <a:ext cx="2016360" cy="1008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GMedi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282920" y="4795920"/>
            <a:ext cx="1800360" cy="100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562200" y="285264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6154560" y="285264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219640" y="4076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059280" y="29955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443640" y="2995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5219640" y="42926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di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547640" y="2060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0920" y="170028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ssenger (pers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348000" y="5300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411280" y="4941720"/>
            <a:ext cx="180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date 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580000" y="24192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788000" y="1844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date (univ-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084720" y="5373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372360" y="479736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date (univ-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403280" y="24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0920" y="206064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parture (c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547640" y="2781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0920" y="2421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stination (c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547640" y="3141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0920" y="2781360"/>
            <a:ext cx="20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e-date 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2120-FDDF-4D9D-8B41-119DCE65CDE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eb Servic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Stencil Group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sely coupled, reusabl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apsulate discrete functiona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matically accessible over standard interne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add new level of functionality on top of the current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DD4-CECE-44BB-88D8-FB3CA3C4A151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ing a Mediation Servi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fined in the Medi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tion-service = Go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Service implements the mediation (mapp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tion Goal input roles are a subset of source Goal input 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diation Goal output is a subset of target Web Service input ro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EA4-398B-459E-AC3D-6D23B8823C21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oal Based Invo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249120" y="2225520"/>
            <a:ext cx="1054080" cy="1044000"/>
            <a:chOff x="249120" y="2225520"/>
            <a:chExt cx="1054080" cy="1044000"/>
          </a:xfrm>
        </p:grpSpPr>
        <p:pic>
          <p:nvPicPr>
            <p:cNvPr id="1370" name="" descr=""/>
            <p:cNvPicPr/>
            <p:nvPr/>
          </p:nvPicPr>
          <p:blipFill>
            <a:blip r:embed="rId1"/>
            <a:stretch/>
          </p:blipFill>
          <p:spPr>
            <a:xfrm>
              <a:off x="249120" y="2225520"/>
              <a:ext cx="10540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256320" y="2962440"/>
              <a:ext cx="104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  <a:ea typeface="Osaka"/>
                </a:rPr>
                <a:t>Invoc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1849320" y="1979640"/>
            <a:ext cx="341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stantiate Go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hange-rate-g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-source-currency: us-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s-target-currency: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476320" y="1979640"/>
            <a:ext cx="362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 Dis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european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bank-exchange-rate-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097360" y="15606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Goal -&gt; WG Mediator -&gt; WS/Capability/Used-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00240" y="479916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610800" y="4773600"/>
            <a:ext cx="24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diate inpu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’ -&gt; us-dol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78640" y="412596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WS -&gt; Capability -&gt; As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4147200" y="43671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Me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285240" y="4697280"/>
            <a:ext cx="27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oke select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-exchange-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44760" y="43164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56EB-64EE-4586-9CA7-25ABD330711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643280" cy="1619280"/>
          </a:xfrm>
          <a:prstGeom prst="rect">
            <a:avLst/>
          </a:prstGeom>
          <a:ln w="0">
            <a:noFill/>
          </a:ln>
        </p:spPr>
      </p:pic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Dem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9528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iana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6B5-D9C9-4EE6-A2D7-A87B1A4C3F9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uropean Travel Scenari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6" name="" descr=""/>
          <p:cNvPicPr/>
          <p:nvPr/>
        </p:nvPicPr>
        <p:blipFill>
          <a:blip r:embed="rId1"/>
          <a:stretch/>
        </p:blipFill>
        <p:spPr>
          <a:xfrm>
            <a:off x="1333440" y="1600200"/>
            <a:ext cx="64771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3AB-8991-4A96-B707-46DEB96E8930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uropean Travel Demo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1898640" y="1619280"/>
            <a:ext cx="497844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00B-F618-448E-998B-0A5126D6611D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mo - Obj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8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velop an application for the European Travel scenario based on SWS. The application should support a person booking a train ticket between 2 European cities at a specific time and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 Goal, Web service and Mediator WSMO descriptions in IRS-III (european-travel-service-descriptions) for available services. Service constraints involves start and end locations and the type of traveller. Use the assumption slot to express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sh available lisp functions against Web Service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voke the web services through ‘Achieve Goa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ution using IRS-III browser will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AF6-FCF3-4398-8BB2-AF230B6B0E8E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ravel Related Knowledge Mode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2" name=""/>
          <p:cNvGraphicFramePr/>
          <p:nvPr/>
        </p:nvGraphicFramePr>
        <p:xfrm>
          <a:off x="457200" y="1703520"/>
          <a:ext cx="822960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960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8A8-9596-4956-A6AA-04BA48A5139C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59184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ey Classes, Relations, Instance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opean-Train-Travel-Applicatio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47840" y="326664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s-in-country &lt;city&gt; &lt;country&gt;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is-in-country berlin germany) -&gt;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ent instanc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matt mich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-person instances: liliana michael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6" name=""/>
          <p:cNvGraphicFramePr/>
          <p:nvPr/>
        </p:nvGraphicFramePr>
        <p:xfrm>
          <a:off x="927000" y="2021040"/>
          <a:ext cx="365760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021040"/>
                    <a:ext cx="365760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5E00-58A5-453C-AAED-315D8A31F36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Get train time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: origin and destination cities,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tput: timetable (li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Book t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: passenger name, origin and destination cities, departure time-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utput: booking information (st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FD1-1A89-4F01-8E61-7AD41E8082B5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service available for goa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6 services available for goa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provider write the constraints applicable to the services to satisfy the goal (assumption logical expres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 wg-mediator mediation-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d to convert time in list format to time in universal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8F3-D9CE-40C0-B6A8-4201046E2DB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eb Services Probl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331-4FFE-4B7A-BD11-4BD21B892C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rvice constrai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es 2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s for (origin and destination) cities in determin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e 4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a mediation service to map goal time-date to service time-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ices 6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s for students or business people in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7BD-841F-4663-BF34-A9487E74EB9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vailable Functions (1/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0872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get-train-tim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ris london (18 4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Timetable of trains from PARIS to LONDON on 18, 4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: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3:36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book-english-train-journe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ristoph milton-keynes london (20 33 16 15 9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British Rail: CHRISTOPH is booked on the 476 going from MILTON-KEYNES to LONDON at 16:34, 15, SEPTEMBER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ice is 179 Euros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book-french-train-journe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inuhe paris lyon (3 4 6 18 8 20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"SNCF: SINUHE is booked on the 593 going from PARIS to LYON at 6:12, 18, AUGUST 20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ice is 25 Euros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2F1-459F-49CA-81AD-EF5D6EFFE508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vailable Functions (2/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- book-german-train-journe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ristoph berlin frankfurt 3305020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German Rail (Die Bahn): CHRISTOPH is booked on the 362 going from BERLIN to FRANKFURT at 14:47, 24, SEPTEMBER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s 35 Euros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- book-austrian-train-journe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inuhe vienna innsbruck 33046866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Austrian Rail (OBB): SINUHE is booked on the 681 going from VIENNA to INNSBRUCK at 17:43, 20, SEPTEMBER 200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rice is 36 Euros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FD6-F838-4000-9557-E9E07839F3B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vailable Functions (3/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- book-student-european-train-jour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john london nice (3 4 6 18 8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European Student Rail Travel: JOHN is booked on the 408 going from LONDON to NICE at 6:44, 18, AUGUST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ce is 86 Euros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- book-business-european-train-journe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liliana paris innsbruck (3 4 6 18 8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Business Europe: LILIANA is booked on the 461 going from PARIS to INNSBRUCK at 6:12, 18, AUGUST 200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rice is 325 Euros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8- mediate-tim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lisp function)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MediateTime/media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jav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9 30 17 20 9 20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3046866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D1A-2ACA-48D3-A091-A5EEEF0DC7C7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sing IRS-III Browser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or the VTA Demo applic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mantic Descriptions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ublis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C0F-1C2C-474E-8D6F-0F6C7EC7FB50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Brows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3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5761080" cy="454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632-3AE4-44D7-873F-F6A26CD761AA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" descr=""/>
          <p:cNvPicPr/>
          <p:nvPr/>
        </p:nvPicPr>
        <p:blipFill>
          <a:blip r:embed="rId1"/>
          <a:stretch/>
        </p:blipFill>
        <p:spPr>
          <a:xfrm>
            <a:off x="1258920" y="1555920"/>
            <a:ext cx="6697800" cy="444024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reating a Goal descrip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D9ED-FB33-42A6-9692-221430EF282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912000" cy="450684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reating a Mediator descrip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079-C230-41A2-B794-109041CC093B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8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5975280" cy="4446720"/>
          </a:xfrm>
          <a:prstGeom prst="rect">
            <a:avLst/>
          </a:prstGeom>
          <a:ln w="0">
            <a:noFill/>
          </a:ln>
        </p:spPr>
      </p:pic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reating a Web Service descrip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788-ED45-49D1-A17B-8272AA70F940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904000" cy="4454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ding a Mediator to the Web Service Cap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EC35-F086-4BED-B1A0-C8B155CA240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eb Services Probl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685800" y="685800"/>
            <a:ext cx="7086600" cy="5029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990360" y="990720"/>
            <a:ext cx="7086600" cy="50292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666880" y="2895480"/>
            <a:ext cx="2990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Syntax On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2E8-FB1E-486F-BAF3-6F06EF9219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905440" cy="4498920"/>
          </a:xfrm>
          <a:prstGeom prst="rect">
            <a:avLst/>
          </a:prstGeom>
          <a:ln w="0">
            <a:noFill/>
          </a:ln>
        </p:spPr>
      </p:pic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ding a constraint to the Web Service Cap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CC0-CAFF-438F-9266-5D777D3EFBDD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21440" cy="444024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reating a Goal (Mediation Servi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4D8-F8DD-482A-8C24-E67E941F0DAD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1"/>
          <a:stretch/>
        </p:blipFill>
        <p:spPr>
          <a:xfrm>
            <a:off x="1224000" y="1725480"/>
            <a:ext cx="7164360" cy="4332600"/>
          </a:xfrm>
          <a:prstGeom prst="rect">
            <a:avLst/>
          </a:prstGeom>
          <a:ln w="0">
            <a:noFill/>
          </a:ln>
        </p:spPr>
      </p:pic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reating a Mediator description (Mediation Servi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F427-7813-48FA-B917-693DA18A943A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832360" cy="4476600"/>
          </a:xfrm>
          <a:prstGeom prst="rect">
            <a:avLst/>
          </a:prstGeom>
          <a:ln w="0">
            <a:noFill/>
          </a:ln>
        </p:spPr>
      </p:pic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ding a Mediator to the Web Service (Mediation Servi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0DB-1D65-4BF3-839D-1689DCD1009C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0" name="" descr=""/>
          <p:cNvPicPr/>
          <p:nvPr/>
        </p:nvPicPr>
        <p:blipFill>
          <a:blip r:embed="rId1"/>
          <a:stretch/>
        </p:blipFill>
        <p:spPr>
          <a:xfrm>
            <a:off x="1692360" y="3860640"/>
            <a:ext cx="5975280" cy="2065320"/>
          </a:xfrm>
          <a:prstGeom prst="rect">
            <a:avLst/>
          </a:prstGeom>
          <a:ln w="0">
            <a:noFill/>
          </a:ln>
        </p:spPr>
      </p:pic>
      <p:pic>
        <p:nvPicPr>
          <p:cNvPr id="1431" name="" descr=""/>
          <p:cNvPicPr/>
          <p:nvPr/>
        </p:nvPicPr>
        <p:blipFill>
          <a:blip r:embed="rId2"/>
          <a:stretch/>
        </p:blipFill>
        <p:spPr>
          <a:xfrm>
            <a:off x="1619280" y="1628640"/>
            <a:ext cx="6048360" cy="2086200"/>
          </a:xfrm>
          <a:prstGeom prst="rect">
            <a:avLst/>
          </a:prstGeom>
          <a:ln w="0">
            <a:noFill/>
          </a:ln>
        </p:spPr>
      </p:pic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080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ublishing Web Services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lisp function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E4C-0A64-489F-80FB-C0C58413F738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07240" cy="4540320"/>
          </a:xfrm>
          <a:prstGeom prst="rect">
            <a:avLst/>
          </a:prstGeom>
          <a:ln w="0">
            <a:noFill/>
          </a:ln>
        </p:spPr>
      </p:pic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hieving a Goal (Mediation Servi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8DD-6F03-4872-846A-27B9C1D2F555}" type="slidenum">
              <a:t>1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832720" cy="4524480"/>
          </a:xfrm>
          <a:prstGeom prst="rect">
            <a:avLst/>
          </a:prstGeom>
          <a:ln w="0">
            <a:noFill/>
          </a:ln>
        </p:spPr>
      </p:pic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chieving a Goa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07C-08E7-4F91-BF3C-E50E8ADE204C}" type="slidenum">
              <a:t>1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Future 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-III Choreography definition language is being specif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guarded state transitions as forward chain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RS-III Orchestration is being def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O-mediators will have mapping ru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83EC-BECC-49D9-8B29-CA400E4D7856}" type="slidenum">
              <a:t>1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66247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RS-III Lin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807552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pag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kmi.open.ac.uk/projects/ir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wnload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owser/Ed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4AD-5095-4135-98FC-F220B4C47B17}" type="slidenum">
              <a:t>1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SMO Too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11280" y="41497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iana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14D-BC34-46F0-82C5-A60696AB59A9}" type="slidenum">
              <a:t>1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Lack of SWS standard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technology does not allow realization of any of the parts of the Web Services’ usage 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nly syntactical standard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ully developed markup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marked up content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semantically enhanced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rameworks that facilitate discovery, composition and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2880" indent="-368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tools and platforms that allow to semantically enrich current Web cont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F0C-A31B-4A2B-BCD9-137C72DC58AE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MO Too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 development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SMX Server -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sourceforge.net/projects/wsm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RS-III API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kmi.open.ac.uk/projects/ir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SMO API/WSMO4J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smo4j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API for WSMO / WSM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SMT – Web Services Modelling Toolk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SMO Studio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wsmostudio.org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urrently: SWWS Stu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ion and editing of WSMO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SML Edi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tology Management System O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n for Plug-Ins for SWS tools (discovery, composer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SML Validator and Par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idates WSMO specifications in WS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sing into intermediary FOL format (every FOL compliant syntax can be derived from thi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WL Lite Reasoner for WSML-OWL var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L Lite Reasoner based on TRIPL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819-0A69-4440-8C44-58F9CCD945E7}" type="slidenum">
              <a:t>1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Summary, Conclusions &amp; Future Wor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11280" y="41497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liana Cab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9C9-4CE7-4FA4-8AB0-23D56FEFDA90}" type="slidenum">
              <a:t>1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utorial should enable you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aims &amp; challenges within Semantic Web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the objectives and features of W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Semantic Web Services with WS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ctly assess emerging technologies &amp; products for Semantic Web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implemented tools to create S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D06-692F-4171-BAEB-B8523D0ED2DF}" type="slidenum">
              <a:t>1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SM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848880" y="1628640"/>
            <a:ext cx="78282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05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ral location where WSMO work and papers can be found is WSMO Working Group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wsmo.or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05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 regard of WSMO languages: WSML Working Group: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wsml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05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O implementation: WSMX working group can be found at: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wsmx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05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X open source can be found at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https://sourceforge.net/projects/wsmx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05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09D-71DD-463A-9F9F-AAABDEB027B9}" type="slidenum">
              <a:t>1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SM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WSMO Specification]: Roman, D.; Lausen, H.; Keller, U. (eds.):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Web Service Modeling Ontolog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SMO Working Draft D2, final version 1.1, 10 February 2005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WSMO Primer]: Feier, C. (ed.):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WSMO Primer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SMO Working Draft D3.1, 23 March 2005.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WSMO Choreography and Orchestration] Roman, D.; Scicluna, J.; Feier, C. :(eds.)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tology-based Choreography and Orchestration of WSMO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SMO Working Draft D14, 1 March 2005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[WSMO Use Case] Stollberg, M.; Lara, R. (ed.): </a:t>
            </a:r>
            <a:r>
              <a:rPr b="1" i="1" lang="en-US" sz="2100" spc="-1" strike="noStrike">
                <a:solidFill>
                  <a:srgbClr val="000000"/>
                </a:solidFill>
                <a:latin typeface="Times New Roman"/>
              </a:rPr>
              <a:t>WSMO Use Case Modeling and Testing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, WSMO Working Drafts D3.2; D3.3.; D3.4; D3.5, final version 0.1, 17 November 2004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A5B-FDB8-4C5C-8646-1F448D3ACB97}" type="slidenum">
              <a:t>1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SMO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218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[Arroyo et al. 2004] Arroyo, S., Lara, R., Gomez, J. M., Berka, D., Ding, Y. and Fensel, D: "Semantic Aspects of Web Services" in Practical Handbook of Internet Computing. Munindar P. Singh, editor. Chapman Hall and CRC Press, Baton Rouge. 200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[Berners-Lee et al. 2001] Tim Berners-Lee, James Hendler, and Ora Lassila, “The Semantic Web”. Scientific American, 284(5):34-43, 2001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Domingue, J. Cabral, L., Hakimpour, F., Sell D., and Motta, E., (2004) IRS-III: A Platform and Infrastructure for Creating WSMO-based Semantic Web Services WSMO Implementation Workshop (WIW), Frankfurt, Germany, September,20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[Fensel, 2001] Dieter Fensel, “Ontologies: Silver Bullet for Knowledge Management and Electronic Commerce”, Springer-Verlag, Berlin, 2001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[Gruber, 1993] Thomas R. Gruber, “A Translation Approach to Portable Ontology Specifications”, Knowledge Acquisition, 5:199-220, 1993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900" spc="-1" strike="noStrike">
                <a:solidFill>
                  <a:srgbClr val="000000"/>
                </a:solidFill>
                <a:latin typeface="Times New Roman"/>
              </a:rPr>
              <a:t>[Stencil Group] - </a:t>
            </a:r>
            <a:r>
              <a:rPr b="0" lang="en-US" sz="19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stencilgroup.com/ideas_scope_200106wsdefined.html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AD2-DC45-4C18-A4CF-E3F76668756E}" type="slidenum">
              <a:t>1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ferences WSM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ian Mocan and Emilia Cimpian and Michal Zaremba and Christoph Bussler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ediation in Web Service Modeling Execution Environment (WSMX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Information Integration on the Web (iiWeb2004), Sep, 2004, Toronto, Canad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rian Mocan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ntology Mediation in WSMX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st WSMO Implementation Workshop, Sep, 2004, Frankfurt, Germa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thew Moran and Adrian Mocan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SMX-An Architecture for Semantic Web Service Discovery, Mediation and Invo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3rd International Semantic Web Conference (ISWC2004), Nov, 2004, Hiroshima, Jap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thew Moran and Michal Zaremba and Adrian Mocan and Christoph Bussler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sing WSMX to bind Requester &amp; Provider at Runtime when Executing Semantic Web Serv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1st WSMO Implementation Workshop, Sep, 2004, Frankfurt, Germa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thew Moran and Adrian Mocan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SMX - An Architecture for Semantic Web Service Discovery, Mediation and Invo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hird International Semantic Web Services Conference, ISWC'04, 2004, Hiroshima, Jap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thew Moran and Michal Zaremba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SMX - An Architecture for Dynamic Composition, Mediation and Invocation of Semantic Web Serv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IADIS International WWW/Internet Conference, 2004, Madri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hal Zaremba and  Matthew Moran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nabling Execution of Semantic Web Services: WSMX Core Platfor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roceedings of the WIW 2004 Workshop on WSMO Implementations, Jul, 2004, Frankfurt, German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hal Zaremba, Armin Haller, Maciej Zaremba, and Matthew Moran :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SMX-Infrastructure for Execution of Semantic Web Servi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ISWC 2004: Demo Papers, Nov, 2004, Hiroshima, Jap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555D-7422-418B-87A2-04FB79C38B61}" type="slidenum">
              <a:t>1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References IRS-II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07440" y="1526760"/>
            <a:ext cx="8379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Domingue, L. Cabral, F. Hakimpour,D. Sell and E. Motta: IRS-III: A Platform and Infrastructure for Creating WSMO-based Semantic Web Services. Proceedings of the Workshop on WSMO Implementations (WIW 2004) Frankfurt, Germany, CEUR Workshop Proceedings, onli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EUR-WS.org/Vol-113/paper3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Domingue and S. Galizia: Towards a Choreography for IRS-III.Proceedings of the Workshop on WSMO Implementations (WIW 2004) Frankfurt, Germany, CEUR Workshop Proceedings, online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CEUR-WS.org/Vol-113/paper7.pd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ral, L., Domingue, J., Motta, E., Payne, T. and Hakimpour, F. (2004).Approaches to Semantic Web Services: An Overview and Comparisons. In proceedings of the First European Semantic Web Symposium (ESWS2004), Heraklion, Crete, Gree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ta, E., Domingue, J., Cabral, L. and Gaspari, M. (2003) IRS-II: A Framework and Infrastructure for Semantic Web Services. In proceedings of the 2nd International Semantic Web Conference (ISWC2003) 20-23 October 2003, Sundial Resort, Sanibel Island, Florida, U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3B1-BF1E-4857-B163-3895FBE2962F}" type="slidenum">
              <a:t>1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536400" y="1916280"/>
            <a:ext cx="81504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SMO work is funded by the European Commission under the projec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owledge We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K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pero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ience Foundation Irel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de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I-L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; and by the Vienna city government unde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Oper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C51-5C60-411A-A0DC-8465743554EC}" type="slidenum">
              <a:t>1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41360" y="1526760"/>
            <a:ext cx="824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exhaustive description frameworks for describing Web Services and related aspects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Web Service Description Ontologi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ntologies as underlying data model to allow machine supported data interpretation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Semantic Web aspe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emantically driven technologies for automation of the Web Service usage process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Web Service aspect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220-2985-4BA9-B44D-D4BCF8D9C3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Services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3840" y="1628640"/>
            <a:ext cx="8570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Usage Proces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ub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ake available the description of the capability of a servic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iscover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te different services suitable for a given t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le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ose the most appropriate services among the available on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osi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e services to achieve a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di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lve mismatches (data, protocol, process) among the combin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xec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ke services following programmatic convention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C4B-1FC3-40FD-93DD-E48C6B8DE9A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Services (3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3840" y="1628640"/>
            <a:ext cx="8426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imes New Roman"/>
              </a:rPr>
              <a:t>Usage Proc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execution suppo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nitor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rol the execu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mpens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 transactional support and undo or mitigate unwan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place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cilitate the substitution of services by equivalent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udi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rify that service execution occurred in the expected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56B3-F48C-4BBE-B60B-9A2A9537866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14000" y="1699920"/>
            <a:ext cx="842652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emantic Web Serv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emantic Web Techn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eb Service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759-61EC-4FC2-8D62-FA3155165C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200" y="2184480"/>
          <a:ext cx="8929800" cy="3828960"/>
        </p:xfrm>
        <a:graphic>
          <a:graphicData uri="http://schemas.openxmlformats.org/drawingml/2006/table">
            <a:tbl>
              <a:tblPr/>
              <a:tblGrid>
                <a:gridCol w="1582920"/>
                <a:gridCol w="5114880"/>
                <a:gridCol w="2232000"/>
              </a:tblGrid>
              <a:tr h="429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:30 – 3: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tic Web Servic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l Zarem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 Moc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Services Modelling Ont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:00 - 3: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ffee brea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:30 - 4: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MO Contin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 Moca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l Zarem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Services Modelling Langu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Services Execution Environ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:10 - 5: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SIII &amp; De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liana Cab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SMO Too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ary, Conclusions &amp; Future Wo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348B-A01B-4A22-87F9-BCC2EB91AB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 Modelling Ontology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(WSMO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 Mo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946-3BC1-43D7-BDDD-6182147FF1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379160"/>
            <a:ext cx="80452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O is a complete conceptual model for Semantic Web Services and related asp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es four main elements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8B9-4EC1-4A0B-8AFE-5412E599BD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 Workin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 Design Princi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 Top Level No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t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or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Notions of WS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ing WSMO to address Web Services probl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os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u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80E-5F8E-42BC-A139-86D346B43C8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Working Grou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61840" y="15429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292640" y="3048120"/>
            <a:ext cx="900000" cy="684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V="1">
            <a:off x="288936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049360" y="236196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30720" y="4287960"/>
            <a:ext cx="3024000" cy="9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348000" y="1994040"/>
            <a:ext cx="171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28600" y="176364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Conceptual Model for S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89360" y="4595760"/>
            <a:ext cx="503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84280" y="5100480"/>
            <a:ext cx="32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Formal Language for W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96640" y="459576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15920" y="5459400"/>
            <a:ext cx="38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Rule-based Language for S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67640" y="4548240"/>
            <a:ext cx="36972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91240" y="51004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ecution Environment for W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387680" y="1687680"/>
            <a:ext cx="64800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2611440" y="3967200"/>
          <a:ext cx="64764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11440" y="396720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338880" y="3919680"/>
          <a:ext cx="64764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38880" y="3919680"/>
                    <a:ext cx="647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A12-8D6E-469E-9D08-19743ECFD74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23640" y="163980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 Decoupling &amp; Strong 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nomous components with mediators for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inguish interface (= description) from implementation (=prog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er to P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action between equal partners (in terms of control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ion 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ference implementation (WSM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MO Design Princip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951-309B-4AED-96C5-A281610DFD9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Top Level No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04880"/>
            <a:ext cx="403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 that a client may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consulting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290196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99080" y="290196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bilit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0040" y="477360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43520" y="2421000"/>
            <a:ext cx="4059000" cy="2162880"/>
            <a:chOff x="2243520" y="2421000"/>
            <a:chExt cx="4059000" cy="216288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276720" y="2781360"/>
              <a:ext cx="173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243520" y="334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80360" y="242100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019840" y="334008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4560" y="427680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di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B963-9428-420E-9DF8-87AE7C682E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on-Functional Proper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9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WSMO elements is described by properties that contain relevant, non-functional aspects of the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anagement and element overall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Proper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160" indent="-27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blin Core Metadata Element Se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volution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160" indent="-27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C-recommendations for description type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Specific Proper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160" indent="-27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aspects and other non-functional information of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43160" indent="-270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361800"/>
                <a:tab algn="l" pos="809640"/>
                <a:tab algn="l" pos="286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Servic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C98C-ECEF-44D5-9000-FFD2BBCE9D4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Non-Functional Proper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960" y="1500120"/>
            <a:ext cx="8184600" cy="47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ontology 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&lt;http://www.wsmo.org/2004/d3/d3.2/v0.1/20040628/dt.wsm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nonFunctionalProperti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titl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Date and Time Ontology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creator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DERI International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subject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Date", "Time", "Date and Time Algebra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descriptio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generic representation of data and time including basic algebra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publisher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DERI International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contributor </a:t>
            </a:r>
            <a:r>
              <a:rPr b="1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Holger Lausen", "Axel Polleres", "Ruben Lara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dat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2004-06-2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typ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http://www.wsmo.org/2004/d2/v0.3/20040329/#o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format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text/plain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languag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en-US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relatio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&lt;http://www.w3.org/TR/xmlschema-2/&gt;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coverag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"World"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c:right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  <a:ea typeface="Arial"/>
              </a:rPr>
              <a:t>&lt;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http://www.deri.org/privacy.htm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versio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Arial"/>
                <a:ea typeface="Arial"/>
              </a:rPr>
              <a:t>1.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0B0-268E-4D91-A8AB-DB97431D39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Ontolog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bilit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496960" y="1844640"/>
            <a:ext cx="40910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 that a client may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consulting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70040" y="5013360"/>
            <a:ext cx="3946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9280" y="2781360"/>
            <a:ext cx="2105280" cy="201600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386440" y="2708280"/>
            <a:ext cx="4059000" cy="2162880"/>
            <a:chOff x="2386440" y="2708280"/>
            <a:chExt cx="4059000" cy="2162880"/>
          </a:xfrm>
        </p:grpSpPr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3419640" y="3068640"/>
              <a:ext cx="173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386440" y="3627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00"/>
                  </a:solidFill>
                  <a:latin typeface="Arial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23280" y="2708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2760" y="362736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77480" y="4564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di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8A0-6096-4A9E-BE88-E5FE5D9A158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16080" y="1501920"/>
            <a:ext cx="88279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 functional properti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ed Ontolog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ing existing ontolog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no heterogeneities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d mediator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 Mediators (ontology import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 mismatch handl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’ Ontology No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concepts that belong to the ontology, inc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attributes that belong to a con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interrelations between several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type of relation (unary range = return valu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instances that belong to the represented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86040"/>
                <a:tab algn="l" pos="3678120"/>
                <a:tab algn="l" pos="430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io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iomatic expressions in ontology (logical statemen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tology Spec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0ED-2C83-4B98-A63D-1930C10963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mantic Web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l Zare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0C7-67BA-4090-8C3B-1B18E6AA5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Goal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bilit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96960" y="1844640"/>
            <a:ext cx="337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 that a client may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consulting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70040" y="5013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340000" y="1630440"/>
            <a:ext cx="3816360" cy="9349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386440" y="2708280"/>
            <a:ext cx="4059000" cy="2162880"/>
            <a:chOff x="2386440" y="2708280"/>
            <a:chExt cx="4059000" cy="216288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3419640" y="3068640"/>
              <a:ext cx="173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386440" y="3627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23280" y="2708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62760" y="362736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77480" y="4564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di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D27F-593D-49A7-B5C4-7E4A6CE358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38040" y="1500120"/>
            <a:ext cx="8454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-coupling of Request and Servi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-driven Approa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erived from AI rational agent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r formulates objective independent / without regard to services for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lligent’ mechanisms detect suitable services for solving the Go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re-use of Services for different pur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ge of Goals within Semantic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equester, that is an agent (human or machine), defines a Goal to be resolv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Service Discovery detects suitable Web Services for solving the Goal automatic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285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Resolution Management is realized in implement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C1A-CF97-48BE-AC41-7014D79C9C4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al Spec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960" y="1600200"/>
            <a:ext cx="809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Non functional propertie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Imported Ontolog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Used mediator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O Mediator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- import ontologies with integ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G Mediators:  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goal definition by reusing an already existing g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llow specification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al Ontolog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ost-conditions 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state of the information space that is desir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sult expected from execution a Web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ed as an axiom (unambiguous, based on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Effects -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state of the world that is desir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changes in the world that should hold after a service 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ressed as an axiom (unambiguous, based on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ADE-273E-4770-A2EA-742B0BACC30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"/>
          <p:cNvGrpSpPr/>
          <p:nvPr/>
        </p:nvGrpSpPr>
        <p:grpSpPr>
          <a:xfrm>
            <a:off x="2122920" y="2708280"/>
            <a:ext cx="4059000" cy="2162880"/>
            <a:chOff x="2122920" y="2708280"/>
            <a:chExt cx="4059000" cy="21628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3156120" y="3068640"/>
              <a:ext cx="173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2122920" y="3627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59760" y="2708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99240" y="362736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00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13960" y="4564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edi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Web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99080" y="3141720"/>
            <a:ext cx="2644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bilit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96960" y="1844640"/>
            <a:ext cx="4019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 that a client may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consulting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70040" y="501336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97480" y="2924280"/>
            <a:ext cx="2773440" cy="151272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C4A-B7F0-4A05-B911-0C73D5BAED0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MO Web Service Description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5800" y="3913200"/>
            <a:ext cx="936720" cy="1584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1080" y="3882960"/>
            <a:ext cx="1942920" cy="17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not of interest in Web Service Descriptio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68360" y="3860640"/>
            <a:ext cx="1152720" cy="1729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51080" y="431640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51080" y="44607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08000" y="5661000"/>
            <a:ext cx="50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Choreograph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-- Interfaces ---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rche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27760" y="2844720"/>
            <a:ext cx="2519280" cy="51912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64840" y="2355840"/>
            <a:ext cx="239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Cap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6160" y="42022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26160" y="46339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26160" y="50673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"/>
          <p:cNvCxnSpPr>
            <a:stCxn id="316" idx="4"/>
            <a:endCxn id="317" idx="0"/>
          </p:cNvCxnSpPr>
          <p:nvPr/>
        </p:nvCxnSpPr>
        <p:spPr>
          <a:xfrm>
            <a:off x="5833800" y="44179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7" idx="4"/>
            <a:endCxn id="318" idx="0"/>
          </p:cNvCxnSpPr>
          <p:nvPr/>
        </p:nvCxnSpPr>
        <p:spPr>
          <a:xfrm>
            <a:off x="5833800" y="484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grpSp>
        <p:nvGrpSpPr>
          <p:cNvPr id="321" name=""/>
          <p:cNvGrpSpPr/>
          <p:nvPr/>
        </p:nvGrpSpPr>
        <p:grpSpPr>
          <a:xfrm>
            <a:off x="6375240" y="4130640"/>
            <a:ext cx="576360" cy="360360"/>
            <a:chOff x="6375240" y="4130640"/>
            <a:chExt cx="576360" cy="360360"/>
          </a:xfrm>
        </p:grpSpPr>
        <p:sp>
          <p:nvSpPr>
            <p:cNvPr id="322" name=""/>
            <p:cNvSpPr/>
            <p:nvPr/>
          </p:nvSpPr>
          <p:spPr>
            <a:xfrm>
              <a:off x="6375240" y="4130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0840" y="4202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"/>
          <p:cNvCxnSpPr>
            <a:stCxn id="316" idx="6"/>
            <a:endCxn id="322" idx="2"/>
          </p:cNvCxnSpPr>
          <p:nvPr/>
        </p:nvCxnSpPr>
        <p:spPr>
          <a:xfrm>
            <a:off x="5941800" y="4309560"/>
            <a:ext cx="43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5" name=""/>
          <p:cNvGrpSpPr/>
          <p:nvPr/>
        </p:nvGrpSpPr>
        <p:grpSpPr>
          <a:xfrm>
            <a:off x="6375240" y="4562640"/>
            <a:ext cx="576360" cy="360360"/>
            <a:chOff x="6375240" y="4562640"/>
            <a:chExt cx="576360" cy="360360"/>
          </a:xfrm>
        </p:grpSpPr>
        <p:sp>
          <p:nvSpPr>
            <p:cNvPr id="326" name=""/>
            <p:cNvSpPr/>
            <p:nvPr/>
          </p:nvSpPr>
          <p:spPr>
            <a:xfrm>
              <a:off x="6375240" y="456264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50840" y="463428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8" name=""/>
          <p:cNvCxnSpPr>
            <a:stCxn id="317" idx="6"/>
            <a:endCxn id="326" idx="2"/>
          </p:cNvCxnSpPr>
          <p:nvPr/>
        </p:nvCxnSpPr>
        <p:spPr>
          <a:xfrm>
            <a:off x="5941800" y="4741920"/>
            <a:ext cx="43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4870080" y="1620720"/>
            <a:ext cx="2696400" cy="58068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dvertise of 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port for WS Dis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3957480"/>
            <a:ext cx="2016360" cy="155412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raction Interf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consuming 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ernal Visi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ounding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20000" y="4076640"/>
            <a:ext cx="2016000" cy="131076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lization of WS by using other 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al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om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S  Composition</a:t>
            </a:r>
            <a:r>
              <a:rPr b="0" lang="en-US" sz="1600" spc="-1" strike="noStrike">
                <a:solidFill>
                  <a:srgbClr val="339933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98720" y="41720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898720" y="4603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98720" y="5037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32" idx="4"/>
            <a:endCxn id="333" idx="0"/>
          </p:cNvCxnSpPr>
          <p:nvPr/>
        </p:nvCxnSpPr>
        <p:spPr>
          <a:xfrm>
            <a:off x="3006360" y="43876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3" idx="4"/>
            <a:endCxn id="334" idx="0"/>
          </p:cNvCxnSpPr>
          <p:nvPr/>
        </p:nvCxnSpPr>
        <p:spPr>
          <a:xfrm>
            <a:off x="3006360" y="481968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251080" y="460548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51080" y="47498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51080" y="5037120"/>
            <a:ext cx="5763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51080" y="51814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44720" y="2917800"/>
            <a:ext cx="2523960" cy="5032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9440" y="2413080"/>
            <a:ext cx="29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Non-function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re + WS-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50760" y="1477800"/>
            <a:ext cx="2757600" cy="82404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item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ality asp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S Manage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6377040" y="5035680"/>
            <a:ext cx="576360" cy="360360"/>
            <a:chOff x="6377040" y="5035680"/>
            <a:chExt cx="576360" cy="360360"/>
          </a:xfrm>
        </p:grpSpPr>
        <p:sp>
          <p:nvSpPr>
            <p:cNvPr id="345" name=""/>
            <p:cNvSpPr/>
            <p:nvPr/>
          </p:nvSpPr>
          <p:spPr>
            <a:xfrm>
              <a:off x="6377040" y="5035680"/>
              <a:ext cx="576360" cy="360360"/>
            </a:xfrm>
            <a:prstGeom prst="donut">
              <a:avLst>
                <a:gd name="adj" fmla="val 119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52640" y="5107320"/>
              <a:ext cx="38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7" name=""/>
          <p:cNvCxnSpPr>
            <a:endCxn id="345" idx="2"/>
          </p:cNvCxnSpPr>
          <p:nvPr/>
        </p:nvCxnSpPr>
        <p:spPr>
          <a:xfrm>
            <a:off x="5943600" y="5214960"/>
            <a:ext cx="434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341" idx="2"/>
            <a:endCxn id="309" idx="0"/>
          </p:cNvCxnSpPr>
          <p:nvPr/>
        </p:nvCxnSpPr>
        <p:spPr>
          <a:xfrm>
            <a:off x="2306160" y="3420720"/>
            <a:ext cx="208692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9" name=""/>
          <p:cNvCxnSpPr>
            <a:stCxn id="314" idx="2"/>
            <a:endCxn id="309" idx="0"/>
          </p:cNvCxnSpPr>
          <p:nvPr/>
        </p:nvCxnSpPr>
        <p:spPr>
          <a:xfrm flipH="1">
            <a:off x="4392000" y="3363840"/>
            <a:ext cx="1896120" cy="51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F44-463F-4E06-AD99-CFD61E7B45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Service specific Proper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35344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functional information of Web Serv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n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work-related Q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u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6400" indent="0">
              <a:spcBef>
                <a:spcPts val="700"/>
              </a:spcBef>
              <a:buNone/>
              <a:tabLst>
                <a:tab algn="l" pos="0"/>
                <a:tab algn="l" pos="361800"/>
                <a:tab algn="l" pos="809640"/>
                <a:tab algn="l" pos="233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abil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579-80C7-4FBD-8791-53C49354E1F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ability Specific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 functional proper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ed Ont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d media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OO Mediator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ing ontologies as terminology defin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G Mediato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link to a Goal that is solved by the Web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-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a web service expects (conditions over the in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ump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s on the state of the world before the WS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-condi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sult of the WS in relation to the input, and conditions on 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ec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ditions on the state of the world after the WS exec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.e. changes in the state of the worl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E93-E5D0-435C-BCB5-D15C5D29695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reography in WSMO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2960" y="1662120"/>
            <a:ext cx="821376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oreography describes the behavior of the service from a user point of view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Visibl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aspects of the workflow of a Web Service where User Interaction is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d by process / workflow construct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Struc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 sent and rece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order (messages are related to activiti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051-D238-47C9-A3BE-4F457839308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oreography in WSMO (2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communication technology for intera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reography related errors (e.g. input wrong, message timeout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l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operations / mediation on Choreograp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Basis: Abstract State Machines (A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1A7A-A2EC-4E93-AB5F-2A1E2D119A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63480" y="1515960"/>
            <a:ext cx="8213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he overall functionality of the service is achieved by the cooperation of other WSMO service provi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chestration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mposition of Web Service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 structure for aggregation of Web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 Service 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bine Web Services into higher-level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 mismatches occurring between composed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holders for used Web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cility for applying the Choreography of used Web Serv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MO Orchestr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0D4-9127-4AFF-9019-2093CFB799C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46040" y="4781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-482400" y="-2532960"/>
            <a:ext cx="8839080" cy="731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0" y="0"/>
                </a:moveTo>
                <a:arcTo wR="10800" hR="10800" stAng="-5415826" swAng="5415826"/>
                <a:lnTo>
                  <a:pt x="10800" y="10800"/>
                </a:lnTo>
                <a:close/>
              </a:path>
              <a:path fill="none" w="21600" h="21600">
                <a:moveTo>
                  <a:pt x="10750" y="0"/>
                </a:moveTo>
                <a:arcTo wR="10800" hR="10800" stAng="-5415826" swAng="5415826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7000" y="1674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565080" y="1347480"/>
            <a:ext cx="451332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 million us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than 3 billion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720" y="45435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2070000"/>
            <a:ext cx="180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-The 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2410920" y="5689080"/>
            <a:ext cx="5689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18160" y="56707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19240" y="56707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25020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9ADE-AD89-4E51-B226-F7450CEF0F23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MO Orchestration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dqw"/>
          <p:cNvPicPr/>
          <p:nvPr/>
        </p:nvPicPr>
        <p:blipFill>
          <a:blip r:embed="rId1"/>
          <a:stretch/>
        </p:blipFill>
        <p:spPr>
          <a:xfrm>
            <a:off x="673200" y="1560600"/>
            <a:ext cx="4789440" cy="39718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291280" y="1652760"/>
            <a:ext cx="3322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eb Service functionality into sub-functional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placeholders for used Web Ser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360" y="5668920"/>
            <a:ext cx="863136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rol Structure for aggregation of other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DB85-D4CB-4E03-A0C8-A1986776F4F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99920" y="1600200"/>
            <a:ext cx="7886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A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O Choreography models all visible interactions of the service (Orchestration shows how all the interaction are rela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reography &amp; Orchestr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476360" y="1952640"/>
            <a:ext cx="5584680" cy="3276720"/>
            <a:chOff x="1476360" y="1952640"/>
            <a:chExt cx="5584680" cy="3276720"/>
          </a:xfrm>
        </p:grpSpPr>
        <p:sp>
          <p:nvSpPr>
            <p:cNvPr id="367" name=""/>
            <p:cNvSpPr/>
            <p:nvPr/>
          </p:nvSpPr>
          <p:spPr>
            <a:xfrm>
              <a:off x="3063960" y="2924280"/>
              <a:ext cx="1311120" cy="206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V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46080" y="31528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46080" y="356256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2040" y="4746960"/>
              <a:ext cx="10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46080" y="3935520"/>
              <a:ext cx="1092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92240" y="2882880"/>
              <a:ext cx="65556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69920" y="3275280"/>
              <a:ext cx="8748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61920" y="3640320"/>
              <a:ext cx="1231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, 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52440" y="4071960"/>
              <a:ext cx="7714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01720" y="4430880"/>
              <a:ext cx="14428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Confirm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1812960" y="3955680"/>
              <a:ext cx="111096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8120" y="2640240"/>
              <a:ext cx="1312920" cy="10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otel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29040" y="4176720"/>
              <a:ext cx="1311480" cy="104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551120" y="2882880"/>
              <a:ext cx="108756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97480" y="2671920"/>
              <a:ext cx="12808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,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40320" y="3399120"/>
              <a:ext cx="1093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56160" y="3103560"/>
              <a:ext cx="104292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Ho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48120" y="3535560"/>
              <a:ext cx="7700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506840" y="3408120"/>
              <a:ext cx="111132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43920" y="4144320"/>
              <a:ext cx="1094040" cy="28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55960" y="3967200"/>
              <a:ext cx="12826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Date,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06840" y="4915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37080" y="4388040"/>
              <a:ext cx="10429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Fli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736880" y="4872240"/>
              <a:ext cx="771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Err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7120" y="4623480"/>
              <a:ext cx="1130760" cy="26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33480" y="2840040"/>
              <a:ext cx="230400" cy="230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46360" y="2935440"/>
              <a:ext cx="211320" cy="1073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467240" y="4051440"/>
              <a:ext cx="209520" cy="10731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76360" y="1952640"/>
              <a:ext cx="24145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hen the service 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ques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43120" y="2376720"/>
              <a:ext cx="160200" cy="41112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68720" y="1963800"/>
              <a:ext cx="241452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When the servi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  <a:ea typeface="MS Mincho"/>
                </a:rPr>
                <a:t>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536720" y="2355840"/>
              <a:ext cx="460440" cy="53676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4666680" y="2376720"/>
              <a:ext cx="420840" cy="1611360"/>
            </a:xfrm>
            <a:prstGeom prst="line">
              <a:avLst/>
            </a:prstGeom>
            <a:ln w="3240">
              <a:solidFill>
                <a:srgbClr val="ff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284720" y="2708280"/>
            <a:ext cx="503280" cy="2592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0BA8-A2A3-44F5-A97A-2D5E2DA4EA5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2267280" y="2492280"/>
            <a:ext cx="4059000" cy="2162880"/>
            <a:chOff x="2267280" y="2492280"/>
            <a:chExt cx="4059000" cy="2162880"/>
          </a:xfrm>
        </p:grpSpPr>
        <p:pic>
          <p:nvPicPr>
            <p:cNvPr id="402" name="" descr=""/>
            <p:cNvPicPr/>
            <p:nvPr/>
          </p:nvPicPr>
          <p:blipFill>
            <a:blip r:embed="rId1"/>
            <a:stretch/>
          </p:blipFill>
          <p:spPr>
            <a:xfrm>
              <a:off x="3300480" y="2852640"/>
              <a:ext cx="17334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267280" y="341136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ntolog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04120" y="249228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43600" y="341136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Web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58320" y="4348080"/>
              <a:ext cx="96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cc0000"/>
                  </a:solidFill>
                  <a:latin typeface="Arial"/>
                </a:rPr>
                <a:t>Medi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3141720"/>
            <a:ext cx="2174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vide the formally specified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information used by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99080" y="3141720"/>
            <a:ext cx="2514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Web Servic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abilit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unc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(usa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96960" y="184464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bjectives that a client may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en consulting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97240" y="4992840"/>
            <a:ext cx="38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nectors between components with mediation facilities for handling heterogene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270160" y="4869000"/>
            <a:ext cx="4032360" cy="86508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C87E-8104-4929-BC75-B07836881FA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io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terogeneity 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matches on structural / semantic / conceptual 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cur between different components that shall interop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ly in distributed &amp; open environments like the Intern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 of Medi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Wiederhold, 94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components that resolve mism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larative Approac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60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description of resour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260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t’ mechanisms that resolve mismatches independent of cont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tion cannot be fully automated (integration decision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s of Mediation within Semantic Web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SMF)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a Level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e heterogeneou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Data Sourc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/Protocol Level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te heterogeneo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usiness Processes/Communication Pattern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5FF-FC45-442D-AA71-B4F4506C894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SM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 Overvie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960480" y="1509840"/>
            <a:ext cx="7272360" cy="4583160"/>
            <a:chOff x="960480" y="1509840"/>
            <a:chExt cx="7272360" cy="4583160"/>
          </a:xfrm>
        </p:grpSpPr>
        <p:pic>
          <p:nvPicPr>
            <p:cNvPr id="417" name="" descr=""/>
            <p:cNvPicPr/>
            <p:nvPr/>
          </p:nvPicPr>
          <p:blipFill>
            <a:blip r:embed="rId1"/>
            <a:stretch/>
          </p:blipFill>
          <p:spPr>
            <a:xfrm>
              <a:off x="960480" y="1509840"/>
              <a:ext cx="7272360" cy="458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1116000" y="3127680"/>
              <a:ext cx="1511280" cy="28872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56000" y="4856400"/>
              <a:ext cx="1440000" cy="28872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88000" y="4353120"/>
              <a:ext cx="1439640" cy="29988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32360" y="3711600"/>
              <a:ext cx="1486080" cy="28908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03640" y="2930760"/>
              <a:ext cx="1440000" cy="34128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95640" y="2408400"/>
              <a:ext cx="1513080" cy="355680"/>
            </a:xfrm>
            <a:prstGeom prst="ellipse">
              <a:avLst/>
            </a:prstGeom>
            <a:solidFill>
              <a:srgbClr val="3366ff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00080" y="4862880"/>
              <a:ext cx="3168720" cy="12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76720" y="5361120"/>
              <a:ext cx="1511280" cy="358920"/>
            </a:xfrm>
            <a:prstGeom prst="ellipse">
              <a:avLst/>
            </a:prstGeom>
            <a:solidFill>
              <a:srgbClr val="00ff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32720" y="3670560"/>
              <a:ext cx="1439640" cy="322200"/>
            </a:xfrm>
            <a:prstGeom prst="ellipse">
              <a:avLst/>
            </a:prstGeom>
            <a:solidFill>
              <a:srgbClr val="ffcc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32360" y="1903680"/>
              <a:ext cx="1440000" cy="326880"/>
            </a:xfrm>
            <a:prstGeom prst="ellipse">
              <a:avLst/>
            </a:prstGeom>
            <a:solidFill>
              <a:srgbClr val="ff66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0" y="1413000"/>
            <a:ext cx="104292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1413000"/>
            <a:ext cx="97164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D55-84C6-46C1-BFD8-F7CD3B78F57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 Stru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85080" y="1604880"/>
            <a:ext cx="7495920" cy="4345200"/>
            <a:chOff x="685080" y="1604880"/>
            <a:chExt cx="7495920" cy="4345200"/>
          </a:xfrm>
        </p:grpSpPr>
        <p:sp>
          <p:nvSpPr>
            <p:cNvPr id="432" name=""/>
            <p:cNvSpPr/>
            <p:nvPr/>
          </p:nvSpPr>
          <p:spPr>
            <a:xfrm>
              <a:off x="3132000" y="1604880"/>
              <a:ext cx="2880000" cy="180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00480" y="1892160"/>
              <a:ext cx="2603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WSMO Medi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a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ation Service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5080" y="1892160"/>
              <a:ext cx="1515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our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mponen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9760" y="3041640"/>
              <a:ext cx="1515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our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mponen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6" name=""/>
            <p:cNvCxnSpPr>
              <a:stCxn id="434" idx="3"/>
              <a:endCxn id="432" idx="2"/>
            </p:cNvCxnSpPr>
            <p:nvPr/>
          </p:nvCxnSpPr>
          <p:spPr>
            <a:xfrm>
              <a:off x="2206800" y="2217240"/>
              <a:ext cx="925920" cy="288360"/>
            </a:xfrm>
            <a:prstGeom prst="bentConnector3">
              <a:avLst>
                <a:gd name="adj1" fmla="val 4990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7" name=""/>
            <p:cNvCxnSpPr>
              <a:stCxn id="435" idx="3"/>
              <a:endCxn id="432" idx="2"/>
            </p:cNvCxnSpPr>
            <p:nvPr/>
          </p:nvCxnSpPr>
          <p:spPr>
            <a:xfrm flipV="1">
              <a:off x="2211120" y="2504880"/>
              <a:ext cx="921240" cy="862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8" name=""/>
            <p:cNvSpPr/>
            <p:nvPr/>
          </p:nvSpPr>
          <p:spPr>
            <a:xfrm>
              <a:off x="6665040" y="2395440"/>
              <a:ext cx="151596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Component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9" name=""/>
            <p:cNvCxnSpPr>
              <a:stCxn id="432" idx="6"/>
              <a:endCxn id="438" idx="1"/>
            </p:cNvCxnSpPr>
            <p:nvPr/>
          </p:nvCxnSpPr>
          <p:spPr>
            <a:xfrm>
              <a:off x="6011640" y="2504880"/>
              <a:ext cx="648360" cy="21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0" name=""/>
            <p:cNvSpPr/>
            <p:nvPr/>
          </p:nvSpPr>
          <p:spPr>
            <a:xfrm>
              <a:off x="2122920" y="259560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.. 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6840" y="2395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80000" y="4941720"/>
              <a:ext cx="1655640" cy="10083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63240" y="513396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Medi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  <a:ea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4" name=""/>
            <p:cNvCxnSpPr>
              <a:stCxn id="433" idx="2"/>
              <a:endCxn id="442" idx="1"/>
            </p:cNvCxnSpPr>
            <p:nvPr/>
          </p:nvCxnSpPr>
          <p:spPr>
            <a:xfrm>
              <a:off x="4601880" y="2746440"/>
              <a:ext cx="6840" cy="2196000"/>
            </a:xfrm>
            <a:prstGeom prst="straightConnector1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4572000" y="3478320"/>
              <a:ext cx="345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 Go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rect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rough another mediato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AF9-35FB-472F-AB7C-33CE0F5BD21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GG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specification of Goals by re-using existing Go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 definition of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al Ontologi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llection of pre-defined Go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-268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minology mismatches handled by OO Media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9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Go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3789360"/>
            <a:ext cx="2880000" cy="12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42120" y="3970440"/>
            <a:ext cx="17978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GG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3200" y="4076640"/>
            <a:ext cx="17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Source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 tick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3"/>
            <a:endCxn id="448" idx="2"/>
          </p:cNvCxnSpPr>
          <p:nvPr/>
        </p:nvCxnSpPr>
        <p:spPr>
          <a:xfrm flipV="1">
            <a:off x="2411280" y="4400280"/>
            <a:ext cx="721440" cy="21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6378480" y="4065480"/>
            <a:ext cx="22384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Target Go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y a Train Ticket”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48" idx="6"/>
            <a:endCxn id="452" idx="1"/>
          </p:cNvCxnSpPr>
          <p:nvPr/>
        </p:nvCxnSpPr>
        <p:spPr>
          <a:xfrm flipV="1">
            <a:off x="6011640" y="4390200"/>
            <a:ext cx="361080" cy="1044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0B-DC4D-4ADC-AA9F-BBB20B95E6A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WG &amp; WW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ato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2560" y="1494000"/>
            <a:ext cx="8213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G Medi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k a Web Service to a Goal and resolve occurring mismat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 Web Services and Goals that do not match a pri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 terminology mismatches between Web Services and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er range of Goals solvable by a Web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 Medi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interoperability of heterogeneous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 terminology mismatches between 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automated collaboration between Web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ediation for resolving terminology mismatches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O Media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/Protocol Mediation for establishing valid multi-party collaborations and making Business Processes interop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E9D-854C-432F-A723-D784D021A8B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eb Services Modelling Language (WS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44719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rian Mo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7C72-252F-4C44-BAF1-D4D3C76905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SML - Web Service Modeling Languag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SML provides a formal grounding for the conceptual elements of WSMO, based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ption Log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-Order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BE35-B453-4AFA-952F-1F5B84C67A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56720" y="45813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3640" y="4916520"/>
            <a:ext cx="7207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76720" y="3476520"/>
            <a:ext cx="1429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73480" y="1386000"/>
            <a:ext cx="4597200" cy="25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ious Problems 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find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extract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represent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ormation interpreting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information maintain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29480" y="458136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46040" y="4819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2108160"/>
            <a:ext cx="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-The 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410920" y="57276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18160" y="5708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9240" y="57085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25401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0EF-F505-4694-8F98-E3FFAC283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tionale of WS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Web Service Modeling Language based on the WSMO conceptu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Rule Language for the 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current Semantic Web languages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sirable computational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tuitive conceptual modeling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ppropriate language lay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DFS/O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L Lite/DL/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L/SW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9AD-66D5-462D-BDE0-338DE6F9F4F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riants of WSM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206360" y="1760400"/>
            <a:ext cx="673128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8449-28CF-4B53-8311-CD74A237183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68360" y="3357720"/>
            <a:ext cx="7343640" cy="2808000"/>
          </a:xfrm>
          <a:prstGeom prst="rect">
            <a:avLst/>
          </a:prstGeom>
          <a:solidFill>
            <a:srgbClr val="bbe0e3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68360" y="1628640"/>
            <a:ext cx="7343640" cy="1584360"/>
          </a:xfrm>
          <a:prstGeom prst="rect">
            <a:avLst/>
          </a:prstGeom>
          <a:solidFill>
            <a:srgbClr val="c0c0c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SM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nceptua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yntax for Ontolog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Name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ed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Medi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8360" y="3327480"/>
            <a:ext cx="6840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kind of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fined in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d from external instance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i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44880" y="1628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a-Logical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37080" y="580536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6301440" y="357120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Function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956720" y="1628640"/>
            <a:ext cx="792000" cy="4537080"/>
          </a:xfrm>
          <a:prstGeom prst="rect">
            <a:avLst/>
          </a:prstGeom>
          <a:solidFill>
            <a:srgbClr val="99cc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31A-B855-4C0F-863D-2C3EBD6B84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ML Logical Express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 and first-order-based concrete syntax (BNF Grammar in D2, Appendix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symbols (e.g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cules (e.g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um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Class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O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Hum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John[nam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asVal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‘John Smith’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icates (e.g.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tance(to:?x, from:?y, distance:?z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connectives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i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quival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iedB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Hum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ival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nima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?x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mber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egalAge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6AA-7779-4D6C-A818-2B75791A93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ML Goals and Web Servi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/ Web Ser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-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defined through WSML logical expre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 expressions are based on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707-9BCC-4F6C-A1A4-6FFDE8BF9F0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468360" y="3716280"/>
            <a:ext cx="8351640" cy="2017440"/>
            <a:chOff x="468360" y="3716280"/>
            <a:chExt cx="8351640" cy="2017440"/>
          </a:xfrm>
        </p:grpSpPr>
        <p:sp>
          <p:nvSpPr>
            <p:cNvPr id="478" name=""/>
            <p:cNvSpPr/>
            <p:nvPr/>
          </p:nvSpPr>
          <p:spPr>
            <a:xfrm>
              <a:off x="468360" y="3716280"/>
              <a:ext cx="8351640" cy="201744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0720" y="5227920"/>
              <a:ext cx="308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ogical Expression 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68360" y="1628640"/>
            <a:ext cx="8351640" cy="1944720"/>
            <a:chOff x="468360" y="1628640"/>
            <a:chExt cx="8351640" cy="1944720"/>
          </a:xfrm>
        </p:grpSpPr>
        <p:sp>
          <p:nvSpPr>
            <p:cNvPr id="481" name=""/>
            <p:cNvSpPr/>
            <p:nvPr/>
          </p:nvSpPr>
          <p:spPr>
            <a:xfrm>
              <a:off x="468360" y="1628640"/>
              <a:ext cx="8351640" cy="1944720"/>
            </a:xfrm>
            <a:prstGeom prst="rect">
              <a:avLst/>
            </a:prstGeom>
            <a:solidFill>
              <a:srgbClr val="c0c0c0">
                <a:alpha val="4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1440" y="168876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ceptual Synt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1165320" y="2133720"/>
          <a:ext cx="88027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133720"/>
                    <a:ext cx="8802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ML-Flight - Exampl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55640" y="1916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31112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19280" y="2205000"/>
            <a:ext cx="51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AE4-6A15-49C8-B1E1-6E2BAD08BE0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SML Summa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languages for WS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L-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L-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L-R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L-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SML-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, Frame-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syntax vs. Logical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an rea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L/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86E-1DA2-4FEB-88C4-F436A68602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Using WSMO to address </a:t>
            </a:r>
            <a:br>
              <a:rPr sz="3600"/>
            </a:b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Web Services probl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48000" y="4365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rian Mo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9A96-AB20-4BA2-BCFA-E33A427B4BB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 - Found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” and “service” have to be distinguish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eb 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computational entity able to perform many services, e.g. Amazon Web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concrete invocation of a Web service, e.g. buying „Silver Bullet“ for EUR 37,40 with free delivery within 2-3 days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uristic Classification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William J. Clancey, 198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 of translating concrete descriptions into features usable for classification, e.g. a concrete body temperature into „lower fever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erring potential classification or solutions from extrac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erring final diagnoses; it may include the acquisition of new features describing the given 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C063-6095-4997-8691-C1C7926795B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97040" y="1628640"/>
            <a:ext cx="7520040" cy="3671640"/>
            <a:chOff x="797040" y="1628640"/>
            <a:chExt cx="7520040" cy="3671640"/>
          </a:xfrm>
        </p:grpSpPr>
        <p:sp>
          <p:nvSpPr>
            <p:cNvPr id="497" name=""/>
            <p:cNvSpPr/>
            <p:nvPr/>
          </p:nvSpPr>
          <p:spPr>
            <a:xfrm>
              <a:off x="857160" y="459540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Find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9704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476360" y="371556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5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Abs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Find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76360" y="234900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51280" y="1755360"/>
              <a:ext cx="1398600" cy="520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97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Abs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1848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77160" y="457956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96360" y="234756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596360" y="371592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24000" y="198900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21440" y="19890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4920" y="6022800"/>
            <a:ext cx="1584360" cy="719280"/>
            <a:chOff x="34920" y="6022800"/>
            <a:chExt cx="1584360" cy="719280"/>
          </a:xfrm>
        </p:grpSpPr>
        <p:sp>
          <p:nvSpPr>
            <p:cNvPr id="511" name=""/>
            <p:cNvSpPr/>
            <p:nvPr/>
          </p:nvSpPr>
          <p:spPr>
            <a:xfrm>
              <a:off x="106560" y="6094080"/>
              <a:ext cx="64908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6560" y="6454440"/>
              <a:ext cx="64908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56720" y="60782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5480" y="63817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920" y="6022800"/>
              <a:ext cx="158436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DF6-73CB-498D-B0CF-CA522A39CC7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56720" y="45813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2108160"/>
            <a:ext cx="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4916520"/>
            <a:ext cx="7207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181120" y="26668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409720" y="3357360"/>
            <a:ext cx="3591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nging the computer back as a device for compu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29480" y="458136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5401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6720" y="2349360"/>
            <a:ext cx="265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DI, WSDL,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03640" y="3259080"/>
            <a:ext cx="0" cy="11527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46040" y="4819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-The 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410920" y="57276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8160" y="5708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519240" y="57085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124-1C70-4309-8D0C-D152F1831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68360" y="1125360"/>
            <a:ext cx="2016000" cy="46800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7040" y="1628640"/>
            <a:ext cx="7520040" cy="3671640"/>
            <a:chOff x="797040" y="1628640"/>
            <a:chExt cx="7520040" cy="3671640"/>
          </a:xfrm>
        </p:grpSpPr>
        <p:sp>
          <p:nvSpPr>
            <p:cNvPr id="519" name=""/>
            <p:cNvSpPr/>
            <p:nvPr/>
          </p:nvSpPr>
          <p:spPr>
            <a:xfrm>
              <a:off x="857160" y="459540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es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704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o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1476360" y="371556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5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476360" y="234900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51280" y="1755360"/>
              <a:ext cx="1398600" cy="520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7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Abstra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1848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77160" y="457956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96360" y="234756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596360" y="371592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24000" y="198900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21440" y="19890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2160720" y="299736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stracting goals from concrete user desire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: „Buying a train ticket from Innsbruck to Karlsruhe for today” into “buying train tickets in Europ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4920" y="6022800"/>
            <a:ext cx="1584360" cy="719280"/>
            <a:chOff x="34920" y="6022800"/>
            <a:chExt cx="1584360" cy="719280"/>
          </a:xfrm>
        </p:grpSpPr>
        <p:sp>
          <p:nvSpPr>
            <p:cNvPr id="534" name=""/>
            <p:cNvSpPr/>
            <p:nvPr/>
          </p:nvSpPr>
          <p:spPr>
            <a:xfrm>
              <a:off x="106560" y="6094080"/>
              <a:ext cx="64908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6560" y="6454440"/>
              <a:ext cx="64908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6720" y="60782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5480" y="63817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920" y="6022800"/>
              <a:ext cx="158436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07B-7756-45F4-9FA2-F52B2AEC282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797040" y="1628640"/>
            <a:ext cx="7520040" cy="3671640"/>
            <a:chOff x="797040" y="1628640"/>
            <a:chExt cx="7520040" cy="3671640"/>
          </a:xfrm>
        </p:grpSpPr>
        <p:sp>
          <p:nvSpPr>
            <p:cNvPr id="541" name=""/>
            <p:cNvSpPr/>
            <p:nvPr/>
          </p:nvSpPr>
          <p:spPr>
            <a:xfrm>
              <a:off x="857160" y="459540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es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704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o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476360" y="371556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5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476360" y="234900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51280" y="1755360"/>
              <a:ext cx="1398600" cy="520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eb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7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1848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77160" y="457956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iagno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596360" y="234756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6360" y="371592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124000" y="198900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21440" y="19890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160720" y="521964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bstracting goals from concrete user desire, 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e.g.: „Buying a train ticket from Innsbruck to Karlsruhe for today” into “buying train tickets in Europ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60720" y="2997360"/>
            <a:ext cx="45720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ching between abstract goals and abstract service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“train tickets in Europe” and “transportation in Europ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125360"/>
            <a:ext cx="8137440" cy="16560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4920" y="6022800"/>
            <a:ext cx="1584360" cy="719280"/>
            <a:chOff x="34920" y="6022800"/>
            <a:chExt cx="1584360" cy="719280"/>
          </a:xfrm>
        </p:grpSpPr>
        <p:sp>
          <p:nvSpPr>
            <p:cNvPr id="558" name=""/>
            <p:cNvSpPr/>
            <p:nvPr/>
          </p:nvSpPr>
          <p:spPr>
            <a:xfrm>
              <a:off x="106560" y="6094080"/>
              <a:ext cx="64908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6560" y="6454440"/>
              <a:ext cx="64908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6720" y="60782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480" y="63817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920" y="6022800"/>
              <a:ext cx="158436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646-C1BA-4AD4-A453-73CD6C2319F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797040" y="1628640"/>
            <a:ext cx="7520040" cy="3671640"/>
            <a:chOff x="797040" y="1628640"/>
            <a:chExt cx="7520040" cy="3671640"/>
          </a:xfrm>
        </p:grpSpPr>
        <p:sp>
          <p:nvSpPr>
            <p:cNvPr id="565" name=""/>
            <p:cNvSpPr/>
            <p:nvPr/>
          </p:nvSpPr>
          <p:spPr>
            <a:xfrm>
              <a:off x="857160" y="459540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es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704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o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476360" y="371556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5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1476360" y="234900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1280" y="1755360"/>
              <a:ext cx="1398600" cy="520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eb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7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1848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977160" y="457956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596360" y="234756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596360" y="371592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000" y="198900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21440" y="19890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2160720" y="5229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bstracting goals from concrete user desire, 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e.g.: „Buying a train ticket from Innsbruck to Karlsruhe for today” into “buying train tickets in Europ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160720" y="4560840"/>
            <a:ext cx="45720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atching between abstract goals and abstract services,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e.g. “train tickets in Europe” and “transportation in Europ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88000" y="1125360"/>
            <a:ext cx="2016360" cy="468000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60720" y="299736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d on the use of an Web service to discover the actual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res strong mediation (protocol, process an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4920" y="6022800"/>
            <a:ext cx="1584360" cy="719280"/>
            <a:chOff x="34920" y="6022800"/>
            <a:chExt cx="1584360" cy="719280"/>
          </a:xfrm>
        </p:grpSpPr>
        <p:sp>
          <p:nvSpPr>
            <p:cNvPr id="583" name=""/>
            <p:cNvSpPr/>
            <p:nvPr/>
          </p:nvSpPr>
          <p:spPr>
            <a:xfrm>
              <a:off x="106560" y="6094080"/>
              <a:ext cx="64908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560" y="6454440"/>
              <a:ext cx="64908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6720" y="60782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5480" y="63817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4920" y="6022800"/>
              <a:ext cx="158436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732-ADF4-4768-A277-8275A32763D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O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797040" y="1628640"/>
            <a:ext cx="7520040" cy="3671640"/>
            <a:chOff x="797040" y="1628640"/>
            <a:chExt cx="7520040" cy="3671640"/>
          </a:xfrm>
        </p:grpSpPr>
        <p:sp>
          <p:nvSpPr>
            <p:cNvPr id="590" name=""/>
            <p:cNvSpPr/>
            <p:nvPr/>
          </p:nvSpPr>
          <p:spPr>
            <a:xfrm>
              <a:off x="857160" y="459540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Des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704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Go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1476360" y="371556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5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1476360" y="2349000"/>
              <a:ext cx="0" cy="86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851280" y="1755360"/>
              <a:ext cx="1398600" cy="520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eb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77160" y="162864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e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918480" y="3195360"/>
              <a:ext cx="1398600" cy="5205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77160" y="4579560"/>
              <a:ext cx="1266840" cy="704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96360" y="234756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96360" y="3715920"/>
              <a:ext cx="0" cy="8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24000" y="1989000"/>
              <a:ext cx="172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21440" y="1989000"/>
              <a:ext cx="172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160720" y="5229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Abstracting goals from concrete user desire, 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e.g.: „Buying a train ticket from Innsbruck to Karlsruhe for today” into “buying train tickets in Europ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60720" y="4560840"/>
            <a:ext cx="45720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Matching between abstract goals and abstract services,</a:t>
            </a:r>
            <a:br>
              <a:rPr sz="1400"/>
            </a:b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e.g. “train tickets in Europe” and “transportation in Europ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60720" y="3789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Based on the use of an Web service to discover the actual servi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Requires strong mediation (protocol, process and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4920" y="6022800"/>
            <a:ext cx="1584360" cy="719280"/>
            <a:chOff x="34920" y="6022800"/>
            <a:chExt cx="1584360" cy="719280"/>
          </a:xfrm>
        </p:grpSpPr>
        <p:sp>
          <p:nvSpPr>
            <p:cNvPr id="607" name=""/>
            <p:cNvSpPr/>
            <p:nvPr/>
          </p:nvSpPr>
          <p:spPr>
            <a:xfrm>
              <a:off x="106560" y="6094080"/>
              <a:ext cx="649080" cy="2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6560" y="6454440"/>
              <a:ext cx="64908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720" y="607824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35480" y="63817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920" y="6022800"/>
              <a:ext cx="1584360" cy="71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EE0-1ED7-43B5-94C2-0356AE3BD73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cription and Discover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ability descriptio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s of abstraction &amp; possible accu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757760" y="2349000"/>
            <a:ext cx="3125880" cy="3452760"/>
            <a:chOff x="4757760" y="2349000"/>
            <a:chExt cx="3125880" cy="3452760"/>
          </a:xfrm>
        </p:grpSpPr>
        <p:sp>
          <p:nvSpPr>
            <p:cNvPr id="615" name=""/>
            <p:cNvSpPr/>
            <p:nvPr/>
          </p:nvSpPr>
          <p:spPr>
            <a:xfrm>
              <a:off x="4757760" y="4725720"/>
              <a:ext cx="263844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5357880" y="4962240"/>
              <a:ext cx="1441080" cy="555840"/>
              <a:chOff x="5357880" y="4962240"/>
              <a:chExt cx="1441080" cy="555840"/>
            </a:xfrm>
          </p:grpSpPr>
          <p:sp>
            <p:nvSpPr>
              <p:cNvPr id="617" name=""/>
              <p:cNvSpPr/>
              <p:nvPr/>
            </p:nvSpPr>
            <p:spPr>
              <a:xfrm>
                <a:off x="5499360" y="528012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924880" y="520056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9" name=""/>
              <p:cNvCxnSpPr>
                <a:stCxn id="617" idx="6"/>
                <a:endCxn id="618" idx="2"/>
              </p:cNvCxnSpPr>
              <p:nvPr/>
            </p:nvCxnSpPr>
            <p:spPr>
              <a:xfrm flipV="1">
                <a:off x="5593320" y="5231880"/>
                <a:ext cx="331560" cy="79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20" name=""/>
              <p:cNvSpPr/>
              <p:nvPr/>
            </p:nvSpPr>
            <p:spPr>
              <a:xfrm>
                <a:off x="5807160" y="537516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138000" y="532764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350760" y="504144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45080" y="532764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74160" y="5168520"/>
                <a:ext cx="9432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138000" y="510516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901840" y="504180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70280" y="545472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70280" y="512100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29" name=""/>
              <p:cNvCxnSpPr>
                <a:stCxn id="627" idx="7"/>
                <a:endCxn id="623" idx="3"/>
              </p:cNvCxnSpPr>
              <p:nvPr/>
            </p:nvCxnSpPr>
            <p:spPr>
              <a:xfrm flipV="1">
                <a:off x="5650200" y="5380920"/>
                <a:ext cx="808920" cy="83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0" name=""/>
              <p:cNvCxnSpPr>
                <a:stCxn id="620" idx="7"/>
                <a:endCxn id="624" idx="3"/>
              </p:cNvCxnSpPr>
              <p:nvPr/>
            </p:nvCxnSpPr>
            <p:spPr>
              <a:xfrm flipV="1">
                <a:off x="5887080" y="5222160"/>
                <a:ext cx="501480" cy="16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1" name=""/>
              <p:cNvCxnSpPr>
                <a:stCxn id="625" idx="1"/>
                <a:endCxn id="626" idx="6"/>
              </p:cNvCxnSpPr>
              <p:nvPr/>
            </p:nvCxnSpPr>
            <p:spPr>
              <a:xfrm flipH="1" flipV="1">
                <a:off x="5995440" y="5073120"/>
                <a:ext cx="156600" cy="41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2" name=""/>
              <p:cNvCxnSpPr>
                <a:stCxn id="622" idx="1"/>
                <a:endCxn id="626" idx="7"/>
              </p:cNvCxnSpPr>
              <p:nvPr/>
            </p:nvCxnSpPr>
            <p:spPr>
              <a:xfrm flipH="1">
                <a:off x="5981760" y="5050800"/>
                <a:ext cx="383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3" name=""/>
              <p:cNvCxnSpPr>
                <a:stCxn id="624" idx="3"/>
                <a:endCxn id="618" idx="6"/>
              </p:cNvCxnSpPr>
              <p:nvPr/>
            </p:nvCxnSpPr>
            <p:spPr>
              <a:xfrm flipH="1">
                <a:off x="6018480" y="5222160"/>
                <a:ext cx="369720" cy="1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4" name=""/>
              <p:cNvCxnSpPr>
                <a:stCxn id="628" idx="6"/>
                <a:endCxn id="621" idx="2"/>
              </p:cNvCxnSpPr>
              <p:nvPr/>
            </p:nvCxnSpPr>
            <p:spPr>
              <a:xfrm>
                <a:off x="5664600" y="5152680"/>
                <a:ext cx="473760" cy="207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35" name=""/>
              <p:cNvSpPr/>
              <p:nvPr/>
            </p:nvSpPr>
            <p:spPr>
              <a:xfrm>
                <a:off x="5617800" y="502596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405040" y="508968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57880" y="4993920"/>
                <a:ext cx="9432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38" name=""/>
              <p:cNvCxnSpPr>
                <a:stCxn id="636" idx="6"/>
                <a:endCxn id="635" idx="3"/>
              </p:cNvCxnSpPr>
              <p:nvPr/>
            </p:nvCxnSpPr>
            <p:spPr>
              <a:xfrm flipV="1">
                <a:off x="5499000" y="5079240"/>
                <a:ext cx="132840" cy="4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39" name=""/>
              <p:cNvCxnSpPr>
                <a:stCxn id="635" idx="1"/>
                <a:endCxn id="637" idx="7"/>
              </p:cNvCxnSpPr>
              <p:nvPr/>
            </p:nvCxnSpPr>
            <p:spPr>
              <a:xfrm flipH="1" flipV="1">
                <a:off x="5437800" y="5002920"/>
                <a:ext cx="194400" cy="3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40" name=""/>
              <p:cNvSpPr/>
              <p:nvPr/>
            </p:nvSpPr>
            <p:spPr>
              <a:xfrm>
                <a:off x="6705000" y="499392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492240" y="5057640"/>
                <a:ext cx="9432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445080" y="4962240"/>
                <a:ext cx="93960" cy="6336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43" name=""/>
              <p:cNvCxnSpPr>
                <a:stCxn id="641" idx="6"/>
                <a:endCxn id="640" idx="3"/>
              </p:cNvCxnSpPr>
              <p:nvPr/>
            </p:nvCxnSpPr>
            <p:spPr>
              <a:xfrm flipV="1">
                <a:off x="6586560" y="5047560"/>
                <a:ext cx="132840" cy="41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44" name=""/>
              <p:cNvCxnSpPr>
                <a:stCxn id="640" idx="1"/>
                <a:endCxn id="642" idx="7"/>
              </p:cNvCxnSpPr>
              <p:nvPr/>
            </p:nvCxnSpPr>
            <p:spPr>
              <a:xfrm flipH="1" flipV="1">
                <a:off x="6525000" y="4971240"/>
                <a:ext cx="194400" cy="32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645" name=""/>
            <p:cNvSpPr/>
            <p:nvPr/>
          </p:nvSpPr>
          <p:spPr>
            <a:xfrm>
              <a:off x="4999320" y="4806720"/>
              <a:ext cx="2157120" cy="871560"/>
            </a:xfrm>
            <a:prstGeom prst="ellipse">
              <a:avLst/>
            </a:prstGeom>
            <a:blipFill rotWithShape="0">
              <a:blip r:embed="rId1">
                <a:alphaModFix amt="3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7760" y="3539880"/>
              <a:ext cx="2638440" cy="102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3776400"/>
              <a:ext cx="1200240" cy="476280"/>
            </a:xfrm>
            <a:prstGeom prst="ellipse">
              <a:avLst/>
            </a:prstGeom>
            <a:blipFill rotWithShape="0">
              <a:blip r:embed="rId2">
                <a:alphaModFix amt="3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93480" y="3776400"/>
              <a:ext cx="59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757760" y="2350800"/>
              <a:ext cx="2638440" cy="1030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955840" y="3063600"/>
              <a:ext cx="237960" cy="160560"/>
            </a:xfrm>
            <a:prstGeom prst="ellipse">
              <a:avLst/>
            </a:prstGeom>
            <a:blipFill rotWithShape="0">
              <a:blip r:embed="rId3">
                <a:alphaModFix amt="39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60760" y="2589120"/>
              <a:ext cx="145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{Keyword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4999320" y="4173480"/>
              <a:ext cx="47772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flipV="1">
              <a:off x="6676920" y="4173480"/>
              <a:ext cx="479160" cy="86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6195960" y="3222000"/>
              <a:ext cx="2379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5718240" y="3222000"/>
              <a:ext cx="23832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5973120" y="3891240"/>
              <a:ext cx="3452760" cy="368280"/>
            </a:xfrm>
            <a:prstGeom prst="rect">
              <a:avLst/>
            </a:prstGeom>
            <a:gradFill rotWithShape="0">
              <a:gsLst>
                <a:gs pos="0">
                  <a:srgbClr val="d5d5e9"/>
                </a:gs>
                <a:gs pos="100000">
                  <a:srgbClr val="33339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vel of Abstr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962000" y="234936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hat? (Syntactic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384200" y="353700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? (Semantic „Light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45880" y="4689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hat &amp; When? (Semantic „Heavy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187280" y="5086440"/>
            <a:ext cx="346248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Concret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187280" y="3968640"/>
            <a:ext cx="346248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bstract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187280" y="2744640"/>
            <a:ext cx="346248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yntactic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187280" y="4294080"/>
            <a:ext cx="34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&amp;  perhaps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187280" y="5446800"/>
            <a:ext cx="345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mplete &amp;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(if user input known &amp; inter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56960" y="3070080"/>
            <a:ext cx="350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erhaps complete &amp;  perhaps cor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86F-34BB-4E2B-AF15-6084A2DC9FD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510840" y="1779480"/>
            <a:ext cx="831204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utomated selection, composition, and interoperation of [existing] Web services to perform some complex task, given a high-level description of an objective.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2667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b services are described at two abstraction level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4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ctional (or capability)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focus is on the service input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utputs, preconditions, and eff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SMO capabilit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4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Web service is defined by a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tivity flow or an interaction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88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SMO interfa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197480" y="3213000"/>
            <a:ext cx="1767240" cy="1581120"/>
            <a:chOff x="7197480" y="3213000"/>
            <a:chExt cx="1767240" cy="1581120"/>
          </a:xfrm>
        </p:grpSpPr>
        <p:sp>
          <p:nvSpPr>
            <p:cNvPr id="668" name=""/>
            <p:cNvSpPr/>
            <p:nvPr/>
          </p:nvSpPr>
          <p:spPr>
            <a:xfrm flipH="1">
              <a:off x="7231320" y="4184640"/>
              <a:ext cx="666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93440" y="3213000"/>
              <a:ext cx="971280" cy="158112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898040" y="3536640"/>
              <a:ext cx="165240" cy="8384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250400" y="3746520"/>
              <a:ext cx="685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998840" y="3697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90360" y="3386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97480" y="424332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731640" y="4869000"/>
            <a:ext cx="1800720" cy="1581120"/>
            <a:chOff x="6731640" y="4869000"/>
            <a:chExt cx="1800720" cy="1581120"/>
          </a:xfrm>
        </p:grpSpPr>
        <p:sp>
          <p:nvSpPr>
            <p:cNvPr id="676" name=""/>
            <p:cNvSpPr/>
            <p:nvPr/>
          </p:nvSpPr>
          <p:spPr>
            <a:xfrm>
              <a:off x="7561080" y="4869000"/>
              <a:ext cx="971280" cy="1581120"/>
            </a:xfrm>
            <a:prstGeom prst="rect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465680" y="5193000"/>
              <a:ext cx="164880" cy="8380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66480" y="533412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862680" y="5617800"/>
              <a:ext cx="628200" cy="190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850080" y="5472360"/>
              <a:ext cx="609120" cy="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6856200" y="5897880"/>
              <a:ext cx="609120" cy="1872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6843600" y="5770800"/>
              <a:ext cx="609120" cy="190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6850080" y="5300280"/>
              <a:ext cx="628200" cy="19080"/>
            </a:xfrm>
            <a:prstGeom prst="line">
              <a:avLst/>
            </a:prstGeom>
            <a:ln w="19080">
              <a:solidFill>
                <a:srgbClr val="3333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73720" y="5177160"/>
              <a:ext cx="0" cy="9522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731640" y="48834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C32E-EEC8-404A-B8C6-D1DE410B133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unctional-level vs. process-level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 Composition task 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nctional-leve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 a set of services that, combined in a suitable way, are able to match a given objecti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imes New Roman"/>
              </a:rPr>
              <a:t>Given the requirements for a trip (destination, duration, budget…), find the services that are necessary to prepare the trip (Deutsche Bahnhof, Hotels@Karlsruhe, Hertz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s-level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ine an interaction pattern with the selected services, so that an executable implementation of the composition is obtain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Times New Roman"/>
              </a:rPr>
              <a:t>Find the correct order for the interactions with the selected services (e.g., interactions with train and hotel have to be interleaved to guarantee consistency of arrival and departure d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670-B74B-49F5-8BA7-B38F245CF3C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Service Grounding – WSM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al with existing WSD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p from XML Schema used in WSDL to W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existing tools to mediate from WSMO ontology to WSMO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lso investig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sing XSLT to map from XML-S of WSDL directly to WSML/XML of ontology used by WSMO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ltimate aim to have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description of interface grounding in the chore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A013-1AC1-4B50-ADC7-E7B7F60FE94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Service Grounding – WSM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25480" y="3141720"/>
            <a:ext cx="158436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mazon 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98560" y="3573360"/>
            <a:ext cx="14400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S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971640" y="3860640"/>
            <a:ext cx="12985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XML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562200" y="2492280"/>
            <a:ext cx="19465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SMO 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35280" y="2924280"/>
            <a:ext cx="1800360" cy="360360"/>
          </a:xfrm>
          <a:prstGeom prst="rect">
            <a:avLst/>
          </a:prstGeom>
          <a:solidFill>
            <a:srgbClr val="99cc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940360" y="184464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ook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067280" y="4797360"/>
            <a:ext cx="2305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SMO ontolo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rom XML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443640" y="364500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pping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908000" y="2647800"/>
            <a:ext cx="1656000" cy="493920"/>
          </a:xfrm>
          <a:custGeom>
            <a:avLst/>
            <a:gdLst/>
            <a:ahLst/>
            <a:rect l="l" t="t" r="r" b="b"/>
            <a:pathLst>
              <a:path w="1043" h="311">
                <a:moveTo>
                  <a:pt x="0" y="311"/>
                </a:moveTo>
                <a:cubicBezTo>
                  <a:pt x="139" y="193"/>
                  <a:pt x="279" y="76"/>
                  <a:pt x="453" y="38"/>
                </a:cubicBezTo>
                <a:cubicBezTo>
                  <a:pt x="627" y="0"/>
                  <a:pt x="835" y="42"/>
                  <a:pt x="1043" y="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619280" y="20606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reate WSMO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187280" y="2060640"/>
            <a:ext cx="3589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0" y="2060640"/>
            <a:ext cx="1368360" cy="431640"/>
          </a:xfrm>
          <a:custGeom>
            <a:avLst/>
            <a:gdLst/>
            <a:ahLst/>
            <a:rect l="l" t="t" r="r" b="b"/>
            <a:pathLst>
              <a:path w="862" h="272">
                <a:moveTo>
                  <a:pt x="862" y="0"/>
                </a:moveTo>
                <a:cubicBezTo>
                  <a:pt x="639" y="0"/>
                  <a:pt x="416" y="1"/>
                  <a:pt x="272" y="46"/>
                </a:cubicBezTo>
                <a:cubicBezTo>
                  <a:pt x="128" y="91"/>
                  <a:pt x="60" y="121"/>
                  <a:pt x="0" y="27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716360" y="177336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619280" y="4149720"/>
            <a:ext cx="2448000" cy="947880"/>
          </a:xfrm>
          <a:custGeom>
            <a:avLst/>
            <a:gdLst/>
            <a:ahLst/>
            <a:rect l="l" t="t" r="r" b="b"/>
            <a:pathLst>
              <a:path w="1542" h="597">
                <a:moveTo>
                  <a:pt x="0" y="0"/>
                </a:moveTo>
                <a:cubicBezTo>
                  <a:pt x="121" y="200"/>
                  <a:pt x="242" y="401"/>
                  <a:pt x="499" y="499"/>
                </a:cubicBezTo>
                <a:cubicBezTo>
                  <a:pt x="756" y="597"/>
                  <a:pt x="1149" y="593"/>
                  <a:pt x="1542" y="58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15772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p XML schema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o WSMO conceptual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47640" y="5157720"/>
            <a:ext cx="3589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372360" y="4005360"/>
            <a:ext cx="1079280" cy="936360"/>
          </a:xfrm>
          <a:custGeom>
            <a:avLst/>
            <a:gdLst/>
            <a:ahLst/>
            <a:rect l="l" t="t" r="r" b="b"/>
            <a:pathLst>
              <a:path w="680" h="590">
                <a:moveTo>
                  <a:pt x="0" y="590"/>
                </a:moveTo>
                <a:cubicBezTo>
                  <a:pt x="170" y="548"/>
                  <a:pt x="341" y="506"/>
                  <a:pt x="454" y="408"/>
                </a:cubicBezTo>
                <a:cubicBezTo>
                  <a:pt x="567" y="310"/>
                  <a:pt x="623" y="155"/>
                  <a:pt x="68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093080" y="2205000"/>
            <a:ext cx="492120" cy="1440000"/>
          </a:xfrm>
          <a:custGeom>
            <a:avLst/>
            <a:gdLst/>
            <a:ahLst/>
            <a:rect l="l" t="t" r="r" b="b"/>
            <a:pathLst>
              <a:path w="310" h="907">
                <a:moveTo>
                  <a:pt x="0" y="0"/>
                </a:moveTo>
                <a:cubicBezTo>
                  <a:pt x="117" y="128"/>
                  <a:pt x="234" y="257"/>
                  <a:pt x="272" y="408"/>
                </a:cubicBezTo>
                <a:cubicBezTo>
                  <a:pt x="310" y="559"/>
                  <a:pt x="268" y="733"/>
                  <a:pt x="226" y="90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028000" y="3645000"/>
            <a:ext cx="9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reate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pping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099280" y="3284640"/>
            <a:ext cx="3589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5219640" y="3141360"/>
            <a:ext cx="122400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284720" y="3716280"/>
            <a:ext cx="2017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e mapping rules from WSMO chore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924360" y="3789360"/>
            <a:ext cx="3585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281-F7FE-4583-8FA9-EE5FCA8A471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ow WSMO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ddresses WS problem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79520" y="1584000"/>
            <a:ext cx="84801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formal representation of capabilities and g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ptual model for service discove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fferent levels to Web Service disco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175b1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b17"/>
                </a:solidFill>
                <a:latin typeface="Times New Roman"/>
              </a:rPr>
              <a:t>Com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 formal representation of capabilities and choreograph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nv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 any type of WS invocation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ear separation between WS description and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imes New Roman"/>
              </a:rPr>
              <a:t>Guaranteeing Security and Poli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explicit policy and security specification y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 solution will interoperate with WS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Mediation and Inter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ators as a key conceptual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ation mechanism not dict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ultiple) formal choreographies + mediation enabled inter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olutions are envisioned maintaining a strong relation with existing WS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47A-ED3D-4BAF-B5FE-9F833418341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56720" y="45813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2108160"/>
            <a:ext cx="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4916520"/>
            <a:ext cx="7207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1963800"/>
            <a:ext cx="100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58640" y="1235160"/>
            <a:ext cx="545292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nging the web to its full pot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29480" y="458136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9973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2349360"/>
            <a:ext cx="26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DI, WSDL,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203640" y="3259080"/>
            <a:ext cx="0" cy="11527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46040" y="48196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72320" y="2276640"/>
            <a:ext cx="2887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telligent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2827440"/>
            <a:ext cx="36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516720" y="3403080"/>
            <a:ext cx="0" cy="10083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mantic Web -The Vi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18160" y="57085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9240" y="570852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10920" y="572760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7C4-237D-446C-8876-FB3D976A0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b Service Execution Environment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(WSMX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1280" y="4149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l Zare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AE2-F33A-4C55-84D4-2743D2054A1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SMX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onents and 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relationship of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ecut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onent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flow between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688-1C38-4756-94DE-1DA3703A14F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SMX 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X is a software framework that allows runtime binding of service requesters and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X interprets service requester goal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cover matching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elect the service that best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ovide data mediation if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ke the service inv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X is based on the conceptual model provided by W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SMX has a formal execution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SMX has service oriented and event-based architecture based on microkernel design using such enterprise technologies as J2EE, Hibernate, Spring, JMX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939-A3AA-458A-9939-EBB39A05745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SMX Design Princip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ong Decoupling &amp; Strong Med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utonomous components with mediators for interope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inguish interface (= description) from implementation (=progra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action between equal partners (in terms of control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0600" y="5013360"/>
            <a:ext cx="858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SMO Design Principles == WSMX Design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38200" y="5516640"/>
            <a:ext cx="424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= SOA Design Princi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3F3-927E-4540-B6C1-E9A22841AB7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pe of WSMX Develop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 implementation for W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rchitecture for SWS discovery, mediation, selection and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implemented functionality - achieving a user-specified goal by invoking WS described with the semantic 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551-D89C-4C9B-8508-75161DE5933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440-E255-40CB-AC16-EA38697CC1D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ynamic Execution Semant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SMX consists of loosely coupled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omponents might be dynamically plug-in or plug-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xecution Semantics - invocation order of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Event-based imple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New execution semantics can appear in the future including new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We need a flexible way to create new execution semantics and deploy them in the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Ultimate goal is to execute workflow definition describing interactions between system compon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3BF-9B56-436E-991D-79E2FBC5E87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fine “Business” Proc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1895400" y="1177920"/>
          <a:ext cx="56293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5400" y="1177920"/>
                    <a:ext cx="56293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B6B-A523-4E3D-98CA-49EED6C2BDF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vent-based Implement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7" name=""/>
          <p:cNvGraphicFramePr/>
          <p:nvPr/>
        </p:nvGraphicFramePr>
        <p:xfrm>
          <a:off x="1187280" y="1152360"/>
          <a:ext cx="6985080" cy="494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52360"/>
                    <a:ext cx="6985080" cy="49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111-50FE-4F7B-933E-CF8CC34C801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179280" y="3429000"/>
            <a:ext cx="647640" cy="36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721-DDF5-4AAF-8473-720096E5ADC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tology Definition</a:t>
            </a:r>
            <a:r>
              <a:rPr b="1" lang="en-US" sz="3600" spc="-1" strike="noStrike">
                <a:solidFill>
                  <a:srgbClr val="9b0707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formal, explicit specification of a shared conceptual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48320" y="3581280"/>
            <a:ext cx="2361960" cy="1054800"/>
            <a:chOff x="4648320" y="3581280"/>
            <a:chExt cx="2361960" cy="1054800"/>
          </a:xfrm>
        </p:grpSpPr>
        <p:sp>
          <p:nvSpPr>
            <p:cNvPr id="159" name=""/>
            <p:cNvSpPr/>
            <p:nvPr/>
          </p:nvSpPr>
          <p:spPr>
            <a:xfrm>
              <a:off x="4648320" y="4127400"/>
              <a:ext cx="2361960" cy="50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ly accepted understan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791320" y="35812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324480" y="2057400"/>
            <a:ext cx="1981440" cy="1218960"/>
            <a:chOff x="6324480" y="2057400"/>
            <a:chExt cx="1981440" cy="1218960"/>
          </a:xfrm>
        </p:grpSpPr>
        <p:sp>
          <p:nvSpPr>
            <p:cNvPr id="162" name=""/>
            <p:cNvSpPr/>
            <p:nvPr/>
          </p:nvSpPr>
          <p:spPr>
            <a:xfrm>
              <a:off x="6324480" y="2057400"/>
              <a:ext cx="1981440" cy="7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ceptual model of a domain (ontological theor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315200" y="28191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00200" y="2133720"/>
            <a:ext cx="2514600" cy="1143000"/>
            <a:chOff x="1600200" y="2133720"/>
            <a:chExt cx="2514600" cy="1143000"/>
          </a:xfrm>
        </p:grpSpPr>
        <p:sp>
          <p:nvSpPr>
            <p:cNvPr id="165" name=""/>
            <p:cNvSpPr/>
            <p:nvPr/>
          </p:nvSpPr>
          <p:spPr>
            <a:xfrm>
              <a:off x="1600200" y="2133720"/>
              <a:ext cx="2514600" cy="7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ambiguous definition of all concepts, attributes and  relationshi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811600" y="28958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676520" y="3609720"/>
            <a:ext cx="2361960" cy="1027800"/>
            <a:chOff x="1676520" y="3609720"/>
            <a:chExt cx="2361960" cy="1027800"/>
          </a:xfrm>
        </p:grpSpPr>
        <p:sp>
          <p:nvSpPr>
            <p:cNvPr id="168" name=""/>
            <p:cNvSpPr/>
            <p:nvPr/>
          </p:nvSpPr>
          <p:spPr>
            <a:xfrm>
              <a:off x="1676520" y="4372200"/>
              <a:ext cx="2361960" cy="26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hine-readability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895480" y="3915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8800" y="3915000"/>
              <a:ext cx="2133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828800" y="360972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962520" y="3609720"/>
              <a:ext cx="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8B-D6CA-48FB-A9FC-5E283A4001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24000" y="1557360"/>
            <a:ext cx="1726920" cy="93492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est to discover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Web services.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May be sent to adapter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r adapter may extrac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from backend ap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760-1B6A-4F73-915F-63DC01D5D8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11280" y="1989000"/>
            <a:ext cx="208908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Goal expressed in WSML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ent to WSMX System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A48-20A4-412E-8C36-071FCA33AC2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4360" y="4221000"/>
            <a:ext cx="208908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mm Manager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s the interfac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o receive WSML go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28B-2BEB-4BA3-BFC4-A80ABC51BCB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989000"/>
            <a:ext cx="180036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mm Manager tells core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Goal has been recie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A7D-EA42-41CC-9E65-5CB23C84F0D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43640" y="227664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horeography wra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icks up event for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horeography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27E5-FEC3-4C11-BD41-D663C582C90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020000" y="278136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 new choreogr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nstance is cre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8660-7176-4868-9C09-DB1D3EE63C3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20000" y="249228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re is notified tha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horeography instance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has been cre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4683-C916-4151-946B-FDB539B480B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050920" y="220500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arser wrapper picks up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vent for Parser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F99-BCD1-4225-8913-75722383689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0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95640" y="3500280"/>
            <a:ext cx="1800360" cy="64800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WSML goal is parsed to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nternal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A48-738E-4371-9B35-6A87CE16521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182-691D-407A-BECD-1D08380BFF5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tology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57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700" spc="-1" strike="noStrike">
                <a:solidFill>
                  <a:srgbClr val="993300"/>
                </a:solidFill>
                <a:latin typeface="Tahoma"/>
              </a:rPr>
              <a:t>Concep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conceptual entity of the domai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9933"/>
                </a:solidFill>
                <a:latin typeface="Tahoma"/>
              </a:rPr>
              <a:t>Property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attribte describing a concep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333399"/>
                </a:solidFill>
                <a:latin typeface="Tahoma"/>
              </a:rPr>
              <a:t>Re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relationship between concepts or properti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9900"/>
                </a:solidFill>
                <a:latin typeface="Tahoma"/>
              </a:rPr>
              <a:t>Axi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coherent description between Concepts / Properties / Relations via logical express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1905120"/>
            <a:ext cx="990720" cy="8380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2971800"/>
            <a:ext cx="990720" cy="8380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3048120"/>
            <a:ext cx="990720" cy="8380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Profes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3886200"/>
            <a:ext cx="990720" cy="838080"/>
          </a:xfrm>
          <a:prstGeom prst="ellipse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L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91320" y="25909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600" y="2590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9520" y="277344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sA – hierarchy (taxon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1523880"/>
            <a:ext cx="76212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1523880"/>
            <a:ext cx="76176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2209680"/>
            <a:ext cx="76212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matr.-n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2209680"/>
            <a:ext cx="76212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086600" y="4495680"/>
            <a:ext cx="76212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top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4495680"/>
            <a:ext cx="761760" cy="6098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l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  <a:ea typeface="Arial"/>
              </a:rPr>
              <a:t>n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1981080"/>
            <a:ext cx="228600" cy="7632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086240" y="1981080"/>
            <a:ext cx="228600" cy="1526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5257440" y="2742840"/>
            <a:ext cx="152280" cy="22860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8001000" y="2743200"/>
            <a:ext cx="304920" cy="38088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010280" y="4495680"/>
            <a:ext cx="152640" cy="1526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943240" y="4495680"/>
            <a:ext cx="228600" cy="152640"/>
          </a:xfrm>
          <a:prstGeom prst="line">
            <a:avLst/>
          </a:prstGeom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791320" y="3733560"/>
            <a:ext cx="457200" cy="2286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10280" y="3733920"/>
            <a:ext cx="381240" cy="3808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8360" y="35812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  <a:ea typeface="Arial"/>
              </a:rPr>
              <a:t>att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783840" y="365760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  <a:ea typeface="Arial"/>
              </a:rPr>
              <a:t>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89640" y="5256360"/>
            <a:ext cx="4368600" cy="69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Tahoma"/>
                <a:ea typeface="Arial"/>
              </a:rPr>
              <a:t>holds(Professor, Lecture) 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9900"/>
                </a:solidFill>
                <a:latin typeface="Tahoma"/>
                <a:ea typeface="Arial"/>
              </a:rPr>
              <a:t>Lecture.topic € Professor.research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1B7-B23A-4269-9529-61C2EE5538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CC7-1C4B-414E-BC57-A440598D6B3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716360" y="3716280"/>
            <a:ext cx="144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iscovery is invok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for parsed go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3F5-5713-44B9-B36E-FFF185E2B3A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5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0ED-24DA-4859-A1F3-85843F47F9A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71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AE3-EC7A-4495-AF7B-89478CC2B78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887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012000" y="3789360"/>
            <a:ext cx="180000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iscovery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data medi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A6A-4CAA-494D-B1B1-9B544AA6936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4ACA-26E2-4951-B148-E11AE644D30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9E42-EEFC-49E8-897D-7C48BC268D2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908000" y="3789360"/>
            <a:ext cx="1800360" cy="647640"/>
          </a:xfrm>
          <a:prstGeom prst="foldedCorner">
            <a:avLst>
              <a:gd name="adj" fmla="val 12500"/>
            </a:avLst>
          </a:prstGeom>
          <a:solidFill>
            <a:srgbClr val="ff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fter data mediation,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iscovery component </a:t>
            </a:r>
            <a:br>
              <a:rPr sz="10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ompletes its tas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385C-0F26-497C-85EC-9ADB94F8C7A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BD0D-96CC-4013-B646-12020C44D2D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8967600" cy="34671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 flipV="1">
            <a:off x="468360" y="3068280"/>
            <a:ext cx="50328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971640" y="3068640"/>
            <a:ext cx="576000" cy="73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47640" y="3141720"/>
            <a:ext cx="28764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1835280" y="2924280"/>
            <a:ext cx="649080" cy="720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484360" y="2925720"/>
            <a:ext cx="4319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804000" y="3141720"/>
            <a:ext cx="21600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4211280" y="2924280"/>
            <a:ext cx="2808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3708360" y="2924280"/>
            <a:ext cx="503280" cy="217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634920" y="3141720"/>
            <a:ext cx="73080" cy="57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635280" y="2852280"/>
            <a:ext cx="36036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2852640"/>
            <a:ext cx="432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427640" y="3213000"/>
            <a:ext cx="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427640" y="2924280"/>
            <a:ext cx="1152360" cy="79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5580000" y="3284640"/>
            <a:ext cx="216000" cy="431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580000" y="2924280"/>
            <a:ext cx="21600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580000" y="2852280"/>
            <a:ext cx="86364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924360" y="2852640"/>
            <a:ext cx="2519280" cy="36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922560" y="3213000"/>
            <a:ext cx="1800" cy="50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3924360" y="2852280"/>
            <a:ext cx="122400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148360" y="2852640"/>
            <a:ext cx="2016000" cy="289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907-F795-46AA-9DC8-68C221C8980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4:27:14Z</dcterms:created>
  <dc:creator>Michal Zaremba</dc:creator>
  <dc:description/>
  <dc:language>en-US</dc:language>
  <cp:lastModifiedBy>Michal Zaremba</cp:lastModifiedBy>
  <dcterms:modified xsi:type="dcterms:W3CDTF">2005-04-02T10:15:03Z</dcterms:modified>
  <cp:revision>38</cp:revision>
  <dc:subject/>
  <dc:title>Slide 1</dc:title>
</cp:coreProperties>
</file>