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8345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8320" y="3632760"/>
            <a:ext cx="8345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32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476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20000" y="91404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2040" y="91404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8320" y="363276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20000" y="363276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2040" y="363276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8320" y="914040"/>
            <a:ext cx="83455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83455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45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832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8320" y="914040"/>
            <a:ext cx="83455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7476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8320" y="3632760"/>
            <a:ext cx="8345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8345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8320" y="3632760"/>
            <a:ext cx="8345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32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7476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20000" y="91404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42040" y="91404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8320" y="363276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20000" y="363276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42040" y="3632760"/>
            <a:ext cx="268704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83455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45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832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4760" y="363276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4760" y="914040"/>
            <a:ext cx="40723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8320" y="3632760"/>
            <a:ext cx="8345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52160"/>
            <a:chOff x="0" y="0"/>
            <a:chExt cx="9144000" cy="67521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8320" y="6656040"/>
              <a:ext cx="3573720" cy="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46160" indent="-146160">
                <a:lnSpc>
                  <a:spcPct val="90000"/>
                </a:lnSpc>
                <a:buClr>
                  <a:srgbClr val="000000"/>
                </a:buClr>
                <a:buSzPct val="120000"/>
                <a:buFont typeface="Symbol" charset="2"/>
                <a:buChar char="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700" spc="-1" strike="noStrike">
                  <a:solidFill>
                    <a:srgbClr val="000000"/>
                  </a:solidFill>
                  <a:latin typeface="Arial"/>
                </a:rPr>
                <a:t>SAP AG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2005, The Past as a Guide to the Future / David Burdett/ </a:t>
              </a:r>
              <a:fld id="{B2F9C71C-DC7D-471A-8E83-FD96E888341F}" type="slidenum"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98320" y="914040"/>
            <a:ext cx="83455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36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360">
              <a:spcBef>
                <a:spcPts val="187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336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336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336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336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485280"/>
            <a:ext cx="6124680" cy="186876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4d4d4d"/>
              </a:solidFill>
              <a:latin typeface="Arial"/>
            </a:endParaRPr>
          </a:p>
          <a:p>
            <a:pPr lvl="1" marL="228600" algn="ctr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863640" algn="ctr">
              <a:spcBef>
                <a:spcPts val="26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206360" algn="ctr">
              <a:spcBef>
                <a:spcPts val="300"/>
              </a:spcBef>
              <a:spcAft>
                <a:spcPts val="74"/>
              </a:spcAft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lvl="5" marL="1206360">
              <a:spcBef>
                <a:spcPts val="3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  <a:p>
            <a:pPr lvl="6" marL="1206360">
              <a:spcBef>
                <a:spcPts val="300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20600" y="485280"/>
            <a:ext cx="6124680" cy="186876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 Black"/>
              </a:rPr>
              <a:t>The Past as a Guide to the Future</a:t>
            </a:r>
            <a:endParaRPr b="0" lang="en-US" sz="4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20600" y="3411360"/>
            <a:ext cx="6124680" cy="253224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180000" bIns="46800" anchor="t">
            <a:noAutofit/>
          </a:bodyPr>
          <a:p>
            <a:pPr marL="63360" indent="0"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OASIS Symposium</a:t>
            </a:r>
            <a:br>
              <a:rPr sz="2600"/>
            </a:b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The Future of XML Vocabularies</a:t>
            </a:r>
            <a:endParaRPr b="1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63360" indent="0">
              <a:spcBef>
                <a:spcPts val="24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New Orleans, 24-29 April 2005</a:t>
            </a:r>
            <a:endParaRPr b="1" lang="en-US" sz="2600" spc="-1" strike="noStrike">
              <a:solidFill>
                <a:srgbClr val="4d4d4d"/>
              </a:solidFill>
              <a:latin typeface="Arial"/>
            </a:endParaRPr>
          </a:p>
          <a:p>
            <a:pPr marL="6336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David Burdett</a:t>
            </a:r>
            <a:br>
              <a:rPr sz="1400"/>
            </a:br>
            <a:r>
              <a:rPr b="1" lang="en-US" sz="1400" spc="-1" strike="noStrike">
                <a:solidFill>
                  <a:srgbClr val="4d4d4d"/>
                </a:solidFill>
                <a:latin typeface="Arial"/>
              </a:rPr>
              <a:t>SAP Labs LLC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Initial Questions</a:t>
            </a:r>
            <a:endParaRPr b="0" lang="en-US" sz="20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83455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ent right, what we could do differen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Industry Converg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it important? How could it happe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s 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ole of organizations like OA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for the Fu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o do if you want to develop a new vocabular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333333"/>
                </a:solidFill>
                <a:latin typeface="Arial Black"/>
              </a:rPr>
              <a:t>Questions &amp; Answers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066680"/>
            <a:ext cx="853452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1360" indent="-56880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066680"/>
            <a:ext cx="8839440" cy="2301840"/>
          </a:xfrm>
          <a:custGeom>
            <a:avLst/>
            <a:gdLst/>
            <a:ahLst/>
            <a:rect l="l" t="t" r="r" b="b"/>
            <a:pathLst>
              <a:path w="3504" h="816">
                <a:moveTo>
                  <a:pt x="1248" y="0"/>
                </a:moveTo>
                <a:lnTo>
                  <a:pt x="0" y="0"/>
                </a:lnTo>
                <a:lnTo>
                  <a:pt x="0" y="816"/>
                </a:lnTo>
                <a:lnTo>
                  <a:pt x="3504" y="816"/>
                </a:lnTo>
                <a:lnTo>
                  <a:pt x="3504" y="6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1371600"/>
            <a:ext cx="90676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0" spc="-1" strike="noStrike">
                <a:solidFill>
                  <a:srgbClr val="4d4d4d"/>
                </a:solidFill>
                <a:latin typeface="Arial Black"/>
                <a:ea typeface="MS PGothic"/>
              </a:rPr>
              <a:t>Questions and Answers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0" y="3873600"/>
          <a:ext cx="5132520" cy="27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73600"/>
                    <a:ext cx="513252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686480" y="3032280"/>
            <a:ext cx="18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08360" y="4729320"/>
            <a:ext cx="6335640" cy="74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18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08360" y="5516640"/>
            <a:ext cx="6335640" cy="74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18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08360" y="3157560"/>
            <a:ext cx="6335640" cy="7491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18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08360" y="3943440"/>
            <a:ext cx="6335640" cy="74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18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</a:rPr>
              <a:t>Panel Intro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24640" r="0" b="13711"/>
          <a:stretch/>
        </p:blipFill>
        <p:spPr>
          <a:xfrm>
            <a:off x="2798640" y="0"/>
            <a:ext cx="6345360" cy="315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Timetable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1219320"/>
            <a:ext cx="2362320" cy="1752480"/>
          </a:xfrm>
          <a:prstGeom prst="downArrowCallout">
            <a:avLst>
              <a:gd name="adj1" fmla="val 33703"/>
              <a:gd name="adj2" fmla="val 33700"/>
              <a:gd name="adj3" fmla="val 16667"/>
              <a:gd name="adj4" fmla="val 66667"/>
            </a:avLst>
          </a:prstGeom>
          <a:solidFill>
            <a:srgbClr val="ffeaa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5 mi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2971800"/>
            <a:ext cx="2362320" cy="1752480"/>
          </a:xfrm>
          <a:prstGeom prst="downArrowCallout">
            <a:avLst>
              <a:gd name="adj1" fmla="val 33703"/>
              <a:gd name="adj2" fmla="val 33700"/>
              <a:gd name="adj3" fmla="val 16667"/>
              <a:gd name="adj4" fmla="val 66667"/>
            </a:avLst>
          </a:prstGeom>
          <a:solidFill>
            <a:srgbClr val="ffeaa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s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 25 mins - 5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a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4724280"/>
            <a:ext cx="2362320" cy="1143000"/>
          </a:xfrm>
          <a:prstGeom prst="rect">
            <a:avLst/>
          </a:prstGeom>
          <a:solidFill>
            <a:srgbClr val="ffeaa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 a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~55 mi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XML Vocabularies scope … 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8320" y="762120"/>
            <a:ext cx="834552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siness Docu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ders, Invoices, etc.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tional, National, Industry specific, Company speci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reograph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quence in which messages are exchan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use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antic defin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ing what documents and codes me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t means to send a mess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idation R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 check a document is 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Issues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8320" y="914400"/>
            <a:ext cx="83455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s must be used and understood … not just develo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Industry Interoper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es work in multiple industries … standards are often designed for just 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Seman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 of fields and codes v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ing Cont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 business document varies: by industry, locale, proces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bularies are not static … they change and evol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SAP and Standards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8320" y="914040"/>
            <a:ext cx="834552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 participation in the Web Services standards activities in OASIS, W3C, WS-I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antic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r of UN/CEFACT TMG – developing next generation business document and process stand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36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stry Speak - SAP’s vertical industry initia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erospace (Spec2000), Agricultural (RAPID), Automotive (AIAG, Star Standard and Odette), Chemical (CIDX), HighTech (RosettaNet), Manufacturing (S95, OPC, MIMOSA), Oil and Gas (PIDX), and Mill Products - Paper (PapiNet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08360" y="4729320"/>
            <a:ext cx="6335640" cy="74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18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08360" y="5516640"/>
            <a:ext cx="6335640" cy="74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18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08360" y="3157560"/>
            <a:ext cx="6335640" cy="74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18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08360" y="3943440"/>
            <a:ext cx="6335640" cy="7491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18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anel Intro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24640" r="0" b="13711"/>
          <a:stretch/>
        </p:blipFill>
        <p:spPr>
          <a:xfrm>
            <a:off x="2798640" y="0"/>
            <a:ext cx="6345360" cy="315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45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The Panel – Real Experience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42920"/>
            <a:ext cx="8345520" cy="520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7800" indent="-349200">
              <a:spcBef>
                <a:spcPts val="876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vid Arc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EO, Petrotechnical Open Standards Consortiu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349200">
              <a:spcBef>
                <a:spcPts val="788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vid Connel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O, Open Applications Grou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349200">
              <a:spcBef>
                <a:spcPts val="876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orge Perciv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xecutive Director, Interoperability Architecture, Open Geospatial Consorti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349200">
              <a:spcBef>
                <a:spcPts val="876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ck Ram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EO - Chairman, TIE Holding NV - UN/CEFAC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349200">
              <a:spcBef>
                <a:spcPts val="876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ul Tearn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Vice President of Standards Management, RosettaNe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6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ntroductions 5 minutes each 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808360" y="4729320"/>
            <a:ext cx="6335640" cy="749160"/>
          </a:xfrm>
          <a:prstGeom prst="rect">
            <a:avLst/>
          </a:prstGeom>
          <a:solidFill>
            <a:srgbClr val="f0a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18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Q &amp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08360" y="5516640"/>
            <a:ext cx="6335640" cy="74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18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08360" y="3157560"/>
            <a:ext cx="6335640" cy="74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18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08360" y="3943440"/>
            <a:ext cx="6335640" cy="749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1800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Arial"/>
              </a:rPr>
              <a:t>Panel Introd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24640" r="0" b="13711"/>
          <a:stretch/>
        </p:blipFill>
        <p:spPr>
          <a:xfrm>
            <a:off x="2798640" y="0"/>
            <a:ext cx="6345360" cy="3159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00:13:48Z</dcterms:created>
  <dc:creator>David B</dc:creator>
  <dc:description/>
  <dc:language>en-US</dc:language>
  <cp:lastModifiedBy>David B</cp:lastModifiedBy>
  <dcterms:modified xsi:type="dcterms:W3CDTF">2005-04-20T01:29:23Z</dcterms:modified>
  <cp:revision>3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23872662</vt:r8>
  </property>
  <property fmtid="{D5CDD505-2E9C-101B-9397-08002B2CF9AE}" pid="3" name="_AuthorEmail">
    <vt:lpwstr>jane.harnad@oasis-open.org</vt:lpwstr>
  </property>
  <property fmtid="{D5CDD505-2E9C-101B-9397-08002B2CF9AE}" pid="4" name="_AuthorEmailDisplayName">
    <vt:lpwstr>Jane Harnad</vt:lpwstr>
  </property>
  <property fmtid="{D5CDD505-2E9C-101B-9397-08002B2CF9AE}" pid="5" name="_EmailSubject">
    <vt:lpwstr>Did you receive two more slide presentations from me for the Symposium?</vt:lpwstr>
  </property>
  <property fmtid="{D5CDD505-2E9C-101B-9397-08002B2CF9AE}" pid="6" name="_PreviousAdHocReviewCycleID">
    <vt:r8>-1556159974</vt:r8>
  </property>
</Properties>
</file>