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9C4-D2C7-4A17-9504-FB5E3509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E1C-7D40-4FAE-A93A-65CAC162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614-EA84-4C69-B051-7B4B398B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9AE-3C7A-4D86-AA26-148CA08A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F637-9D60-4E92-85BA-C42DD115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56C5-596E-4C3C-AADF-6F468A12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52FD-4856-48FF-B798-381B3E48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72CE-FE1D-4DDD-AEC5-1B838594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DC74-D160-4742-B18E-C9D1F0E7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7251-4C0D-4714-8CAA-16EC71A5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AFB9-539C-445D-8A44-33B1A08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3239-BCE3-4D35-91DD-BA247D35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63F3-20A9-4207-9F1A-9BB99E1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AFA5-3CB5-478A-B576-3BF2BE0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FEC8-DA5D-4E4D-AB83-7456D784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89E7-4092-42A4-BBF5-E1481D23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ED8A-DF5D-4E37-B6E4-2DA7F85A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A58B-0DA9-4425-823C-ED577C67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9AC-8AA1-45A1-BD42-2FAB4746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E8F3-EEE9-4841-AA9A-86B90C79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338F-FB97-4419-97ED-3513AAA7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B4E2-DA1F-42D6-8382-E6551F24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D1E-36DC-46BE-9820-53208DB6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9CA-6933-4195-A60F-9C4E5084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DD95-436D-4C31-A9D6-D5896C5B294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32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305920" y="5867280"/>
            <a:ext cx="761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dobeCorpID Adobe"/>
              </a:rPr>
              <a:t>b</a:t>
            </a:r>
            <a:r>
              <a:rPr b="0" lang="en-US" sz="4800" spc="-1" strike="noStrike">
                <a:solidFill>
                  <a:srgbClr val="eaeaea"/>
                </a:solidFill>
                <a:latin typeface="AdobeCorpID Adobe"/>
              </a:rPr>
              <a:t>c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1920" y="6477120"/>
            <a:ext cx="315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dobeCorpID MyriadRg"/>
              </a:rPr>
              <a:t>2005 Adobe Systems Incorporated. All Rights Reserved.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6477120"/>
            <a:ext cx="457200" cy="2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fld id="{5B32D15D-8248-497C-8E28-4377C1FBCB9C}" type="slidenum">
              <a:rPr b="0" lang="en-US" sz="800" spc="-1" strike="noStrike">
                <a:solidFill>
                  <a:srgbClr val="000000"/>
                </a:solidFill>
                <a:latin typeface="AdobeCorpID MyriadRg"/>
              </a:rPr>
              <a:t>&lt;number&gt;</a:t>
            </a:fld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4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E8B1-9E92-4727-BA91-990967E1E0C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2124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961920" y="6477120"/>
            <a:ext cx="315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dobeCorpID MyriadRg"/>
              </a:rPr>
              <a:t>2005 Adobe Systems Incorporated. All Rights Reserved.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5867280"/>
            <a:ext cx="761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dobeCorpID Adobe"/>
              </a:rPr>
              <a:t>b</a:t>
            </a:r>
            <a:r>
              <a:rPr b="0" lang="en-US" sz="4800" spc="-1" strike="noStrike">
                <a:solidFill>
                  <a:srgbClr val="eaeaea"/>
                </a:solidFill>
                <a:latin typeface="AdobeCorpID Adobe"/>
              </a:rPr>
              <a:t>c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54320" y="304920"/>
            <a:ext cx="5089680" cy="30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cecff"/>
                </a:solidFill>
                <a:latin typeface="Arial"/>
              </a:rPr>
              <a:t>Semantic Reasoning and the Buffy Paradigm</a:t>
            </a:r>
            <a:endParaRPr b="0" lang="en-US" sz="47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053960" y="437148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ill McDaniel, edp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75080" y="914400"/>
            <a:ext cx="1703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dobeCorpID MinionRg"/>
              </a:rPr>
              <a:t>Adobe</a:t>
            </a:r>
            <a:r>
              <a:rPr b="1" lang="en-US" sz="2600" spc="-1" strike="noStrike" baseline="44000">
                <a:solidFill>
                  <a:srgbClr val="ff0000"/>
                </a:solidFill>
                <a:latin typeface="AdobeCorpID MinionRg"/>
              </a:rPr>
              <a:t>®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00760" y="495288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dobeCorpID MyriadRg"/>
              </a:rPr>
              <a:t>Sr. Scienti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dobeCorpID MyriadRg"/>
              </a:rPr>
              <a:t>04/26/200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3840" y="151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mantic issues with XM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40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hemas are NOT Ontolog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ntologies provide nam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chemas and vocabularies do as wel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t…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ntologies Represent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DF + OWL = K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ntologies allow uncertaint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an deal with ambigui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an drive reasoners with relationship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an be contained within other ontologie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3840" y="151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Re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40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1143000"/>
            <a:ext cx="7240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two xml schema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uses the name ‘zip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e uses the name ‘zipcode’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2895480"/>
            <a:ext cx="1143000" cy="3812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809880"/>
            <a:ext cx="106668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3809880"/>
            <a:ext cx="106704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4648320"/>
            <a:ext cx="106668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648320"/>
            <a:ext cx="106668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00800" y="2971800"/>
            <a:ext cx="1143000" cy="3808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3886200"/>
            <a:ext cx="106668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3886200"/>
            <a:ext cx="106704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724280"/>
            <a:ext cx="106668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5410080"/>
            <a:ext cx="106668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209680" y="3276720"/>
            <a:ext cx="609840" cy="53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52680" y="3276720"/>
            <a:ext cx="304920" cy="53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047760" y="4114800"/>
            <a:ext cx="53316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4114800"/>
            <a:ext cx="53352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095880" y="3352680"/>
            <a:ext cx="60984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3352680"/>
            <a:ext cx="30456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3600" y="41911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029200"/>
            <a:ext cx="91440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46483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zip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5410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zip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93840" y="151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ocabulary Resolu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40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0200" y="1143000"/>
            <a:ext cx="7240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tological view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vides an is_a relationshi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fines a virtual inference lin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4038480"/>
            <a:ext cx="1143000" cy="3812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3880" y="4952880"/>
            <a:ext cx="106704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4952880"/>
            <a:ext cx="106668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5791320"/>
            <a:ext cx="106704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5791320"/>
            <a:ext cx="1067040" cy="3045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3657600"/>
            <a:ext cx="1143000" cy="3808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86400" y="4572000"/>
            <a:ext cx="106668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4572000"/>
            <a:ext cx="106704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5410080"/>
            <a:ext cx="106668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6095880"/>
            <a:ext cx="1066680" cy="304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133360" y="4419720"/>
            <a:ext cx="609480" cy="53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720" y="4419720"/>
            <a:ext cx="304560" cy="53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971800" y="5257800"/>
            <a:ext cx="53352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33920" y="5257800"/>
            <a:ext cx="53316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095880" y="4038480"/>
            <a:ext cx="60984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62920" y="4038480"/>
            <a:ext cx="30456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8769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5715000"/>
            <a:ext cx="91440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5791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zip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6095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zip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2895480"/>
            <a:ext cx="1143000" cy="3812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123720" y="3276720"/>
            <a:ext cx="1600200" cy="7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81480" y="3276720"/>
            <a:ext cx="175284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6019920"/>
            <a:ext cx="1600200" cy="228600"/>
          </a:xfrm>
          <a:prstGeom prst="line">
            <a:avLst/>
          </a:prstGeom>
          <a:ln w="57240">
            <a:solidFill>
              <a:srgbClr val="eaeaea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3840" y="151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ntological Pow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40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ntologies express r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ignate inference r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ke inferencing chains possi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ow incomplete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son’ in ‘Ithaca’ impl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son’ in ‘New York’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n resolve ambigu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 ‘unit’ may be part_of an ‘item’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 ‘item’ may be part_of ‘units’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3840" y="151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mantics and Vocabu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40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tologies can manage vocabular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 for greater flexibil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en need for consiste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ow XML vocabularies to emerge from database schem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93840" y="151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mantics and the B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40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mantic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apt to changing prior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present uncertain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ow reasoning with contradictory inform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mprove predicatabil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mantics + XML Vocabularies provide an answer to the Buffy Paradig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905120" y="1873080"/>
            <a:ext cx="5452920" cy="2941920"/>
            <a:chOff x="1905120" y="1873080"/>
            <a:chExt cx="5452920" cy="2941920"/>
          </a:xfrm>
        </p:grpSpPr>
        <p:sp>
          <p:nvSpPr>
            <p:cNvPr id="303" name=""/>
            <p:cNvSpPr/>
            <p:nvPr/>
          </p:nvSpPr>
          <p:spPr>
            <a:xfrm>
              <a:off x="1905120" y="1873080"/>
              <a:ext cx="53020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90720"/>
                  <a:tab algn="l" pos="1981080"/>
                  <a:tab algn="l" pos="2971800"/>
                  <a:tab algn="l" pos="3962520"/>
                  <a:tab algn="l" pos="4952880"/>
                  <a:tab algn="l" pos="5943600"/>
                  <a:tab algn="l" pos="6934320"/>
                  <a:tab algn="l" pos="7924680"/>
                  <a:tab algn="l" pos="8915400"/>
                  <a:tab algn="l" pos="9906120"/>
                  <a:tab algn="l" pos="10896480"/>
                </a:tabLst>
              </a:pPr>
              <a:r>
                <a:rPr b="0" lang="en-US" sz="11700" spc="-1" strike="noStrike">
                  <a:solidFill>
                    <a:srgbClr val="ff0000"/>
                  </a:solidFill>
                  <a:latin typeface="AdobeCorpID Adobe"/>
                </a:rPr>
                <a:t>b</a:t>
              </a:r>
              <a:r>
                <a:rPr b="0" lang="en-US" sz="11700" spc="-1" strike="noStrike">
                  <a:solidFill>
                    <a:srgbClr val="eaeaea"/>
                  </a:solidFill>
                  <a:latin typeface="AdobeCorpID Adobe"/>
                </a:rPr>
                <a:t>c</a:t>
              </a:r>
              <a:endParaRPr b="0" lang="en-US" sz="117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3900600"/>
              <a:ext cx="5318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777777"/>
                  </a:solidFill>
                  <a:latin typeface="AdobeCorpID MinionRg"/>
                </a:rPr>
                <a:t>Tools for the New Work</a:t>
              </a:r>
              <a:r>
                <a:rPr b="1" lang="en-US" sz="2000" spc="-1" strike="noStrike" baseline="30000">
                  <a:solidFill>
                    <a:srgbClr val="777777"/>
                  </a:solidFill>
                  <a:latin typeface="AdobeCorpID MinionRg"/>
                </a:rPr>
                <a:t>™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uffy 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47560" y="1219320"/>
            <a:ext cx="7311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irst introduced i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Biological Warfare and the Buffy Paradig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 algn="r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aeaea"/>
                </a:solidFill>
                <a:latin typeface="Arial"/>
              </a:rPr>
              <a:t>Anthony H. Cordesman, Sept. 29, 2001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 algn="r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aeaea"/>
                </a:solidFill>
                <a:latin typeface="Arial"/>
              </a:rPr>
              <a:t>Arleigh A. Burke Chair in Strategy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 algn="r">
              <a:lnSpc>
                <a:spcPct val="8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aeaea"/>
                </a:solidFill>
                <a:latin typeface="Arial"/>
              </a:rPr>
              <a:t>Center for Strategic and International Studies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s Common Domain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certain situ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complete knowled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unterbalanced by the Buffy Syndr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n unrealistic search for certain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haracteristics of the B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igh degree of uncertain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lexity and chaos are the nor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73416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 of the B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560" y="121896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ad or uncertain experti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consistent, erroneous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tradictory r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orities change rapi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ctical issues overrun strategic thin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5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st performance is not a valid predic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98400" indent="-268560">
              <a:lnSpc>
                <a:spcPct val="85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ach problem must be solved independent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 of the B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45760" y="1447920"/>
            <a:ext cx="7697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cane knowledge is insuffici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ils to predict the true sol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2819520" cy="37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racteristics of the B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45760" y="1447920"/>
            <a:ext cx="76978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ertainty is a marker for incorrectne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certainty implies less accura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rategy collapses in the face of rea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actical considerations overrun plan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uccess eliminates future probl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xt issue is a transaction aw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5760" y="22824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mantic Web Technolog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89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D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s relationships between ent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vides a reasoning frame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ncapsulates knowled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286000" y="3763800"/>
            <a:ext cx="5334120" cy="25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45760" y="228240"/>
            <a:ext cx="769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mantic Web Technolog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468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DF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ffers from the certainty proble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oes not lend itself to reason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t XML-ish enough for so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93840" y="15192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mantic Ontolog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47920" y="1371240"/>
            <a:ext cx="72403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W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Web Ontology Languag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vides XML framework for reason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dresses the issues of RDF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orms a bridge from RDF to XM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llows disambiguation of vocabular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8T18:07:43Z</dcterms:created>
  <dc:creator>Nicole Williams, x66546</dc:creator>
  <dc:description/>
  <dc:language>en-US</dc:language>
  <cp:lastModifiedBy>Bill mcDaniel</cp:lastModifiedBy>
  <cp:lastPrinted>2004-04-23T17:56:34Z</cp:lastPrinted>
  <dcterms:modified xsi:type="dcterms:W3CDTF">2005-04-26T06:07:08Z</dcterms:modified>
  <cp:revision>1778</cp:revision>
  <dc:subject/>
  <dc:title>Adobe®  Template Guidelines</dc:title>
</cp:coreProperties>
</file>