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6.jpeg" ContentType="image/jpeg"/>
  <Override PartName="/ppt/media/image30.wmf" ContentType="image/x-wmf"/>
  <Override PartName="/ppt/media/image27.jpeg" ContentType="image/jpeg"/>
  <Override PartName="/ppt/media/image8.png" ContentType="image/png"/>
  <Override PartName="/ppt/media/image13.png" ContentType="image/png"/>
  <Override PartName="/ppt/media/image28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3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4C36EF-8F27-4AFB-AA83-CDCE4B24F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5FB73B-8707-4AFA-91FF-A92129E4B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7440" cy="34700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D83D8A-981F-4E96-A0FD-DC43927F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27440" cy="34700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D72196-5887-4687-9BFA-0E606390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97000" y="695160"/>
            <a:ext cx="4621320" cy="34657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8977B3-4203-40CA-8C08-58C7CE4C4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8FF9BE-E1A2-4C7C-B926-E979879B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5CBEA3-252D-4709-BECF-C5B24E4C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892862-75E0-455E-9288-C1FCB331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35F756-BF83-49FD-8474-667BA36DF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93760" y="679320"/>
            <a:ext cx="4626000" cy="34689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87680"/>
            <a:ext cx="51595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FB37AC-24F3-4C1B-BC06-6B4E2633A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348CCB-4CD4-4C02-97CC-CC802BD5F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4400" y="69372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B9F26-3E3E-4741-8655-91C597032D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FECA-07B5-4C45-9B4F-BA3BA06A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D802-84BF-4C8B-95A1-721ADC71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1F16-D20A-4E0D-A944-12B4AFE7D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36400" y="392040"/>
            <a:ext cx="7769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A492-8661-4D51-A796-D4BF7F85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09044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00000"/>
            <a:ext cx="264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7C6E-9A95-47DB-ABF5-DAA3C482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6338-0D17-40E9-935C-A458E76C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C981-9CD7-434C-98F3-978C68AD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36400" y="392040"/>
            <a:ext cx="7769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54DA-E3F5-488B-907E-32A73E63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37E3-0D3D-4A26-A366-73602E8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0000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9117-9BCE-4F2D-9FDD-6AC66482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090440"/>
            <a:ext cx="4015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00000"/>
            <a:ext cx="82296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9112-E22E-42EF-97FD-A0C6E73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0800000">
            <a:off x="528480" y="299520"/>
            <a:ext cx="8624880" cy="609840"/>
          </a:xfrm>
          <a:prstGeom prst="rect">
            <a:avLst/>
          </a:prstGeom>
          <a:gradFill rotWithShape="0">
            <a:gsLst>
              <a:gs pos="0">
                <a:srgbClr val="ffd10b"/>
              </a:gs>
              <a:gs pos="100000">
                <a:srgbClr val="ffff66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360" y="6058080"/>
            <a:ext cx="8686800" cy="5713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fadb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533160" y="228600"/>
            <a:ext cx="8153280" cy="762120"/>
            <a:chOff x="533160" y="228600"/>
            <a:chExt cx="8153280" cy="762120"/>
          </a:xfrm>
        </p:grpSpPr>
        <p:sp>
          <p:nvSpPr>
            <p:cNvPr id="4" name=""/>
            <p:cNvSpPr/>
            <p:nvPr/>
          </p:nvSpPr>
          <p:spPr>
            <a:xfrm flipH="1">
              <a:off x="533160" y="914400"/>
              <a:ext cx="81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8521920" y="228600"/>
              <a:ext cx="164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" name=""/>
          <p:cNvGrpSpPr/>
          <p:nvPr/>
        </p:nvGrpSpPr>
        <p:grpSpPr>
          <a:xfrm>
            <a:off x="385920" y="6093000"/>
            <a:ext cx="1614240" cy="507960"/>
            <a:chOff x="385920" y="6093000"/>
            <a:chExt cx="1614240" cy="507960"/>
          </a:xfrm>
        </p:grpSpPr>
        <p:grpSp>
          <p:nvGrpSpPr>
            <p:cNvPr id="7" name=""/>
            <p:cNvGrpSpPr/>
            <p:nvPr/>
          </p:nvGrpSpPr>
          <p:grpSpPr>
            <a:xfrm>
              <a:off x="1122120" y="6093000"/>
              <a:ext cx="80640" cy="507960"/>
              <a:chOff x="1122120" y="6093000"/>
              <a:chExt cx="80640" cy="507960"/>
            </a:xfrm>
          </p:grpSpPr>
          <p:sp>
            <p:nvSpPr>
              <p:cNvPr id="8" name=""/>
              <p:cNvSpPr/>
              <p:nvPr/>
            </p:nvSpPr>
            <p:spPr>
              <a:xfrm>
                <a:off x="1122120" y="6582240"/>
                <a:ext cx="80640" cy="18720"/>
              </a:xfrm>
              <a:prstGeom prst="rect">
                <a:avLst/>
              </a:prstGeom>
              <a:noFill/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37960" y="6093000"/>
                <a:ext cx="49680" cy="475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22840" y="6372360"/>
                <a:ext cx="38880" cy="19656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1161720" y="6372360"/>
                <a:ext cx="38880" cy="19656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 txBox="1"/>
            <p:nvPr/>
          </p:nvSpPr>
          <p:spPr>
            <a:xfrm>
              <a:off x="1243440" y="6403320"/>
              <a:ext cx="665640" cy="1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stitut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1244520" y="6263280"/>
              <a:ext cx="755640" cy="11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earch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385920" y="6255720"/>
              <a:ext cx="68940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51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Georgia</a:t>
              </a:r>
              <a:endParaRPr b="0" lang="en-US" sz="1800" spc="1" strike="noStrike">
                <a:ln w="151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5" name=""/>
            <p:cNvSpPr txBox="1"/>
            <p:nvPr/>
          </p:nvSpPr>
          <p:spPr>
            <a:xfrm>
              <a:off x="657360" y="6399360"/>
              <a:ext cx="415440" cy="10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51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ech</a:t>
              </a:r>
              <a:endParaRPr b="0" lang="en-US" sz="1800" spc="1" strike="noStrike">
                <a:ln w="151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94640" y="6332760"/>
              <a:ext cx="0" cy="4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970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315720">
              <a:spcBef>
                <a:spcPts val="7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73160" indent="-339480"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7316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7316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6058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sldNum" idx="1"/>
          </p:nvPr>
        </p:nvSpPr>
        <p:spPr>
          <a:xfrm>
            <a:off x="2195640" y="6198840"/>
            <a:ext cx="4334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C73B-B467-4CC1-88A2-999B88FFFA6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dt" idx="2"/>
          </p:nvPr>
        </p:nvSpPr>
        <p:spPr>
          <a:xfrm>
            <a:off x="7089840" y="6175080"/>
            <a:ext cx="1155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pril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360" y="1901880"/>
            <a:ext cx="8651880" cy="47275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b9c3c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0800000">
            <a:off x="480960" y="299160"/>
            <a:ext cx="8672400" cy="3103560"/>
          </a:xfrm>
          <a:prstGeom prst="rect">
            <a:avLst/>
          </a:prstGeom>
          <a:gradFill rotWithShape="0">
            <a:gsLst>
              <a:gs pos="0">
                <a:srgbClr val="ffd10b"/>
              </a:gs>
              <a:gs pos="100000">
                <a:srgbClr val="ffff66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6800" y="1795320"/>
            <a:ext cx="8164440" cy="160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4640" y="2250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280" y="228600"/>
            <a:ext cx="8201160" cy="762120"/>
            <a:chOff x="485280" y="228600"/>
            <a:chExt cx="8201160" cy="762120"/>
          </a:xfrm>
        </p:grpSpPr>
        <p:sp>
          <p:nvSpPr>
            <p:cNvPr id="62" name=""/>
            <p:cNvSpPr/>
            <p:nvPr/>
          </p:nvSpPr>
          <p:spPr>
            <a:xfrm flipH="1">
              <a:off x="485280" y="914400"/>
              <a:ext cx="81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8520840" y="228600"/>
              <a:ext cx="16560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"/>
          <p:cNvGrpSpPr/>
          <p:nvPr/>
        </p:nvGrpSpPr>
        <p:grpSpPr>
          <a:xfrm>
            <a:off x="385920" y="6093000"/>
            <a:ext cx="1614240" cy="507960"/>
            <a:chOff x="385920" y="6093000"/>
            <a:chExt cx="1614240" cy="507960"/>
          </a:xfrm>
        </p:grpSpPr>
        <p:grpSp>
          <p:nvGrpSpPr>
            <p:cNvPr id="65" name=""/>
            <p:cNvGrpSpPr/>
            <p:nvPr/>
          </p:nvGrpSpPr>
          <p:grpSpPr>
            <a:xfrm>
              <a:off x="1122120" y="6093000"/>
              <a:ext cx="80640" cy="507960"/>
              <a:chOff x="1122120" y="6093000"/>
              <a:chExt cx="80640" cy="507960"/>
            </a:xfrm>
          </p:grpSpPr>
          <p:sp>
            <p:nvSpPr>
              <p:cNvPr id="66" name=""/>
              <p:cNvSpPr/>
              <p:nvPr/>
            </p:nvSpPr>
            <p:spPr>
              <a:xfrm>
                <a:off x="1122120" y="6582240"/>
                <a:ext cx="80640" cy="18720"/>
              </a:xfrm>
              <a:prstGeom prst="rect">
                <a:avLst/>
              </a:prstGeom>
              <a:noFill/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137960" y="6093000"/>
                <a:ext cx="49680" cy="475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22840" y="6372360"/>
                <a:ext cx="38880" cy="19656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1161720" y="6372360"/>
                <a:ext cx="38880" cy="196560"/>
              </a:xfrm>
              <a:prstGeom prst="rtTriangle">
                <a:avLst/>
              </a:prstGeom>
              <a:solidFill>
                <a:srgbClr val="ffffff"/>
              </a:solidFill>
              <a:ln w="12600">
                <a:solidFill>
                  <a:srgbClr val="ffc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 txBox="1"/>
            <p:nvPr/>
          </p:nvSpPr>
          <p:spPr>
            <a:xfrm>
              <a:off x="1243440" y="6403320"/>
              <a:ext cx="665640" cy="10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stitute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1244520" y="6263280"/>
              <a:ext cx="755640" cy="113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Research</a:t>
              </a:r>
              <a:endPara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85920" y="6255720"/>
              <a:ext cx="68940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51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Georgia</a:t>
              </a:r>
              <a:endParaRPr b="0" lang="en-US" sz="1800" spc="1" strike="noStrike">
                <a:ln w="151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657360" y="6399360"/>
              <a:ext cx="415440" cy="10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512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ech</a:t>
              </a:r>
              <a:endParaRPr b="0" lang="en-US" sz="1800" spc="1" strike="noStrike">
                <a:ln w="151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4640" y="6332760"/>
              <a:ext cx="0" cy="47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873600" y="51609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1796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29232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2923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29232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Top100+_RefDocSchemas.xls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1.pn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10840" y="3809520"/>
            <a:ext cx="8148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len Perry, MTG Management Consultants, L.L.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Carlson, National Center for State Cou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74640" y="1918800"/>
            <a:ext cx="7772400" cy="13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Justice XML (JML)</a:t>
            </a:r>
            <a:br>
              <a:rPr sz="4800"/>
            </a:b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The Global Justice XML Data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46520" y="5867280"/>
            <a:ext cx="164952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3271" t="0" r="2180" b="49359"/>
          <a:stretch/>
        </p:blipFill>
        <p:spPr>
          <a:xfrm>
            <a:off x="6924600" y="5862600"/>
            <a:ext cx="16560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ML Structure Task Force Re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00" y="1019160"/>
            <a:ext cx="8156520" cy="493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9360" indent="-279360">
              <a:lnSpc>
                <a:spcPct val="95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ctions Administ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ation &amp; Par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l Bureau of Investigation (FBI), Criminal Justice Information Systems D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tional Association of Chiefs of Police (IAC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Association of Motor Vehicle Administrators (AAM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Justice Information Systems (IJIS) Institute (indus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tional Telecommunications and Information Administration (NT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(The National Consortium for Justice Information and Statistic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Task Force on Rap Sheet Standardization (JTFR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/local law enfor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onal Information Sharing System (RI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minal Information Sharing Alliance (CIS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Law Enforcement Transmission System (NLE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s represented: AK, AL, AZ, CA, CO, GA, KY, IL, MN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MO, MT, NM, OK, PA, VA, WA, W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int Technical Committee of COSCA and NA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Association of Court Managers (NAC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erence of State Court Administrators (COSC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Center for State Courts (NC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88720">
              <a:lnSpc>
                <a:spcPct val="95000"/>
              </a:lnSpc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bers of OASIS LegalXML Technical Committ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lnSpc>
                <a:spcPct val="95000"/>
              </a:lnSpc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rgia Tech Research Institute (GT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93920" y="3924360"/>
            <a:ext cx="1670760" cy="1739880"/>
          </a:xfrm>
          <a:prstGeom prst="rect">
            <a:avLst/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ad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C420-FFC1-4755-A47B-BC54417F7E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 Love it when a plan comes together.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87480" y="1379520"/>
            <a:ext cx="7286400" cy="424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rly groundw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justice – data set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ctionaries, pilot XML schema specs, data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galXML Court Fi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draft XML data dictionary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mbled exchange schemas (e.g. a Sentence Ord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Task Force 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riminal History Standard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published an XML schema for a Rap Sheet (criminal histor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Infrastructure &amp; Standards Working Group (GISWG) –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ot XML data dictionary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onciliation Data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studied and compiled data from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justice information exchanges between st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T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publish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e and Design Issues for Developing, Implementing, and Maintaining a Justice XML Data Dictio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hosted a series of early XSTF mee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3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ptember 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Office of Justice Program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ed GTRI to design and implement GJX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C7A6-A79B-4AD8-94CB-8A15BDB9FA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rief History of Global JX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520" y="1217160"/>
            <a:ext cx="7859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3C approves XML Schema as a Recommend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on Reconciliation Data Dictionary (RDD) be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establishes XML Structure Task Force (XST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TRI prototypes JXDM v2.0 schema from RDD v0.0.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releases final draft RDD v1.0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TRI publishes design/structure paper for GJXD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ep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GJXDM design &amp; implementation be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early prototype of GJXDM v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4 public prereleases (beta) of GJXDM v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JXDM public feedback Website ope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JXDM public Listserv opens for discu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a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00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JXDM v3.0 – First operational rele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GJXDM Developer’s Workshop in Atla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 Subset Generator Tool comes on-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JXDM release v3.0.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JXDM release v3.0.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5553-2D8A-49AD-8779-9FD4EA942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: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ly Bottom-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nciliation of a boat-load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t sourc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hanges all the time with each new particip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one Top-Dow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 as a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to ext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09C3-CCD6-4ACD-B893-4E4389C7A0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: Participa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Folks from All Domains in Sco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hese Type of Fol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unteers with a burning desire to make i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ing to get hands dirty and do real work, not just fill up a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 into a philosophy of interoperability, even if there isn’t an immediate business need for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ownership and responsibility but also be able to accept criticism and suggestions from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Vend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B8A3-38AC-456C-AD07-3A2AB13567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: Ope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Forma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, XML Schema, UML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aboration Tools Open to A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JXDM Listser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JXDM Bugzil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Access to Sourc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just access to final outpu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L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ML Sch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odeling format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ML Sch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8A0B-6305-4314-89F6-165F18371A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 Learned: Collabo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90440"/>
            <a:ext cx="8229600" cy="480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sive Use of Collaboration Tools/Metho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e-to-Face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conferenc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’m missing one right now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erv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 Track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It’s not just for bugs anymore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Collaboration Tools the we aren’t using but could/shoul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970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2970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rietary/Commercial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8599-2D8F-48D0-B131-BAF7CE9A23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Information About Global JX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4400" y="1577880"/>
            <a:ext cx="7920000" cy="368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ffice of Justice Programs IT Website and the official home of GJXD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www.it.ojp.go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TRI Justice XML Information Cente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justicexml.gtri.gatech.ed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r, just type “GJXDM” into Googl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FAAA-EEFD-4735-BAEC-538021CBD2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rcRect l="0" t="5602" r="40111" b="2464"/>
          <a:stretch/>
        </p:blipFill>
        <p:spPr>
          <a:xfrm>
            <a:off x="4429080" y="1065240"/>
            <a:ext cx="4714920" cy="5792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rcRect l="0" t="6045" r="40823" b="3069"/>
          <a:stretch/>
        </p:blipFill>
        <p:spPr>
          <a:xfrm>
            <a:off x="0" y="600120"/>
            <a:ext cx="4403880" cy="5411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5407200" y="676440"/>
            <a:ext cx="2835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http://it.ojp.gov/gjx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1160" y="193680"/>
            <a:ext cx="2087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http://it.ojp.g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328840"/>
            <a:ext cx="833400" cy="355680"/>
          </a:xfrm>
          <a:prstGeom prst="ellipse">
            <a:avLst/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24200" y="2360520"/>
            <a:ext cx="1614600" cy="1460520"/>
          </a:xfrm>
          <a:prstGeom prst="ellipse">
            <a:avLst/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19440" y="1143000"/>
            <a:ext cx="833400" cy="355680"/>
          </a:xfrm>
          <a:prstGeom prst="ellipse">
            <a:avLst/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4720" y="2119320"/>
            <a:ext cx="2112840" cy="487440"/>
          </a:xfrm>
          <a:prstGeom prst="ellipse">
            <a:avLst/>
          </a:prstGeom>
          <a:noFill/>
          <a:ln w="38160">
            <a:solidFill>
              <a:srgbClr val="c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5E8E-FFCC-45F2-8C78-5524253CEA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5371" r="1371" b="47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09640" y="171360"/>
            <a:ext cx="3344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http://www.it.ojp.gov/jx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2DEE-DC61-4830-A4D3-D9311FD1EA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41240" y="1479240"/>
            <a:ext cx="7747200" cy="404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Justice XM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it come togeth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is involv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we lear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can I get additional informa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hat are the basic design princi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hat’s under the hoo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How is it us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Who is using it?  (Who else is interested?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AEF2-1A5A-470B-8D74-9339161C43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rcRect l="0" t="5371" r="0" b="0"/>
          <a:stretch/>
        </p:blipFill>
        <p:spPr>
          <a:xfrm>
            <a:off x="555480" y="630360"/>
            <a:ext cx="8105760" cy="6080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732040" y="181080"/>
            <a:ext cx="36385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http://justicexml.gtri.ga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E916-3278-4A0E-978F-334C5CD8D7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rcRect l="0" t="5325" r="0" b="0"/>
          <a:stretch/>
        </p:blipFill>
        <p:spPr>
          <a:xfrm>
            <a:off x="461880" y="665280"/>
            <a:ext cx="8197920" cy="6148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57640" y="250920"/>
            <a:ext cx="43398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http://gjxdmtools.gtri.gatech.edu/ssg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1B9-5852-431F-8CEB-10A3897BED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560" y="512280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32399" t="30224" r="34667" b="34501"/>
          <a:stretch/>
        </p:blipFill>
        <p:spPr>
          <a:xfrm>
            <a:off x="4002120" y="4259160"/>
            <a:ext cx="1141560" cy="917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512120" y="3728880"/>
            <a:ext cx="1022400" cy="1468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rcRect l="0" t="20898" r="0" b="0"/>
          <a:stretch/>
        </p:blipFill>
        <p:spPr>
          <a:xfrm>
            <a:off x="6219720" y="488304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5"/>
          <a:srcRect l="0" t="15540" r="0" b="0"/>
          <a:stretch/>
        </p:blipFill>
        <p:spPr>
          <a:xfrm>
            <a:off x="5261040" y="4064040"/>
            <a:ext cx="1071360" cy="1357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293760" y="3938760"/>
            <a:ext cx="1326960" cy="866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1490760" y="5126040"/>
            <a:ext cx="1084320" cy="1052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0" y="625320"/>
            <a:ext cx="9144000" cy="310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"/>
          <p:cNvSpPr/>
          <p:nvPr/>
        </p:nvSpPr>
        <p:spPr>
          <a:xfrm>
            <a:off x="0" y="0"/>
            <a:ext cx="9144000" cy="63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56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632040"/>
            <a:ext cx="9144000" cy="406440"/>
          </a:xfrm>
          <a:prstGeom prst="rect">
            <a:avLst/>
          </a:prstGeom>
          <a:gradFill rotWithShape="0">
            <a:gsLst>
              <a:gs pos="0">
                <a:srgbClr val="8a9fb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68640" y="5537160"/>
            <a:ext cx="28083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d41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t Georgia Tech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d41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1454040" y="4021200"/>
            <a:ext cx="1665360" cy="1109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0"/>
          <a:stretch/>
        </p:blipFill>
        <p:spPr>
          <a:xfrm>
            <a:off x="460440" y="4738680"/>
            <a:ext cx="1057320" cy="1351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6180120" y="3790800"/>
            <a:ext cx="1413000" cy="11098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3014640" y="3914640"/>
            <a:ext cx="811080" cy="1352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77480" y="2151000"/>
            <a:ext cx="27579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Sponsored by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U.S. Department of Ju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Office of Justice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0" t="12108" r="5226" b="0"/>
          <a:stretch/>
        </p:blipFill>
        <p:spPr>
          <a:xfrm>
            <a:off x="507960" y="682560"/>
            <a:ext cx="8156520" cy="6175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607760" y="282600"/>
            <a:ext cx="58622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ccff33"/>
                </a:solidFill>
                <a:latin typeface="Arial"/>
              </a:rPr>
              <a:t>http://justicexml.gtri.gatech.edu/developer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572080" y="2050920"/>
            <a:ext cx="2957400" cy="221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AF6D-BEC5-4663-B464-84AFB197F7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3040" y="1217160"/>
            <a:ext cx="8153280" cy="45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tandards-b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uses several XML and data standard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del-b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generates consistent XML schema or other representations from a data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quirements-b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uilt from existing data models, dictionaries, schemas, document specifica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efficient extension and reuse (inheritanc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xtend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enables local additions of data compone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xpanded 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includes courts, corrections, juvenile, et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vides relationshi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rich exchange information contex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uilt to evolve/adv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emerging technologies (e.g. OWL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neraliz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justice community …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not target specific syste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O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Silver Bullet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assum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 Constraints on time, technology, and requirements mandate rational compromis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F232-6066-4460-8A81-E7C2FE59D8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Justice XML Data Model Cont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57280" y="1271520"/>
          <a:ext cx="7935840" cy="478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1520"/>
                    <a:ext cx="793584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58720" y="1327320"/>
            <a:ext cx="3903840" cy="70380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2754  Total data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(= 545 types + 2209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023440" y="137484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itial operational release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CAC4-ED59-418E-A778-5E1D004E2B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Data Requirements Sou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52400" y="1085400"/>
            <a:ext cx="759168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a2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a20000"/>
                </a:solidFill>
                <a:uFillTx/>
                <a:latin typeface="Arial"/>
              </a:rPr>
              <a:t>SPONSOR</a:t>
            </a:r>
            <a:r>
              <a:rPr b="1" lang="en-US" sz="1600" spc="-1" strike="noStrike">
                <a:solidFill>
                  <a:srgbClr val="a20000"/>
                </a:solidFill>
                <a:latin typeface="Arial"/>
              </a:rPr>
              <a:t>	</a:t>
            </a:r>
            <a:r>
              <a:rPr b="1" lang="en-US" sz="1600" spc="-1" strike="noStrike" u="sng">
                <a:solidFill>
                  <a:srgbClr val="a20000"/>
                </a:solidFill>
                <a:uFillTx/>
                <a:latin typeface="Arial"/>
              </a:rPr>
              <a:t>SOURCE DOCUMENTS / SPECIF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bal ISW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nciliation Data Dictionary (RDD) v1.0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2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TF for RS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p Sheet v2.2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3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SIntel v2.0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4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rtFiling v1.1 DT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5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AM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 History v1.02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6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J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Tech v2.0 data dictionary and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7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ounty, C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ident Report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8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est Warrant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9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ging Document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0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XM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tencing Order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1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nesot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MNet v1.0 data dictionary and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2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element spreadsheets (civil, criminal, juveni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3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icopa Co A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JIS Data Dictionary v1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4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S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west Border States Data Dictionary (TX, AZ, N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5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B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IC 2000 data dictionary and code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6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B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ident Report schem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SzPct val="117021"/>
              <a:buBlip>
                <a:blip r:embed="rId17"/>
              </a:buBlip>
              <a:tabLst>
                <a:tab algn="l" pos="21700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ice Information Exchange Model (JIEM) data se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75E7-91A2-49E1-964F-B0EC837AE8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55680" y="1609560"/>
            <a:ext cx="8431200" cy="37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W3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ML Schema Specification (05/200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W3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DF and RDF Schema Specification (02/1999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XML.gov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raft Federal XML Schema Developer’s Guide (04/0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ISO/IE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1179 Specification &amp; Standardization of Data Elemen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UN/CEFACT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bXML Core Components Technical Spec 1.9 (12/200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D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ublin Core metadata for documen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Do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oD 5015.2-STD Design Criteria Standard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 Electronic-RMS Applications (06/200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IC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ligence Community Metadata Language (ICML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Bef>
                <a:spcPts val="950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cc"/>
                </a:solidFill>
                <a:latin typeface="Arial"/>
              </a:rPr>
              <a:t>OASI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ML Common Biometrics Format Committee (09/200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Standard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38A5-FEC4-4501-AF19-0231AE619A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952560" y="3622680"/>
            <a:ext cx="2781000" cy="2281320"/>
            <a:chOff x="952560" y="3622680"/>
            <a:chExt cx="2781000" cy="2281320"/>
          </a:xfrm>
        </p:grpSpPr>
        <p:sp>
          <p:nvSpPr>
            <p:cNvPr id="265" name=""/>
            <p:cNvSpPr/>
            <p:nvPr/>
          </p:nvSpPr>
          <p:spPr>
            <a:xfrm>
              <a:off x="952560" y="4444920"/>
              <a:ext cx="2781000" cy="111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09900"/>
                </a:gs>
                <a:gs pos="50000">
                  <a:srgbClr val="ffcc00"/>
                </a:gs>
                <a:gs pos="100000">
                  <a:srgbClr val="c0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onent Repository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ataba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7" idx="3"/>
              <a:endCxn id="265" idx="1"/>
            </p:cNvCxnSpPr>
            <p:nvPr/>
          </p:nvCxnSpPr>
          <p:spPr>
            <a:xfrm>
              <a:off x="1344600" y="3645000"/>
              <a:ext cx="999000" cy="800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cxnSp>
          <p:nvCxnSpPr>
            <p:cNvPr id="268" name=""/>
            <p:cNvCxnSpPr>
              <a:stCxn id="269" idx="2"/>
              <a:endCxn id="265" idx="1"/>
            </p:cNvCxnSpPr>
            <p:nvPr/>
          </p:nvCxnSpPr>
          <p:spPr>
            <a:xfrm flipH="1">
              <a:off x="2342520" y="3622680"/>
              <a:ext cx="1045080" cy="82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</p:cxnSp>
        <p:sp>
          <p:nvSpPr>
            <p:cNvPr id="270" name=""/>
            <p:cNvSpPr/>
            <p:nvPr/>
          </p:nvSpPr>
          <p:spPr>
            <a:xfrm>
              <a:off x="2251080" y="559908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01640" y="1166760"/>
            <a:ext cx="3389040" cy="2478240"/>
            <a:chOff x="701640" y="1166760"/>
            <a:chExt cx="3389040" cy="2478240"/>
          </a:xfrm>
        </p:grpSpPr>
        <p:sp>
          <p:nvSpPr>
            <p:cNvPr id="267" name=""/>
            <p:cNvSpPr/>
            <p:nvPr/>
          </p:nvSpPr>
          <p:spPr>
            <a:xfrm>
              <a:off x="701640" y="1701720"/>
              <a:ext cx="1562040" cy="1943280"/>
            </a:xfrm>
            <a:prstGeom prst="cube">
              <a:avLst>
                <a:gd name="adj" fmla="val 1762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2491920" y="1701000"/>
              <a:ext cx="1598760" cy="1942920"/>
              <a:chOff x="2491920" y="1701000"/>
              <a:chExt cx="1598760" cy="1942920"/>
            </a:xfrm>
          </p:grpSpPr>
          <p:sp>
            <p:nvSpPr>
              <p:cNvPr id="273" name=""/>
              <p:cNvSpPr/>
              <p:nvPr/>
            </p:nvSpPr>
            <p:spPr>
              <a:xfrm>
                <a:off x="2492280" y="1722960"/>
                <a:ext cx="1406520" cy="17110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555640" y="1785240"/>
                <a:ext cx="1406520" cy="17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20800" y="1847880"/>
                <a:ext cx="1406520" cy="17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684160" y="1911960"/>
                <a:ext cx="1406520" cy="17110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 rot="16200000">
                <a:off x="1616040" y="2576160"/>
                <a:ext cx="1942920" cy="191880"/>
              </a:xfrm>
              <a:prstGeom prst="parallelogram">
                <a:avLst>
                  <a:gd name="adj" fmla="val 10707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12600" y="2008800"/>
                <a:ext cx="1351800" cy="91692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Dictiona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117440" y="1166760"/>
              <a:ext cx="86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160" y="1179360"/>
              <a:ext cx="82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225360"/>
                  <a:tab algn="l" pos="450720"/>
                  <a:tab algn="l" pos="676440"/>
                  <a:tab algn="l" pos="901800"/>
                  <a:tab algn="l" pos="1127160"/>
                  <a:tab algn="l" pos="1352520"/>
                  <a:tab algn="l" pos="1577880"/>
                  <a:tab algn="l" pos="1803240"/>
                  <a:tab algn="l" pos="2028960"/>
                  <a:tab algn="l" pos="2254320"/>
                  <a:tab algn="l" pos="2479680"/>
                  <a:tab algn="l" pos="2705040"/>
                  <a:tab algn="l" pos="2930400"/>
                  <a:tab algn="l" pos="3156120"/>
                  <a:tab algn="l" pos="3381480"/>
                  <a:tab algn="l" pos="3606840"/>
                  <a:tab algn="l" pos="3832200"/>
                  <a:tab algn="l" pos="4057560"/>
                  <a:tab algn="l" pos="4282920"/>
                  <a:tab algn="l" pos="45086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98520" y="2711520"/>
              <a:ext cx="146160" cy="14292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82" idx="0"/>
              <a:endCxn id="280" idx="2"/>
            </p:cNvCxnSpPr>
            <p:nvPr/>
          </p:nvCxnSpPr>
          <p:spPr>
            <a:xfrm flipV="1">
              <a:off x="1004400" y="2853720"/>
              <a:ext cx="36756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84" idx="0"/>
              <a:endCxn id="282" idx="4"/>
            </p:cNvCxnSpPr>
            <p:nvPr/>
          </p:nvCxnSpPr>
          <p:spPr>
            <a:xfrm flipH="1" flipV="1">
              <a:off x="1004400" y="3188880"/>
              <a:ext cx="8496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86" idx="0"/>
              <a:endCxn id="287" idx="2"/>
            </p:cNvCxnSpPr>
            <p:nvPr/>
          </p:nvCxnSpPr>
          <p:spPr>
            <a:xfrm flipV="1">
              <a:off x="1320840" y="3188880"/>
              <a:ext cx="4968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89" idx="0"/>
              <a:endCxn id="280" idx="2"/>
            </p:cNvCxnSpPr>
            <p:nvPr/>
          </p:nvCxnSpPr>
          <p:spPr>
            <a:xfrm flipH="1" flipV="1">
              <a:off x="1371240" y="2853720"/>
              <a:ext cx="38808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91" idx="0"/>
              <a:endCxn id="287" idx="2"/>
            </p:cNvCxnSpPr>
            <p:nvPr/>
          </p:nvCxnSpPr>
          <p:spPr>
            <a:xfrm flipH="1" flipV="1">
              <a:off x="1369440" y="3188880"/>
              <a:ext cx="183600" cy="19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4" name=""/>
            <p:cNvSpPr/>
            <p:nvPr/>
          </p:nvSpPr>
          <p:spPr>
            <a:xfrm>
              <a:off x="1015920" y="3381480"/>
              <a:ext cx="146160" cy="142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"/>
            <p:cNvCxnSpPr>
              <a:stCxn id="293" idx="0"/>
              <a:endCxn id="289" idx="3"/>
            </p:cNvCxnSpPr>
            <p:nvPr/>
          </p:nvCxnSpPr>
          <p:spPr>
            <a:xfrm flipH="1" flipV="1">
              <a:off x="1758240" y="3188880"/>
              <a:ext cx="67320" cy="167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1" name=""/>
            <p:cNvSpPr/>
            <p:nvPr/>
          </p:nvSpPr>
          <p:spPr>
            <a:xfrm>
              <a:off x="1479600" y="3381480"/>
              <a:ext cx="145800" cy="14256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87" idx="0"/>
              <a:endCxn id="280" idx="2"/>
            </p:cNvCxnSpPr>
            <p:nvPr/>
          </p:nvCxnSpPr>
          <p:spPr>
            <a:xfrm flipV="1">
              <a:off x="1369440" y="2853720"/>
              <a:ext cx="25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"/>
            <p:cNvSpPr/>
            <p:nvPr/>
          </p:nvSpPr>
          <p:spPr>
            <a:xfrm>
              <a:off x="931680" y="3046320"/>
              <a:ext cx="146160" cy="1429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28720" y="3355920"/>
              <a:ext cx="195120" cy="192240"/>
            </a:xfrm>
            <a:prstGeom prst="diamond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47760" y="3381480"/>
              <a:ext cx="146160" cy="142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6560" y="3357360"/>
              <a:ext cx="195120" cy="192240"/>
            </a:xfrm>
            <a:prstGeom prst="diamond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6" name=""/>
            <p:cNvCxnSpPr>
              <a:stCxn id="295" idx="0"/>
              <a:endCxn id="282" idx="4"/>
            </p:cNvCxnSpPr>
            <p:nvPr/>
          </p:nvCxnSpPr>
          <p:spPr>
            <a:xfrm flipV="1">
              <a:off x="833400" y="3188520"/>
              <a:ext cx="172080" cy="16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1662120" y="3046320"/>
              <a:ext cx="193680" cy="14292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7080" y="3046320"/>
              <a:ext cx="145800" cy="142920"/>
            </a:xfrm>
            <a:prstGeom prst="rect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108400" y="3192480"/>
            <a:ext cx="3264120" cy="2755800"/>
            <a:chOff x="5108400" y="3192480"/>
            <a:chExt cx="3264120" cy="2755800"/>
          </a:xfrm>
        </p:grpSpPr>
        <p:sp>
          <p:nvSpPr>
            <p:cNvPr id="298" name=""/>
            <p:cNvSpPr/>
            <p:nvPr/>
          </p:nvSpPr>
          <p:spPr>
            <a:xfrm>
              <a:off x="5108400" y="3192480"/>
              <a:ext cx="3264120" cy="2755800"/>
            </a:xfrm>
            <a:prstGeom prst="roundRect">
              <a:avLst>
                <a:gd name="adj" fmla="val 4324"/>
              </a:avLst>
            </a:prstGeom>
            <a:noFill/>
            <a:ln w="64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5234040" y="3326400"/>
              <a:ext cx="2493720" cy="2479680"/>
              <a:chOff x="5234040" y="3326400"/>
              <a:chExt cx="2493720" cy="2479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5932440" y="3326400"/>
                <a:ext cx="1795320" cy="968760"/>
                <a:chOff x="5932440" y="3326400"/>
                <a:chExt cx="1795320" cy="9687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5932440" y="3326400"/>
                  <a:ext cx="1795320" cy="968760"/>
                </a:xfrm>
                <a:prstGeom prst="bevel">
                  <a:avLst>
                    <a:gd name="adj" fmla="val 4403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f5f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5986080" y="3376440"/>
                  <a:ext cx="1680120" cy="860400"/>
                  <a:chOff x="5986080" y="3376440"/>
                  <a:chExt cx="1680120" cy="860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5990760" y="3809880"/>
                    <a:ext cx="1665720" cy="426960"/>
                    <a:chOff x="5990760" y="3809880"/>
                    <a:chExt cx="1665720" cy="426960"/>
                  </a:xfrm>
                </p:grpSpPr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5990760" y="3809880"/>
                      <a:ext cx="1665720" cy="86760"/>
                      <a:chOff x="5990760" y="3809880"/>
                      <a:chExt cx="1665720" cy="8676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5990760" y="38098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6382440" y="3809880"/>
                        <a:ext cx="8737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7257960" y="38098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5990760" y="3892320"/>
                      <a:ext cx="1665360" cy="86760"/>
                      <a:chOff x="5990760" y="3892320"/>
                      <a:chExt cx="1665360" cy="8676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5990760" y="389232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6382440" y="3892320"/>
                        <a:ext cx="8737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7257600" y="389232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5990760" y="3975120"/>
                      <a:ext cx="1665360" cy="86760"/>
                      <a:chOff x="5990760" y="3975120"/>
                      <a:chExt cx="1665360" cy="86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5990760" y="397512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6382440" y="3975120"/>
                        <a:ext cx="8737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7257600" y="397512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6" name=""/>
                    <p:cNvGrpSpPr/>
                    <p:nvPr/>
                  </p:nvGrpSpPr>
                  <p:grpSpPr>
                    <a:xfrm>
                      <a:off x="5990760" y="4067280"/>
                      <a:ext cx="1665720" cy="86760"/>
                      <a:chOff x="5990760" y="4067280"/>
                      <a:chExt cx="1665720" cy="86760"/>
                    </a:xfrm>
                  </p:grpSpPr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5990760" y="40672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6382440" y="4067280"/>
                        <a:ext cx="8737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7257960" y="40672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5990760" y="4150080"/>
                      <a:ext cx="1665360" cy="86760"/>
                      <a:chOff x="5990760" y="4150080"/>
                      <a:chExt cx="1665360" cy="86760"/>
                    </a:xfrm>
                  </p:grpSpPr>
                  <p:sp>
                    <p:nvSpPr>
                      <p:cNvPr id="321" name=""/>
                      <p:cNvSpPr/>
                      <p:nvPr/>
                    </p:nvSpPr>
                    <p:spPr>
                      <a:xfrm>
                        <a:off x="5990760" y="41500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2" name=""/>
                      <p:cNvSpPr/>
                      <p:nvPr/>
                    </p:nvSpPr>
                    <p:spPr>
                      <a:xfrm>
                        <a:off x="6382440" y="4150080"/>
                        <a:ext cx="8737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7257600" y="4150080"/>
                        <a:ext cx="3985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986080" y="3376440"/>
                    <a:ext cx="1680120" cy="426960"/>
                    <a:chOff x="5986080" y="3376440"/>
                    <a:chExt cx="1680120" cy="426960"/>
                  </a:xfrm>
                </p:grpSpPr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5986080" y="3376440"/>
                      <a:ext cx="1680120" cy="86760"/>
                      <a:chOff x="5986080" y="3376440"/>
                      <a:chExt cx="1680120" cy="8676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5986080" y="3376440"/>
                        <a:ext cx="40176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6381000" y="3376440"/>
                        <a:ext cx="88164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7264440" y="3376440"/>
                        <a:ext cx="40176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5986080" y="3458880"/>
                      <a:ext cx="1680120" cy="86760"/>
                      <a:chOff x="5986080" y="3458880"/>
                      <a:chExt cx="1680120" cy="8676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5986080" y="345888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6381360" y="3458880"/>
                        <a:ext cx="88128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7264080" y="345888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3" name=""/>
                    <p:cNvGrpSpPr/>
                    <p:nvPr/>
                  </p:nvGrpSpPr>
                  <p:grpSpPr>
                    <a:xfrm>
                      <a:off x="5986080" y="3541680"/>
                      <a:ext cx="1680120" cy="86760"/>
                      <a:chOff x="5986080" y="3541680"/>
                      <a:chExt cx="1680120" cy="86760"/>
                    </a:xfrm>
                  </p:grpSpPr>
                  <p:sp>
                    <p:nvSpPr>
                      <p:cNvPr id="334" name=""/>
                      <p:cNvSpPr/>
                      <p:nvPr/>
                    </p:nvSpPr>
                    <p:spPr>
                      <a:xfrm>
                        <a:off x="5986080" y="354168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6381360" y="3541680"/>
                        <a:ext cx="88128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7264080" y="354168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7" name=""/>
                    <p:cNvGrpSpPr/>
                    <p:nvPr/>
                  </p:nvGrpSpPr>
                  <p:grpSpPr>
                    <a:xfrm>
                      <a:off x="5986080" y="3633840"/>
                      <a:ext cx="1680120" cy="86760"/>
                      <a:chOff x="5986080" y="3633840"/>
                      <a:chExt cx="1680120" cy="86760"/>
                    </a:xfrm>
                  </p:grpSpPr>
                  <p:sp>
                    <p:nvSpPr>
                      <p:cNvPr id="338" name=""/>
                      <p:cNvSpPr/>
                      <p:nvPr/>
                    </p:nvSpPr>
                    <p:spPr>
                      <a:xfrm>
                        <a:off x="5986080" y="3633840"/>
                        <a:ext cx="40176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9" name=""/>
                      <p:cNvSpPr/>
                      <p:nvPr/>
                    </p:nvSpPr>
                    <p:spPr>
                      <a:xfrm>
                        <a:off x="6381000" y="3633840"/>
                        <a:ext cx="88164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7264440" y="3633840"/>
                        <a:ext cx="40176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5986080" y="3716640"/>
                      <a:ext cx="1680120" cy="86760"/>
                      <a:chOff x="5986080" y="3716640"/>
                      <a:chExt cx="1680120" cy="8676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5986080" y="371664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6381360" y="3716640"/>
                        <a:ext cx="88128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7264080" y="3716640"/>
                        <a:ext cx="402120" cy="86760"/>
                      </a:xfrm>
                      <a:prstGeom prst="rect">
                        <a:avLst/>
                      </a:prstGeom>
                      <a:solidFill>
                        <a:srgbClr val="ffff99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960" bIns="39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45" name=""/>
                <p:cNvSpPr/>
                <p:nvPr/>
              </p:nvSpPr>
              <p:spPr>
                <a:xfrm>
                  <a:off x="6035040" y="3497760"/>
                  <a:ext cx="1578240" cy="5202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225360"/>
                      <a:tab algn="l" pos="450720"/>
                      <a:tab algn="l" pos="676440"/>
                      <a:tab algn="l" pos="901800"/>
                      <a:tab algn="l" pos="1127160"/>
                      <a:tab algn="l" pos="1352520"/>
                      <a:tab algn="l" pos="1577880"/>
                      <a:tab algn="l" pos="1803240"/>
                      <a:tab algn="l" pos="2028960"/>
                      <a:tab algn="l" pos="2254320"/>
                      <a:tab algn="l" pos="2479680"/>
                      <a:tab algn="l" pos="2705040"/>
                      <a:tab algn="l" pos="2930400"/>
                      <a:tab algn="l" pos="3156120"/>
                      <a:tab algn="l" pos="3381480"/>
                      <a:tab algn="l" pos="3606840"/>
                      <a:tab algn="l" pos="3832200"/>
                      <a:tab algn="l" pos="4057560"/>
                      <a:tab algn="l" pos="4282920"/>
                      <a:tab algn="l" pos="4508640"/>
                    </a:tabLst>
                  </a:pPr>
                  <a:r>
                    <a:rPr b="1" lang="en-US" sz="1400" spc="-1" strike="noStrike">
                      <a:solidFill>
                        <a:srgbClr val="3b812f"/>
                      </a:solidFill>
                      <a:latin typeface="Arial"/>
                    </a:rPr>
                    <a:t>Document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225360"/>
                      <a:tab algn="l" pos="450720"/>
                      <a:tab algn="l" pos="676440"/>
                      <a:tab algn="l" pos="901800"/>
                      <a:tab algn="l" pos="1127160"/>
                      <a:tab algn="l" pos="1352520"/>
                      <a:tab algn="l" pos="1577880"/>
                      <a:tab algn="l" pos="1803240"/>
                      <a:tab algn="l" pos="2028960"/>
                      <a:tab algn="l" pos="2254320"/>
                      <a:tab algn="l" pos="2479680"/>
                      <a:tab algn="l" pos="2705040"/>
                      <a:tab algn="l" pos="2930400"/>
                      <a:tab algn="l" pos="3156120"/>
                      <a:tab algn="l" pos="3381480"/>
                      <a:tab algn="l" pos="3606840"/>
                      <a:tab algn="l" pos="3832200"/>
                      <a:tab algn="l" pos="4057560"/>
                      <a:tab algn="l" pos="4282920"/>
                      <a:tab algn="l" pos="4508640"/>
                    </a:tabLst>
                  </a:pPr>
                  <a:r>
                    <a:rPr b="1" lang="en-US" sz="1400" spc="-1" strike="noStrike">
                      <a:solidFill>
                        <a:srgbClr val="3b812f"/>
                      </a:solidFill>
                      <a:latin typeface="Arial"/>
                    </a:rPr>
                    <a:t>spreadsheet .xl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234040" y="5176080"/>
                <a:ext cx="1447560" cy="630000"/>
              </a:xfrm>
              <a:prstGeom prst="roundRect">
                <a:avLst>
                  <a:gd name="adj" fmla="val 16667"/>
                </a:avLst>
              </a:prstGeom>
              <a:solidFill>
                <a:srgbClr val="0000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5f5f5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JXDM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ML schem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5246640" y="4218120"/>
                <a:ext cx="1676160" cy="843840"/>
                <a:chOff x="5246640" y="4218120"/>
                <a:chExt cx="1676160" cy="8438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5475240" y="4218120"/>
                  <a:ext cx="1447560" cy="62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f5f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398920" y="4293360"/>
                  <a:ext cx="1447920" cy="63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f5f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322600" y="4368960"/>
                  <a:ext cx="1447920" cy="63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f5f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246640" y="4431960"/>
                  <a:ext cx="1447560" cy="6300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3399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5f5f5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Code tabl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XML schema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2" name=""/>
          <p:cNvSpPr/>
          <p:nvPr/>
        </p:nvSpPr>
        <p:spPr>
          <a:xfrm>
            <a:off x="3736800" y="5029200"/>
            <a:ext cx="1359000" cy="571680"/>
          </a:xfrm>
          <a:prstGeom prst="rightArrow">
            <a:avLst>
              <a:gd name="adj1" fmla="val 50000"/>
              <a:gd name="adj2" fmla="val 5943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6810480" y="4102200"/>
            <a:ext cx="1447560" cy="1736640"/>
            <a:chOff x="6810480" y="4102200"/>
            <a:chExt cx="1447560" cy="1736640"/>
          </a:xfrm>
        </p:grpSpPr>
        <p:sp>
          <p:nvSpPr>
            <p:cNvPr id="354" name=""/>
            <p:cNvSpPr/>
            <p:nvPr/>
          </p:nvSpPr>
          <p:spPr>
            <a:xfrm>
              <a:off x="6810480" y="5191200"/>
              <a:ext cx="1447560" cy="647640"/>
            </a:xfrm>
            <a:prstGeom prst="roundRect">
              <a:avLst>
                <a:gd name="adj" fmla="val 16667"/>
              </a:avLst>
            </a:prstGeom>
            <a:solidFill>
              <a:srgbClr val="cc00cc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JXDM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WL sche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40600" y="4102200"/>
              <a:ext cx="901440" cy="939600"/>
            </a:xfrm>
            <a:prstGeom prst="foldedCorner">
              <a:avLst>
                <a:gd name="adj" fmla="val 20949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prstDash val="dash"/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aph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rts of the GJX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733200" y="1111320"/>
            <a:ext cx="4501800" cy="3893400"/>
            <a:chOff x="3733200" y="1111320"/>
            <a:chExt cx="4501800" cy="3893400"/>
          </a:xfrm>
        </p:grpSpPr>
        <p:cxnSp>
          <p:nvCxnSpPr>
            <p:cNvPr id="358" name=""/>
            <p:cNvCxnSpPr>
              <a:stCxn id="359" idx="1"/>
              <a:endCxn id="265" idx="4"/>
            </p:cNvCxnSpPr>
            <p:nvPr/>
          </p:nvCxnSpPr>
          <p:spPr>
            <a:xfrm flipV="1" rot="10800000">
              <a:off x="3733200" y="2048400"/>
              <a:ext cx="1423080" cy="2956680"/>
            </a:xfrm>
            <a:prstGeom prst="bentConnector3">
              <a:avLst>
                <a:gd name="adj1" fmla="val 49645"/>
              </a:avLst>
            </a:prstGeom>
            <a:ln w="57240">
              <a:solidFill>
                <a:srgbClr val="cc00cc"/>
              </a:solidFill>
              <a:miter/>
              <a:tailEnd len="med" type="triangle" w="med"/>
            </a:ln>
          </p:spPr>
        </p:cxnSp>
        <p:pic>
          <p:nvPicPr>
            <p:cNvPr id="360" name="" descr=""/>
            <p:cNvPicPr/>
            <p:nvPr/>
          </p:nvPicPr>
          <p:blipFill>
            <a:blip r:embed="rId1"/>
            <a:srcRect l="0" t="0" r="5150" b="0"/>
            <a:stretch/>
          </p:blipFill>
          <p:spPr>
            <a:xfrm>
              <a:off x="5165640" y="1111320"/>
              <a:ext cx="2630520" cy="187488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361" name=""/>
            <p:cNvSpPr/>
            <p:nvPr/>
          </p:nvSpPr>
          <p:spPr>
            <a:xfrm>
              <a:off x="6566760" y="2616120"/>
              <a:ext cx="1668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JXDM To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BD73-28F8-4F77-B618-F23F4684DE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12128" r="1613" b="12315"/>
          <a:stretch/>
        </p:blipFill>
        <p:spPr>
          <a:xfrm>
            <a:off x="181080" y="961920"/>
            <a:ext cx="8807400" cy="5072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ata Dictionary - Seman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A481-F7E7-48B2-814F-8D2F22D20B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Justice XML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6280" y="1294200"/>
            <a:ext cx="4991040" cy="131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Facilitate information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nd integrated justice by reduc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impediments, such as standards, c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nd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6280" y="2801880"/>
            <a:ext cx="42368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M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 set of rules that specify syntax for information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6280" y="3666960"/>
            <a:ext cx="4944960" cy="192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ustice XML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:  Extends XML to the justice and public safety communities by providing a standard vocabulary and semantic building blocks that can be reused and extended by practitioners, integrators, and vend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70720" y="1368360"/>
            <a:ext cx="2990520" cy="4171680"/>
            <a:chOff x="5670720" y="1368360"/>
            <a:chExt cx="2990520" cy="4171680"/>
          </a:xfrm>
        </p:grpSpPr>
        <p:sp>
          <p:nvSpPr>
            <p:cNvPr id="131" name=""/>
            <p:cNvSpPr/>
            <p:nvPr/>
          </p:nvSpPr>
          <p:spPr>
            <a:xfrm>
              <a:off x="5670720" y="3880080"/>
              <a:ext cx="2990520" cy="52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ou have to build the </a:t>
              </a:r>
              <a:r>
                <a:rPr b="1" lang="en-US" sz="1400" spc="-1" strike="noStrike" u="sng">
                  <a:solidFill>
                    <a:srgbClr val="cc3300"/>
                  </a:solidFill>
                  <a:uFillTx/>
                  <a:latin typeface="Arial"/>
                </a:rPr>
                <a:t>found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before you can build the hous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1"/>
            <a:srcRect l="8439" t="29339" r="0" b="5205"/>
            <a:stretch/>
          </p:blipFill>
          <p:spPr>
            <a:xfrm>
              <a:off x="5686200" y="4459320"/>
              <a:ext cx="2959200" cy="108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pic>
          <p:nvPicPr>
            <p:cNvPr id="133" name="" descr=""/>
            <p:cNvPicPr/>
            <p:nvPr/>
          </p:nvPicPr>
          <p:blipFill>
            <a:blip r:embed="rId2"/>
            <a:srcRect l="4474" t="0" r="8583" b="3485"/>
            <a:stretch/>
          </p:blipFill>
          <p:spPr>
            <a:xfrm>
              <a:off x="5689440" y="1368360"/>
              <a:ext cx="2954160" cy="2489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C6B5-2162-4B3A-8DF7-3152E95B99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546120" y="3529080"/>
            <a:ext cx="3411360" cy="2340000"/>
          </a:xfrm>
          <a:custGeom>
            <a:avLst/>
            <a:gdLst/>
            <a:ahLst/>
            <a:rect l="l" t="t" r="r" b="b"/>
            <a:pathLst>
              <a:path w="1696" h="1370">
                <a:moveTo>
                  <a:pt x="0" y="0"/>
                </a:moveTo>
                <a:lnTo>
                  <a:pt x="0" y="372"/>
                </a:lnTo>
                <a:lnTo>
                  <a:pt x="902" y="1370"/>
                </a:lnTo>
                <a:lnTo>
                  <a:pt x="1696" y="1370"/>
                </a:lnTo>
                <a:lnTo>
                  <a:pt x="1696" y="954"/>
                </a:lnTo>
                <a:lnTo>
                  <a:pt x="86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99cc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6680" rIns="7668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54880" y="4903920"/>
            <a:ext cx="78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type-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25600" y="961920"/>
            <a:ext cx="11509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68360" y="2163600"/>
            <a:ext cx="1487520" cy="33336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Birth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55760" y="1501920"/>
            <a:ext cx="123804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66960" y="3894120"/>
            <a:ext cx="2364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PhysicalDetails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55760" y="2876400"/>
            <a:ext cx="1949400" cy="3304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Physical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16680" y="4462560"/>
            <a:ext cx="190476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HeightMeas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94680" y="2595600"/>
            <a:ext cx="9428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xt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13280" y="1490760"/>
            <a:ext cx="16063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Name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66" idx="2"/>
            <a:endCxn id="368" idx="1"/>
          </p:cNvCxnSpPr>
          <p:nvPr/>
        </p:nvCxnSpPr>
        <p:spPr>
          <a:xfrm flipH="1" rot="16200000">
            <a:off x="1049400" y="1360080"/>
            <a:ext cx="358920" cy="2548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6" idx="2"/>
            <a:endCxn id="370" idx="1"/>
          </p:cNvCxnSpPr>
          <p:nvPr/>
        </p:nvCxnSpPr>
        <p:spPr>
          <a:xfrm flipH="1" rot="16200000">
            <a:off x="361800" y="2047320"/>
            <a:ext cx="1734120" cy="2548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6" idx="2"/>
            <a:endCxn id="367" idx="1"/>
          </p:cNvCxnSpPr>
          <p:nvPr/>
        </p:nvCxnSpPr>
        <p:spPr>
          <a:xfrm flipH="1" rot="16200000">
            <a:off x="722520" y="1685520"/>
            <a:ext cx="1022760" cy="26712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709560" y="1843200"/>
            <a:ext cx="6699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 Narrow"/>
              </a:rPr>
              <a:t>has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0" idx="3"/>
            <a:endCxn id="369" idx="1"/>
          </p:cNvCxnSpPr>
          <p:nvPr/>
        </p:nvCxnSpPr>
        <p:spPr>
          <a:xfrm>
            <a:off x="3304800" y="3041280"/>
            <a:ext cx="362520" cy="1026360"/>
          </a:xfrm>
          <a:prstGeom prst="bentConnector3">
            <a:avLst>
              <a:gd name="adj1" fmla="val 50000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8" idx="3"/>
            <a:endCxn id="373" idx="1"/>
          </p:cNvCxnSpPr>
          <p:nvPr/>
        </p:nvCxnSpPr>
        <p:spPr>
          <a:xfrm flipV="1">
            <a:off x="2593440" y="1662840"/>
            <a:ext cx="1420200" cy="396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67" idx="3"/>
            <a:endCxn id="381" idx="1"/>
          </p:cNvCxnSpPr>
          <p:nvPr/>
        </p:nvCxnSpPr>
        <p:spPr>
          <a:xfrm flipV="1">
            <a:off x="2855520" y="2323440"/>
            <a:ext cx="484920" cy="6840"/>
          </a:xfrm>
          <a:prstGeom prst="straightConnector1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340080" y="2151000"/>
            <a:ext cx="561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"/>
          <p:cNvCxnSpPr>
            <a:stCxn id="369" idx="2"/>
            <a:endCxn id="371" idx="1"/>
          </p:cNvCxnSpPr>
          <p:nvPr/>
        </p:nvCxnSpPr>
        <p:spPr>
          <a:xfrm flipH="1" rot="16200000">
            <a:off x="4788360" y="4300200"/>
            <a:ext cx="388080" cy="26712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69" idx="2"/>
            <a:endCxn id="384" idx="1"/>
          </p:cNvCxnSpPr>
          <p:nvPr/>
        </p:nvCxnSpPr>
        <p:spPr>
          <a:xfrm flipH="1" rot="16200000">
            <a:off x="4199040" y="4890600"/>
            <a:ext cx="1581840" cy="2800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9" idx="2"/>
            <a:endCxn id="386" idx="1"/>
          </p:cNvCxnSpPr>
          <p:nvPr/>
        </p:nvCxnSpPr>
        <p:spPr>
          <a:xfrm flipH="1" rot="16200000">
            <a:off x="4506840" y="4582440"/>
            <a:ext cx="965880" cy="28008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4476960" y="4749840"/>
            <a:ext cx="603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 Narrow"/>
              </a:rPr>
              <a:t>has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29280" y="5040360"/>
            <a:ext cx="145728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Sex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29280" y="5656320"/>
            <a:ext cx="147960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Build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29280" y="2039760"/>
            <a:ext cx="1690560" cy="3304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Given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"/>
          <p:cNvCxnSpPr>
            <a:stCxn id="373" idx="2"/>
            <a:endCxn id="388" idx="1"/>
          </p:cNvCxnSpPr>
          <p:nvPr/>
        </p:nvCxnSpPr>
        <p:spPr>
          <a:xfrm flipH="1" rot="16200000">
            <a:off x="4787640" y="1864080"/>
            <a:ext cx="369000" cy="31356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90" name=""/>
          <p:cNvCxnSpPr>
            <a:stCxn id="373" idx="2"/>
            <a:endCxn id="391" idx="1"/>
          </p:cNvCxnSpPr>
          <p:nvPr/>
        </p:nvCxnSpPr>
        <p:spPr>
          <a:xfrm flipH="1" rot="16200000">
            <a:off x="4223520" y="2429640"/>
            <a:ext cx="1486800" cy="30060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92" name=""/>
          <p:cNvCxnSpPr>
            <a:stCxn id="373" idx="2"/>
            <a:endCxn id="393" idx="1"/>
          </p:cNvCxnSpPr>
          <p:nvPr/>
        </p:nvCxnSpPr>
        <p:spPr>
          <a:xfrm flipH="1" rot="16200000">
            <a:off x="4496400" y="2156400"/>
            <a:ext cx="940680" cy="300600"/>
          </a:xfrm>
          <a:prstGeom prst="bentConnector2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4468680" y="2313000"/>
            <a:ext cx="657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 Narrow"/>
              </a:rPr>
              <a:t>has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16680" y="2611440"/>
            <a:ext cx="169056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Middl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116680" y="3157560"/>
            <a:ext cx="1701720" cy="330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ersonSur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143160" y="3414600"/>
            <a:ext cx="709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type-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" name=""/>
          <p:cNvCxnSpPr>
            <a:stCxn id="391" idx="3"/>
            <a:endCxn id="372" idx="1"/>
          </p:cNvCxnSpPr>
          <p:nvPr/>
        </p:nvCxnSpPr>
        <p:spPr>
          <a:xfrm flipV="1">
            <a:off x="6818040" y="2768040"/>
            <a:ext cx="477000" cy="554760"/>
          </a:xfrm>
          <a:prstGeom prst="bentConnector3">
            <a:avLst>
              <a:gd name="adj1" fmla="val 50000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88" idx="3"/>
            <a:endCxn id="372" idx="1"/>
          </p:cNvCxnSpPr>
          <p:nvPr/>
        </p:nvCxnSpPr>
        <p:spPr>
          <a:xfrm>
            <a:off x="6819480" y="2205000"/>
            <a:ext cx="475560" cy="564480"/>
          </a:xfrm>
          <a:prstGeom prst="bentConnector3">
            <a:avLst>
              <a:gd name="adj1" fmla="val 49772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3" idx="3"/>
            <a:endCxn id="372" idx="1"/>
          </p:cNvCxnSpPr>
          <p:nvPr/>
        </p:nvCxnSpPr>
        <p:spPr>
          <a:xfrm flipV="1">
            <a:off x="6807240" y="2768400"/>
            <a:ext cx="488160" cy="8640"/>
          </a:xfrm>
          <a:prstGeom prst="bentConnector3">
            <a:avLst>
              <a:gd name="adj1" fmla="val 49815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84" idx="3"/>
            <a:endCxn id="400" idx="1"/>
          </p:cNvCxnSpPr>
          <p:nvPr/>
        </p:nvCxnSpPr>
        <p:spPr>
          <a:xfrm flipV="1">
            <a:off x="6608520" y="5815800"/>
            <a:ext cx="711720" cy="5400"/>
          </a:xfrm>
          <a:prstGeom prst="bentConnector3">
            <a:avLst>
              <a:gd name="adj1" fmla="val 50000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71" idx="3"/>
            <a:endCxn id="402" idx="1"/>
          </p:cNvCxnSpPr>
          <p:nvPr/>
        </p:nvCxnSpPr>
        <p:spPr>
          <a:xfrm flipV="1">
            <a:off x="7021080" y="4624200"/>
            <a:ext cx="29916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86" idx="3"/>
            <a:endCxn id="404" idx="1"/>
          </p:cNvCxnSpPr>
          <p:nvPr/>
        </p:nvCxnSpPr>
        <p:spPr>
          <a:xfrm flipV="1">
            <a:off x="6586200" y="5202000"/>
            <a:ext cx="734040" cy="3600"/>
          </a:xfrm>
          <a:prstGeom prst="bentConnector3">
            <a:avLst>
              <a:gd name="adj1" fmla="val 50000"/>
            </a:avLst>
          </a:prstGeom>
          <a:ln w="3816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7319880" y="5643720"/>
            <a:ext cx="943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xt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19880" y="5029200"/>
            <a:ext cx="13114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cic:SEX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19880" y="4451400"/>
            <a:ext cx="12607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easure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96160" y="2254320"/>
            <a:ext cx="784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type-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884320" y="1500120"/>
            <a:ext cx="784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 Narrow"/>
              </a:rPr>
              <a:t>type-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738360" y="3652920"/>
            <a:ext cx="2947320" cy="2084760"/>
            <a:chOff x="738360" y="3652920"/>
            <a:chExt cx="2947320" cy="2084760"/>
          </a:xfrm>
        </p:grpSpPr>
        <p:sp>
          <p:nvSpPr>
            <p:cNvPr id="408" name=""/>
            <p:cNvSpPr/>
            <p:nvPr/>
          </p:nvSpPr>
          <p:spPr>
            <a:xfrm>
              <a:off x="738360" y="3652920"/>
              <a:ext cx="1264680" cy="337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bject-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511000" y="5400360"/>
              <a:ext cx="1174680" cy="337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Object-Ty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0" name=""/>
            <p:cNvCxnSpPr>
              <a:stCxn id="408" idx="2"/>
              <a:endCxn id="411" idx="1"/>
            </p:cNvCxnSpPr>
            <p:nvPr/>
          </p:nvCxnSpPr>
          <p:spPr>
            <a:xfrm flipH="1" rot="16200000">
              <a:off x="1195920" y="4173840"/>
              <a:ext cx="702000" cy="351360"/>
            </a:xfrm>
            <a:prstGeom prst="bentConnector2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11" idx="3"/>
              <a:endCxn id="409" idx="0"/>
            </p:cNvCxnSpPr>
            <p:nvPr/>
          </p:nvCxnSpPr>
          <p:spPr>
            <a:xfrm>
              <a:off x="2774160" y="4700160"/>
              <a:ext cx="324360" cy="700200"/>
            </a:xfrm>
            <a:prstGeom prst="bentConnector2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2728800" y="4876560"/>
              <a:ext cx="783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Arial Narrow"/>
                </a:rPr>
                <a:t>type-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49040" y="4203720"/>
              <a:ext cx="66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 Narrow"/>
                </a:rPr>
                <a:t>has-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22240" y="4490640"/>
              <a:ext cx="1051920" cy="419400"/>
            </a:xfrm>
            <a:prstGeom prst="roundRect">
              <a:avLst>
                <a:gd name="adj" fmla="val 3357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per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36120" y="392040"/>
            <a:ext cx="7769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ata Model – Structure and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6265-AFAB-46B7-83D7-EB4ED8AD8F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 rot="2584800">
            <a:off x="928440" y="1792080"/>
            <a:ext cx="7651800" cy="3429000"/>
          </a:xfrm>
          <a:prstGeom prst="rightArrow">
            <a:avLst>
              <a:gd name="adj1" fmla="val 50000"/>
              <a:gd name="adj2" fmla="val 55787"/>
            </a:avLst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48235"/>
                </a:srgbClr>
              </a:gs>
              <a:gs pos="100000">
                <a:srgbClr val="75752f"/>
              </a:gs>
            </a:gsLst>
            <a:lin ang="10914000"/>
          </a:gra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6591600">
            <a:off x="4689000" y="-126720"/>
            <a:ext cx="1006560" cy="3835440"/>
          </a:xfrm>
          <a:custGeom>
            <a:avLst/>
            <a:gdLst>
              <a:gd name="textAreaLeft" fmla="*/ 134640 w 1006560"/>
              <a:gd name="textAreaRight" fmla="*/ 871920 w 1006560"/>
              <a:gd name="textAreaTop" fmla="*/ 703080 h 3835440"/>
              <a:gd name="textAreaBottom" fmla="*/ 2854800 h 383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2117"/>
                </a:lnTo>
                <a:arcTo wR="21600" hR="7920" stAng="10800000" swAng="-1968595"/>
                <a:lnTo>
                  <a:pt x="10922" y="20565"/>
                </a:lnTo>
                <a:lnTo>
                  <a:pt x="21600" y="17938"/>
                </a:lnTo>
                <a:lnTo>
                  <a:pt x="10922" y="13240"/>
                </a:lnTo>
                <a:lnTo>
                  <a:pt x="10922" y="14804"/>
                </a:lnTo>
                <a:arcTo wR="21600" hR="7920" stAng="8831405" swAng="1623393"/>
                <a:lnTo>
                  <a:pt x="772" y="10018"/>
                </a:lnTo>
                <a:arcTo wR="21600" hR="7920" stAng="-10454797" swAng="5054797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345203"/>
                <a:lnTo>
                  <a:pt x="772" y="10018"/>
                </a:lnTo>
                <a:arcTo wR="21600" hR="7920" stAng="-10454797" swAng="5054797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25520" y="1193760"/>
            <a:ext cx="6497280" cy="4977000"/>
            <a:chOff x="425520" y="1193760"/>
            <a:chExt cx="6497280" cy="4977000"/>
          </a:xfrm>
        </p:grpSpPr>
        <p:sp>
          <p:nvSpPr>
            <p:cNvPr id="419" name=""/>
            <p:cNvSpPr/>
            <p:nvPr/>
          </p:nvSpPr>
          <p:spPr>
            <a:xfrm flipH="1">
              <a:off x="1401480" y="3013200"/>
              <a:ext cx="2521080" cy="139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0720" y="1967040"/>
              <a:ext cx="102888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iden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5520" y="3986280"/>
              <a:ext cx="102888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oking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78240" y="4224240"/>
              <a:ext cx="88560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16280" y="5119560"/>
              <a:ext cx="88560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4320" y="2671920"/>
              <a:ext cx="97128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e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rr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5720" y="3114720"/>
              <a:ext cx="85716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e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19560" y="5199120"/>
              <a:ext cx="97164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1582920" y="2200320"/>
              <a:ext cx="9540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1263240" y="2398680"/>
              <a:ext cx="25974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1900440" y="2716200"/>
              <a:ext cx="59688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1409400" y="3048120"/>
              <a:ext cx="1484280" cy="12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2376360" y="3672000"/>
              <a:ext cx="742680" cy="60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208040" y="4995720"/>
              <a:ext cx="271476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1766520" y="4398840"/>
              <a:ext cx="299556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378160" y="4613400"/>
              <a:ext cx="111456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396960" y="4386240"/>
              <a:ext cx="294156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914560" y="3695760"/>
              <a:ext cx="485640" cy="9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271880" y="1193760"/>
              <a:ext cx="591840" cy="85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661040" y="826920"/>
            <a:ext cx="6741720" cy="4854600"/>
            <a:chOff x="1661040" y="826920"/>
            <a:chExt cx="6741720" cy="4854600"/>
          </a:xfrm>
        </p:grpSpPr>
        <p:sp>
          <p:nvSpPr>
            <p:cNvPr id="439" name=""/>
            <p:cNvSpPr/>
            <p:nvPr/>
          </p:nvSpPr>
          <p:spPr>
            <a:xfrm>
              <a:off x="2545920" y="2017800"/>
              <a:ext cx="1058400" cy="3682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i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61040" y="826920"/>
              <a:ext cx="1005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53080" y="1427040"/>
              <a:ext cx="1374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vesti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62080" y="2017800"/>
              <a:ext cx="85140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r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95840" y="2679840"/>
              <a:ext cx="75240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16080" y="2679840"/>
              <a:ext cx="103248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f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12440" y="3313080"/>
              <a:ext cx="128412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sec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63080" y="4013280"/>
              <a:ext cx="79200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d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59200" y="4013280"/>
              <a:ext cx="134964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judic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7000" y="4013280"/>
              <a:ext cx="119556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297760" y="4637160"/>
              <a:ext cx="139680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carc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98880" y="3313080"/>
              <a:ext cx="89244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918840" y="4637160"/>
              <a:ext cx="12718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v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360920" y="5313240"/>
              <a:ext cx="10418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6880" y="3313080"/>
              <a:ext cx="96696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37280" y="5313240"/>
              <a:ext cx="9687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d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04000" y="5313240"/>
              <a:ext cx="8787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22240" y="4637160"/>
              <a:ext cx="65160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Assembly Required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6035760" y="1127160"/>
          <a:ext cx="2643120" cy="203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5760" y="1127160"/>
                    <a:ext cx="264312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6925320" y="1644480"/>
            <a:ext cx="893880" cy="6426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X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427F-17C1-480A-95D8-4A9E0E983AAC}" type="slidenum">
              <a:t>31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7307640" y="47592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4160" y="414360"/>
            <a:ext cx="7769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Exchange Package Docu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>
            <a:hlinkClick r:id="rId1"/>
          </p:cNvPr>
          <p:cNvPicPr/>
          <p:nvPr/>
        </p:nvPicPr>
        <p:blipFill>
          <a:blip r:embed="rId2"/>
          <a:srcRect l="0" t="13816" r="19624" b="6069"/>
          <a:stretch/>
        </p:blipFill>
        <p:spPr>
          <a:xfrm>
            <a:off x="851040" y="1103400"/>
            <a:ext cx="6397560" cy="4781520"/>
          </a:xfrm>
          <a:prstGeom prst="rect">
            <a:avLst/>
          </a:prstGeom>
          <a:ln w="38160">
            <a:solidFill>
              <a:srgbClr val="3b812f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</p:pic>
      <p:sp>
        <p:nvSpPr>
          <p:cNvPr id="464" name=""/>
          <p:cNvSpPr/>
          <p:nvPr/>
        </p:nvSpPr>
        <p:spPr>
          <a:xfrm>
            <a:off x="6527880" y="5216400"/>
            <a:ext cx="2209320" cy="70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3b812f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Amber Al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cident Status Sum (ICS2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urt Filing and Document (v1.1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w Enforcement Cre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64080" y="2933640"/>
            <a:ext cx="6464520" cy="1117800"/>
          </a:xfrm>
          <a:prstGeom prst="rect">
            <a:avLst/>
          </a:prstGeom>
          <a:solidFill>
            <a:srgbClr val="ffff66"/>
          </a:solidFill>
          <a:ln w="76320">
            <a:solidFill>
              <a:srgbClr val="cc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 ultimate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List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may be ~1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cc3300"/>
              </a:buClr>
              <a:buFont typeface="Arial"/>
              <a:buChar char="•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+ Likely many more local sch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C4E4F-2F5D-4DCF-8180-B04EFA0B53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Exchange Initia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82480" y="1355760"/>
            <a:ext cx="809316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Law Enforcement Telecommunications System (NLETS) – </a:t>
            </a:r>
            <a:r>
              <a:rPr b="1" lang="en-US" sz="2000" spc="-1" strike="noStrike">
                <a:solidFill>
                  <a:srgbClr val="a20000"/>
                </a:solidFill>
                <a:latin typeface="Arial"/>
              </a:rPr>
              <a:t>Rap Sheet, Drive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WIN – integrated transportation and criminal justice information wirel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J Law Enforcement Information Sharing (LEIS)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Angeles County Sheriff’s Department – </a:t>
            </a:r>
            <a:r>
              <a:rPr b="1" lang="en-US" sz="2000" spc="-1" strike="noStrike">
                <a:solidFill>
                  <a:srgbClr val="a20000"/>
                </a:solidFill>
                <a:latin typeface="Arial"/>
              </a:rPr>
              <a:t>Incid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nsylvania J-Net, Maine State Police, Minnesota CriMNet – </a:t>
            </a:r>
            <a:r>
              <a:rPr b="1" lang="en-US" sz="2000" spc="-1" strike="noStrike">
                <a:solidFill>
                  <a:srgbClr val="a20000"/>
                </a:solidFill>
                <a:latin typeface="Arial"/>
              </a:rPr>
              <a:t>Drive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I Criminal Justice Information Services (CJIS)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ASIS LegalXML Integrated Justice Technical Committee – </a:t>
            </a:r>
            <a:br>
              <a:rPr sz="2000"/>
            </a:br>
            <a:r>
              <a:rPr b="1" lang="en-US" sz="2000" spc="-1" strike="noStrike">
                <a:solidFill>
                  <a:srgbClr val="a20000"/>
                </a:solidFill>
                <a:latin typeface="Arial"/>
              </a:rPr>
              <a:t>Protection Order, Sentencing Order, Court Disposition, C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0000"/>
                </a:solidFill>
                <a:latin typeface="Arial"/>
              </a:rPr>
              <a:t>Amber Al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76560" y="9190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sing the GJX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8AC5-7F6C-4CFD-BAB5-D43D459870D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Using Global JXDM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1360" y="1041480"/>
            <a:ext cx="428472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aska Department of Public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izona Supreme Court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ve Office of the Cou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kansas Integrated Justic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Systems Pro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Associatio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Motor Vehicle Administ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fornia Administrative Offic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ou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fornia Department of Ju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ado Integrated Criminal Justice Informatio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MNet – Minnesota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Public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minal Information Sharing Al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llinois State P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e State Pol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Carolina Criminal Justic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ange County, Flor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59200" y="1041480"/>
            <a:ext cx="406080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nnsylvania Justice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S Application Developmen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ttle, Washingt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west Alabama Integrated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minal Justi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 of New Hampshire –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artment of 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racuse Police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Department of Jus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Office for U.S. Attorn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.S. Postal Inspecti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Maryland Center f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 Transportation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Southern Mississip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mont Department 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ovation and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hington Stat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ve Office of the Cou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051FA-D6A9-472E-A286-C878287AD1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42800" y="1303200"/>
            <a:ext cx="82933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inued refinements and improvements through feedba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chnical assistance (help desk and knowledge bas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cumentation, documentation, documentation,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ining for managers, practitioners, and develop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armonize with other data exchange standar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inue work on software tools for efficient access and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ormation Exchange Package Documentation (IEPDs)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(e.g. RapSheet, IncidentRepor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ther interoperability layers (e.g., security, privac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2286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ther representations (e.g., RDF, OWL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3171-C184-443B-BCBF-93258FE3D5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6400" y="420480"/>
            <a:ext cx="776952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terest in GJXDM Has Been Expressed by …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28800" y="1520640"/>
            <a:ext cx="7291440" cy="343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Homeland Security (D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ittee developing the Terrorist Watchlist Person Data Exchange Standard (TWPD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al Protection Agency (EP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S. Citizenship and Immigration Service USCIS (formerly INS; now under D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ranspor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519E-9CA5-44F5-B579-35285620A6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Criminal Justice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6086" r="0" b="3154"/>
          <a:stretch/>
        </p:blipFill>
        <p:spPr>
          <a:xfrm>
            <a:off x="353880" y="1346040"/>
            <a:ext cx="8433000" cy="4692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36" name=""/>
          <p:cNvSpPr/>
          <p:nvPr/>
        </p:nvSpPr>
        <p:spPr>
          <a:xfrm>
            <a:off x="4044600" y="54864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1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1960" y="1022400"/>
            <a:ext cx="1639080" cy="368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9920" y="1022400"/>
            <a:ext cx="2134440" cy="368280"/>
          </a:xfrm>
          <a:prstGeom prst="rect">
            <a:avLst/>
          </a:prstGeom>
          <a:solidFill>
            <a:srgbClr val="3b81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secute/Pre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32520" y="1022400"/>
            <a:ext cx="1567440" cy="36828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ju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35240" y="1022400"/>
            <a:ext cx="141372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t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87120" y="1022400"/>
            <a:ext cx="1462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225360"/>
                <a:tab algn="l" pos="450720"/>
                <a:tab algn="l" pos="676440"/>
                <a:tab algn="l" pos="901800"/>
                <a:tab algn="l" pos="1127160"/>
                <a:tab algn="l" pos="1352520"/>
                <a:tab algn="l" pos="1577880"/>
                <a:tab algn="l" pos="1803240"/>
                <a:tab algn="l" pos="2028960"/>
                <a:tab algn="l" pos="2254320"/>
                <a:tab algn="l" pos="2479680"/>
                <a:tab algn="l" pos="2705040"/>
                <a:tab algn="l" pos="2930400"/>
                <a:tab algn="l" pos="3156120"/>
                <a:tab algn="l" pos="3381480"/>
                <a:tab algn="l" pos="3606840"/>
                <a:tab algn="l" pos="3832200"/>
                <a:tab algn="l" pos="4057560"/>
                <a:tab algn="l" pos="4282920"/>
                <a:tab algn="l" pos="4508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D133-5426-4B00-96B3-581353FBB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rot="2584800">
            <a:off x="928440" y="1792080"/>
            <a:ext cx="7651800" cy="3429000"/>
          </a:xfrm>
          <a:prstGeom prst="rightArrow">
            <a:avLst>
              <a:gd name="adj1" fmla="val 50000"/>
              <a:gd name="adj2" fmla="val 55787"/>
            </a:avLst>
          </a:prstGeom>
          <a:gradFill rotWithShape="0">
            <a:gsLst>
              <a:gs pos="0">
                <a:srgbClr val="75752f"/>
              </a:gs>
              <a:gs pos="50000">
                <a:srgbClr val="ffff66">
                  <a:alpha val="48235"/>
                </a:srgbClr>
              </a:gs>
              <a:gs pos="100000">
                <a:srgbClr val="75752f"/>
              </a:gs>
            </a:gsLst>
            <a:lin ang="10914000"/>
          </a:gra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6591600">
            <a:off x="4689000" y="-126720"/>
            <a:ext cx="1006560" cy="3835440"/>
          </a:xfrm>
          <a:custGeom>
            <a:avLst/>
            <a:gdLst>
              <a:gd name="textAreaLeft" fmla="*/ 134640 w 1006560"/>
              <a:gd name="textAreaRight" fmla="*/ 871920 w 1006560"/>
              <a:gd name="textAreaTop" fmla="*/ 703080 h 3835440"/>
              <a:gd name="textAreaBottom" fmla="*/ 2854800 h 383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20" stAng="-5400000" swAng="-5400000"/>
                <a:lnTo>
                  <a:pt x="0" y="12117"/>
                </a:lnTo>
                <a:arcTo wR="21600" hR="7920" stAng="10800000" swAng="-1968595"/>
                <a:lnTo>
                  <a:pt x="10922" y="20565"/>
                </a:lnTo>
                <a:lnTo>
                  <a:pt x="21600" y="17938"/>
                </a:lnTo>
                <a:lnTo>
                  <a:pt x="10922" y="13240"/>
                </a:lnTo>
                <a:lnTo>
                  <a:pt x="10922" y="14804"/>
                </a:lnTo>
                <a:arcTo wR="21600" hR="7920" stAng="8831405" swAng="1623393"/>
                <a:lnTo>
                  <a:pt x="772" y="10018"/>
                </a:lnTo>
                <a:arcTo wR="21600" hR="7920" stAng="-10454797" swAng="5054797"/>
                <a:close/>
              </a:path>
              <a:path fill="darkenLess" w="21600" h="21600">
                <a:moveTo>
                  <a:pt x="21600" y="0"/>
                </a:moveTo>
                <a:arcTo wR="21600" hR="7920" stAng="-5400000" swAng="-5400000"/>
                <a:lnTo>
                  <a:pt x="0" y="7920"/>
                </a:lnTo>
                <a:arcTo wR="21600" hR="7920" stAng="10800000" swAng="-345203"/>
                <a:lnTo>
                  <a:pt x="772" y="10018"/>
                </a:lnTo>
                <a:arcTo wR="21600" hR="7920" stAng="-10454797" swAng="5054797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5520" y="1193760"/>
            <a:ext cx="6497280" cy="4977000"/>
            <a:chOff x="425520" y="1193760"/>
            <a:chExt cx="6497280" cy="4977000"/>
          </a:xfrm>
        </p:grpSpPr>
        <p:sp>
          <p:nvSpPr>
            <p:cNvPr id="145" name=""/>
            <p:cNvSpPr/>
            <p:nvPr/>
          </p:nvSpPr>
          <p:spPr>
            <a:xfrm flipH="1">
              <a:off x="1401480" y="3013200"/>
              <a:ext cx="2521080" cy="139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1967040"/>
              <a:ext cx="102888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iden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5520" y="3986280"/>
              <a:ext cx="102888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oking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78240" y="4224240"/>
              <a:ext cx="88560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arg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16280" y="5119560"/>
              <a:ext cx="88560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s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320" y="2671920"/>
              <a:ext cx="97128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e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rr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5720" y="3114720"/>
              <a:ext cx="85716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rest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9560" y="5199120"/>
              <a:ext cx="971640" cy="97164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582920" y="2200320"/>
              <a:ext cx="9540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1263240" y="2398680"/>
              <a:ext cx="25974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1900440" y="2716200"/>
              <a:ext cx="59688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409400" y="3048120"/>
              <a:ext cx="1484280" cy="12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376360" y="3672000"/>
              <a:ext cx="742680" cy="60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208040" y="4995720"/>
              <a:ext cx="2714760" cy="73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766520" y="4398840"/>
              <a:ext cx="2995560" cy="110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78160" y="4613400"/>
              <a:ext cx="1114560" cy="971280"/>
            </a:xfrm>
            <a:prstGeom prst="foldedCorner">
              <a:avLst>
                <a:gd name="adj" fmla="val 325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396960" y="4386240"/>
              <a:ext cx="294156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914560" y="3695760"/>
              <a:ext cx="485640" cy="96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271880" y="1193760"/>
              <a:ext cx="591840" cy="85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661040" y="826920"/>
            <a:ext cx="6741720" cy="4854600"/>
            <a:chOff x="1661040" y="826920"/>
            <a:chExt cx="6741720" cy="4854600"/>
          </a:xfrm>
        </p:grpSpPr>
        <p:sp>
          <p:nvSpPr>
            <p:cNvPr id="165" name=""/>
            <p:cNvSpPr/>
            <p:nvPr/>
          </p:nvSpPr>
          <p:spPr>
            <a:xfrm>
              <a:off x="2545920" y="2017800"/>
              <a:ext cx="1058400" cy="3682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cid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040" y="826920"/>
              <a:ext cx="1005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3080" y="1427040"/>
              <a:ext cx="1374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vestig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62080" y="2017800"/>
              <a:ext cx="85140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rre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95840" y="2679840"/>
              <a:ext cx="75240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o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16080" y="2679840"/>
              <a:ext cx="1032480" cy="36828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nf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12440" y="3313080"/>
              <a:ext cx="128412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sec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63080" y="4013280"/>
              <a:ext cx="79200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di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59200" y="4013280"/>
              <a:ext cx="134964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judic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27000" y="4013280"/>
              <a:ext cx="119556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nt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7760" y="4637160"/>
              <a:ext cx="139680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carc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98880" y="3313080"/>
              <a:ext cx="89244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q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8840" y="4637160"/>
              <a:ext cx="12718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uperv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60920" y="5313240"/>
              <a:ext cx="10418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16880" y="3313080"/>
              <a:ext cx="966960" cy="368280"/>
            </a:xfrm>
            <a:prstGeom prst="rect">
              <a:avLst/>
            </a:prstGeom>
            <a:solidFill>
              <a:srgbClr val="cc00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7280" y="5313240"/>
              <a:ext cx="9687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d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4000" y="5313240"/>
              <a:ext cx="8787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22240" y="4637160"/>
              <a:ext cx="651600" cy="368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1840" y="392040"/>
            <a:ext cx="7769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able Information O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38720" y="1433520"/>
            <a:ext cx="2575080" cy="159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c8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ustice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9B05B-EF55-4F71-B20D-F834D8E2A4AD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Parallel Efforts Came Toget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6981"/>
          <a:stretch/>
        </p:blipFill>
        <p:spPr>
          <a:xfrm>
            <a:off x="504720" y="1065240"/>
            <a:ext cx="8094600" cy="4884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073920" y="2716200"/>
            <a:ext cx="2574720" cy="1365120"/>
          </a:xfrm>
          <a:prstGeom prst="can">
            <a:avLst>
              <a:gd name="adj" fmla="val 16268"/>
            </a:avLst>
          </a:prstGeom>
          <a:gradFill rotWithShape="0">
            <a:gsLst>
              <a:gs pos="0">
                <a:srgbClr val="000000"/>
              </a:gs>
              <a:gs pos="50000">
                <a:srgbClr val="c80000"/>
              </a:gs>
              <a:gs pos="100000">
                <a:srgbClr val="00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stice X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45680" y="4091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X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9D00-03CE-4B85-A36E-495FE43E25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XML Structure Task Fo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946760" y="1127160"/>
            <a:ext cx="3781440" cy="2743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30320" y="1784520"/>
            <a:ext cx="31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rastructure/Standar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Group (GIS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81040" y="1281240"/>
            <a:ext cx="411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3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c007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Narrow"/>
              </a:rPr>
              <a:t>Global XML Structure Task Force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c00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Narrow"/>
              <a:ea typeface="Arial Narrow"/>
            </a:endParaRPr>
          </a:p>
        </p:txBody>
      </p:sp>
      <p:sp>
        <p:nvSpPr>
          <p:cNvPr id="193" name=""/>
          <p:cNvSpPr/>
          <p:nvPr/>
        </p:nvSpPr>
        <p:spPr>
          <a:xfrm>
            <a:off x="896760" y="3960720"/>
            <a:ext cx="716148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des the GJXDM design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and approves all chang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s and decides all issues related to the GJX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s bi-weekly via tele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s 3-4 times per year in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6812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 to the Global Infrastructure/Standards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166760" y="3502080"/>
            <a:ext cx="9874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c007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Narrow"/>
              </a:rPr>
              <a:t>XSTF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c00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Narrow"/>
              <a:ea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2035080" y="35640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90A64-535D-40D8-BE95-5FEA24593C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17600" y="2252520"/>
            <a:ext cx="83358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Justice, Office of Justice Programs (OJ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dvisory Committee, Global Justice Information Sharing Initi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of Commerce, National Telecommunications &amp; Information Administration (NT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d Justice Information System (IJIS) Institute (indus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s from law enforcement (LE), LE intelligence, courts, corrections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Center for State Courts (NCS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, The National Consortium for Justice Information &amp;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rgia Tech Research Institute (GTRI) (technical l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22440" y="1414440"/>
            <a:ext cx="4937040" cy="3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139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c007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Narrow"/>
              </a:rPr>
              <a:t>Global XML Structure Task Force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c00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Narrow"/>
              <a:ea typeface="Arial Narrow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Are the Main Play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599160" y="1463760"/>
            <a:ext cx="9874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9c007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Narrow"/>
              </a:rPr>
              <a:t>(XSTF)</a:t>
            </a:r>
            <a:endParaRPr b="1" i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9c007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Narrow"/>
              <a:ea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2FD36-A79B-4E5B-8FBA-4D4279384D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6400" y="392040"/>
            <a:ext cx="7769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bal Advisory Committee Me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7560" y="971640"/>
            <a:ext cx="4836960" cy="50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ministrative Office of the U.S. Court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Association of Motor Vehicle Administrators (AAMV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Correctional Associ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can Probation and Parole Associ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ference of State Court Administrator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iminal Justice Information Services Advisory Policy Board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ive Office for U.S. Attorney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deral Bureau of Investigation (FBI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ational Association of Chiefs of Police (IACP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ACP – Division of State and Provincial Polic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ACP – Indian Country Law Enforcement Sec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POL – USNCB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jor Cities Chiefs Associ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Association for Court Management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Association of Attorneys General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Association of State Chief Information Officer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Center for State Courts (NCSC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Conference of State Legislatures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Congress of American Indian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Council of Juvenile and Family Court Judg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Criminal Justice Associ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District Attorneys Associ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Governors Association (NG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Law Enforcement Telecommunications System (NLET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Legal Aid and Defender Association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ational Sheriffs Associ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ARCH, The National Consortium for Justice Information &amp; Statistic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Homeland Security (DHS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Justice Management Division (DoJ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epartment of the Treasu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9"/>
              </a:spcBef>
              <a:buSzPct val="186969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.S. Drug Enforcement Administration (DEA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9680" y="2682720"/>
            <a:ext cx="2643120" cy="1313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embership represents over 30 independent justice 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B8D3-93C7-44AE-87F1-013F1A7B6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58:16Z</dcterms:created>
  <dc:creator>Dr Mark R Kindl</dc:creator>
  <dc:description/>
  <dc:language>en-US</dc:language>
  <cp:lastModifiedBy>MB</cp:lastModifiedBy>
  <dcterms:modified xsi:type="dcterms:W3CDTF">2005-04-26T15:41:31Z</dcterms:modified>
  <cp:revision>144</cp:revision>
  <dc:subject/>
  <dc:title>Slide 1</dc:title>
</cp:coreProperties>
</file>