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png" ContentType="image/png"/>
  <Override PartName="/ppt/media/image9.png" ContentType="image/png"/>
  <Override PartName="/ppt/media/image13.wmf" ContentType="image/x-wmf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marL="216000"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80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marL="216000" indent="0" algn="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sldImg"/>
          </p:nvPr>
        </p:nvSpPr>
        <p:spPr>
          <a:xfrm>
            <a:off x="1257120" y="7189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ftr" idx="3"/>
          </p:nvPr>
        </p:nvSpPr>
        <p:spPr>
          <a:xfrm>
            <a:off x="0" y="9118080"/>
            <a:ext cx="3170160" cy="4813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lstStyle>
            <a:lvl1pPr marL="216000"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 type="sldNum" idx="4"/>
          </p:nvPr>
        </p:nvSpPr>
        <p:spPr>
          <a:xfrm>
            <a:off x="4142880" y="9118080"/>
            <a:ext cx="3170520" cy="4813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lstStyle>
            <a:lvl1pPr marL="216000" indent="0" algn="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5B05F873-7073-47E5-A950-603E2CD3077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 representation of the vision we had in 1998/1999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E328F8-4F1E-4E00-A1CD-10550D5EE5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4080" y="68544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E1DFF7-B409-47D0-942D-FBC64BA319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4080" y="68544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C3F0BB-1581-47C2-A253-90E1805597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4080" y="68544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E38287-430D-4D3F-A494-DA84F7E17E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4080" y="68544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4080" y="68544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4080" y="68544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4080" y="68544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154080" y="68544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4080" y="68544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4080" y="68544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B52C4F-8AC2-40DF-8856-47692A0CE8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4080" y="68544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4080" y="68544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4080" y="68544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4080" y="68544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4080" y="68544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4080" y="68544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B0E35A-7823-49C4-8F21-8FF6746A77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4080" y="68544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A660DC-8A9F-4FD5-9734-65946DF6F0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4080" y="68544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0DBE79-5339-47F9-879D-3D711DD8A2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54080" y="68544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F0B5E2-7374-4C73-AFEC-93D920B803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4080" y="68544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A0986A-A133-4400-89ED-AAAAA0C171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4080" y="68544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4C66C0-42E0-40A5-B25C-649B4F6CF0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4080" y="68544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A045D2-11F7-424D-9C5D-717EADB1FE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532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54080" y="68544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43960" y="52560"/>
            <a:ext cx="203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BM User Technologi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502320"/>
            <a:ext cx="594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Extensibility Through DITA Topic and Domain Type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5691240" y="6499080"/>
            <a:ext cx="3340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© 2005 IBM Corporatio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154080" y="65019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BD65E-0A0E-4D24-A90D-82C6687F245C}" type="slidenum"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1447920" y="147600"/>
            <a:ext cx="0" cy="235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1447920" y="647532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516420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7524720" y="687240"/>
            <a:ext cx="1001880" cy="4003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200664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IBM User Technologies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023920" y="6226200"/>
            <a:ext cx="41148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| April 2005  |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086600" y="6270480"/>
            <a:ext cx="19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© 2005 IBM Corporatio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863720" y="4217760"/>
            <a:ext cx="0" cy="9414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86228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520" y="251424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7920" algn="ctr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2db6b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2db6b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2db6b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6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0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520" y="251424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operable Extensibility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ough DITA Topic and Domain Ty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949400" y="4106520"/>
            <a:ext cx="64008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db6b3"/>
                </a:solidFill>
                <a:latin typeface="Arial"/>
              </a:rPr>
              <a:t>Erik Hennum</a:t>
            </a:r>
            <a:endParaRPr b="0" lang="en-US" sz="2000" spc="-1" strike="noStrike">
              <a:solidFill>
                <a:srgbClr val="2db6b3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db6b3"/>
                </a:solidFill>
                <a:latin typeface="Arial"/>
              </a:rPr>
              <a:t>IBM DITA Domains Architect</a:t>
            </a:r>
            <a:endParaRPr b="0" lang="en-US" sz="20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54080" y="68544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Specialization rule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458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337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sign constraint – extension by restri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content model must be a specialized subset of the base mod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 a result, every instance of the derived model is valid for the base mod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good fit for discourse because text tends toward loose content mode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1125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clare the specialization ancestry with the class attribute in the sche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TD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!ATTLIST    steps class  CDATA   "- topic/ol task/steps "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ML Schema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xs:attribute ref="class" default="- topic/ol task/steps "/&gt;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he ol element in the topic module is the base of the steps element in the task module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1125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by matching the element type in the class attribu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SLT idiom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xsl:template match="*[contains(@class,' topic/ol ')]"&gt;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pecializations can rely on the base processing or overrid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1FDA5F-2AF8-4CAF-92DE-CAE54B2ACCB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457200" y="3070080"/>
            <a:ext cx="5334120" cy="892440"/>
          </a:xfrm>
          <a:prstGeom prst="rect">
            <a:avLst/>
          </a:prstGeom>
          <a:solidFill>
            <a:srgbClr val="fff7e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505320" y="3483000"/>
            <a:ext cx="1828800" cy="228600"/>
          </a:xfrm>
          <a:prstGeom prst="rect">
            <a:avLst/>
          </a:prstGeom>
          <a:solidFill>
            <a:srgbClr val="ffe4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57200" y="5486400"/>
            <a:ext cx="5334120" cy="457200"/>
          </a:xfrm>
          <a:prstGeom prst="rect">
            <a:avLst/>
          </a:prstGeom>
          <a:solidFill>
            <a:srgbClr val="fff7e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57200" y="4495680"/>
            <a:ext cx="5334120" cy="412920"/>
          </a:xfrm>
          <a:prstGeom prst="rect">
            <a:avLst/>
          </a:prstGeom>
          <a:solidFill>
            <a:srgbClr val="fff7e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57200" y="1654200"/>
            <a:ext cx="5334120" cy="838080"/>
          </a:xfrm>
          <a:prstGeom prst="rect">
            <a:avLst/>
          </a:prstGeom>
          <a:solidFill>
            <a:srgbClr val="fff7e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54080" y="68544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Implementing a specialized &lt;steps&gt; element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5880" y="3124080"/>
            <a:ext cx="2590920" cy="533520"/>
          </a:xfrm>
          <a:prstGeom prst="borderCallout1">
            <a:avLst>
              <a:gd name="adj1" fmla="val 18750"/>
              <a:gd name="adj2" fmla="val -8333"/>
              <a:gd name="adj3" fmla="val 65476"/>
              <a:gd name="adj4" fmla="val -21814"/>
            </a:avLst>
          </a:prstGeom>
          <a:solidFill>
            <a:srgbClr val="ffffe7"/>
          </a:solidFill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class attribute identifies the module and type ancestr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72200" y="4495680"/>
            <a:ext cx="2496960" cy="533520"/>
          </a:xfrm>
          <a:prstGeom prst="borderCallout1">
            <a:avLst>
              <a:gd name="adj1" fmla="val 18750"/>
              <a:gd name="adj2" fmla="val -8333"/>
              <a:gd name="adj3" fmla="val 23212"/>
              <a:gd name="adj4" fmla="val -22379"/>
            </a:avLst>
          </a:prstGeom>
          <a:solidFill>
            <a:srgbClr val="ffffe7"/>
          </a:solidFill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se processing applies by defaul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172200" y="5486400"/>
            <a:ext cx="2496960" cy="533520"/>
          </a:xfrm>
          <a:prstGeom prst="borderCallout1">
            <a:avLst>
              <a:gd name="adj1" fmla="val 18750"/>
              <a:gd name="adj2" fmla="val -8333"/>
              <a:gd name="adj3" fmla="val 23212"/>
              <a:gd name="adj4" fmla="val -15259"/>
            </a:avLst>
          </a:prstGeom>
          <a:solidFill>
            <a:srgbClr val="ffffe7"/>
          </a:solidFill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specialization can override base processi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429000" y="2057400"/>
            <a:ext cx="762120" cy="228600"/>
          </a:xfrm>
          <a:prstGeom prst="rect">
            <a:avLst/>
          </a:prstGeom>
          <a:solidFill>
            <a:srgbClr val="ffe4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267080" y="4495680"/>
            <a:ext cx="762120" cy="228600"/>
          </a:xfrm>
          <a:prstGeom prst="rect">
            <a:avLst/>
          </a:prstGeom>
          <a:solidFill>
            <a:srgbClr val="ffe4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191120" y="5486400"/>
            <a:ext cx="1066680" cy="228600"/>
          </a:xfrm>
          <a:prstGeom prst="rect">
            <a:avLst/>
          </a:prstGeom>
          <a:solidFill>
            <a:srgbClr val="ffe4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5486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ic design modul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!ELEMENT ol     (%li;)+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!ATTLIST ol     class CDATA "- topic/ol "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!ATTLIST li     class CDATA "- topic/li "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sk design modul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!ELEMENT steps  (%step;)+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!ATTLIST steps  class  CDATA "- topic/ol task/steps "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!ATTLIST step   class  CDATA "- topic/li task/step "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Courier New"/>
              </a:rPr>
              <a:t>topic processing modul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xsl:template match="*[contains(@class,' topic/ol ')]"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Courier New"/>
              </a:rPr>
              <a:t>task processing modul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xsl:template match="*[contains(@class,' task/steps ')]"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095880" y="1371600"/>
            <a:ext cx="2590920" cy="533520"/>
          </a:xfrm>
          <a:prstGeom prst="borderCallout1">
            <a:avLst>
              <a:gd name="adj1" fmla="val 18750"/>
              <a:gd name="adj2" fmla="val -8333"/>
              <a:gd name="adj3" fmla="val 126486"/>
              <a:gd name="adj4" fmla="val -71754"/>
            </a:avLst>
          </a:prstGeom>
          <a:solidFill>
            <a:srgbClr val="ffffe7"/>
          </a:solidFill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very element has an architectural class attribut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721EAF-8554-4A58-9C05-B866FA9F3DA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54080" y="68544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889fb"/>
                </a:solidFill>
                <a:latin typeface="Arial"/>
              </a:rPr>
              <a:t>Generalizing to the base type (casting)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09120" y="3962520"/>
            <a:ext cx="785196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125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utomated process can preserve the content but convert from specialized to general markup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5120" indent="0">
              <a:spcBef>
                <a:spcPts val="10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 send content to someone who doesn’t have your specialized marku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65120" indent="0">
              <a:spcBef>
                <a:spcPts val="10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 retire specialized markup but keep the cont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65120" indent="0">
              <a:spcBef>
                <a:spcPts val="10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 provide content to a tool that understands only element names and not the DITA class attribu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533520" y="2322360"/>
            <a:ext cx="2438280" cy="1447560"/>
            <a:chOff x="533520" y="2322360"/>
            <a:chExt cx="2438280" cy="1447560"/>
          </a:xfrm>
        </p:grpSpPr>
        <p:grpSp>
          <p:nvGrpSpPr>
            <p:cNvPr id="164" name=""/>
            <p:cNvGrpSpPr/>
            <p:nvPr/>
          </p:nvGrpSpPr>
          <p:grpSpPr>
            <a:xfrm>
              <a:off x="533520" y="2322360"/>
              <a:ext cx="2438280" cy="1447560"/>
              <a:chOff x="533520" y="2322360"/>
              <a:chExt cx="2438280" cy="1447560"/>
            </a:xfrm>
          </p:grpSpPr>
          <p:sp>
            <p:nvSpPr>
              <p:cNvPr id="165" name=""/>
              <p:cNvSpPr/>
              <p:nvPr/>
            </p:nvSpPr>
            <p:spPr>
              <a:xfrm>
                <a:off x="533520" y="2322360"/>
                <a:ext cx="2438280" cy="1447560"/>
              </a:xfrm>
              <a:prstGeom prst="ellipse">
                <a:avLst/>
              </a:prstGeom>
              <a:solidFill>
                <a:srgbClr val="aaea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762120" y="2741400"/>
                <a:ext cx="2057400" cy="609480"/>
              </a:xfrm>
              <a:prstGeom prst="cube">
                <a:avLst>
                  <a:gd name="adj" fmla="val 25000"/>
                </a:avLst>
              </a:prstGeom>
              <a:solidFill>
                <a:srgbClr val="2db6b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Tutorial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67" name=""/>
            <p:cNvSpPr/>
            <p:nvPr/>
          </p:nvSpPr>
          <p:spPr>
            <a:xfrm>
              <a:off x="1257480" y="3428640"/>
              <a:ext cx="99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y type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5257800" y="2324160"/>
            <a:ext cx="2440080" cy="1444680"/>
            <a:chOff x="5257800" y="2324160"/>
            <a:chExt cx="2440080" cy="1444680"/>
          </a:xfrm>
        </p:grpSpPr>
        <p:grpSp>
          <p:nvGrpSpPr>
            <p:cNvPr id="169" name=""/>
            <p:cNvGrpSpPr/>
            <p:nvPr/>
          </p:nvGrpSpPr>
          <p:grpSpPr>
            <a:xfrm>
              <a:off x="5257800" y="2324160"/>
              <a:ext cx="2440080" cy="1444680"/>
              <a:chOff x="5257800" y="2324160"/>
              <a:chExt cx="2440080" cy="1444680"/>
            </a:xfrm>
          </p:grpSpPr>
          <p:sp>
            <p:nvSpPr>
              <p:cNvPr id="170" name=""/>
              <p:cNvSpPr/>
              <p:nvPr/>
            </p:nvSpPr>
            <p:spPr>
              <a:xfrm>
                <a:off x="5257800" y="2324160"/>
                <a:ext cx="2440080" cy="1444680"/>
              </a:xfrm>
              <a:prstGeom prst="ellipse">
                <a:avLst/>
              </a:prstGeom>
              <a:solidFill>
                <a:srgbClr val="f8db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5410080" y="2741760"/>
                <a:ext cx="2057400" cy="609480"/>
              </a:xfrm>
              <a:prstGeom prst="cube">
                <a:avLst>
                  <a:gd name="adj" fmla="val 25000"/>
                </a:avLst>
              </a:prstGeom>
              <a:solidFill>
                <a:srgbClr val="d1821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MaintenanceProcedure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72" name=""/>
            <p:cNvSpPr/>
            <p:nvPr/>
          </p:nvSpPr>
          <p:spPr>
            <a:xfrm>
              <a:off x="5943600" y="3429000"/>
              <a:ext cx="1066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your type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2895480" y="1295280"/>
            <a:ext cx="2440080" cy="1444680"/>
            <a:chOff x="2895480" y="1295280"/>
            <a:chExt cx="2440080" cy="1444680"/>
          </a:xfrm>
        </p:grpSpPr>
        <p:grpSp>
          <p:nvGrpSpPr>
            <p:cNvPr id="174" name=""/>
            <p:cNvGrpSpPr/>
            <p:nvPr/>
          </p:nvGrpSpPr>
          <p:grpSpPr>
            <a:xfrm>
              <a:off x="2895480" y="1295280"/>
              <a:ext cx="2440080" cy="1444680"/>
              <a:chOff x="2895480" y="1295280"/>
              <a:chExt cx="2440080" cy="1444680"/>
            </a:xfrm>
          </p:grpSpPr>
          <p:sp>
            <p:nvSpPr>
              <p:cNvPr id="175" name=""/>
              <p:cNvSpPr/>
              <p:nvPr/>
            </p:nvSpPr>
            <p:spPr>
              <a:xfrm>
                <a:off x="2895480" y="1295280"/>
                <a:ext cx="2440080" cy="1444680"/>
              </a:xfrm>
              <a:prstGeom prst="ellipse">
                <a:avLst/>
              </a:prstGeom>
              <a:gradFill rotWithShape="0">
                <a:gsLst>
                  <a:gs pos="0">
                    <a:srgbClr val="f8dbb0"/>
                  </a:gs>
                  <a:gs pos="100000">
                    <a:srgbClr val="00dd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3619440" y="1712520"/>
                <a:ext cx="990720" cy="609840"/>
              </a:xfrm>
              <a:prstGeom prst="cube">
                <a:avLst>
                  <a:gd name="adj" fmla="val 25000"/>
                </a:avLst>
              </a:prstGeom>
              <a:solidFill>
                <a:srgbClr val="7889f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Task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77" name=""/>
            <p:cNvSpPr/>
            <p:nvPr/>
          </p:nvSpPr>
          <p:spPr>
            <a:xfrm>
              <a:off x="3582720" y="2361960"/>
              <a:ext cx="106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ur type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178" name=""/>
          <p:cNvCxnSpPr>
            <a:stCxn id="166" idx="1"/>
            <a:endCxn id="176" idx="2"/>
          </p:cNvCxnSpPr>
          <p:nvPr/>
        </p:nvCxnSpPr>
        <p:spPr>
          <a:xfrm flipH="1" flipV="1" rot="5400000">
            <a:off x="2266560" y="1540800"/>
            <a:ext cx="801000" cy="1905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9" name=""/>
          <p:cNvCxnSpPr>
            <a:stCxn id="171" idx="1"/>
            <a:endCxn id="176" idx="4"/>
          </p:cNvCxnSpPr>
          <p:nvPr/>
        </p:nvCxnSpPr>
        <p:spPr>
          <a:xfrm flipV="1" rot="16200000">
            <a:off x="5009400" y="1540800"/>
            <a:ext cx="801000" cy="1905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E22FD0-A5A6-4D3E-9C13-ECCEC293497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963720" y="1208160"/>
            <a:ext cx="7488000" cy="197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What is a DITA topic type?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E9A2C8-591C-4EA3-AF99-53964A30D7A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54080" y="68544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Specialization hierarchy for topic type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200400" y="1676520"/>
            <a:ext cx="990720" cy="609480"/>
          </a:xfrm>
          <a:prstGeom prst="cube">
            <a:avLst>
              <a:gd name="adj" fmla="val 25000"/>
            </a:avLst>
          </a:prstGeom>
          <a:solidFill>
            <a:srgbClr val="7889f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opi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0880" y="2946240"/>
            <a:ext cx="990720" cy="609840"/>
          </a:xfrm>
          <a:prstGeom prst="cube">
            <a:avLst>
              <a:gd name="adj" fmla="val 25000"/>
            </a:avLst>
          </a:prstGeom>
          <a:solidFill>
            <a:srgbClr val="7889f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cep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84" name=""/>
          <p:cNvCxnSpPr>
            <a:stCxn id="182" idx="3"/>
            <a:endCxn id="183" idx="1"/>
          </p:cNvCxnSpPr>
          <p:nvPr/>
        </p:nvCxnSpPr>
        <p:spPr>
          <a:xfrm rot="5400000">
            <a:off x="1802520" y="1282680"/>
            <a:ext cx="813600" cy="2819880"/>
          </a:xfrm>
          <a:prstGeom prst="bentConnector3">
            <a:avLst>
              <a:gd name="adj1" fmla="val 40593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85" name=""/>
          <p:cNvSpPr/>
          <p:nvPr/>
        </p:nvSpPr>
        <p:spPr>
          <a:xfrm>
            <a:off x="1650960" y="2946240"/>
            <a:ext cx="990720" cy="609840"/>
          </a:xfrm>
          <a:prstGeom prst="cube">
            <a:avLst>
              <a:gd name="adj" fmla="val 25000"/>
            </a:avLst>
          </a:prstGeom>
          <a:solidFill>
            <a:srgbClr val="7889f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ask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689120" y="4216320"/>
            <a:ext cx="914400" cy="609840"/>
          </a:xfrm>
          <a:prstGeom prst="cube">
            <a:avLst>
              <a:gd name="adj" fmla="val 25000"/>
            </a:avLst>
          </a:prstGeom>
          <a:solidFill>
            <a:srgbClr val="cccc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Tutori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87" name=""/>
          <p:cNvCxnSpPr>
            <a:stCxn id="185" idx="3"/>
            <a:endCxn id="186" idx="1"/>
          </p:cNvCxnSpPr>
          <p:nvPr/>
        </p:nvCxnSpPr>
        <p:spPr>
          <a:xfrm>
            <a:off x="2069640" y="3556080"/>
            <a:ext cx="1080" cy="813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88" name=""/>
          <p:cNvSpPr/>
          <p:nvPr/>
        </p:nvSpPr>
        <p:spPr>
          <a:xfrm>
            <a:off x="5187960" y="5486400"/>
            <a:ext cx="1066680" cy="609480"/>
          </a:xfrm>
          <a:prstGeom prst="cube">
            <a:avLst>
              <a:gd name="adj" fmla="val 25000"/>
            </a:avLst>
          </a:prstGeom>
          <a:solidFill>
            <a:srgbClr val="cccc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Java AP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625920" y="5486400"/>
            <a:ext cx="1066680" cy="609480"/>
          </a:xfrm>
          <a:prstGeom prst="cube">
            <a:avLst>
              <a:gd name="adj" fmla="val 25000"/>
            </a:avLst>
          </a:prstGeom>
          <a:solidFill>
            <a:srgbClr val="cccc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C++  AP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844720" y="4216320"/>
            <a:ext cx="1143000" cy="609840"/>
          </a:xfrm>
          <a:prstGeom prst="cube">
            <a:avLst>
              <a:gd name="adj" fmla="val 25000"/>
            </a:avLst>
          </a:prstGeom>
          <a:solidFill>
            <a:srgbClr val="cccc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Comman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892840" y="4216320"/>
            <a:ext cx="1143000" cy="609840"/>
          </a:xfrm>
          <a:prstGeom prst="cube">
            <a:avLst>
              <a:gd name="adj" fmla="val 25000"/>
            </a:avLst>
          </a:prstGeom>
          <a:solidFill>
            <a:srgbClr val="cccc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Messa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330800" y="2946240"/>
            <a:ext cx="1218960" cy="609840"/>
          </a:xfrm>
          <a:prstGeom prst="cube">
            <a:avLst>
              <a:gd name="adj" fmla="val 25000"/>
            </a:avLst>
          </a:prstGeom>
          <a:solidFill>
            <a:srgbClr val="7889f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efere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483080" y="4216320"/>
            <a:ext cx="914400" cy="609840"/>
          </a:xfrm>
          <a:prstGeom prst="cube">
            <a:avLst>
              <a:gd name="adj" fmla="val 25000"/>
            </a:avLst>
          </a:prstGeom>
          <a:solidFill>
            <a:srgbClr val="cccc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2" idx="3"/>
            <a:endCxn id="190" idx="1"/>
          </p:cNvCxnSpPr>
          <p:nvPr/>
        </p:nvCxnSpPr>
        <p:spPr>
          <a:xfrm rot="5400000">
            <a:off x="3694680" y="3200400"/>
            <a:ext cx="813600" cy="1524600"/>
          </a:xfrm>
          <a:prstGeom prst="bentConnector3">
            <a:avLst>
              <a:gd name="adj1" fmla="val 40593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95" name=""/>
          <p:cNvCxnSpPr>
            <a:stCxn id="192" idx="3"/>
            <a:endCxn id="191" idx="1"/>
          </p:cNvCxnSpPr>
          <p:nvPr/>
        </p:nvCxnSpPr>
        <p:spPr>
          <a:xfrm flipH="1" rot="16200000">
            <a:off x="5219640" y="3200040"/>
            <a:ext cx="813600" cy="1524960"/>
          </a:xfrm>
          <a:prstGeom prst="bentConnector3">
            <a:avLst>
              <a:gd name="adj1" fmla="val 40593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96" name=""/>
          <p:cNvCxnSpPr>
            <a:stCxn id="193" idx="3"/>
            <a:endCxn id="189" idx="1"/>
          </p:cNvCxnSpPr>
          <p:nvPr/>
        </p:nvCxnSpPr>
        <p:spPr>
          <a:xfrm rot="5400000">
            <a:off x="4066560" y="4841640"/>
            <a:ext cx="813240" cy="781560"/>
          </a:xfrm>
          <a:prstGeom prst="bentConnector3">
            <a:avLst>
              <a:gd name="adj1" fmla="val 40611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97" name=""/>
          <p:cNvCxnSpPr>
            <a:stCxn id="193" idx="3"/>
            <a:endCxn id="188" idx="1"/>
          </p:cNvCxnSpPr>
          <p:nvPr/>
        </p:nvCxnSpPr>
        <p:spPr>
          <a:xfrm flipH="1" rot="16200000">
            <a:off x="4848120" y="4841280"/>
            <a:ext cx="813240" cy="781920"/>
          </a:xfrm>
          <a:prstGeom prst="bentConnector3">
            <a:avLst>
              <a:gd name="adj1" fmla="val 40611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98" name=""/>
          <p:cNvCxnSpPr>
            <a:stCxn id="192" idx="3"/>
            <a:endCxn id="193" idx="1"/>
          </p:cNvCxnSpPr>
          <p:nvPr/>
        </p:nvCxnSpPr>
        <p:spPr>
          <a:xfrm>
            <a:off x="4863600" y="3556080"/>
            <a:ext cx="1080" cy="813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99" name=""/>
          <p:cNvSpPr/>
          <p:nvPr/>
        </p:nvSpPr>
        <p:spPr>
          <a:xfrm>
            <a:off x="5105520" y="1295280"/>
            <a:ext cx="3733560" cy="580680"/>
          </a:xfrm>
          <a:prstGeom prst="rect">
            <a:avLst/>
          </a:prstGeom>
          <a:solidFill>
            <a:srgbClr val="ffff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topic type provides the </a:t>
            </a:r>
            <a:r>
              <a:rPr b="1" lang="en-US" sz="1600" spc="-1" strike="noStrike">
                <a:solidFill>
                  <a:srgbClr val="7889fb"/>
                </a:solidFill>
                <a:latin typeface="Arial"/>
              </a:rPr>
              <a:t>coarse structure and semantics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 cont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7391520" y="2946240"/>
            <a:ext cx="1447560" cy="609840"/>
          </a:xfrm>
          <a:prstGeom prst="cube">
            <a:avLst>
              <a:gd name="adj" fmla="val 25000"/>
            </a:avLst>
          </a:prstGeom>
          <a:solidFill>
            <a:srgbClr val="cccc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Event</a:t>
            </a:r>
            <a:br>
              <a:rPr sz="1200"/>
            </a:b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announcem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01" name=""/>
          <p:cNvCxnSpPr>
            <a:stCxn id="182" idx="3"/>
            <a:endCxn id="185" idx="1"/>
          </p:cNvCxnSpPr>
          <p:nvPr/>
        </p:nvCxnSpPr>
        <p:spPr>
          <a:xfrm rot="5400000">
            <a:off x="2437560" y="1917720"/>
            <a:ext cx="813600" cy="1550160"/>
          </a:xfrm>
          <a:prstGeom prst="bentConnector3">
            <a:avLst>
              <a:gd name="adj1" fmla="val 40593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202" name=""/>
          <p:cNvCxnSpPr>
            <a:stCxn id="182" idx="3"/>
            <a:endCxn id="192" idx="1"/>
          </p:cNvCxnSpPr>
          <p:nvPr/>
        </p:nvCxnSpPr>
        <p:spPr>
          <a:xfrm flipH="1" rot="16200000">
            <a:off x="3834360" y="2070000"/>
            <a:ext cx="813600" cy="1245240"/>
          </a:xfrm>
          <a:prstGeom prst="bentConnector3">
            <a:avLst>
              <a:gd name="adj1" fmla="val 40593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203" name=""/>
          <p:cNvSpPr/>
          <p:nvPr/>
        </p:nvSpPr>
        <p:spPr>
          <a:xfrm>
            <a:off x="7391520" y="3835440"/>
            <a:ext cx="1447560" cy="609480"/>
          </a:xfrm>
          <a:prstGeom prst="cube">
            <a:avLst>
              <a:gd name="adj" fmla="val 25000"/>
            </a:avLst>
          </a:prstGeom>
          <a:solidFill>
            <a:srgbClr val="cccc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Insurance</a:t>
            </a:r>
            <a:br>
              <a:rPr sz="1200"/>
            </a:b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claim for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7391520" y="4724280"/>
            <a:ext cx="1447560" cy="609840"/>
          </a:xfrm>
          <a:prstGeom prst="cube">
            <a:avLst>
              <a:gd name="adj" fmla="val 25000"/>
            </a:avLst>
          </a:prstGeom>
          <a:solidFill>
            <a:srgbClr val="cccc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Use case</a:t>
            </a:r>
            <a:br>
              <a:rPr sz="1200"/>
            </a:b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specific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05" name=""/>
          <p:cNvCxnSpPr>
            <a:stCxn id="182" idx="3"/>
            <a:endCxn id="200" idx="1"/>
          </p:cNvCxnSpPr>
          <p:nvPr/>
        </p:nvCxnSpPr>
        <p:spPr>
          <a:xfrm flipH="1" rot="16200000">
            <a:off x="5421960" y="482400"/>
            <a:ext cx="813600" cy="4420440"/>
          </a:xfrm>
          <a:prstGeom prst="bentConnector3">
            <a:avLst>
              <a:gd name="adj1" fmla="val 4059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6" name=""/>
          <p:cNvSpPr/>
          <p:nvPr/>
        </p:nvSpPr>
        <p:spPr>
          <a:xfrm>
            <a:off x="7772400" y="354348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772400" y="44323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772400" y="533412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C1C704-E52A-4523-B14A-43AD3B25AD1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457200" y="3871800"/>
            <a:ext cx="6095880" cy="2148120"/>
          </a:xfrm>
          <a:prstGeom prst="rect">
            <a:avLst/>
          </a:prstGeom>
          <a:solidFill>
            <a:srgbClr val="fff7e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57200" y="2286000"/>
            <a:ext cx="6095880" cy="1447920"/>
          </a:xfrm>
          <a:prstGeom prst="rect">
            <a:avLst/>
          </a:prstGeom>
          <a:solidFill>
            <a:srgbClr val="fff7e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57200" y="1447920"/>
            <a:ext cx="6095880" cy="761760"/>
          </a:xfrm>
          <a:prstGeom prst="rect">
            <a:avLst/>
          </a:prstGeom>
          <a:solidFill>
            <a:srgbClr val="fff7e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54080" y="68544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Parts of a DITA topic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8280" y="1508040"/>
            <a:ext cx="6053400" cy="48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task id="installstorage"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title&gt;Installing a hard drive&lt;/titl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shortdesc&gt;You open the box and insert the drive.&lt;/shortdesc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3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prolog&gt;&lt;metadata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audience type="administrator"/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keywords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indexterm&gt;hard drive&lt;/indexterm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indexterm&gt;disk drive&lt;/indexterm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keywords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metadata&gt;&lt;/prolog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3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taskbody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steps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step&gt;&lt;cmd&gt;Unscrew the cover.&lt;/cmd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stepresult&gt;The drive bay is exposed.&lt;/stepresul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step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step&gt;&lt;cmd&gt;Insert the drive into the drive bay.&lt;/cmd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info&gt;If you feel resistance, try another angle.&lt;/info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step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steps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taskbody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task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858000" y="1600200"/>
            <a:ext cx="1981080" cy="380880"/>
          </a:xfrm>
          <a:prstGeom prst="borderCallout1">
            <a:avLst>
              <a:gd name="adj1" fmla="val 18750"/>
              <a:gd name="adj2" fmla="val -8333"/>
              <a:gd name="adj3" fmla="val 45000"/>
              <a:gd name="adj4" fmla="val -110657"/>
            </a:avLst>
          </a:prstGeom>
          <a:solidFill>
            <a:srgbClr val="ffffe7"/>
          </a:solidFill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dentifier and label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858000" y="2819520"/>
            <a:ext cx="1982880" cy="609480"/>
          </a:xfrm>
          <a:prstGeom prst="borderCallout1">
            <a:avLst>
              <a:gd name="adj1" fmla="val 18750"/>
              <a:gd name="adj2" fmla="val -8333"/>
              <a:gd name="adj3" fmla="val 17967"/>
              <a:gd name="adj4" fmla="val -108004"/>
            </a:avLst>
          </a:prstGeom>
          <a:solidFill>
            <a:srgbClr val="ffffe7"/>
          </a:solidFill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essable  properti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858000" y="4191120"/>
            <a:ext cx="1982880" cy="685800"/>
          </a:xfrm>
          <a:prstGeom prst="borderCallout1">
            <a:avLst>
              <a:gd name="adj1" fmla="val 18750"/>
              <a:gd name="adj2" fmla="val -8333"/>
              <a:gd name="adj3" fmla="val 15046"/>
              <a:gd name="adj4" fmla="val -101199"/>
            </a:avLst>
          </a:prstGeom>
          <a:solidFill>
            <a:srgbClr val="ffffe7"/>
          </a:solidFill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ent structure for the topic typ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4946BE-C1A7-4991-8F25-36F62A2E270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457200" y="4419720"/>
            <a:ext cx="4648320" cy="457200"/>
          </a:xfrm>
          <a:prstGeom prst="rect">
            <a:avLst/>
          </a:prstGeom>
          <a:solidFill>
            <a:srgbClr val="fff7e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57200" y="2438280"/>
            <a:ext cx="4648320" cy="1371600"/>
          </a:xfrm>
          <a:prstGeom prst="rect">
            <a:avLst/>
          </a:prstGeom>
          <a:solidFill>
            <a:srgbClr val="fff7e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54080" y="68544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A hybrid topic with both data and discourse content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8280" y="1508040"/>
            <a:ext cx="6053400" cy="48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enote id="note1"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subject&gt;How to compose an eNote&lt;/subjec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notedetail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note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From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recipient href="sender@send.org"/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From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To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recipient href="receiver@receive.org"/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To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note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notebody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p&gt;To compose an eNote, you ...&lt;/p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notebody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notedetail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enot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858000" y="2666880"/>
            <a:ext cx="1982880" cy="381240"/>
          </a:xfrm>
          <a:prstGeom prst="borderCallout1">
            <a:avLst>
              <a:gd name="adj1" fmla="val 18750"/>
              <a:gd name="adj2" fmla="val -8333"/>
              <a:gd name="adj3" fmla="val 28749"/>
              <a:gd name="adj4" fmla="val -108004"/>
            </a:avLst>
          </a:prstGeom>
          <a:solidFill>
            <a:srgbClr val="ffffe7"/>
          </a:solidFill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pecialized 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858000" y="4419720"/>
            <a:ext cx="1982880" cy="685800"/>
          </a:xfrm>
          <a:prstGeom prst="borderCallout1">
            <a:avLst>
              <a:gd name="adj1" fmla="val 18750"/>
              <a:gd name="adj2" fmla="val -8333"/>
              <a:gd name="adj3" fmla="val 16666"/>
              <a:gd name="adj4" fmla="val -116171"/>
            </a:avLst>
          </a:prstGeom>
          <a:solidFill>
            <a:srgbClr val="ffffe7"/>
          </a:solidFill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ours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7C0C1A-B62F-4E23-A221-8E6A2B63B1B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963720" y="1208160"/>
            <a:ext cx="7646760" cy="197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What is a DITA vocabulary domain?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25F367-9303-4C93-8E25-C231ADE776A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4080" y="68544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Specialization of vocabulary domain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3352320"/>
            <a:ext cx="80010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61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a domain in many topic typ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ines metadata properties, kinds of names, or text structure for a subject are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ne-grained structure and semant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25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TA core doma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gramming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apiname, codeph, codeblock,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ftware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mdname, filepath, varname,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r interface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wintitle, uicontrol,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ghlighted phrases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b, i, u, sup, sub,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25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reate new domains for subject ar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lco, Semiconductor, Financial, Insurance, Retail, Legal, Life Sciences,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4952880" y="1447920"/>
            <a:ext cx="3656160" cy="1980360"/>
            <a:chOff x="4952880" y="1447920"/>
            <a:chExt cx="3656160" cy="1980360"/>
          </a:xfrm>
        </p:grpSpPr>
        <p:sp>
          <p:nvSpPr>
            <p:cNvPr id="227" name=""/>
            <p:cNvSpPr/>
            <p:nvPr/>
          </p:nvSpPr>
          <p:spPr>
            <a:xfrm>
              <a:off x="4952880" y="1447920"/>
              <a:ext cx="3656160" cy="1980360"/>
            </a:xfrm>
            <a:prstGeom prst="rect">
              <a:avLst/>
            </a:prstGeom>
            <a:solidFill>
              <a:srgbClr val="7889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952880" y="1447920"/>
              <a:ext cx="3656160" cy="1980360"/>
            </a:xfrm>
            <a:prstGeom prst="rect">
              <a:avLst/>
            </a:prstGeom>
            <a:solidFill>
              <a:srgbClr val="7889fb"/>
            </a:solidFill>
            <a:ln cap="rnd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9" name=""/>
          <p:cNvSpPr/>
          <p:nvPr/>
        </p:nvSpPr>
        <p:spPr>
          <a:xfrm>
            <a:off x="5105520" y="1600200"/>
            <a:ext cx="1752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ask topic typ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477120" y="1600200"/>
            <a:ext cx="1981080" cy="318960"/>
          </a:xfrm>
          <a:prstGeom prst="cube">
            <a:avLst>
              <a:gd name="adj" fmla="val 25000"/>
            </a:avLst>
          </a:prstGeom>
          <a:solidFill>
            <a:srgbClr val="d1821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oftware doma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477120" y="2514600"/>
            <a:ext cx="1981080" cy="318960"/>
          </a:xfrm>
          <a:prstGeom prst="cube">
            <a:avLst>
              <a:gd name="adj" fmla="val 25000"/>
            </a:avLst>
          </a:prstGeom>
          <a:solidFill>
            <a:srgbClr val="d1821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UI doma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477120" y="2057400"/>
            <a:ext cx="1981080" cy="318960"/>
          </a:xfrm>
          <a:prstGeom prst="cube">
            <a:avLst>
              <a:gd name="adj" fmla="val 25000"/>
            </a:avLst>
          </a:prstGeom>
          <a:solidFill>
            <a:srgbClr val="d1821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rogramming doma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477120" y="2971800"/>
            <a:ext cx="1981080" cy="318960"/>
          </a:xfrm>
          <a:prstGeom prst="cube">
            <a:avLst>
              <a:gd name="adj" fmla="val 25000"/>
            </a:avLst>
          </a:prstGeom>
          <a:solidFill>
            <a:srgbClr val="d1821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Highlighting doma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952880" y="1143000"/>
            <a:ext cx="365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omains as blades for topic typ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143000" y="114300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omain inheritan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219320" y="2046240"/>
            <a:ext cx="1676160" cy="327240"/>
          </a:xfrm>
          <a:prstGeom prst="cube">
            <a:avLst>
              <a:gd name="adj" fmla="val 25000"/>
            </a:avLst>
          </a:prstGeom>
          <a:solidFill>
            <a:srgbClr val="d1821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UI doma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219320" y="2643120"/>
            <a:ext cx="1676160" cy="328680"/>
          </a:xfrm>
          <a:prstGeom prst="cube">
            <a:avLst>
              <a:gd name="adj" fmla="val 25000"/>
            </a:avLst>
          </a:prstGeom>
          <a:solidFill>
            <a:srgbClr val="f8d9ac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Web UI doma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219320" y="1447920"/>
            <a:ext cx="1676160" cy="328320"/>
          </a:xfrm>
          <a:prstGeom prst="cube">
            <a:avLst>
              <a:gd name="adj" fmla="val 25000"/>
            </a:avLst>
          </a:prstGeom>
          <a:solidFill>
            <a:srgbClr val="d1821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opic elemen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3"/>
            <a:endCxn id="236" idx="1"/>
          </p:cNvCxnSpPr>
          <p:nvPr/>
        </p:nvCxnSpPr>
        <p:spPr>
          <a:xfrm>
            <a:off x="2015640" y="1775880"/>
            <a:ext cx="1080" cy="353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6" idx="3"/>
            <a:endCxn id="237" idx="1"/>
          </p:cNvCxnSpPr>
          <p:nvPr/>
        </p:nvCxnSpPr>
        <p:spPr>
          <a:xfrm>
            <a:off x="2015640" y="2373480"/>
            <a:ext cx="1080" cy="352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410606-1C2D-4B1C-9575-A9CB2132525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5946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Pluggability of topic and domain module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560" y="4038120"/>
            <a:ext cx="8458200" cy="234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001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 create a document type, you plug in specialization modu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000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financial services software, you might inclu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2db6b3"/>
              </a:buClr>
              <a:buFont typeface="Arial"/>
              <a:buChar char="•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task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2db6b3"/>
              </a:buClr>
              <a:buFont typeface="Arial"/>
              <a:buChar char="•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UI doma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2db6b3"/>
              </a:buClr>
              <a:buFont typeface="Arial"/>
              <a:buChar char="•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new domain that you created for the vocabulary of the financial indust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2db6b3"/>
              </a:buClr>
              <a:buFont typeface="Arial"/>
              <a:buChar char="•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highlighting domain – if you are a pragmati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3" name=""/>
          <p:cNvGrpSpPr/>
          <p:nvPr/>
        </p:nvGrpSpPr>
        <p:grpSpPr>
          <a:xfrm>
            <a:off x="2057400" y="1676520"/>
            <a:ext cx="3198960" cy="2056680"/>
            <a:chOff x="2057400" y="1676520"/>
            <a:chExt cx="3198960" cy="2056680"/>
          </a:xfrm>
        </p:grpSpPr>
        <p:sp>
          <p:nvSpPr>
            <p:cNvPr id="244" name=""/>
            <p:cNvSpPr/>
            <p:nvPr/>
          </p:nvSpPr>
          <p:spPr>
            <a:xfrm>
              <a:off x="2057400" y="1676520"/>
              <a:ext cx="3198960" cy="2056680"/>
            </a:xfrm>
            <a:prstGeom prst="rect">
              <a:avLst/>
            </a:prstGeom>
            <a:solidFill>
              <a:srgbClr val="7889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057400" y="1676520"/>
              <a:ext cx="3198960" cy="2056680"/>
            </a:xfrm>
            <a:prstGeom prst="rect">
              <a:avLst/>
            </a:prstGeom>
            <a:solidFill>
              <a:srgbClr val="7889fb"/>
            </a:solidFill>
            <a:ln cap="rnd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6" name=""/>
          <p:cNvSpPr/>
          <p:nvPr/>
        </p:nvSpPr>
        <p:spPr>
          <a:xfrm>
            <a:off x="2286000" y="1828800"/>
            <a:ext cx="1752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ask topic typ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648320" y="1981080"/>
            <a:ext cx="1600200" cy="381240"/>
          </a:xfrm>
          <a:prstGeom prst="cube">
            <a:avLst>
              <a:gd name="adj" fmla="val 25000"/>
            </a:avLst>
          </a:prstGeom>
          <a:solidFill>
            <a:srgbClr val="f8d9ac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Financial doma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>
            <a:off x="3581280" y="2209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352680" y="2590920"/>
            <a:ext cx="1752840" cy="360360"/>
          </a:xfrm>
          <a:prstGeom prst="cube">
            <a:avLst>
              <a:gd name="adj" fmla="val 25000"/>
            </a:avLst>
          </a:prstGeom>
          <a:solidFill>
            <a:srgbClr val="d1821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UI doma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352680" y="3220920"/>
            <a:ext cx="1752840" cy="360360"/>
          </a:xfrm>
          <a:prstGeom prst="cube">
            <a:avLst>
              <a:gd name="adj" fmla="val 25000"/>
            </a:avLst>
          </a:prstGeom>
          <a:solidFill>
            <a:srgbClr val="d1821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Highlighting doma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51" name=""/>
          <p:cNvCxnSpPr>
            <a:stCxn id="250" idx="5"/>
          </p:cNvCxnSpPr>
          <p:nvPr/>
        </p:nvCxnSpPr>
        <p:spPr>
          <a:xfrm flipV="1">
            <a:off x="5105160" y="3351960"/>
            <a:ext cx="106740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252" name=""/>
          <p:cNvSpPr/>
          <p:nvPr/>
        </p:nvSpPr>
        <p:spPr>
          <a:xfrm>
            <a:off x="5410080" y="29718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88D1A3-7E8D-4C8F-B4DC-F9211BE9623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457200" y="762120"/>
            <a:ext cx="6781680" cy="48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The discussion ahead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1676520"/>
            <a:ext cx="7732800" cy="358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63440" indent="-163440">
              <a:spcAft>
                <a:spcPts val="37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What is DITA?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 Why was DITA developed?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63440" indent="-163440">
              <a:spcAft>
                <a:spcPts val="37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What is specialization?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 How do you extend DITA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63440" indent="-163440">
              <a:spcAft>
                <a:spcPts val="37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63440" indent="-163440">
              <a:spcAft>
                <a:spcPts val="575"/>
              </a:spcAft>
              <a:buClr>
                <a:srgbClr val="000000"/>
              </a:buClr>
              <a:buFont typeface="Wingdings" charset="2"/>
              <a:buChar char="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What are</a:t>
            </a:r>
            <a:br>
              <a:rPr sz="3100"/>
            </a:b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opic types?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Domain types?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100"/>
            </a:b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Maps and map domai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3941EF-2C1E-480D-99CE-8A8CA352DC5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2181240" y="3733920"/>
            <a:ext cx="1066680" cy="228600"/>
          </a:xfrm>
          <a:prstGeom prst="rect">
            <a:avLst/>
          </a:prstGeom>
          <a:solidFill>
            <a:srgbClr val="ffefd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048120" y="3505320"/>
            <a:ext cx="2671560" cy="228600"/>
          </a:xfrm>
          <a:prstGeom prst="rect">
            <a:avLst/>
          </a:prstGeom>
          <a:solidFill>
            <a:srgbClr val="ffefd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743200" y="2881440"/>
            <a:ext cx="2819520" cy="228600"/>
          </a:xfrm>
          <a:prstGeom prst="rect">
            <a:avLst/>
          </a:prstGeom>
          <a:solidFill>
            <a:srgbClr val="ffefd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4080" y="68544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Example of some DITA domain phrase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8640" y="1508040"/>
            <a:ext cx="6323040" cy="48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task id="amortizingloan"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title&gt;Amortizing the loan&lt;/titl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taskbody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steps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step&gt;&lt;cmd&gt;Choose the Amortizer menu item&lt;/cmd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stepresult&gt;The &lt;wintitle&gt;Amortizer&lt;/wintitl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window displays.&lt;/stepresul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step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step&gt;&lt;cmd&gt;Enter the &lt;loanfactor&gt;term&lt;/loanfactor&gt;.&lt;/cmd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info&gt;You &lt;b&gt;must&lt;/b&gt; choose one of the options.&lt;/info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step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steps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taskbody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task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858000" y="1752480"/>
            <a:ext cx="1752480" cy="381240"/>
          </a:xfrm>
          <a:prstGeom prst="borderCallout1">
            <a:avLst>
              <a:gd name="adj1" fmla="val 18750"/>
              <a:gd name="adj2" fmla="val -8333"/>
              <a:gd name="adj3" fmla="val 295000"/>
              <a:gd name="adj4" fmla="val -72916"/>
            </a:avLst>
          </a:prstGeom>
          <a:solidFill>
            <a:srgbClr val="ffffe7"/>
          </a:solidFill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I dom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856560" y="2514600"/>
            <a:ext cx="1753920" cy="695160"/>
          </a:xfrm>
          <a:prstGeom prst="borderCallout1">
            <a:avLst>
              <a:gd name="adj1" fmla="val 18750"/>
              <a:gd name="adj2" fmla="val -8333"/>
              <a:gd name="adj3" fmla="val 143379"/>
              <a:gd name="adj4" fmla="val -74930"/>
            </a:avLst>
          </a:prstGeom>
          <a:solidFill>
            <a:srgbClr val="ffffe7"/>
          </a:solidFill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nancial domain (possible futur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858000" y="4648320"/>
            <a:ext cx="1754280" cy="685800"/>
          </a:xfrm>
          <a:prstGeom prst="borderCallout1">
            <a:avLst>
              <a:gd name="adj1" fmla="val 18750"/>
              <a:gd name="adj2" fmla="val -8333"/>
              <a:gd name="adj3" fmla="val -93750"/>
              <a:gd name="adj4" fmla="val -215564"/>
            </a:avLst>
          </a:prstGeom>
          <a:solidFill>
            <a:srgbClr val="ffffe7"/>
          </a:solidFill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ghlighting dom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BC6C89-7BE7-46C5-91A2-35AA0C4A2FC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963720" y="1208160"/>
            <a:ext cx="7488000" cy="197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What is a DITA map?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C81377-7A65-4DFF-BAA9-082F3F10E89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304920" y="501480"/>
            <a:ext cx="814680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Topics reused in information se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183200" y="1157400"/>
            <a:ext cx="801720" cy="541080"/>
          </a:xfrm>
          <a:prstGeom prst="rect">
            <a:avLst/>
          </a:prstGeom>
          <a:solidFill>
            <a:srgbClr val="808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Aft>
                <a:spcPts val="201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100" spc="-1" strike="noStrike">
                <a:solidFill>
                  <a:srgbClr val="ffff6d"/>
                </a:solidFill>
                <a:latin typeface="Arial"/>
              </a:rPr>
              <a:t>Topic 1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168800" y="3098880"/>
            <a:ext cx="768240" cy="500040"/>
          </a:xfrm>
          <a:custGeom>
            <a:avLst/>
            <a:gdLst/>
            <a:ahLst/>
            <a:rect l="l" t="t" r="r" b="b"/>
            <a:pathLst>
              <a:path w="532" h="355">
                <a:moveTo>
                  <a:pt x="0" y="355"/>
                </a:moveTo>
                <a:lnTo>
                  <a:pt x="532" y="355"/>
                </a:lnTo>
                <a:lnTo>
                  <a:pt x="532" y="0"/>
                </a:lnTo>
                <a:close/>
              </a:path>
            </a:pathLst>
          </a:custGeom>
          <a:solidFill>
            <a:srgbClr val="941c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178160" y="3110040"/>
            <a:ext cx="770040" cy="500040"/>
          </a:xfrm>
          <a:custGeom>
            <a:avLst/>
            <a:gdLst/>
            <a:ahLst/>
            <a:rect l="l" t="t" r="r" b="b"/>
            <a:pathLst>
              <a:path w="532" h="355">
                <a:moveTo>
                  <a:pt x="532" y="0"/>
                </a:moveTo>
                <a:lnTo>
                  <a:pt x="0" y="0"/>
                </a:lnTo>
                <a:lnTo>
                  <a:pt x="0" y="355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149720" y="3079800"/>
            <a:ext cx="801720" cy="5414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Aft>
                <a:spcPts val="201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100" spc="-1" strike="noStrike">
                <a:solidFill>
                  <a:srgbClr val="ffff6d"/>
                </a:solidFill>
                <a:latin typeface="Arial"/>
              </a:rPr>
              <a:t>Topic 4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578400" y="1434600"/>
            <a:ext cx="615600" cy="854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578400" y="2289240"/>
            <a:ext cx="577800" cy="1071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195800" y="1779480"/>
            <a:ext cx="784080" cy="530280"/>
          </a:xfrm>
          <a:prstGeom prst="rect">
            <a:avLst/>
          </a:prstGeom>
          <a:solidFill>
            <a:srgbClr val="941ca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Aft>
                <a:spcPts val="187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000" spc="-1" strike="noStrike">
                <a:solidFill>
                  <a:srgbClr val="ffff6d"/>
                </a:solidFill>
                <a:latin typeface="Arial"/>
              </a:rPr>
              <a:t>Topic 2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4984920" y="2050560"/>
            <a:ext cx="707760" cy="530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183200" y="2417760"/>
            <a:ext cx="801720" cy="541440"/>
          </a:xfrm>
          <a:prstGeom prst="rect">
            <a:avLst/>
          </a:prstGeom>
          <a:solidFill>
            <a:srgbClr val="00b0b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Aft>
                <a:spcPts val="201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100" spc="-1" strike="noStrike">
                <a:solidFill>
                  <a:srgbClr val="ffff6d"/>
                </a:solidFill>
                <a:latin typeface="Arial"/>
              </a:rPr>
              <a:t>Topic 3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H="1">
            <a:off x="4960440" y="2600280"/>
            <a:ext cx="755640" cy="754200"/>
          </a:xfrm>
          <a:prstGeom prst="line">
            <a:avLst/>
          </a:prstGeom>
          <a:ln w="25560">
            <a:solidFill>
              <a:srgbClr val="941ca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993600" y="4084560"/>
            <a:ext cx="7415280" cy="11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77840" indent="-177840">
              <a:spcAft>
                <a:spcPts val="337"/>
              </a:spcAft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800" spc="-1" strike="noStrike">
                <a:solidFill>
                  <a:srgbClr val="464646"/>
                </a:solidFill>
                <a:latin typeface="Arial"/>
              </a:rPr>
              <a:t>Deliverables select topics from a po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06440" indent="-127080"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600" spc="-1" strike="noStrike">
                <a:solidFill>
                  <a:srgbClr val="464646"/>
                </a:solidFill>
                <a:latin typeface="Arial"/>
                <a:ea typeface="Arial"/>
              </a:rPr>
              <a:t>Deliverable 1 uses topics 1 and 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06440" indent="-127080"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600" spc="-1" strike="noStrike">
                <a:solidFill>
                  <a:srgbClr val="464646"/>
                </a:solidFill>
                <a:latin typeface="Arial"/>
                <a:ea typeface="Arial"/>
              </a:rPr>
              <a:t>Deliverable 2 uses topics 2 and 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06440" indent="-127080"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600" spc="-1" strike="noStrike">
                <a:solidFill>
                  <a:srgbClr val="464646"/>
                </a:solidFill>
                <a:latin typeface="Arial"/>
                <a:ea typeface="Arial"/>
              </a:rPr>
              <a:t>Neither deliverable uses topic 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304920" y="1266840"/>
            <a:ext cx="3247920" cy="2085840"/>
          </a:xfrm>
          <a:prstGeom prst="rect">
            <a:avLst/>
          </a:prstGeom>
          <a:ln w="0">
            <a:noFill/>
          </a:ln>
        </p:spPr>
      </p:pic>
      <p:grpSp>
        <p:nvGrpSpPr>
          <p:cNvPr id="275" name=""/>
          <p:cNvGrpSpPr/>
          <p:nvPr/>
        </p:nvGrpSpPr>
        <p:grpSpPr>
          <a:xfrm>
            <a:off x="5715000" y="1523880"/>
            <a:ext cx="1599840" cy="1980720"/>
            <a:chOff x="5715000" y="1523880"/>
            <a:chExt cx="1599840" cy="1980720"/>
          </a:xfrm>
        </p:grpSpPr>
        <p:sp>
          <p:nvSpPr>
            <p:cNvPr id="276" name=""/>
            <p:cNvSpPr/>
            <p:nvPr/>
          </p:nvSpPr>
          <p:spPr>
            <a:xfrm>
              <a:off x="5734800" y="1534680"/>
              <a:ext cx="1299240" cy="1729440"/>
            </a:xfrm>
            <a:custGeom>
              <a:avLst/>
              <a:gdLst/>
              <a:ahLst/>
              <a:rect l="l" t="t" r="r" b="b"/>
              <a:pathLst>
                <a:path w="910" h="1564">
                  <a:moveTo>
                    <a:pt x="901" y="1203"/>
                  </a:moveTo>
                  <a:lnTo>
                    <a:pt x="28" y="1564"/>
                  </a:lnTo>
                  <a:lnTo>
                    <a:pt x="0" y="236"/>
                  </a:lnTo>
                  <a:lnTo>
                    <a:pt x="869" y="1"/>
                  </a:lnTo>
                  <a:lnTo>
                    <a:pt x="886" y="0"/>
                  </a:lnTo>
                  <a:lnTo>
                    <a:pt x="898" y="6"/>
                  </a:lnTo>
                  <a:lnTo>
                    <a:pt x="906" y="20"/>
                  </a:lnTo>
                  <a:lnTo>
                    <a:pt x="910" y="48"/>
                  </a:lnTo>
                  <a:lnTo>
                    <a:pt x="908" y="70"/>
                  </a:lnTo>
                  <a:lnTo>
                    <a:pt x="897" y="544"/>
                  </a:lnTo>
                  <a:lnTo>
                    <a:pt x="884" y="1007"/>
                  </a:lnTo>
                  <a:lnTo>
                    <a:pt x="901" y="1203"/>
                  </a:ln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11160">
              <a:solidFill>
                <a:srgbClr val="32323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751720" y="1572480"/>
              <a:ext cx="1248120" cy="388800"/>
            </a:xfrm>
            <a:custGeom>
              <a:avLst/>
              <a:gdLst/>
              <a:ahLst/>
              <a:rect l="l" t="t" r="r" b="b"/>
              <a:pathLst>
                <a:path w="874" h="351">
                  <a:moveTo>
                    <a:pt x="872" y="99"/>
                  </a:moveTo>
                  <a:lnTo>
                    <a:pt x="39" y="351"/>
                  </a:lnTo>
                  <a:lnTo>
                    <a:pt x="0" y="263"/>
                  </a:lnTo>
                  <a:lnTo>
                    <a:pt x="809" y="10"/>
                  </a:lnTo>
                  <a:lnTo>
                    <a:pt x="826" y="5"/>
                  </a:lnTo>
                  <a:lnTo>
                    <a:pt x="852" y="0"/>
                  </a:lnTo>
                  <a:lnTo>
                    <a:pt x="866" y="12"/>
                  </a:lnTo>
                  <a:lnTo>
                    <a:pt x="870" y="32"/>
                  </a:lnTo>
                  <a:lnTo>
                    <a:pt x="874" y="62"/>
                  </a:lnTo>
                  <a:lnTo>
                    <a:pt x="872" y="99"/>
                  </a:lnTo>
                  <a:close/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11160">
              <a:solidFill>
                <a:srgbClr val="6e6e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760720" y="1585800"/>
              <a:ext cx="1256400" cy="408960"/>
            </a:xfrm>
            <a:custGeom>
              <a:avLst/>
              <a:gdLst/>
              <a:ahLst/>
              <a:rect l="l" t="t" r="r" b="b"/>
              <a:pathLst>
                <a:path w="880" h="372">
                  <a:moveTo>
                    <a:pt x="880" y="137"/>
                  </a:moveTo>
                  <a:lnTo>
                    <a:pt x="68" y="372"/>
                  </a:lnTo>
                  <a:lnTo>
                    <a:pt x="0" y="257"/>
                  </a:lnTo>
                  <a:lnTo>
                    <a:pt x="802" y="12"/>
                  </a:lnTo>
                  <a:lnTo>
                    <a:pt x="819" y="6"/>
                  </a:lnTo>
                  <a:lnTo>
                    <a:pt x="845" y="0"/>
                  </a:lnTo>
                  <a:lnTo>
                    <a:pt x="859" y="14"/>
                  </a:lnTo>
                  <a:lnTo>
                    <a:pt x="863" y="34"/>
                  </a:lnTo>
                  <a:lnTo>
                    <a:pt x="867" y="63"/>
                  </a:lnTo>
                  <a:lnTo>
                    <a:pt x="880" y="137"/>
                  </a:lnTo>
                  <a:close/>
                </a:path>
              </a:pathLst>
            </a:cu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780880" y="1585800"/>
              <a:ext cx="1248120" cy="417600"/>
            </a:xfrm>
            <a:custGeom>
              <a:avLst/>
              <a:gdLst/>
              <a:ahLst/>
              <a:rect l="l" t="t" r="r" b="b"/>
              <a:pathLst>
                <a:path w="874" h="380">
                  <a:moveTo>
                    <a:pt x="849" y="114"/>
                  </a:moveTo>
                  <a:lnTo>
                    <a:pt x="27" y="380"/>
                  </a:lnTo>
                  <a:lnTo>
                    <a:pt x="0" y="264"/>
                  </a:lnTo>
                  <a:lnTo>
                    <a:pt x="808" y="12"/>
                  </a:lnTo>
                  <a:lnTo>
                    <a:pt x="825" y="6"/>
                  </a:lnTo>
                  <a:lnTo>
                    <a:pt x="852" y="0"/>
                  </a:lnTo>
                  <a:lnTo>
                    <a:pt x="866" y="14"/>
                  </a:lnTo>
                  <a:lnTo>
                    <a:pt x="869" y="34"/>
                  </a:lnTo>
                  <a:lnTo>
                    <a:pt x="874" y="64"/>
                  </a:lnTo>
                  <a:lnTo>
                    <a:pt x="849" y="114"/>
                  </a:lnTo>
                  <a:close/>
                </a:path>
              </a:pathLst>
            </a:custGeom>
            <a:blipFill rotWithShape="0">
              <a:blip r:embed="rId5"/>
              <a:srcRect/>
              <a:tile tx="0" ty="0" sx="100000" sy="100000" algn="ctr"/>
            </a:blipFill>
            <a:ln w="11160">
              <a:solidFill>
                <a:srgbClr val="e6e6e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785920" y="1601280"/>
              <a:ext cx="1239480" cy="390960"/>
            </a:xfrm>
            <a:custGeom>
              <a:avLst/>
              <a:gdLst/>
              <a:ahLst/>
              <a:rect l="l" t="t" r="r" b="b"/>
              <a:pathLst>
                <a:path w="870" h="354">
                  <a:moveTo>
                    <a:pt x="868" y="123"/>
                  </a:moveTo>
                  <a:lnTo>
                    <a:pt x="20" y="354"/>
                  </a:lnTo>
                  <a:lnTo>
                    <a:pt x="0" y="257"/>
                  </a:lnTo>
                  <a:lnTo>
                    <a:pt x="803" y="9"/>
                  </a:lnTo>
                  <a:lnTo>
                    <a:pt x="819" y="4"/>
                  </a:lnTo>
                  <a:lnTo>
                    <a:pt x="847" y="0"/>
                  </a:lnTo>
                  <a:lnTo>
                    <a:pt x="861" y="11"/>
                  </a:lnTo>
                  <a:lnTo>
                    <a:pt x="863" y="31"/>
                  </a:lnTo>
                  <a:lnTo>
                    <a:pt x="870" y="61"/>
                  </a:lnTo>
                  <a:lnTo>
                    <a:pt x="868" y="123"/>
                  </a:lnTo>
                  <a:close/>
                </a:path>
              </a:pathLst>
            </a:custGeom>
            <a:blipFill rotWithShape="0">
              <a:blip r:embed="rId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809320" y="1601280"/>
              <a:ext cx="1248120" cy="402120"/>
            </a:xfrm>
            <a:custGeom>
              <a:avLst/>
              <a:gdLst/>
              <a:ahLst/>
              <a:rect l="l" t="t" r="r" b="b"/>
              <a:pathLst>
                <a:path w="874" h="366">
                  <a:moveTo>
                    <a:pt x="850" y="116"/>
                  </a:moveTo>
                  <a:lnTo>
                    <a:pt x="23" y="366"/>
                  </a:lnTo>
                  <a:lnTo>
                    <a:pt x="0" y="264"/>
                  </a:lnTo>
                  <a:lnTo>
                    <a:pt x="808" y="11"/>
                  </a:lnTo>
                  <a:lnTo>
                    <a:pt x="824" y="6"/>
                  </a:lnTo>
                  <a:lnTo>
                    <a:pt x="852" y="0"/>
                  </a:lnTo>
                  <a:lnTo>
                    <a:pt x="866" y="14"/>
                  </a:lnTo>
                  <a:lnTo>
                    <a:pt x="868" y="34"/>
                  </a:lnTo>
                  <a:lnTo>
                    <a:pt x="874" y="64"/>
                  </a:lnTo>
                  <a:lnTo>
                    <a:pt x="850" y="116"/>
                  </a:lnTo>
                  <a:close/>
                </a:path>
              </a:pathLst>
            </a:custGeom>
            <a:blipFill rotWithShape="0">
              <a:blip r:embed="rId7"/>
              <a:srcRect/>
              <a:tile tx="0" ty="0" sx="100000" sy="100000" algn="ctr"/>
            </a:blipFill>
            <a:ln w="11160">
              <a:solidFill>
                <a:srgbClr val="6e6e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837760" y="1612440"/>
              <a:ext cx="1244880" cy="375480"/>
            </a:xfrm>
            <a:custGeom>
              <a:avLst/>
              <a:gdLst/>
              <a:ahLst/>
              <a:rect l="l" t="t" r="r" b="b"/>
              <a:pathLst>
                <a:path w="873" h="340">
                  <a:moveTo>
                    <a:pt x="840" y="93"/>
                  </a:moveTo>
                  <a:lnTo>
                    <a:pt x="13" y="340"/>
                  </a:lnTo>
                  <a:lnTo>
                    <a:pt x="0" y="263"/>
                  </a:lnTo>
                  <a:lnTo>
                    <a:pt x="808" y="11"/>
                  </a:lnTo>
                  <a:lnTo>
                    <a:pt x="824" y="5"/>
                  </a:lnTo>
                  <a:lnTo>
                    <a:pt x="851" y="0"/>
                  </a:lnTo>
                  <a:lnTo>
                    <a:pt x="865" y="12"/>
                  </a:lnTo>
                  <a:lnTo>
                    <a:pt x="869" y="33"/>
                  </a:lnTo>
                  <a:lnTo>
                    <a:pt x="873" y="63"/>
                  </a:lnTo>
                  <a:lnTo>
                    <a:pt x="840" y="93"/>
                  </a:lnTo>
                  <a:close/>
                </a:path>
              </a:pathLst>
            </a:custGeom>
            <a:blipFill rotWithShape="0">
              <a:blip r:embed="rId8"/>
              <a:srcRect/>
              <a:tile tx="0" ty="0" sx="100000" sy="100000" algn="ctr"/>
            </a:blipFill>
            <a:ln w="11160">
              <a:solidFill>
                <a:srgbClr val="d2d2d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860440" y="1625400"/>
              <a:ext cx="1248120" cy="353880"/>
            </a:xfrm>
            <a:custGeom>
              <a:avLst/>
              <a:gdLst/>
              <a:ahLst/>
              <a:rect l="l" t="t" r="r" b="b"/>
              <a:pathLst>
                <a:path w="875" h="321">
                  <a:moveTo>
                    <a:pt x="849" y="77"/>
                  </a:moveTo>
                  <a:lnTo>
                    <a:pt x="17" y="321"/>
                  </a:lnTo>
                  <a:lnTo>
                    <a:pt x="0" y="264"/>
                  </a:lnTo>
                  <a:lnTo>
                    <a:pt x="808" y="12"/>
                  </a:lnTo>
                  <a:lnTo>
                    <a:pt x="824" y="6"/>
                  </a:lnTo>
                  <a:lnTo>
                    <a:pt x="852" y="0"/>
                  </a:lnTo>
                  <a:lnTo>
                    <a:pt x="866" y="14"/>
                  </a:lnTo>
                  <a:lnTo>
                    <a:pt x="869" y="34"/>
                  </a:lnTo>
                  <a:lnTo>
                    <a:pt x="875" y="63"/>
                  </a:lnTo>
                  <a:lnTo>
                    <a:pt x="849" y="77"/>
                  </a:lnTo>
                  <a:close/>
                </a:path>
              </a:pathLst>
            </a:custGeom>
            <a:blipFill rotWithShape="0">
              <a:blip r:embed="rId9"/>
              <a:srcRect/>
              <a:tile tx="0" ty="0" sx="100000" sy="100000" algn="ctr"/>
            </a:blipFill>
            <a:ln w="1116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892480" y="1640880"/>
              <a:ext cx="1233720" cy="333720"/>
            </a:xfrm>
            <a:custGeom>
              <a:avLst/>
              <a:gdLst/>
              <a:ahLst/>
              <a:rect l="l" t="t" r="r" b="b"/>
              <a:pathLst>
                <a:path w="862" h="302">
                  <a:moveTo>
                    <a:pt x="854" y="55"/>
                  </a:moveTo>
                  <a:lnTo>
                    <a:pt x="8" y="302"/>
                  </a:lnTo>
                  <a:lnTo>
                    <a:pt x="0" y="258"/>
                  </a:lnTo>
                  <a:lnTo>
                    <a:pt x="801" y="9"/>
                  </a:lnTo>
                  <a:lnTo>
                    <a:pt x="818" y="5"/>
                  </a:lnTo>
                  <a:lnTo>
                    <a:pt x="845" y="0"/>
                  </a:lnTo>
                  <a:lnTo>
                    <a:pt x="859" y="13"/>
                  </a:lnTo>
                  <a:lnTo>
                    <a:pt x="862" y="34"/>
                  </a:lnTo>
                  <a:lnTo>
                    <a:pt x="854" y="55"/>
                  </a:lnTo>
                  <a:close/>
                </a:path>
              </a:pathLst>
            </a:custGeom>
            <a:blipFill rotWithShape="0">
              <a:blip r:embed="rId10"/>
              <a:srcRect/>
              <a:tile tx="0" ty="0" sx="100000" sy="100000" algn="ctr"/>
            </a:blipFill>
            <a:ln w="111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715000" y="1585800"/>
              <a:ext cx="1599840" cy="1918800"/>
            </a:xfrm>
            <a:custGeom>
              <a:avLst/>
              <a:gdLst/>
              <a:ahLst/>
              <a:rect l="l" t="t" r="r" b="b"/>
              <a:pathLst>
                <a:path w="1119" h="1737">
                  <a:moveTo>
                    <a:pt x="29" y="204"/>
                  </a:moveTo>
                  <a:lnTo>
                    <a:pt x="29" y="206"/>
                  </a:lnTo>
                  <a:lnTo>
                    <a:pt x="30" y="206"/>
                  </a:lnTo>
                  <a:lnTo>
                    <a:pt x="200" y="289"/>
                  </a:lnTo>
                  <a:lnTo>
                    <a:pt x="208" y="293"/>
                  </a:lnTo>
                  <a:lnTo>
                    <a:pt x="215" y="295"/>
                  </a:lnTo>
                  <a:lnTo>
                    <a:pt x="223" y="295"/>
                  </a:lnTo>
                  <a:lnTo>
                    <a:pt x="233" y="295"/>
                  </a:lnTo>
                  <a:lnTo>
                    <a:pt x="241" y="293"/>
                  </a:lnTo>
                  <a:lnTo>
                    <a:pt x="1038" y="6"/>
                  </a:lnTo>
                  <a:lnTo>
                    <a:pt x="1058" y="0"/>
                  </a:lnTo>
                  <a:lnTo>
                    <a:pt x="1072" y="0"/>
                  </a:lnTo>
                  <a:lnTo>
                    <a:pt x="1085" y="4"/>
                  </a:lnTo>
                  <a:lnTo>
                    <a:pt x="1099" y="14"/>
                  </a:lnTo>
                  <a:lnTo>
                    <a:pt x="1112" y="29"/>
                  </a:lnTo>
                  <a:lnTo>
                    <a:pt x="1118" y="43"/>
                  </a:lnTo>
                  <a:lnTo>
                    <a:pt x="1119" y="1343"/>
                  </a:lnTo>
                  <a:lnTo>
                    <a:pt x="1105" y="1385"/>
                  </a:lnTo>
                  <a:lnTo>
                    <a:pt x="248" y="1732"/>
                  </a:lnTo>
                  <a:lnTo>
                    <a:pt x="233" y="1737"/>
                  </a:lnTo>
                  <a:lnTo>
                    <a:pt x="213" y="1737"/>
                  </a:lnTo>
                  <a:lnTo>
                    <a:pt x="198" y="1732"/>
                  </a:lnTo>
                  <a:lnTo>
                    <a:pt x="11" y="1634"/>
                  </a:lnTo>
                  <a:lnTo>
                    <a:pt x="3" y="1623"/>
                  </a:lnTo>
                  <a:lnTo>
                    <a:pt x="0" y="1607"/>
                  </a:lnTo>
                  <a:lnTo>
                    <a:pt x="0" y="233"/>
                  </a:lnTo>
                  <a:lnTo>
                    <a:pt x="0" y="221"/>
                  </a:lnTo>
                  <a:lnTo>
                    <a:pt x="0" y="208"/>
                  </a:lnTo>
                  <a:lnTo>
                    <a:pt x="1" y="197"/>
                  </a:lnTo>
                  <a:lnTo>
                    <a:pt x="6" y="191"/>
                  </a:lnTo>
                  <a:lnTo>
                    <a:pt x="29" y="204"/>
                  </a:lnTo>
                  <a:close/>
                </a:path>
              </a:pathLst>
            </a:custGeom>
            <a:blipFill rotWithShape="0">
              <a:blip r:embed="rId11"/>
              <a:srcRect/>
              <a:tile tx="0" ty="0" sx="100000" sy="100000" algn="ctr"/>
            </a:blipFill>
            <a:ln w="144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083280" y="1928520"/>
              <a:ext cx="2520" cy="1549800"/>
            </a:xfrm>
            <a:prstGeom prst="line">
              <a:avLst/>
            </a:prstGeom>
            <a:ln w="1116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109200" y="1970640"/>
              <a:ext cx="2520" cy="1548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109200" y="2036880"/>
              <a:ext cx="2520" cy="1548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109200" y="2103480"/>
              <a:ext cx="2520" cy="1476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111720" y="2169720"/>
              <a:ext cx="2520" cy="1728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111720" y="2235960"/>
              <a:ext cx="2520" cy="1728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111720" y="2301840"/>
              <a:ext cx="2520" cy="180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111720" y="2368800"/>
              <a:ext cx="2520" cy="1728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111720" y="2435040"/>
              <a:ext cx="2520" cy="1728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111720" y="2500920"/>
              <a:ext cx="2520" cy="180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111720" y="2567880"/>
              <a:ext cx="2520" cy="1728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111720" y="2635920"/>
              <a:ext cx="2520" cy="1548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111720" y="2702520"/>
              <a:ext cx="2520" cy="1548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114600" y="2768760"/>
              <a:ext cx="2880" cy="1548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114600" y="2835000"/>
              <a:ext cx="2880" cy="1548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114600" y="2901600"/>
              <a:ext cx="2880" cy="1476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114600" y="2967840"/>
              <a:ext cx="2880" cy="1548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114600" y="3034080"/>
              <a:ext cx="2880" cy="1728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114600" y="3100320"/>
              <a:ext cx="2880" cy="180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114600" y="3166920"/>
              <a:ext cx="2880" cy="1728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114600" y="3233160"/>
              <a:ext cx="2880" cy="1728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114600" y="3299400"/>
              <a:ext cx="2880" cy="180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117840" y="3366000"/>
              <a:ext cx="2520" cy="1728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 flipV="1">
              <a:off x="6117840" y="3434400"/>
              <a:ext cx="2520" cy="28800"/>
            </a:xfrm>
            <a:custGeom>
              <a:avLst/>
              <a:gdLst/>
              <a:ahLst/>
              <a:rect l="l" t="t" r="r" b="b"/>
              <a:pathLst>
                <a:path w="0" h="24">
                  <a:moveTo>
                    <a:pt x="0" y="24"/>
                  </a:moveTo>
                  <a:lnTo>
                    <a:pt x="0" y="11"/>
                  </a:lnTo>
                  <a:lnTo>
                    <a:pt x="0" y="0"/>
                  </a:lnTo>
                </a:path>
              </a:pathLst>
            </a:custGeom>
            <a:noFill/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5848920" y="3208680"/>
              <a:ext cx="39960" cy="64080"/>
            </a:xfrm>
            <a:prstGeom prst="ellipse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040800" y="1972440"/>
              <a:ext cx="2520" cy="1548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040800" y="2039040"/>
              <a:ext cx="2520" cy="1548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040800" y="2105280"/>
              <a:ext cx="2520" cy="1728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040800" y="2171520"/>
              <a:ext cx="2520" cy="180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040800" y="2238120"/>
              <a:ext cx="2520" cy="1728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6040800" y="2304360"/>
              <a:ext cx="2520" cy="1728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6040800" y="2370600"/>
              <a:ext cx="2520" cy="1728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040800" y="2436840"/>
              <a:ext cx="2520" cy="180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6040800" y="2505600"/>
              <a:ext cx="2520" cy="1548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6040800" y="2571840"/>
              <a:ext cx="2520" cy="1548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040800" y="2638440"/>
              <a:ext cx="2520" cy="1548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6040800" y="2704680"/>
              <a:ext cx="2520" cy="1548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6040800" y="2770920"/>
              <a:ext cx="2520" cy="1548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040800" y="2837520"/>
              <a:ext cx="2520" cy="1548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040800" y="2903760"/>
              <a:ext cx="2520" cy="1728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040800" y="2970000"/>
              <a:ext cx="2520" cy="180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6040800" y="3036600"/>
              <a:ext cx="2520" cy="1728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 flipH="1">
              <a:off x="6037560" y="3102840"/>
              <a:ext cx="2880" cy="1728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6037560" y="3169080"/>
              <a:ext cx="2880" cy="1728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6037560" y="3235320"/>
              <a:ext cx="2880" cy="180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37560" y="3304080"/>
              <a:ext cx="2880" cy="1548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037560" y="3369960"/>
              <a:ext cx="2880" cy="1548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037560" y="3436920"/>
              <a:ext cx="2880" cy="1548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749200" y="1842120"/>
              <a:ext cx="2520" cy="180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749200" y="1910880"/>
              <a:ext cx="2520" cy="1548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749200" y="1977120"/>
              <a:ext cx="2520" cy="1548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5751720" y="2043720"/>
              <a:ext cx="2880" cy="1476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5751720" y="2109960"/>
              <a:ext cx="2880" cy="1548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751720" y="2176200"/>
              <a:ext cx="2880" cy="1548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5751720" y="2242440"/>
              <a:ext cx="2880" cy="1548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5751720" y="2309040"/>
              <a:ext cx="2880" cy="1728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751720" y="2375280"/>
              <a:ext cx="2880" cy="1728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751720" y="2441520"/>
              <a:ext cx="2880" cy="180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751720" y="2508120"/>
              <a:ext cx="2880" cy="1728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51720" y="2574360"/>
              <a:ext cx="2880" cy="1728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5754960" y="2640600"/>
              <a:ext cx="2520" cy="1728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754960" y="2709000"/>
              <a:ext cx="2520" cy="1548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5754960" y="2775240"/>
              <a:ext cx="2520" cy="1548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754960" y="2841480"/>
              <a:ext cx="2520" cy="1548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5754960" y="2908080"/>
              <a:ext cx="2520" cy="1548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5754960" y="2974320"/>
              <a:ext cx="2520" cy="1548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5754960" y="3040560"/>
              <a:ext cx="2520" cy="1548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5754960" y="3107160"/>
              <a:ext cx="2520" cy="1728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754960" y="3173400"/>
              <a:ext cx="2520" cy="1728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5757480" y="3239640"/>
              <a:ext cx="2880" cy="1728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757480" y="3306240"/>
              <a:ext cx="2880" cy="1728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837760" y="1977120"/>
              <a:ext cx="48240" cy="70560"/>
            </a:xfrm>
            <a:custGeom>
              <a:avLst/>
              <a:gdLst/>
              <a:ahLst/>
              <a:rect l="l" t="t" r="r" b="b"/>
              <a:pathLst>
                <a:path w="34" h="64">
                  <a:moveTo>
                    <a:pt x="13" y="0"/>
                  </a:moveTo>
                  <a:lnTo>
                    <a:pt x="4" y="11"/>
                  </a:lnTo>
                  <a:lnTo>
                    <a:pt x="0" y="34"/>
                  </a:lnTo>
                  <a:lnTo>
                    <a:pt x="21" y="64"/>
                  </a:lnTo>
                  <a:lnTo>
                    <a:pt x="31" y="54"/>
                  </a:lnTo>
                  <a:lnTo>
                    <a:pt x="34" y="31"/>
                  </a:lnTo>
                  <a:lnTo>
                    <a:pt x="13" y="0"/>
                  </a:lnTo>
                  <a:close/>
                </a:path>
              </a:pathLst>
            </a:custGeom>
            <a:blipFill rotWithShape="0">
              <a:blip r:embed="rId13"/>
              <a:srcRect/>
              <a:tile tx="0" ty="0" sx="100000" sy="100000" algn="ctr"/>
            </a:blip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732280" y="1523880"/>
              <a:ext cx="1505160" cy="393480"/>
            </a:xfrm>
            <a:custGeom>
              <a:avLst/>
              <a:gdLst/>
              <a:ahLst/>
              <a:rect l="l" t="t" r="r" b="b"/>
              <a:pathLst>
                <a:path w="1055" h="356">
                  <a:moveTo>
                    <a:pt x="1055" y="65"/>
                  </a:moveTo>
                  <a:lnTo>
                    <a:pt x="229" y="356"/>
                  </a:lnTo>
                  <a:lnTo>
                    <a:pt x="0" y="248"/>
                  </a:lnTo>
                  <a:lnTo>
                    <a:pt x="880" y="0"/>
                  </a:lnTo>
                </a:path>
              </a:pathLst>
            </a:custGeom>
            <a:noFill/>
            <a:ln w="3348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5732280" y="1815480"/>
              <a:ext cx="2520" cy="1561320"/>
            </a:xfrm>
            <a:prstGeom prst="line">
              <a:avLst/>
            </a:prstGeom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057360" y="1926360"/>
              <a:ext cx="2880" cy="1551960"/>
            </a:xfrm>
            <a:prstGeom prst="line">
              <a:avLst/>
            </a:prstGeom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6134400" y="1935000"/>
              <a:ext cx="2880" cy="1539360"/>
            </a:xfrm>
            <a:prstGeom prst="line">
              <a:avLst/>
            </a:prstGeom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 flipH="1" flipV="1">
              <a:off x="5731920" y="1808640"/>
              <a:ext cx="319320" cy="112680"/>
            </a:xfrm>
            <a:prstGeom prst="line">
              <a:avLst/>
            </a:prstGeom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 flipH="1" flipV="1">
              <a:off x="5736960" y="3385800"/>
              <a:ext cx="280440" cy="108000"/>
            </a:xfrm>
            <a:prstGeom prst="line">
              <a:avLst/>
            </a:prstGeom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 flipH="1">
              <a:off x="6049080" y="1594440"/>
              <a:ext cx="1185120" cy="316080"/>
            </a:xfrm>
            <a:prstGeom prst="line">
              <a:avLst/>
            </a:prstGeom>
            <a:ln w="11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843880" y="1987920"/>
              <a:ext cx="39240" cy="55440"/>
            </a:xfrm>
            <a:custGeom>
              <a:avLst/>
              <a:gdLst/>
              <a:ahLst/>
              <a:rect l="l" t="t" r="r" b="b"/>
              <a:pathLst>
                <a:path w="29" h="49">
                  <a:moveTo>
                    <a:pt x="17" y="49"/>
                  </a:moveTo>
                  <a:lnTo>
                    <a:pt x="29" y="26"/>
                  </a:lnTo>
                  <a:lnTo>
                    <a:pt x="24" y="7"/>
                  </a:lnTo>
                  <a:lnTo>
                    <a:pt x="13" y="0"/>
                  </a:lnTo>
                  <a:lnTo>
                    <a:pt x="0" y="14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852160" y="3206520"/>
              <a:ext cx="39960" cy="59400"/>
            </a:xfrm>
            <a:custGeom>
              <a:avLst/>
              <a:gdLst/>
              <a:ahLst/>
              <a:rect l="l" t="t" r="r" b="b"/>
              <a:pathLst>
                <a:path w="28" h="56">
                  <a:moveTo>
                    <a:pt x="17" y="56"/>
                  </a:moveTo>
                  <a:lnTo>
                    <a:pt x="28" y="30"/>
                  </a:lnTo>
                  <a:lnTo>
                    <a:pt x="23" y="9"/>
                  </a:lnTo>
                  <a:lnTo>
                    <a:pt x="11" y="0"/>
                  </a:lnTo>
                  <a:lnTo>
                    <a:pt x="0" y="10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6371640" y="1953000"/>
              <a:ext cx="762840" cy="682920"/>
            </a:xfrm>
            <a:custGeom>
              <a:avLst/>
              <a:gdLst/>
              <a:ahLst/>
              <a:rect l="l" t="t" r="r" b="b"/>
              <a:pathLst>
                <a:path w="534" h="617">
                  <a:moveTo>
                    <a:pt x="0" y="188"/>
                  </a:moveTo>
                  <a:lnTo>
                    <a:pt x="0" y="617"/>
                  </a:lnTo>
                  <a:lnTo>
                    <a:pt x="528" y="397"/>
                  </a:lnTo>
                  <a:lnTo>
                    <a:pt x="534" y="0"/>
                  </a:lnTo>
                  <a:lnTo>
                    <a:pt x="0" y="188"/>
                  </a:lnTo>
                  <a:close/>
                </a:path>
              </a:pathLst>
            </a:custGeom>
            <a:blipFill rotWithShape="0">
              <a:blip r:embed="rId14"/>
              <a:srcRect/>
              <a:tile tx="0" ty="0" sx="100000" sy="100000" algn="ctr"/>
            </a:blipFill>
            <a:ln w="111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6371640" y="1946520"/>
              <a:ext cx="762840" cy="689400"/>
            </a:xfrm>
            <a:custGeom>
              <a:avLst/>
              <a:gdLst/>
              <a:ahLst/>
              <a:rect l="l" t="t" r="r" b="b"/>
              <a:pathLst>
                <a:path w="534" h="622">
                  <a:moveTo>
                    <a:pt x="0" y="188"/>
                  </a:moveTo>
                  <a:lnTo>
                    <a:pt x="0" y="622"/>
                  </a:lnTo>
                  <a:lnTo>
                    <a:pt x="534" y="402"/>
                  </a:lnTo>
                  <a:lnTo>
                    <a:pt x="534" y="0"/>
                  </a:lnTo>
                  <a:lnTo>
                    <a:pt x="0" y="188"/>
                  </a:lnTo>
                  <a:close/>
                </a:path>
              </a:pathLst>
            </a:custGeom>
            <a:blipFill rotWithShape="0">
              <a:blip r:embed="rId15"/>
              <a:srcRect/>
              <a:tile tx="0" ty="0" sx="100000" sy="100000" algn="ctr"/>
            </a:blipFill>
            <a:ln w="3348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6563520" y="2122560"/>
              <a:ext cx="425520" cy="110520"/>
            </a:xfrm>
            <a:prstGeom prst="line">
              <a:avLst/>
            </a:prstGeom>
            <a:ln w="11160">
              <a:solidFill>
                <a:srgbClr val="464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 flipV="1">
              <a:off x="6523200" y="2202480"/>
              <a:ext cx="534240" cy="156600"/>
            </a:xfrm>
            <a:prstGeom prst="line">
              <a:avLst/>
            </a:prstGeom>
            <a:ln w="11160">
              <a:solidFill>
                <a:srgbClr val="464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 flipV="1">
              <a:off x="6540840" y="2288520"/>
              <a:ext cx="536760" cy="156600"/>
            </a:xfrm>
            <a:prstGeom prst="line">
              <a:avLst/>
            </a:prstGeom>
            <a:ln w="11160">
              <a:solidFill>
                <a:srgbClr val="464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D3F61F-B851-4BB6-A555-F042A93A4D0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54080" y="68544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Working with DITA map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3657600"/>
            <a:ext cx="82296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DITA map applies context to a set of top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embles an information set for a purpose such as a deliver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pports reuse of topics in different structures in multiple information se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ts the contextual properties of top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tles and meta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topic can be advanced in one set and basic in anoth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ies relationships between the top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 flipV="1">
            <a:off x="1905120" y="1828800"/>
            <a:ext cx="304560" cy="380880"/>
          </a:xfrm>
          <a:prstGeom prst="foldedCorner">
            <a:avLst>
              <a:gd name="adj" fmla="val 35939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 flipV="1">
            <a:off x="1295280" y="2057400"/>
            <a:ext cx="304920" cy="380880"/>
          </a:xfrm>
          <a:prstGeom prst="foldedCorner">
            <a:avLst>
              <a:gd name="adj" fmla="val 35939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 flipV="1">
            <a:off x="2057400" y="2286000"/>
            <a:ext cx="304920" cy="380880"/>
          </a:xfrm>
          <a:prstGeom prst="foldedCorner">
            <a:avLst>
              <a:gd name="adj" fmla="val 35939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 flipV="1">
            <a:off x="1523880" y="1600200"/>
            <a:ext cx="304920" cy="380880"/>
          </a:xfrm>
          <a:prstGeom prst="foldedCorner">
            <a:avLst>
              <a:gd name="adj" fmla="val 35939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1676520" y="2437560"/>
            <a:ext cx="304560" cy="381240"/>
          </a:xfrm>
          <a:prstGeom prst="foldedCorner">
            <a:avLst>
              <a:gd name="adj" fmla="val 35939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3886200" y="16765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4038480" y="18288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4191120" y="1981080"/>
            <a:ext cx="7596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4191120" y="2133720"/>
            <a:ext cx="7596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038480" y="2286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4191120" y="2438280"/>
            <a:ext cx="7596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85" name=""/>
          <p:cNvCxnSpPr>
            <a:stCxn id="379" idx="2"/>
            <a:endCxn id="380" idx="1"/>
          </p:cNvCxnSpPr>
          <p:nvPr/>
        </p:nvCxnSpPr>
        <p:spPr>
          <a:xfrm flipH="1" rot="16200000">
            <a:off x="3923280" y="1752480"/>
            <a:ext cx="115200" cy="114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86" name=""/>
          <p:cNvCxnSpPr/>
          <p:nvPr/>
        </p:nvCxnSpPr>
        <p:spPr>
          <a:xfrm flipH="1" rot="16200000">
            <a:off x="4076640" y="1904400"/>
            <a:ext cx="114840" cy="1152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87" name=""/>
          <p:cNvCxnSpPr>
            <a:stCxn id="380" idx="2"/>
            <a:endCxn id="382" idx="1"/>
          </p:cNvCxnSpPr>
          <p:nvPr/>
        </p:nvCxnSpPr>
        <p:spPr>
          <a:xfrm flipH="1" rot="16200000">
            <a:off x="4000680" y="1980360"/>
            <a:ext cx="267120" cy="1152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88" name=""/>
          <p:cNvCxnSpPr>
            <a:stCxn id="379" idx="2"/>
            <a:endCxn id="383" idx="1"/>
          </p:cNvCxnSpPr>
          <p:nvPr/>
        </p:nvCxnSpPr>
        <p:spPr>
          <a:xfrm flipH="1" rot="16200000">
            <a:off x="3694680" y="1981080"/>
            <a:ext cx="572400" cy="114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89" name=""/>
          <p:cNvCxnSpPr>
            <a:stCxn id="383" idx="2"/>
            <a:endCxn id="384" idx="1"/>
          </p:cNvCxnSpPr>
          <p:nvPr/>
        </p:nvCxnSpPr>
        <p:spPr>
          <a:xfrm flipH="1" rot="16200000">
            <a:off x="4076640" y="2361600"/>
            <a:ext cx="114840" cy="1152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90" name=""/>
          <p:cNvSpPr/>
          <p:nvPr/>
        </p:nvSpPr>
        <p:spPr>
          <a:xfrm>
            <a:off x="4191120" y="2590920"/>
            <a:ext cx="7596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91" name=""/>
          <p:cNvCxnSpPr>
            <a:stCxn id="383" idx="2"/>
            <a:endCxn id="390" idx="1"/>
          </p:cNvCxnSpPr>
          <p:nvPr/>
        </p:nvCxnSpPr>
        <p:spPr>
          <a:xfrm flipH="1" rot="16200000">
            <a:off x="4000680" y="2437560"/>
            <a:ext cx="267120" cy="1152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92" name=""/>
          <p:cNvSpPr/>
          <p:nvPr/>
        </p:nvSpPr>
        <p:spPr>
          <a:xfrm>
            <a:off x="2514600" y="21337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3" name="" descr=""/>
          <p:cNvPicPr/>
          <p:nvPr/>
        </p:nvPicPr>
        <p:blipFill>
          <a:blip r:embed="rId1"/>
          <a:stretch/>
        </p:blipFill>
        <p:spPr>
          <a:xfrm>
            <a:off x="7010280" y="2438280"/>
            <a:ext cx="914400" cy="615960"/>
          </a:xfrm>
          <a:prstGeom prst="rect">
            <a:avLst/>
          </a:prstGeom>
          <a:ln w="0">
            <a:noFill/>
          </a:ln>
        </p:spPr>
      </p:pic>
      <p:sp>
        <p:nvSpPr>
          <p:cNvPr id="394" name="monitor"/>
          <p:cNvSpPr/>
          <p:nvPr/>
        </p:nvSpPr>
        <p:spPr>
          <a:xfrm>
            <a:off x="7010280" y="914400"/>
            <a:ext cx="1295640" cy="1295280"/>
          </a:xfrm>
          <a:prstGeom prst="pi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 flipV="1">
            <a:off x="4572000" y="1904760"/>
            <a:ext cx="12985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4572000" y="2133720"/>
            <a:ext cx="12985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5867280" y="1143000"/>
            <a:ext cx="1219320" cy="162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clipse help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avaHelp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MLHelp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b pages</a:t>
            </a:r>
            <a:br>
              <a:rPr sz="1400"/>
            </a:b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ook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1447920" y="28195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pic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3809880" y="28195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p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5867280" y="28195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liverabl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4572000" y="2133720"/>
            <a:ext cx="1298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 flipV="1">
            <a:off x="4572000" y="1600200"/>
            <a:ext cx="12985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 flipV="1">
            <a:off x="4572000" y="1294920"/>
            <a:ext cx="129852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D880E8-E6DC-4B05-BB2C-5103DD1B766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54080" y="68544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Relationships between topics managed in a map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761760" y="3962160"/>
            <a:ext cx="769932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ierarchical struc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ok nesting or web or help navigation – but also parts explosion, …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roup struc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lated links – but also any distributed or sequential association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bular struc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lated links – but also any matrixed association between top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6" name=""/>
          <p:cNvGrpSpPr/>
          <p:nvPr/>
        </p:nvGrpSpPr>
        <p:grpSpPr>
          <a:xfrm>
            <a:off x="1943280" y="1371600"/>
            <a:ext cx="1066680" cy="2438280"/>
            <a:chOff x="1943280" y="1371600"/>
            <a:chExt cx="1066680" cy="2438280"/>
          </a:xfrm>
        </p:grpSpPr>
        <p:sp>
          <p:nvSpPr>
            <p:cNvPr id="407" name=""/>
            <p:cNvSpPr/>
            <p:nvPr/>
          </p:nvSpPr>
          <p:spPr>
            <a:xfrm>
              <a:off x="1943280" y="1371600"/>
              <a:ext cx="1066680" cy="2438280"/>
            </a:xfrm>
            <a:prstGeom prst="rect">
              <a:avLst/>
            </a:prstGeom>
            <a:solidFill>
              <a:srgbClr val="f8d9a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08" name=""/>
            <p:cNvGrpSpPr/>
            <p:nvPr/>
          </p:nvGrpSpPr>
          <p:grpSpPr>
            <a:xfrm>
              <a:off x="2019240" y="1447920"/>
              <a:ext cx="878040" cy="2284920"/>
              <a:chOff x="2019240" y="1447920"/>
              <a:chExt cx="878040" cy="2284920"/>
            </a:xfrm>
          </p:grpSpPr>
          <p:sp>
            <p:nvSpPr>
              <p:cNvPr id="409" name=""/>
              <p:cNvSpPr/>
              <p:nvPr/>
            </p:nvSpPr>
            <p:spPr>
              <a:xfrm>
                <a:off x="2019240" y="1447920"/>
                <a:ext cx="176040" cy="17496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2370240" y="1799280"/>
                <a:ext cx="176040" cy="17604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2722320" y="2150640"/>
                <a:ext cx="174960" cy="17604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2722320" y="2502720"/>
                <a:ext cx="174960" cy="17496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2370240" y="2854440"/>
                <a:ext cx="176040" cy="17604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2722320" y="3205800"/>
                <a:ext cx="174960" cy="17604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cxnSp>
            <p:nvCxnSpPr>
              <p:cNvPr id="415" name=""/>
              <p:cNvCxnSpPr>
                <a:stCxn id="409" idx="2"/>
                <a:endCxn id="410" idx="1"/>
              </p:cNvCxnSpPr>
              <p:nvPr/>
            </p:nvCxnSpPr>
            <p:spPr>
              <a:xfrm flipH="1" rot="16200000">
                <a:off x="2105640" y="1622880"/>
                <a:ext cx="264600" cy="263880"/>
              </a:xfrm>
              <a:prstGeom prst="bentConnector2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416" name=""/>
              <p:cNvCxnSpPr/>
              <p:nvPr/>
            </p:nvCxnSpPr>
            <p:spPr>
              <a:xfrm flipH="1" rot="16200000">
                <a:off x="2457720" y="1974600"/>
                <a:ext cx="263880" cy="264600"/>
              </a:xfrm>
              <a:prstGeom prst="bentConnector2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417" name=""/>
              <p:cNvCxnSpPr>
                <a:stCxn id="410" idx="2"/>
                <a:endCxn id="412" idx="1"/>
              </p:cNvCxnSpPr>
              <p:nvPr/>
            </p:nvCxnSpPr>
            <p:spPr>
              <a:xfrm flipH="1" rot="16200000">
                <a:off x="2281680" y="2151000"/>
                <a:ext cx="615960" cy="264600"/>
              </a:xfrm>
              <a:prstGeom prst="bentConnector2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418" name=""/>
              <p:cNvCxnSpPr>
                <a:stCxn id="409" idx="2"/>
                <a:endCxn id="413" idx="1"/>
              </p:cNvCxnSpPr>
              <p:nvPr/>
            </p:nvCxnSpPr>
            <p:spPr>
              <a:xfrm flipH="1" rot="16200000">
                <a:off x="1578240" y="2150640"/>
                <a:ext cx="1319760" cy="263880"/>
              </a:xfrm>
              <a:prstGeom prst="bentConnector2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419" name=""/>
              <p:cNvCxnSpPr>
                <a:stCxn id="413" idx="2"/>
                <a:endCxn id="414" idx="1"/>
              </p:cNvCxnSpPr>
              <p:nvPr/>
            </p:nvCxnSpPr>
            <p:spPr>
              <a:xfrm flipH="1" rot="16200000">
                <a:off x="2457720" y="3029760"/>
                <a:ext cx="263880" cy="264600"/>
              </a:xfrm>
              <a:prstGeom prst="bentConnector2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420" name=""/>
              <p:cNvSpPr/>
              <p:nvPr/>
            </p:nvSpPr>
            <p:spPr>
              <a:xfrm>
                <a:off x="2722320" y="3557880"/>
                <a:ext cx="174960" cy="17496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cxnSp>
            <p:nvCxnSpPr>
              <p:cNvPr id="421" name=""/>
              <p:cNvCxnSpPr>
                <a:stCxn id="413" idx="2"/>
                <a:endCxn id="420" idx="1"/>
              </p:cNvCxnSpPr>
              <p:nvPr/>
            </p:nvCxnSpPr>
            <p:spPr>
              <a:xfrm flipH="1" rot="16200000">
                <a:off x="2281680" y="3206160"/>
                <a:ext cx="615960" cy="264600"/>
              </a:xfrm>
              <a:prstGeom prst="bentConnector2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</p:grpSp>
      </p:grpSp>
      <p:sp>
        <p:nvSpPr>
          <p:cNvPr id="422" name=""/>
          <p:cNvSpPr/>
          <p:nvPr/>
        </p:nvSpPr>
        <p:spPr>
          <a:xfrm>
            <a:off x="4419720" y="1371600"/>
            <a:ext cx="838080" cy="1219320"/>
          </a:xfrm>
          <a:prstGeom prst="rect">
            <a:avLst/>
          </a:prstGeom>
          <a:solidFill>
            <a:srgbClr val="f8d9a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4594320" y="1447920"/>
            <a:ext cx="176040" cy="174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4594320" y="1892160"/>
            <a:ext cx="176040" cy="174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594320" y="2338560"/>
            <a:ext cx="176040" cy="1760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26" name=""/>
          <p:cNvCxnSpPr>
            <a:stCxn id="423" idx="3"/>
            <a:endCxn id="424" idx="3"/>
          </p:cNvCxnSpPr>
          <p:nvPr/>
        </p:nvCxnSpPr>
        <p:spPr>
          <a:xfrm>
            <a:off x="4770000" y="1534680"/>
            <a:ext cx="2520" cy="445320"/>
          </a:xfrm>
          <a:prstGeom prst="curvedConnector5">
            <a:avLst>
              <a:gd name="adj1" fmla="val 14400000"/>
              <a:gd name="adj2" fmla="val 50000"/>
              <a:gd name="adj3" fmla="val 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27" name=""/>
          <p:cNvCxnSpPr>
            <a:stCxn id="424" idx="3"/>
            <a:endCxn id="425" idx="3"/>
          </p:cNvCxnSpPr>
          <p:nvPr/>
        </p:nvCxnSpPr>
        <p:spPr>
          <a:xfrm>
            <a:off x="4770000" y="1979280"/>
            <a:ext cx="2520" cy="448200"/>
          </a:xfrm>
          <a:prstGeom prst="curvedConnector5">
            <a:avLst>
              <a:gd name="adj1" fmla="val 14400000"/>
              <a:gd name="adj2" fmla="val 50000"/>
              <a:gd name="adj3" fmla="val 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28" name=""/>
          <p:cNvCxnSpPr>
            <a:stCxn id="423" idx="3"/>
            <a:endCxn id="425" idx="3"/>
          </p:cNvCxnSpPr>
          <p:nvPr/>
        </p:nvCxnSpPr>
        <p:spPr>
          <a:xfrm>
            <a:off x="4770000" y="1535040"/>
            <a:ext cx="2520" cy="892800"/>
          </a:xfrm>
          <a:prstGeom prst="curvedConnector5">
            <a:avLst>
              <a:gd name="adj1" fmla="val 23600000"/>
              <a:gd name="adj2" fmla="val 49979"/>
              <a:gd name="adj3" fmla="val 2360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29" name=""/>
          <p:cNvSpPr/>
          <p:nvPr/>
        </p:nvSpPr>
        <p:spPr>
          <a:xfrm>
            <a:off x="1028880" y="1447920"/>
            <a:ext cx="914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ierarch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3543480" y="14479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oup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5638680" y="14479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6477120" y="1371600"/>
            <a:ext cx="1523880" cy="1447920"/>
          </a:xfrm>
          <a:prstGeom prst="rect">
            <a:avLst/>
          </a:prstGeom>
          <a:solidFill>
            <a:srgbClr val="f8d9a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7515360" y="1481040"/>
            <a:ext cx="347400" cy="1219320"/>
          </a:xfrm>
          <a:prstGeom prst="rect">
            <a:avLst/>
          </a:prstGeom>
          <a:solidFill>
            <a:srgbClr val="ffa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6657840" y="1481040"/>
            <a:ext cx="347760" cy="1219320"/>
          </a:xfrm>
          <a:prstGeom prst="rect">
            <a:avLst/>
          </a:prstGeom>
          <a:solidFill>
            <a:srgbClr val="ffa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6743880" y="1557360"/>
            <a:ext cx="176040" cy="174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743880" y="2001960"/>
            <a:ext cx="176040" cy="174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6743880" y="2448000"/>
            <a:ext cx="176040" cy="1760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7581960" y="1557360"/>
            <a:ext cx="176040" cy="174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7581960" y="2001960"/>
            <a:ext cx="176040" cy="174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7581960" y="2448000"/>
            <a:ext cx="176040" cy="1760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41" name=""/>
          <p:cNvCxnSpPr>
            <a:stCxn id="439" idx="1"/>
            <a:endCxn id="435" idx="3"/>
          </p:cNvCxnSpPr>
          <p:nvPr/>
        </p:nvCxnSpPr>
        <p:spPr>
          <a:xfrm flipH="1" flipV="1">
            <a:off x="6919200" y="1643760"/>
            <a:ext cx="662760" cy="445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42" name=""/>
          <p:cNvCxnSpPr>
            <a:stCxn id="439" idx="1"/>
            <a:endCxn id="436" idx="3"/>
          </p:cNvCxnSpPr>
          <p:nvPr/>
        </p:nvCxnSpPr>
        <p:spPr>
          <a:xfrm flipH="1">
            <a:off x="6919200" y="2088720"/>
            <a:ext cx="662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43" name=""/>
          <p:cNvCxnSpPr>
            <a:stCxn id="439" idx="1"/>
            <a:endCxn id="437" idx="3"/>
          </p:cNvCxnSpPr>
          <p:nvPr/>
        </p:nvCxnSpPr>
        <p:spPr>
          <a:xfrm flipH="1">
            <a:off x="6919200" y="2089080"/>
            <a:ext cx="662760" cy="448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44" name=""/>
          <p:cNvCxnSpPr>
            <a:stCxn id="438" idx="1"/>
            <a:endCxn id="435" idx="3"/>
          </p:cNvCxnSpPr>
          <p:nvPr/>
        </p:nvCxnSpPr>
        <p:spPr>
          <a:xfrm flipH="1">
            <a:off x="6919200" y="1644120"/>
            <a:ext cx="662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45" name=""/>
          <p:cNvCxnSpPr>
            <a:stCxn id="438" idx="1"/>
            <a:endCxn id="436" idx="3"/>
          </p:cNvCxnSpPr>
          <p:nvPr/>
        </p:nvCxnSpPr>
        <p:spPr>
          <a:xfrm flipH="1">
            <a:off x="6919200" y="1644120"/>
            <a:ext cx="662760" cy="445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46" name=""/>
          <p:cNvCxnSpPr>
            <a:stCxn id="438" idx="1"/>
            <a:endCxn id="437" idx="3"/>
          </p:cNvCxnSpPr>
          <p:nvPr/>
        </p:nvCxnSpPr>
        <p:spPr>
          <a:xfrm flipH="1">
            <a:off x="6919200" y="1644120"/>
            <a:ext cx="662760" cy="893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47" name=""/>
          <p:cNvCxnSpPr>
            <a:stCxn id="440" idx="1"/>
            <a:endCxn id="435" idx="3"/>
          </p:cNvCxnSpPr>
          <p:nvPr/>
        </p:nvCxnSpPr>
        <p:spPr>
          <a:xfrm flipH="1" flipV="1">
            <a:off x="6919200" y="1643760"/>
            <a:ext cx="662760" cy="893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48" name=""/>
          <p:cNvCxnSpPr>
            <a:stCxn id="440" idx="1"/>
            <a:endCxn id="436" idx="3"/>
          </p:cNvCxnSpPr>
          <p:nvPr/>
        </p:nvCxnSpPr>
        <p:spPr>
          <a:xfrm flipH="1" flipV="1">
            <a:off x="6919200" y="2088720"/>
            <a:ext cx="662760" cy="448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49" name=""/>
          <p:cNvCxnSpPr>
            <a:stCxn id="440" idx="1"/>
            <a:endCxn id="437" idx="3"/>
          </p:cNvCxnSpPr>
          <p:nvPr/>
        </p:nvCxnSpPr>
        <p:spPr>
          <a:xfrm flipH="1">
            <a:off x="6919200" y="2536560"/>
            <a:ext cx="662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D401B4-56B2-41E4-95C1-AB5FE2458E9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"/>
          <p:cNvSpPr/>
          <p:nvPr/>
        </p:nvSpPr>
        <p:spPr>
          <a:xfrm>
            <a:off x="457200" y="4191120"/>
            <a:ext cx="4114800" cy="1523880"/>
          </a:xfrm>
          <a:prstGeom prst="rect">
            <a:avLst/>
          </a:prstGeom>
          <a:solidFill>
            <a:srgbClr val="fff7e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457200" y="3124080"/>
            <a:ext cx="4114800" cy="609840"/>
          </a:xfrm>
          <a:prstGeom prst="rect">
            <a:avLst/>
          </a:prstGeom>
          <a:solidFill>
            <a:srgbClr val="fff7e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457200" y="1676520"/>
            <a:ext cx="4114800" cy="990360"/>
          </a:xfrm>
          <a:prstGeom prst="rect">
            <a:avLst/>
          </a:prstGeom>
          <a:solidFill>
            <a:srgbClr val="fff7e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54080" y="68544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Examples of topic references in a DITA map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42973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map title="Enterprise web management"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topicref href="installoverview.dita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udience="admin"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topicref href="installdb.dita"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topicref href="closeprograms.dita"/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topicref href="runsetup.dita"/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topicgroup collection-type="family"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topicref href="installdb.dita"/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topicref href="configuredb.dita"/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reltabl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relrow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relcell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topicref href="installdb.dita"/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relcell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relcell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topicref href="dbconcepts.dita"/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relcell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map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5638680" y="1676520"/>
            <a:ext cx="2741760" cy="380880"/>
          </a:xfrm>
          <a:prstGeom prst="borderCallout1">
            <a:avLst>
              <a:gd name="adj1" fmla="val 18750"/>
              <a:gd name="adj2" fmla="val -8333"/>
              <a:gd name="adj3" fmla="val 67500"/>
              <a:gd name="adj4" fmla="val -98550"/>
            </a:avLst>
          </a:prstGeom>
          <a:solidFill>
            <a:srgbClr val="ffffe7"/>
          </a:solidFill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extual propert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638680" y="3276720"/>
            <a:ext cx="2741760" cy="380880"/>
          </a:xfrm>
          <a:prstGeom prst="borderCallout1">
            <a:avLst>
              <a:gd name="adj1" fmla="val 18750"/>
              <a:gd name="adj2" fmla="val -8333"/>
              <a:gd name="adj3" fmla="val 30000"/>
              <a:gd name="adj4" fmla="val -50837"/>
            </a:avLst>
          </a:prstGeom>
          <a:solidFill>
            <a:srgbClr val="ffffe7"/>
          </a:solidFill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roup relationship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5638680" y="2438280"/>
            <a:ext cx="2741760" cy="381240"/>
          </a:xfrm>
          <a:prstGeom prst="borderCallout1">
            <a:avLst>
              <a:gd name="adj1" fmla="val 18750"/>
              <a:gd name="adj2" fmla="val -8333"/>
              <a:gd name="adj3" fmla="val 24166"/>
              <a:gd name="adj4" fmla="val -49449"/>
            </a:avLst>
          </a:prstGeom>
          <a:solidFill>
            <a:srgbClr val="ffffe7"/>
          </a:solidFill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erarchical relationship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 flipH="1" flipV="1">
            <a:off x="4571640" y="3962520"/>
            <a:ext cx="1119240" cy="8776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5638680" y="4572000"/>
            <a:ext cx="2741760" cy="380880"/>
          </a:xfrm>
          <a:prstGeom prst="borderCallout1">
            <a:avLst>
              <a:gd name="adj1" fmla="val 18750"/>
              <a:gd name="adj2" fmla="val -8333"/>
              <a:gd name="adj3" fmla="val 31250"/>
              <a:gd name="adj4" fmla="val -44180"/>
            </a:avLst>
          </a:prstGeom>
          <a:solidFill>
            <a:srgbClr val="ffffe7"/>
          </a:solidFill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bular relationship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8275A5-D128-4C0F-BC31-AA6ED647F4A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"/>
          <p:cNvSpPr/>
          <p:nvPr/>
        </p:nvSpPr>
        <p:spPr>
          <a:xfrm>
            <a:off x="1219320" y="3454560"/>
            <a:ext cx="1523880" cy="152280"/>
          </a:xfrm>
          <a:prstGeom prst="rect">
            <a:avLst/>
          </a:prstGeom>
          <a:solidFill>
            <a:srgbClr val="ffe4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1219320" y="3022560"/>
            <a:ext cx="1523880" cy="304920"/>
          </a:xfrm>
          <a:prstGeom prst="rect">
            <a:avLst/>
          </a:prstGeom>
          <a:solidFill>
            <a:srgbClr val="ffe4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1219320" y="2577960"/>
            <a:ext cx="1523880" cy="304920"/>
          </a:xfrm>
          <a:prstGeom prst="rect">
            <a:avLst/>
          </a:prstGeom>
          <a:solidFill>
            <a:srgbClr val="ffe4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219320" y="1866960"/>
            <a:ext cx="838080" cy="114120"/>
          </a:xfrm>
          <a:prstGeom prst="rect">
            <a:avLst/>
          </a:prstGeom>
          <a:solidFill>
            <a:srgbClr val="ffe4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028880" y="1701720"/>
            <a:ext cx="647640" cy="152640"/>
          </a:xfrm>
          <a:prstGeom prst="rect">
            <a:avLst/>
          </a:prstGeom>
          <a:solidFill>
            <a:srgbClr val="ffe4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54080" y="68544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Example of possible map domain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761760" y="4343040"/>
            <a:ext cx="76993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luggable vocabularies for ma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alized references to top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pecify the topic role within a set of top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pecify the topic type for valid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alized group or tabular struc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semantics of the relationship between the referenced top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762120" y="1371600"/>
            <a:ext cx="7848360" cy="257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map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howto href="dita-mapdomains.xml"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taskref    href="implementDomain.xml"/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annotationRow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publicCell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topicref href="installdb.dita"/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publicCell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serviceCell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topicref href="installfix.dita"/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serviceCell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map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6019920" y="1219320"/>
            <a:ext cx="2514600" cy="380880"/>
          </a:xfrm>
          <a:prstGeom prst="borderCallout1">
            <a:avLst>
              <a:gd name="adj1" fmla="val 18750"/>
              <a:gd name="adj2" fmla="val -8333"/>
              <a:gd name="adj3" fmla="val 118750"/>
              <a:gd name="adj4" fmla="val -169949"/>
            </a:avLst>
          </a:prstGeom>
          <a:solidFill>
            <a:srgbClr val="ffffe7"/>
          </a:solidFill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e for referenced topi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6019920" y="3048120"/>
            <a:ext cx="2516040" cy="380880"/>
          </a:xfrm>
          <a:prstGeom prst="borderCallout1">
            <a:avLst>
              <a:gd name="adj1" fmla="val 18750"/>
              <a:gd name="adj2" fmla="val -8333"/>
              <a:gd name="adj3" fmla="val 30000"/>
              <a:gd name="adj4" fmla="val -121074"/>
            </a:avLst>
          </a:prstGeom>
          <a:solidFill>
            <a:srgbClr val="ffffe7"/>
          </a:solidFill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mantic table structu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6019920" y="2133720"/>
            <a:ext cx="2514600" cy="380880"/>
          </a:xfrm>
          <a:prstGeom prst="borderCallout1">
            <a:avLst>
              <a:gd name="adj1" fmla="val 18750"/>
              <a:gd name="adj2" fmla="val -8333"/>
              <a:gd name="adj3" fmla="val -32083"/>
              <a:gd name="adj4" fmla="val -155430"/>
            </a:avLst>
          </a:prstGeom>
          <a:solidFill>
            <a:srgbClr val="ffffe7"/>
          </a:solidFill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ype of referenced topi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0136CF-B193-4178-8945-B23D4288D2F2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"/>
          <p:cNvSpPr/>
          <p:nvPr/>
        </p:nvSpPr>
        <p:spPr>
          <a:xfrm>
            <a:off x="2998800" y="2857680"/>
            <a:ext cx="839880" cy="836280"/>
          </a:xfrm>
          <a:prstGeom prst="ellipse">
            <a:avLst/>
          </a:prstGeom>
          <a:solidFill>
            <a:srgbClr val="eaeaea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48040" y="2793960"/>
            <a:ext cx="839880" cy="836640"/>
          </a:xfrm>
          <a:prstGeom prst="ellipse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2895480" y="2743200"/>
            <a:ext cx="839880" cy="836640"/>
          </a:xfrm>
          <a:prstGeom prst="ellipse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54080" y="68544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The DITA vision: a platform for collaboration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475" name=""/>
          <p:cNvGrpSpPr/>
          <p:nvPr/>
        </p:nvGrpSpPr>
        <p:grpSpPr>
          <a:xfrm>
            <a:off x="519120" y="1882440"/>
            <a:ext cx="3205080" cy="3248280"/>
            <a:chOff x="519120" y="1882440"/>
            <a:chExt cx="3205080" cy="3248280"/>
          </a:xfrm>
        </p:grpSpPr>
        <p:sp>
          <p:nvSpPr>
            <p:cNvPr id="476" name=""/>
            <p:cNvSpPr/>
            <p:nvPr/>
          </p:nvSpPr>
          <p:spPr>
            <a:xfrm>
              <a:off x="1122480" y="4294080"/>
              <a:ext cx="839520" cy="836640"/>
            </a:xfrm>
            <a:prstGeom prst="ellipse">
              <a:avLst/>
            </a:prstGeom>
            <a:solidFill>
              <a:srgbClr val="eaeaea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1071720" y="4230360"/>
              <a:ext cx="839520" cy="83664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1019160" y="4179600"/>
              <a:ext cx="839880" cy="83664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655560" y="2895480"/>
              <a:ext cx="839880" cy="836640"/>
            </a:xfrm>
            <a:prstGeom prst="ellipse">
              <a:avLst/>
            </a:prstGeom>
            <a:solidFill>
              <a:srgbClr val="eaeaea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604800" y="2832120"/>
              <a:ext cx="839880" cy="8362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552600" y="2781000"/>
              <a:ext cx="839520" cy="83664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1824120" y="2019240"/>
              <a:ext cx="839880" cy="836640"/>
            </a:xfrm>
            <a:prstGeom prst="ellipse">
              <a:avLst/>
            </a:prstGeom>
            <a:solidFill>
              <a:srgbClr val="eaeaea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1773360" y="1955520"/>
              <a:ext cx="839520" cy="83664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1720800" y="1904760"/>
              <a:ext cx="839880" cy="83664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559240" y="4292280"/>
              <a:ext cx="839520" cy="836640"/>
            </a:xfrm>
            <a:prstGeom prst="ellipse">
              <a:avLst/>
            </a:prstGeom>
            <a:solidFill>
              <a:srgbClr val="eaeaea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508120" y="4228920"/>
              <a:ext cx="839880" cy="83664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455920" y="4178160"/>
              <a:ext cx="839880" cy="83664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8" name="_s215045"/>
            <p:cNvSpPr/>
            <p:nvPr/>
          </p:nvSpPr>
          <p:spPr>
            <a:xfrm flipH="1" flipV="1">
              <a:off x="1324080" y="3289320"/>
              <a:ext cx="404640" cy="126720"/>
            </a:xfrm>
            <a:prstGeom prst="line">
              <a:avLst/>
            </a:prstGeom>
            <a:ln w="2844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9" name="_s215046"/>
            <p:cNvSpPr/>
            <p:nvPr/>
          </p:nvSpPr>
          <p:spPr>
            <a:xfrm>
              <a:off x="519120" y="2743200"/>
              <a:ext cx="831960" cy="83160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Retail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0" name="_s215047"/>
            <p:cNvSpPr/>
            <p:nvPr/>
          </p:nvSpPr>
          <p:spPr>
            <a:xfrm flipH="1">
              <a:off x="1627200" y="3878280"/>
              <a:ext cx="247680" cy="345960"/>
            </a:xfrm>
            <a:prstGeom prst="line">
              <a:avLst/>
            </a:prstGeom>
            <a:ln w="2844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1" name="_s215048"/>
            <p:cNvSpPr/>
            <p:nvPr/>
          </p:nvSpPr>
          <p:spPr>
            <a:xfrm>
              <a:off x="969840" y="4140000"/>
              <a:ext cx="830520" cy="83196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7889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Medical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2" name="_s215049"/>
            <p:cNvSpPr/>
            <p:nvPr/>
          </p:nvSpPr>
          <p:spPr>
            <a:xfrm>
              <a:off x="2360520" y="3881160"/>
              <a:ext cx="250920" cy="343080"/>
            </a:xfrm>
            <a:prstGeom prst="line">
              <a:avLst/>
            </a:prstGeom>
            <a:ln w="2844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3" name="_s215050"/>
            <p:cNvSpPr/>
            <p:nvPr/>
          </p:nvSpPr>
          <p:spPr>
            <a:xfrm>
              <a:off x="2425680" y="4130640"/>
              <a:ext cx="830160" cy="83160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Legal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4" name="_s215051"/>
            <p:cNvSpPr/>
            <p:nvPr/>
          </p:nvSpPr>
          <p:spPr>
            <a:xfrm flipV="1">
              <a:off x="2513160" y="3288960"/>
              <a:ext cx="401400" cy="129960"/>
            </a:xfrm>
            <a:prstGeom prst="line">
              <a:avLst/>
            </a:prstGeom>
            <a:ln w="2844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_s215052"/>
            <p:cNvSpPr/>
            <p:nvPr/>
          </p:nvSpPr>
          <p:spPr>
            <a:xfrm>
              <a:off x="2894040" y="2746080"/>
              <a:ext cx="830160" cy="83196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d1821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Marketing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" name="_s215053"/>
            <p:cNvSpPr/>
            <p:nvPr/>
          </p:nvSpPr>
          <p:spPr>
            <a:xfrm flipV="1">
              <a:off x="2119320" y="2710800"/>
              <a:ext cx="0" cy="422280"/>
            </a:xfrm>
            <a:prstGeom prst="line">
              <a:avLst/>
            </a:prstGeom>
            <a:ln w="2844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" name="_s215054"/>
            <p:cNvSpPr/>
            <p:nvPr/>
          </p:nvSpPr>
          <p:spPr>
            <a:xfrm>
              <a:off x="1704960" y="1882440"/>
              <a:ext cx="831960" cy="83052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2db6b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Technical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" name="_s215055"/>
            <p:cNvSpPr/>
            <p:nvPr/>
          </p:nvSpPr>
          <p:spPr>
            <a:xfrm>
              <a:off x="1704960" y="3133440"/>
              <a:ext cx="831960" cy="831960"/>
            </a:xfrm>
            <a:prstGeom prst="ellipse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Cor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3962160" y="1752480"/>
            <a:ext cx="472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ent markup that’s specific to the subject a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rketing event announcements, Development functional specifications, o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al estate appraisal for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hared markup modu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ross industry segments or communities and between partn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markup for the organ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gree on the shared basics, diverge on the local idiosyncrasi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all the specialization modules, assemble the document types, and 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EE8261-12CA-48BD-B97D-196E6DC26385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54080" y="68544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Summary of business value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46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ster time to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eate solution offering across industry stacks or within your business with different components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creased re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f content by referencing topics in many map contex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igns by providing only the specialized delta on the general b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essing by overriding the base only where needed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vestment prot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cause of automated fallback to more general marku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2" name="" descr=""/>
          <p:cNvPicPr/>
          <p:nvPr/>
        </p:nvPicPr>
        <p:blipFill>
          <a:blip r:embed="rId1"/>
          <a:stretch/>
        </p:blipFill>
        <p:spPr>
          <a:xfrm>
            <a:off x="7467480" y="762120"/>
            <a:ext cx="1049400" cy="1066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05DF52-AADF-40BB-8790-F26503E62FF2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54080" y="68544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DITA and the Open Community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533520" y="152352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ITA Standard at OA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ibuted in 20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TA 1.0 specification – Committee Recommend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TA Technical Committee includ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ML tool vendors (Arbortext, Blast Radius, Idiom, Rascal, Syntext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sultants (Comtech, Innodata, Mulberrytech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nies (BMC, Boeing, IBM, Intel, Lucent, Nokia, Oracle, Su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ducation and government (National Library of Medicine,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 Department of Defense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ITA Open Toolkit at SourceFo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ccessor to public toolkit published through IBM DeveloperWor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implementation – usable for production, ongoing enhanc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ther community-contributed utili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munity specialization modu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amples and demos of DITA capabili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C5B1DC-E132-4617-A69B-1F7D967A1519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963720" y="1208160"/>
            <a:ext cx="7488000" cy="197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What is DITA?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C1B3D3-1864-4E50-AD01-FBAC9027CB6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54080" y="68544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Where next?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arn more about DI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ASIS – http://www.oasis-open.org/committees/d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ver page –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xml.coverpages.org/dita.html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ere do we take DITA togeth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in the dialog on the DITA forum –</a:t>
            </a:r>
            <a:br>
              <a:rPr sz="18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groups.yahoo.com/group/dita-users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wnload the DITA Open Toolk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sourceforge.net/projects/dita-ot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02DD5E-CA5C-48A4-8D2E-CA7C7E721A7F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/>
          <p:nvPr/>
        </p:nvSpPr>
        <p:spPr>
          <a:xfrm>
            <a:off x="963720" y="1208160"/>
            <a:ext cx="7488000" cy="197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C28B52-31CB-49AA-879F-A163478ED7FC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54080" y="68544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DITA defined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arwin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TA utilizes principles of inheritance for spec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formation Typ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 DITA was designed for technical information based on an information architecture of Concept, Task and Re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: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TA is a model for extension both of design and of pro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E02EA3-77DD-4DA9-8302-134607DC5A62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54080" y="68544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Benefit of design reuse through specialization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6080" indent="-226080">
              <a:lnSpc>
                <a:spcPct val="8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 need to reinvent the base vocabulary -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ate a module in 1/2 day with 10 lines vs. 6 months with 100s of lines; automatically pick up changes to the b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6080" indent="0">
              <a:lnSpc>
                <a:spcPct val="80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8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 impact from other designs that customize for different purposes -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void enormous, kitchen-sink vocabularies; Plug in the modules for your requir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7560" indent="0">
              <a:lnSpc>
                <a:spcPct val="80000"/>
              </a:lnSpc>
              <a:spcBef>
                <a:spcPts val="374"/>
              </a:spcBef>
              <a:spcAft>
                <a:spcPts val="224"/>
              </a:spcAft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8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operability at the base type -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uaranteed reversion from special to b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7560" indent="0">
              <a:lnSpc>
                <a:spcPct val="80000"/>
              </a:lnSpc>
              <a:spcBef>
                <a:spcPts val="374"/>
              </a:spcBef>
              <a:spcAft>
                <a:spcPts val="224"/>
              </a:spcAft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8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usable type hierarchies -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hare understanding of information across groups, saving time and presenting a consistent picture to custom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7560" indent="0">
              <a:lnSpc>
                <a:spcPct val="80000"/>
              </a:lnSpc>
              <a:spcBef>
                <a:spcPts val="374"/>
              </a:spcBef>
              <a:spcAft>
                <a:spcPts val="224"/>
              </a:spcAft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8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utput tailored to customers and information -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re specific search, filtering, and reuse that is designed for your customers and information, not just the common denomin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7560" indent="0">
              <a:lnSpc>
                <a:spcPct val="80000"/>
              </a:lnSpc>
              <a:spcBef>
                <a:spcPts val="374"/>
              </a:spcBef>
              <a:spcAft>
                <a:spcPts val="224"/>
              </a:spcAft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8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sistency -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oth with base standards and within your information 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7560" indent="0">
              <a:lnSpc>
                <a:spcPct val="80000"/>
              </a:lnSpc>
              <a:spcBef>
                <a:spcPts val="374"/>
              </a:spcBef>
              <a:spcAft>
                <a:spcPts val="224"/>
              </a:spcAft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8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arning support for new writers  -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stead of learning standard markup plus specific ways to apply the markup, writers get specific markup with guidelines built 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7560" indent="0">
              <a:lnSpc>
                <a:spcPct val="80000"/>
              </a:lnSpc>
              <a:spcBef>
                <a:spcPts val="374"/>
              </a:spcBef>
              <a:spcAft>
                <a:spcPts val="224"/>
              </a:spcAft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8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plicit support of different product architectural requirements  -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ements of different products and architectures can be supported and enforced, rather than suggested and monitored by editorial staf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478FF9-25B9-4FEC-9280-69237DC0FD5C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5638680" y="2209680"/>
            <a:ext cx="1600200" cy="685800"/>
          </a:xfrm>
          <a:prstGeom prst="lightningBolt">
            <a:avLst/>
          </a:prstGeom>
          <a:solidFill>
            <a:srgbClr val="ffff00">
              <a:alpha val="49000"/>
            </a:srgbClr>
          </a:solidFill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4080" y="68544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History of Markup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52280" y="2057400"/>
            <a:ext cx="1676520" cy="990720"/>
          </a:xfrm>
          <a:prstGeom prst="rect">
            <a:avLst/>
          </a:prstGeom>
          <a:solidFill>
            <a:srgbClr val="ffff00">
              <a:alpha val="49000"/>
            </a:srgbClr>
          </a:solidFill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970s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SI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981080" y="2057400"/>
            <a:ext cx="1676520" cy="990720"/>
          </a:xfrm>
          <a:prstGeom prst="rect">
            <a:avLst/>
          </a:prstGeom>
          <a:solidFill>
            <a:srgbClr val="ffff00">
              <a:alpha val="49000"/>
            </a:srgbClr>
          </a:solidFill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980s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ookMast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P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809880" y="2057400"/>
            <a:ext cx="1676520" cy="990720"/>
          </a:xfrm>
          <a:prstGeom prst="rect">
            <a:avLst/>
          </a:prstGeom>
          <a:solidFill>
            <a:srgbClr val="ffff00">
              <a:alpha val="49000"/>
            </a:srgbClr>
          </a:solidFill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990s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GML, HTM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315200" y="2057400"/>
            <a:ext cx="1676520" cy="990720"/>
          </a:xfrm>
          <a:prstGeom prst="rect">
            <a:avLst/>
          </a:prstGeom>
          <a:solidFill>
            <a:srgbClr val="ffff00">
              <a:alpha val="49000"/>
            </a:srgbClr>
          </a:solidFill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00+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XML-based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mantic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791320" y="23623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for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an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52280" y="3809880"/>
            <a:ext cx="8839440" cy="0"/>
          </a:xfrm>
          <a:prstGeom prst="line">
            <a:avLst/>
          </a:prstGeom>
          <a:ln w="7632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13" name=""/>
          <p:cNvCxnSpPr/>
          <p:nvPr/>
        </p:nvCxnSpPr>
        <p:spPr>
          <a:xfrm>
            <a:off x="990360" y="3048120"/>
            <a:ext cx="1080" cy="1296000"/>
          </a:xfrm>
          <a:prstGeom prst="straightConnector1">
            <a:avLst/>
          </a:prstGeom>
          <a:ln w="38160">
            <a:solidFill>
              <a:srgbClr val="ffcc00"/>
            </a:solidFill>
            <a:miter/>
            <a:tailEnd len="med" type="triangle" w="med"/>
          </a:ln>
        </p:spPr>
      </p:cxnSp>
      <p:cxnSp>
        <p:nvCxnSpPr>
          <p:cNvPr id="114" name=""/>
          <p:cNvCxnSpPr>
            <a:stCxn id="108" idx="2"/>
          </p:cNvCxnSpPr>
          <p:nvPr/>
        </p:nvCxnSpPr>
        <p:spPr>
          <a:xfrm>
            <a:off x="2819520" y="3066840"/>
            <a:ext cx="2160" cy="1315080"/>
          </a:xfrm>
          <a:prstGeom prst="straightConnector1">
            <a:avLst/>
          </a:prstGeom>
          <a:ln w="38160">
            <a:solidFill>
              <a:srgbClr val="ffcc00"/>
            </a:solidFill>
            <a:miter/>
            <a:tailEnd len="med" type="triangle" w="med"/>
          </a:ln>
        </p:spPr>
      </p:cxnSp>
      <p:cxnSp>
        <p:nvCxnSpPr>
          <p:cNvPr id="115" name=""/>
          <p:cNvCxnSpPr/>
          <p:nvPr/>
        </p:nvCxnSpPr>
        <p:spPr>
          <a:xfrm>
            <a:off x="4648320" y="3048120"/>
            <a:ext cx="2160" cy="1219680"/>
          </a:xfrm>
          <a:prstGeom prst="straightConnector1">
            <a:avLst/>
          </a:prstGeom>
          <a:ln w="38160">
            <a:solidFill>
              <a:srgbClr val="ffcc00"/>
            </a:solidFill>
            <a:miter/>
            <a:tailEnd len="med" type="triangle" w="med"/>
          </a:ln>
        </p:spPr>
      </p:cxnSp>
      <p:cxnSp>
        <p:nvCxnSpPr>
          <p:cNvPr id="116" name=""/>
          <p:cNvCxnSpPr/>
          <p:nvPr/>
        </p:nvCxnSpPr>
        <p:spPr>
          <a:xfrm>
            <a:off x="8152920" y="3047760"/>
            <a:ext cx="1080" cy="1143720"/>
          </a:xfrm>
          <a:prstGeom prst="straightConnector1">
            <a:avLst/>
          </a:prstGeom>
          <a:ln w="38160">
            <a:solidFill>
              <a:srgbClr val="ffcc00"/>
            </a:solidFill>
            <a:miter/>
            <a:tailEnd len="med" type="triangle" w="med"/>
          </a:ln>
        </p:spPr>
      </p:cxnSp>
      <p:grpSp>
        <p:nvGrpSpPr>
          <p:cNvPr id="117" name=""/>
          <p:cNvGrpSpPr/>
          <p:nvPr/>
        </p:nvGrpSpPr>
        <p:grpSpPr>
          <a:xfrm>
            <a:off x="152280" y="4495680"/>
            <a:ext cx="1752840" cy="1219320"/>
            <a:chOff x="152280" y="4495680"/>
            <a:chExt cx="1752840" cy="1219320"/>
          </a:xfrm>
        </p:grpSpPr>
        <p:sp>
          <p:nvSpPr>
            <p:cNvPr id="118" name=""/>
            <p:cNvSpPr/>
            <p:nvPr/>
          </p:nvSpPr>
          <p:spPr>
            <a:xfrm>
              <a:off x="152280" y="4495680"/>
              <a:ext cx="1752840" cy="609840"/>
            </a:xfrm>
            <a:prstGeom prst="roundRect">
              <a:avLst>
                <a:gd name="adj" fmla="val 16667"/>
              </a:avLst>
            </a:prstGeom>
            <a:solidFill>
              <a:srgbClr val="ffff00">
                <a:alpha val="49000"/>
              </a:srgbClr>
            </a:solidFill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rinted Book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52280" y="5105520"/>
              <a:ext cx="1752840" cy="60948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Limited reus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ingle purpos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1981080" y="4495680"/>
            <a:ext cx="1981440" cy="1143000"/>
            <a:chOff x="1981080" y="4495680"/>
            <a:chExt cx="1981440" cy="1143000"/>
          </a:xfrm>
        </p:grpSpPr>
        <p:sp>
          <p:nvSpPr>
            <p:cNvPr id="121" name=""/>
            <p:cNvSpPr/>
            <p:nvPr/>
          </p:nvSpPr>
          <p:spPr>
            <a:xfrm>
              <a:off x="2057400" y="4495680"/>
              <a:ext cx="1752480" cy="609840"/>
            </a:xfrm>
            <a:prstGeom prst="roundRect">
              <a:avLst>
                <a:gd name="adj" fmla="val 16667"/>
              </a:avLst>
            </a:prstGeom>
            <a:solidFill>
              <a:srgbClr val="ffff00">
                <a:alpha val="49000"/>
              </a:srgbClr>
            </a:solidFill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rinted and onlin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Books, online help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981080" y="5181480"/>
              <a:ext cx="1981440" cy="45720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onolithic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Book-Centered DTD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3" name=""/>
          <p:cNvSpPr/>
          <p:nvPr/>
        </p:nvSpPr>
        <p:spPr>
          <a:xfrm>
            <a:off x="5334120" y="3276720"/>
            <a:ext cx="2209680" cy="990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horter cycl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ewer people,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creasing learning curves,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aster, better, cheap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6934320" y="4419720"/>
            <a:ext cx="2133360" cy="1371600"/>
            <a:chOff x="6934320" y="4419720"/>
            <a:chExt cx="2133360" cy="1371600"/>
          </a:xfrm>
        </p:grpSpPr>
        <p:sp>
          <p:nvSpPr>
            <p:cNvPr id="125" name=""/>
            <p:cNvSpPr/>
            <p:nvPr/>
          </p:nvSpPr>
          <p:spPr>
            <a:xfrm>
              <a:off x="7238880" y="4419720"/>
              <a:ext cx="1752840" cy="685800"/>
            </a:xfrm>
            <a:prstGeom prst="roundRect">
              <a:avLst>
                <a:gd name="adj" fmla="val 16667"/>
              </a:avLst>
            </a:prstGeom>
            <a:solidFill>
              <a:srgbClr val="ffff00">
                <a:alpha val="49000"/>
              </a:srgbClr>
            </a:solidFill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omponents,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ultiplatform,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ntegrated system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934320" y="5181480"/>
              <a:ext cx="2133360" cy="6098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Web-deployed products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artner and OEM use of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nformatio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4495680"/>
            <a:ext cx="1752480" cy="1143000"/>
            <a:chOff x="3962520" y="4495680"/>
            <a:chExt cx="1752480" cy="1143000"/>
          </a:xfrm>
        </p:grpSpPr>
        <p:sp>
          <p:nvSpPr>
            <p:cNvPr id="128" name=""/>
            <p:cNvSpPr/>
            <p:nvPr/>
          </p:nvSpPr>
          <p:spPr>
            <a:xfrm>
              <a:off x="3962520" y="4495680"/>
              <a:ext cx="1752480" cy="609840"/>
            </a:xfrm>
            <a:prstGeom prst="roundRect">
              <a:avLst>
                <a:gd name="adj" fmla="val 16667"/>
              </a:avLst>
            </a:prstGeom>
            <a:solidFill>
              <a:srgbClr val="ffff00">
                <a:alpha val="49000"/>
              </a:srgbClr>
            </a:solidFill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Online information,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Webs, printable &amp;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rinted book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962520" y="5181480"/>
              <a:ext cx="1676160" cy="45720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nformation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rchitectur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E94645-1806-42C5-9B0B-9BE155AA3EB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4080" y="68544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The Vision (1998/1999)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990720" y="1523880"/>
          <a:ext cx="7391160" cy="482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523880"/>
                    <a:ext cx="7391160" cy="482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" name=""/>
          <p:cNvSpPr/>
          <p:nvPr/>
        </p:nvSpPr>
        <p:spPr>
          <a:xfrm>
            <a:off x="6705720" y="1523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ultiple forma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39D92-FDFC-40CE-A206-B181B562555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4080" y="68544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ore design principles of DITA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09120" y="144756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pic ori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content object covers one subject for a specific purpos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pic granula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ent objects are assembled into information sets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rong typ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ypes enforce structures specific to the content semantic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special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ypes extend more basic types to model new kinds of informa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mon base 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top-level generic type provides interoperability and fallback for all top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F4DCF9-313F-43D1-9FB5-03EA68C3829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963720" y="1208160"/>
            <a:ext cx="7488000" cy="197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What is DITA specialization?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AFB4BB-6180-4BDA-87F9-ACDB6C9B5B5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4080" y="68544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The motivation for specialization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79246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re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ic XML solutions are not specific to your nee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nowledge representation is strongly related to industry, community, and organization cultur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existing tradeo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ore useful your XML markup is to you, the more it will cost you and the fewer people will share the co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CE1A31-7D49-485B-B825-A86A439C774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4080" y="68544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Specializing a topic type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80520" y="4800240"/>
            <a:ext cx="85345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pecialized topic type for procedural instructions works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5120" indent="0"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uide the wri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65120" indent="0"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force the struc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65120" indent="0"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clare the semant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65120" indent="0"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short, make the content easier to understand, validate, and pro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80880" y="1371600"/>
            <a:ext cx="5943600" cy="3176640"/>
          </a:xfrm>
          <a:prstGeom prst="rect">
            <a:avLst/>
          </a:prstGeom>
          <a:solidFill>
            <a:srgbClr val="ffe4c9">
              <a:alpha val="50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eneral topi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opic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d="installstorage"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title&gt;Installing a hard drive&lt;/title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ody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ol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&l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h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Unscrew the cover.&lt;/ph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temgrou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The drive bay...&lt;/itemgroup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li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&l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h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Insert the drive...&lt;/ph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temgrou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If you feel...&lt;/itemgroup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step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l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body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topic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3700440" y="1143000"/>
            <a:ext cx="5214960" cy="3733920"/>
            <a:chOff x="3700440" y="1143000"/>
            <a:chExt cx="5214960" cy="3733920"/>
          </a:xfrm>
        </p:grpSpPr>
        <p:sp>
          <p:nvSpPr>
            <p:cNvPr id="143" name=""/>
            <p:cNvSpPr/>
            <p:nvPr/>
          </p:nvSpPr>
          <p:spPr>
            <a:xfrm>
              <a:off x="3700440" y="1143000"/>
              <a:ext cx="0" cy="373392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733920" y="1371600"/>
              <a:ext cx="5181480" cy="3200400"/>
            </a:xfrm>
            <a:prstGeom prst="rect">
              <a:avLst/>
            </a:prstGeom>
            <a:solidFill>
              <a:srgbClr val="ffffe7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228600" indent="-2286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pecialized task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228600" indent="-2286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task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id="installstorage"&gt;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marL="228600" indent="-2286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title&gt;Installing a hard drive&lt;/title&gt;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marL="228600" indent="-2286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taskbody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gt;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marL="228600" indent="-2286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steps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gt;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marL="228600" indent="-2286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step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gt;&lt;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cmd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gt;Unscrew the cover.&lt;/cmd&gt;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marL="228600" indent="-2286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stepresult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gt;The drive...&lt;/stepresult&gt;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marL="228600" indent="-2286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step&gt;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marL="228600" indent="-2286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step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gt;&lt;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cmd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gt;Insert the drive...&lt;/cmd&gt;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marL="228600" indent="-2286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nfo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gt;If you feel resistance...&lt;/info&gt;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marL="228600" indent="-2286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step&gt;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marL="228600" indent="-2286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steps&gt;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marL="228600" indent="-2286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taskbody&gt;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marL="228600" indent="-2286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task&gt;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4BFE56-4471-4686-A979-1752495F2EE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5T13:10:59Z</dcterms:created>
  <dc:creator>DASchell</dc:creator>
  <dc:description/>
  <dc:language>en-US</dc:language>
  <cp:lastModifiedBy>erikh</cp:lastModifiedBy>
  <dcterms:modified xsi:type="dcterms:W3CDTF">2005-04-01T14:48:00Z</dcterms:modified>
  <cp:revision>645</cp:revision>
  <dc:subject>Introduction to DITA</dc:subject>
  <dc:title>Darwin Information Typing Architeture: DITA</dc:title>
</cp:coreProperties>
</file>