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4B2D-C9D7-44D7-A447-167CCE460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2837-92E1-4D9C-B0FE-F14CA6840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2812-539B-471D-AE97-0DA525861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841E-5CBA-4914-A581-B9A048D38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AF3E-BC87-4917-AD5A-D7B053F65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9F29-5312-4514-97E6-3335AFAC2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2265-5C70-4B99-AEB7-C6F3F8A03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BB01-4E32-43B3-A6CD-455E33A05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46BF-6903-4927-B6EC-178CC1FB2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FB31-C3FB-4D79-906F-B460D7D29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763E-AD76-459A-8FF5-CC3FD779F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6CD5-0110-44CA-83A1-F7B6280DB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86800" y="6339960"/>
            <a:ext cx="33480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B410F5F-6410-4FE1-B1EF-F081A39DD3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eb Services Messaging Using ACORD standard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A Practical Implementation Viewpoint</a:t>
            </a:r>
            <a:endParaRPr b="0" lang="en-US" sz="2000" spc="-1" strike="noStrike">
              <a:solidFill>
                <a:srgbClr val="ff99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Steve Betts</a:t>
            </a:r>
            <a:endParaRPr b="0" lang="en-US" sz="2000" spc="-1" strike="noStrike">
              <a:solidFill>
                <a:srgbClr val="ff99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Chief Information Officer, Aon Re Global</a:t>
            </a:r>
            <a:endParaRPr b="0" lang="en-US" sz="2000" spc="-1" strike="noStrike">
              <a:solidFill>
                <a:srgbClr val="ff99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May 2006</a:t>
            </a:r>
            <a:endParaRPr b="0" lang="en-US" sz="20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Business Contex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69560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messaging using ACORD standards is central to Aon Re Global’s trading partner integration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04812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structur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embedded in the messages or retrieved through embedded re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RD standards cover both technical interoperability and business message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3048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operational costs through the elimination of less efficient data exchange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in number of queries and other delays (due to improved linkage between data and supporting docu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in the number of data errors (due to elimination of the re-keying of unstructured 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services to clients – faster and more accu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2480" y="26049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260496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 to Aon Re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3733200" y="3962160"/>
            <a:ext cx="152424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7225-8055-40AA-AB22-189556B2A7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volution of Data Exchange in Reinsurance Industr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9480" y="1792440"/>
            <a:ext cx="7696440" cy="4456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7848360" cy="3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ED4C-B5CF-4CB0-8568-36A606D850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ample Message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Flow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505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flow id asynchronous except for SOAP Post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basic flow for all messag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Acknowled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05200" y="304920"/>
          <a:ext cx="4362480" cy="624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05200" y="304920"/>
                    <a:ext cx="43624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3218-75E7-40CE-AFA1-E79C034FCF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ssons Learned – Key Consid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 of automation and integration by receiving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8840" y="22093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trading partners receive messages but do not integrate data to core systems leading to an erosion of benefits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323960" y="2571840"/>
            <a:ext cx="7239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352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50532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 of business process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50532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 change can be underestimated and can impede the implementa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323960" y="3867120"/>
            <a:ext cx="7239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648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7242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gnment of development and implementation approaches between trading 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72428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x of waterfall and iterative approaches can lead to significant problems being identified late in the implementa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323960" y="5086440"/>
            <a:ext cx="7239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9960" y="163656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840" y="16365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E0D0-AED6-4577-9A07-D1B117499E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ssons Learned – Challe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 of multiple parties (e.g., involvement of an intermediary such as a servicing bureau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8840" y="22093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 to gain agreement of message content from all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 to test end-to-end message flows eff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323960" y="2495520"/>
            <a:ext cx="7239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352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4290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gnment of cross reference data and referenc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342900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ificant data clean up required to ensure integrity of cross referenc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load required to enable UUID references between 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for disputes and challenges when mapping to “standard”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4323960" y="3790800"/>
            <a:ext cx="72360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51814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logical definition of a transaction (e.g., one invoice may map to multiple invoices at a trading partn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518148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complexity in maintaining cross references between transactions and complicates the message 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4323960" y="5543640"/>
            <a:ext cx="7239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0320" y="16365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840" y="16365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9640-869D-4E48-8B97-D6FE29A612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ssons Learned – Enabler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ence of a recognized standard and a trusted organization for mediation of disp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28840" y="22093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RD standard is the key ena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RD clarifies interpretation of the standard when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323960" y="2495520"/>
            <a:ext cx="7239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200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27672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multiple versions of the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32767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 do not adopt standards at the same pace – it is critical to support multiple ver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323960" y="3638520"/>
            <a:ext cx="7239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3434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trading partners using a common I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34340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work can be leveraged across multiple trading partners very quickly if they use the same I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323960" y="4705200"/>
            <a:ext cx="72360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0680" y="16365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840" y="16365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4100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testing early in the development / implementation cycle and conduct parallel runs prior to implementation (comparing results with the existing chann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4100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testing helps trading partners find major problems early and helps them quickly understand the business process i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4323960" y="5772240"/>
            <a:ext cx="72396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F9B1-201B-4651-B5A6-966E6378F4BA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05:20Z</dcterms:created>
  <dc:creator>Lloyd Chumbley</dc:creator>
  <dc:description/>
  <dc:language>en-US</dc:language>
  <cp:lastModifiedBy>sbetts</cp:lastModifiedBy>
  <cp:lastPrinted>2002-10-23T15:20:19Z</cp:lastPrinted>
  <dcterms:modified xsi:type="dcterms:W3CDTF">2006-05-09T14:19:14Z</dcterms:modified>
  <cp:revision>44</cp:revision>
  <dc:subject/>
  <dc:title>Title Goes Here</dc:title>
</cp:coreProperties>
</file>