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91E0-9DF6-4C48-951B-2175DBC411C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1936-5A49-452D-A0AC-73FDD52DC07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3CD6-7E06-4C09-A775-6D3AA6788C6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A2A-43FC-4DB5-8635-D8851B218F7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30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19A-579D-4087-A984-E64CABCE53E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19320" y="1981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iag.org/" TargetMode="External"/><Relationship Id="rId3" Type="http://schemas.openxmlformats.org/officeDocument/2006/relationships/hyperlink" Target="mailto:psnack@aiag.or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teroperability:  Standards and Product – Both Are Important – NOW Pleas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505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80000"/>
              </a:lnSpc>
              <a:spcAft>
                <a:spcPts val="8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29400" y="5791320"/>
            <a:ext cx="220968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www.aiag.org</a:t>
            </a:r>
            <a:br>
              <a:rPr sz="3200"/>
            </a:b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psnack@aiag.org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505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80000"/>
              </a:lnSpc>
              <a:spcAft>
                <a:spcPts val="8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6629400" y="5791320"/>
            <a:ext cx="220968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74760" y="1295280"/>
            <a:ext cx="8611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ly recognized trade associatio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d on common business processes, implementation guidelines, education and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approximately 1,500 member companies representing major OEMS, suppliers, and service prov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han 1,000 volunteers participate monthly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opportunity for peer networking and sharing best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762120"/>
            <a:ext cx="8747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o We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fit margins are thin; extremely competitive market – U.S. diminishing manufacturing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nies and their supply chains are becoming more glo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s and products to support deployment are not always available when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utomotive industry wastes $5 Billion annually due to the lack of interoperability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0-40% of a company’s IT budget is spent on translation and integration costs*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7621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e of the Industry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1000" y="601992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 * NIS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Qtr 2004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 Gartne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2514600"/>
            <a:ext cx="1371600" cy="3048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514600"/>
            <a:ext cx="1371600" cy="3048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484360"/>
            <a:ext cx="1371600" cy="3048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2484360"/>
            <a:ext cx="1371600" cy="3048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637000"/>
            <a:ext cx="10447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olunte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fine B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acti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lve business probl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velop technical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ali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514600"/>
            <a:ext cx="152424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utomotive  Implementation Guid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ata For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ical 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484360"/>
            <a:ext cx="134928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gional Standards and Standards Development Organiz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AS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S-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2506680"/>
            <a:ext cx="13716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/CEF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484360"/>
            <a:ext cx="1371600" cy="3048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560680"/>
            <a:ext cx="144792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terial   Replenish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rgono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arra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 Bar 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 EDI/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 RF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780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3780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703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3703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26540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415880"/>
            <a:ext cx="26449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overnment Regu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US, EU, Japa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1960" y="6397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IAG Standards Developmen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62520" y="5486400"/>
            <a:ext cx="4190760" cy="1295280"/>
          </a:xfrm>
          <a:prstGeom prst="cloudCallout">
            <a:avLst>
              <a:gd name="adj1" fmla="val -43564"/>
              <a:gd name="adj2" fmla="val 71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608800"/>
            <a:ext cx="37339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gration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lianc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ding Partner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219320"/>
            <a:ext cx="50292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7226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1523880"/>
            <a:ext cx="1600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s to Run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1951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7226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95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19512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19512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56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598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52880" y="6294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286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143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loba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19720" y="22856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409720" y="3246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086240" y="3246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62720" y="1646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560" y="90144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-76320" y="14400"/>
            <a:ext cx="9372600" cy="749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-152280"/>
            <a:ext cx="69339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AIAG Collaboration Model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967200"/>
            <a:ext cx="74804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33160" y="4821120"/>
            <a:ext cx="19810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3520" y="1109520"/>
            <a:ext cx="1440" cy="371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5265720"/>
            <a:ext cx="5600520" cy="9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270400"/>
            <a:ext cx="1440" cy="297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280120"/>
            <a:ext cx="1800" cy="296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265720"/>
            <a:ext cx="1800" cy="297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5275440"/>
            <a:ext cx="1800" cy="296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489420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86800" y="1109520"/>
            <a:ext cx="1440" cy="378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29480" y="1109520"/>
            <a:ext cx="293364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1257480"/>
            <a:ext cx="180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0952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2593800"/>
            <a:ext cx="180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224160"/>
            <a:ext cx="670536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228840"/>
            <a:ext cx="1440" cy="297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238560"/>
            <a:ext cx="1440" cy="296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3224160"/>
            <a:ext cx="1440" cy="297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3224160"/>
            <a:ext cx="1440" cy="297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3233880"/>
            <a:ext cx="1440" cy="296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4680" y="3224160"/>
            <a:ext cx="1800" cy="297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000160"/>
            <a:ext cx="18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118120"/>
            <a:ext cx="144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887400"/>
            <a:ext cx="2590560" cy="41760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481040"/>
            <a:ext cx="2895840" cy="51912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ecutiv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49520" y="4606920"/>
            <a:ext cx="4200480" cy="511200"/>
          </a:xfrm>
          <a:prstGeom prst="rect">
            <a:avLst/>
          </a:prstGeom>
          <a:solidFill>
            <a:srgbClr val="3b6a9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mb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5562720"/>
            <a:ext cx="1285920" cy="890640"/>
          </a:xfrm>
          <a:prstGeom prst="rect">
            <a:avLst/>
          </a:prstGeom>
          <a:solidFill>
            <a:srgbClr val="3b6a9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43680" y="5553000"/>
            <a:ext cx="1285920" cy="890640"/>
          </a:xfrm>
          <a:prstGeom prst="rect">
            <a:avLst/>
          </a:prstGeom>
          <a:solidFill>
            <a:srgbClr val="3b6a9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553000"/>
            <a:ext cx="1285920" cy="890640"/>
          </a:xfrm>
          <a:prstGeom prst="rect">
            <a:avLst/>
          </a:prstGeom>
          <a:solidFill>
            <a:srgbClr val="3b6a9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5562720"/>
            <a:ext cx="1361880" cy="890640"/>
          </a:xfrm>
          <a:prstGeom prst="rect">
            <a:avLst/>
          </a:prstGeom>
          <a:solidFill>
            <a:srgbClr val="3b6a9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9800" y="5562720"/>
            <a:ext cx="1285920" cy="890640"/>
          </a:xfrm>
          <a:prstGeom prst="rect">
            <a:avLst/>
          </a:prstGeom>
          <a:solidFill>
            <a:srgbClr val="3b6a9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ngineering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147760"/>
            <a:ext cx="3353040" cy="44604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ustry Loans/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559320"/>
            <a:ext cx="1219320" cy="91728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530520"/>
            <a:ext cx="1218960" cy="91908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503520"/>
            <a:ext cx="1218960" cy="91764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ccup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ealth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530520"/>
            <a:ext cx="1333440" cy="91908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llabora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gineering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530520"/>
            <a:ext cx="1219320" cy="91908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lect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3521160"/>
            <a:ext cx="1218960" cy="91908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uck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eav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33640" y="2874960"/>
            <a:ext cx="327672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eering Commit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4821120"/>
            <a:ext cx="914400" cy="59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49388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4597560"/>
            <a:ext cx="69408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4449600"/>
            <a:ext cx="1440" cy="147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4449600"/>
            <a:ext cx="1440" cy="147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4449600"/>
            <a:ext cx="1440" cy="147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4449600"/>
            <a:ext cx="1440" cy="147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449600"/>
            <a:ext cx="1800" cy="147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449600"/>
            <a:ext cx="1800" cy="147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597560"/>
            <a:ext cx="1800" cy="223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38098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2B Communication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amework – Lack of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operability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114480" y="4294080"/>
            <a:ext cx="2503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bXML Messaging, AS1, AS2, WS Authorization, SAML, WS Federation, WS Reliabilit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Messaging, WS Security, WS Trust, WS Policy, XML Signature, XML Encryp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AC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00080" y="5927760"/>
            <a:ext cx="3371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AP 1.1, 1.2, SOAP with Attachments, DIME, WS Addressing, WS Routing, ebXML 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45280" y="62960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2EE, 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1680" y="3033720"/>
            <a:ext cx="3692520" cy="34272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5120" y="2681280"/>
            <a:ext cx="1805040" cy="32868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8680" y="2679840"/>
            <a:ext cx="1859040" cy="32832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90760" y="1709640"/>
            <a:ext cx="4319640" cy="3148200"/>
          </a:xfrm>
          <a:prstGeom prst="rect">
            <a:avLst/>
          </a:prstGeom>
          <a:solidFill>
            <a:srgbClr val="9caa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11520" y="2141640"/>
            <a:ext cx="4670280" cy="3130560"/>
          </a:xfrm>
          <a:prstGeom prst="rect">
            <a:avLst/>
          </a:prstGeom>
          <a:solidFill>
            <a:srgbClr val="ffdf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e g i s t r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92360" y="2471760"/>
            <a:ext cx="559800" cy="2850840"/>
            <a:chOff x="2592360" y="2471760"/>
            <a:chExt cx="559800" cy="2850840"/>
          </a:xfrm>
        </p:grpSpPr>
        <p:sp>
          <p:nvSpPr>
            <p:cNvPr id="189" name=""/>
            <p:cNvSpPr/>
            <p:nvPr/>
          </p:nvSpPr>
          <p:spPr>
            <a:xfrm>
              <a:off x="2667600" y="2471760"/>
              <a:ext cx="380880" cy="2850840"/>
            </a:xfrm>
            <a:prstGeom prst="rect">
              <a:avLst/>
            </a:prstGeom>
            <a:solidFill>
              <a:srgbClr val="ffb1b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592360" y="2998440"/>
              <a:ext cx="559800" cy="1816200"/>
              <a:chOff x="2592360" y="2998440"/>
              <a:chExt cx="559800" cy="1816200"/>
            </a:xfrm>
          </p:grpSpPr>
          <p:sp>
            <p:nvSpPr>
              <p:cNvPr id="191" name=""/>
              <p:cNvSpPr/>
              <p:nvPr/>
            </p:nvSpPr>
            <p:spPr>
              <a:xfrm>
                <a:off x="2592360" y="3001680"/>
                <a:ext cx="380520" cy="18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2000" y="2998440"/>
                <a:ext cx="38016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086280" y="4919760"/>
            <a:ext cx="3811320" cy="385560"/>
          </a:xfrm>
          <a:prstGeom prst="rect">
            <a:avLst/>
          </a:prstGeom>
          <a:solidFill>
            <a:srgbClr val="06d7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73320" y="4592520"/>
            <a:ext cx="3824280" cy="327240"/>
          </a:xfrm>
          <a:prstGeom prst="rect">
            <a:avLst/>
          </a:prstGeom>
          <a:solidFill>
            <a:srgbClr val="07a1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3320" y="4195800"/>
            <a:ext cx="3853080" cy="3427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81240" y="3797280"/>
            <a:ext cx="3838680" cy="371520"/>
          </a:xfrm>
          <a:prstGeom prst="rect">
            <a:avLst/>
          </a:prstGeom>
          <a:solidFill>
            <a:srgbClr val="07f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Messaging Infrastructur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89160" y="2498760"/>
            <a:ext cx="3852720" cy="431280"/>
            <a:chOff x="3089160" y="2498760"/>
            <a:chExt cx="3852720" cy="431280"/>
          </a:xfrm>
        </p:grpSpPr>
        <p:sp>
          <p:nvSpPr>
            <p:cNvPr id="198" name=""/>
            <p:cNvSpPr/>
            <p:nvPr/>
          </p:nvSpPr>
          <p:spPr>
            <a:xfrm>
              <a:off x="3089160" y="2498760"/>
              <a:ext cx="1954800" cy="431280"/>
            </a:xfrm>
            <a:prstGeom prst="rect">
              <a:avLst/>
            </a:prstGeom>
            <a:solidFill>
              <a:srgbClr val="f9f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3960" y="2498760"/>
              <a:ext cx="1897920" cy="431280"/>
            </a:xfrm>
            <a:prstGeom prst="rect">
              <a:avLst/>
            </a:prstGeom>
            <a:solidFill>
              <a:srgbClr val="fbfb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mantic Defin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073320" y="3360600"/>
            <a:ext cx="3853080" cy="3873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ed Messaging Infrastru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83040" y="2960640"/>
            <a:ext cx="3836880" cy="371520"/>
          </a:xfrm>
          <a:prstGeom prst="rect">
            <a:avLst/>
          </a:prstGeom>
          <a:solidFill>
            <a:srgbClr val="01ff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Process and Transaction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81840" y="2487600"/>
            <a:ext cx="361800" cy="2778120"/>
          </a:xfrm>
          <a:prstGeom prst="rect">
            <a:avLst/>
          </a:prstGeom>
          <a:solidFill>
            <a:srgbClr val="e5c1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32040" y="3992400"/>
            <a:ext cx="1112760" cy="20037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8040" y="562608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CP, IP v3, HTTP(S), FTP, 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91760" y="3513240"/>
            <a:ext cx="1930680" cy="826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1523520" y="2989080"/>
            <a:ext cx="1219320" cy="298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847960"/>
            <a:ext cx="1538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bXML Registry, CPP/CPA, UDDI 2.0/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38280" y="2192400"/>
            <a:ext cx="1393920" cy="7970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21560" y="5129280"/>
            <a:ext cx="2697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SCI, BPM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bXML BPSS, WS-BPE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usiness Transaction Protoco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S-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6676920" y="4732200"/>
            <a:ext cx="130320" cy="15242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7960" y="2139840"/>
            <a:ext cx="15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ML, XML Schema, WSDL 1.1/1.2, XS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53040" y="2133360"/>
            <a:ext cx="1800360" cy="4791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560" y="1701720"/>
            <a:ext cx="1725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BL, OAGIS BOD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NSPSC, VICS, PIDX, GISB, xCBL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45080" y="4411440"/>
            <a:ext cx="695520" cy="1204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21640" y="3192480"/>
            <a:ext cx="1252440" cy="1933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88280" y="3614760"/>
            <a:ext cx="6382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91640" y="2835360"/>
            <a:ext cx="1152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NMP, JMX, WBEM, note: standards gaps exist in all areas of Change, Operational, Service Level, and Audi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413320" y="1363680"/>
            <a:ext cx="15840" cy="2318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0000" y="1066680"/>
            <a:ext cx="39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M, Java Beans, JAX(X), .NET, SAX, Portal frameworks and related specs WSRP, JSR168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840" y="3957480"/>
            <a:ext cx="2579760" cy="19036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81760" y="4978440"/>
            <a:ext cx="2262240" cy="126360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69840" y="5776920"/>
            <a:ext cx="3511800" cy="8366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8120" y="2430360"/>
            <a:ext cx="1644840" cy="2667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82600" y="2305080"/>
            <a:ext cx="8686800" cy="3657600"/>
            <a:chOff x="282600" y="2305080"/>
            <a:chExt cx="8686800" cy="3657600"/>
          </a:xfrm>
        </p:grpSpPr>
        <p:sp>
          <p:nvSpPr>
            <p:cNvPr id="225" name=""/>
            <p:cNvSpPr/>
            <p:nvPr/>
          </p:nvSpPr>
          <p:spPr>
            <a:xfrm>
              <a:off x="282600" y="5048280"/>
              <a:ext cx="3657600" cy="914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roject Management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40200" y="5048280"/>
              <a:ext cx="2743200" cy="9144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nsis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Work Templ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1200" y="4133880"/>
              <a:ext cx="4638600" cy="9144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odeling - UML/UM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1200" y="3219480"/>
              <a:ext cx="4638600" cy="9144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XML Schema – OAGIS B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1200" y="2305080"/>
              <a:ext cx="4608360" cy="9144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re Components –  ISO UN/CEF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54800" y="2305080"/>
              <a:ext cx="2286000" cy="27432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Joint Automo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ata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IA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JAMA/JAP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Odet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07080" y="504828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OC Test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Enviro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520" y="2305080"/>
              <a:ext cx="1349280" cy="27432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GEF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EDIF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41360" y="1717560"/>
            <a:ext cx="794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6002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6320" y="1380960"/>
            <a:ext cx="851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lectronic Commerce Toolki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17680" y="2432160"/>
            <a:ext cx="841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500040" y="1039680"/>
            <a:ext cx="9847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0336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Joint Automotive Data Model 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Alignment of Content 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3490920" y="48862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6920" y="1817640"/>
            <a:ext cx="86914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98520" y="2784600"/>
            <a:ext cx="8244000" cy="2679480"/>
            <a:chOff x="398520" y="2784600"/>
            <a:chExt cx="8244000" cy="2679480"/>
          </a:xfrm>
        </p:grpSpPr>
        <p:sp>
          <p:nvSpPr>
            <p:cNvPr id="242" name=""/>
            <p:cNvSpPr/>
            <p:nvPr/>
          </p:nvSpPr>
          <p:spPr>
            <a:xfrm>
              <a:off x="398520" y="3666960"/>
              <a:ext cx="2057400" cy="1219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CTS 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UML/UM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90920" y="3656160"/>
              <a:ext cx="2057400" cy="1218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CTS 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UML/UM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8520" y="4886280"/>
              <a:ext cx="205740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AGIS 9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4905360"/>
              <a:ext cx="1011240" cy="517680"/>
            </a:xfrm>
            <a:prstGeom prst="leftRightArrow">
              <a:avLst>
                <a:gd name="adj1" fmla="val 50000"/>
                <a:gd name="adj2" fmla="val 3888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7440" y="49435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JAD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85120" y="4538520"/>
              <a:ext cx="2057400" cy="858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TBG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Supply Ch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8320" y="4883040"/>
              <a:ext cx="1011240" cy="517680"/>
            </a:xfrm>
            <a:prstGeom prst="leftRightArrow">
              <a:avLst>
                <a:gd name="adj1" fmla="val 50000"/>
                <a:gd name="adj2" fmla="val 3888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92360" y="2784600"/>
              <a:ext cx="2057400" cy="85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Automot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75400" y="3666960"/>
              <a:ext cx="2057400" cy="858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TBG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Harmoniz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960" y="2795760"/>
              <a:ext cx="2057400" cy="85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AG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85120" y="2808360"/>
              <a:ext cx="2057400" cy="85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UN/CEF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74760" y="1295280"/>
            <a:ext cx="8611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exibility and reusability – need products that are adaptable and ag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 current infrastructure and enable inno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accuracy and reduce laten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products need to be “plug and play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orous support of business processes to give end-to-end data visibility across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dom of choice for future inve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ing standards are confusing – need cooperation among standards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trategic invest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improve the standards development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2120"/>
            <a:ext cx="8747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nd Us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 Snack</dc:creator>
  <dc:description>Delphi Summit - 10/29/02
</dc:description>
  <dc:language>en-US</dc:language>
  <cp:lastModifiedBy>Pat Snack</cp:lastModifiedBy>
  <cp:lastPrinted>2001-10-03T13:09:55Z</cp:lastPrinted>
  <dcterms:modified xsi:type="dcterms:W3CDTF">2006-05-11T14:57:46Z</dcterms:modified>
  <cp:revision>231</cp:revision>
  <dc:subject>Interoperability Panel</dc:subject>
  <dc:title>OASIS: Integrating Standards for Web Services, Business Processes &amp; Remote Portals</dc:title>
</cp:coreProperties>
</file>