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A24D-E130-4BE1-BCFF-C21DE9A2FE5D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0C28-B68E-47CE-9647-41605F87FB98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E4C7-A0A6-4F32-9FEA-AF93C408D47F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CEB3-8289-4F9A-95BB-AA6451244CAB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758A-ED75-487D-98AA-B9E80878FA96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81FA-B695-4480-B21C-84BB382FAD19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8CB1-BFA8-4A28-B9E0-2491524A659D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D041-3348-4AB3-80A2-7F2D833527F1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2E9C-B279-4135-A5B8-BA67C0CBF101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7692-2A49-4185-84A0-CAD656615E2A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6E6B-A27E-445F-AD52-DD39798CDB6B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1505-7CA5-488D-8A82-2D9EFB30EABB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2C73-A9F5-452D-9782-12B13B88992E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C443-5196-4126-A54F-59E94C7A2FA6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C59B-264D-4C05-AAE9-7CAFF1E77145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A6FC-A408-48AD-8B65-30E8519E83A3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09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09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09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09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09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09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09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3336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09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09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09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333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1187280" y="0"/>
          <a:ext cx="6767640" cy="78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0"/>
                    <a:ext cx="676764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0" y="765000"/>
            <a:ext cx="9144000" cy="73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380280"/>
            <a:ext cx="9144000" cy="73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asis-open.org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ao.org/aims/agrovoc_ws/sample_ag_ws_proxy/testclient.jsp?method=27&amp;input=1" TargetMode="External"/><Relationship Id="rId2" Type="http://schemas.openxmlformats.org/officeDocument/2006/relationships/hyperlink" Target="http://www.fao.org/aims/agrovoc_ws/sample_ag_ws_proxy/testclient.jsp?method=20&amp;input=1" TargetMode="External"/><Relationship Id="rId3" Type="http://schemas.openxmlformats.org/officeDocument/2006/relationships/hyperlink" Target="http://www.fao.org/aims/agrovoc_ws/sample_ag_ws_proxy/testclient.jsp?method=32&amp;input=1" TargetMode="External"/><Relationship Id="rId4" Type="http://schemas.openxmlformats.org/officeDocument/2006/relationships/hyperlink" Target="http://www.fao.org/aims/agrovoc_ws/sample_ag_ws_proxy/testclient.jsp?method=37&amp;input=1" TargetMode="External"/><Relationship Id="rId5" Type="http://schemas.openxmlformats.org/officeDocument/2006/relationships/hyperlink" Target="http://www.fao.org/aims/agrovoc_ws/sample_ag_ws_proxy/testclient.jsp?method=42&amp;input=1" TargetMode="External"/><Relationship Id="rId6" Type="http://schemas.openxmlformats.org/officeDocument/2006/relationships/hyperlink" Target="http://www.fao.org/aims/agrovoc_ws/sample_ag_ws_proxy/testclient.jsp?method=13&amp;input=1" TargetMode="External"/><Relationship Id="rId7" Type="http://schemas.openxmlformats.org/officeDocument/2006/relationships/oleObject" Target="../embeddings/oleObject1.bin"/><Relationship Id="rId8" Type="http://schemas.openxmlformats.org/officeDocument/2006/relationships/hyperlink" Target="http://www.fao.org/aims/ag_webservices.jsp" TargetMode="External"/><Relationship Id="rId9" Type="http://schemas.openxmlformats.org/officeDocument/2006/relationships/image" Target="../media/image11.png"/><Relationship Id="rId10" Type="http://schemas.openxmlformats.org/officeDocument/2006/relationships/hyperlink" Target="http://www.fao.org/aims/ag_webservices.jsp" TargetMode="External"/><Relationship Id="rId11" Type="http://schemas.openxmlformats.org/officeDocument/2006/relationships/hyperlink" Target="http://www.fao.org/aims/ag_webservices.jsp" TargetMode="External"/><Relationship Id="rId12" Type="http://schemas.openxmlformats.org/officeDocument/2006/relationships/hyperlink" Target="http://www.fao.org/aims/ag_webservices.jsp" TargetMode="External"/><Relationship Id="rId13" Type="http://schemas.openxmlformats.org/officeDocument/2006/relationships/hyperlink" Target="http://www.fao.org/aims/ag_webservices.jsp" TargetMode="External"/><Relationship Id="rId14" Type="http://schemas.openxmlformats.org/officeDocument/2006/relationships/hyperlink" Target="http://www.fao.org/aims/ag_webservices.jsp" TargetMode="External"/><Relationship Id="rId15" Type="http://schemas.openxmlformats.org/officeDocument/2006/relationships/hyperlink" Target="http://www.fao.org/aims/ag_webservices.jsp" TargetMode="External"/><Relationship Id="rId16" Type="http://schemas.openxmlformats.org/officeDocument/2006/relationships/hyperlink" Target="http://www.fao.org/aims/ag_webservices.jsp" TargetMode="External"/><Relationship Id="rId17" Type="http://schemas.openxmlformats.org/officeDocument/2006/relationships/hyperlink" Target="http://www.fao.org/aims/ag_webservices.jsp" TargetMode="External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clipse.org/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http://ws.apache.org/axis/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tomcat.apache.org/" TargetMode="External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image" Target="../media/image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icultural Ontology Web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ving for more interoperability in agricultural informatio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18760" y="5367240"/>
            <a:ext cx="68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SIS Symposium 200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May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OAS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57560" y="5661000"/>
            <a:ext cx="6886440" cy="657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80120" y="3986280"/>
            <a:ext cx="7818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ris La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d and Agriculture Organization of the United Nations (FAO), Rome, It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faologo"/>
          <p:cNvPicPr/>
          <p:nvPr/>
        </p:nvPicPr>
        <p:blipFill>
          <a:blip r:embed="rId3"/>
          <a:stretch/>
        </p:blipFill>
        <p:spPr>
          <a:xfrm>
            <a:off x="826920" y="4653000"/>
            <a:ext cx="6192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2333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OVOC web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ice with 6 simple oper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etTermcodeByTerm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etTermByLanguage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etAllLabelsByTermcode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earchByTerm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etConceptByTerm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getDefinitions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fficient for the most important thesaurus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648320" y="1989000"/>
          <a:ext cx="4038480" cy="350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>
                    <a:hlinkClick r:id="rId8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48320" y="1989000"/>
                    <a:ext cx="40384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3348000" y="566100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fao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.org/aims/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g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_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ebservices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.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j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6529320"/>
            <a:ext cx="174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OVOC thes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39240" y="652932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esen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05960" y="6529320"/>
            <a:ext cx="196524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GROVOC 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87920" y="65293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17280" y="6529320"/>
            <a:ext cx="27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icultural ontology 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2333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OVOC web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2760" y="2133720"/>
            <a:ext cx="1460520" cy="635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717640" y="2278080"/>
            <a:ext cx="630360" cy="3938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The Apache Axis Projec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80000" y="4724280"/>
            <a:ext cx="2019240" cy="8254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360960" y="3249720"/>
            <a:ext cx="243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2880" y="27162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lipse We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 Pla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56000" y="1989000"/>
            <a:ext cx="3887640" cy="3888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Tomcat Logo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00720" y="3357720"/>
            <a:ext cx="1165320" cy="8236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Apache Logo"/>
          <p:cNvPicPr/>
          <p:nvPr/>
        </p:nvPicPr>
        <p:blipFill>
          <a:blip r:embed="rId8"/>
          <a:stretch/>
        </p:blipFill>
        <p:spPr>
          <a:xfrm>
            <a:off x="5867280" y="2276640"/>
            <a:ext cx="2700360" cy="698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W3C"/>
          <p:cNvPicPr/>
          <p:nvPr/>
        </p:nvPicPr>
        <p:blipFill>
          <a:blip r:embed="rId9"/>
          <a:stretch/>
        </p:blipFill>
        <p:spPr>
          <a:xfrm>
            <a:off x="933480" y="4556160"/>
            <a:ext cx="901800" cy="601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909800" y="4437000"/>
            <a:ext cx="126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O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30160" y="4149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che Tomc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Home Page"/>
          <p:cNvPicPr/>
          <p:nvPr/>
        </p:nvPicPr>
        <p:blipFill>
          <a:blip r:embed="rId10"/>
          <a:stretch/>
        </p:blipFill>
        <p:spPr>
          <a:xfrm>
            <a:off x="4114800" y="3152880"/>
            <a:ext cx="914400" cy="552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Home Page"/>
          <p:cNvPicPr/>
          <p:nvPr/>
        </p:nvPicPr>
        <p:blipFill>
          <a:blip r:embed="rId11"/>
          <a:stretch/>
        </p:blipFill>
        <p:spPr>
          <a:xfrm>
            <a:off x="4114800" y="3152880"/>
            <a:ext cx="914400" cy="5522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Home Page"/>
          <p:cNvPicPr/>
          <p:nvPr/>
        </p:nvPicPr>
        <p:blipFill>
          <a:blip r:embed="rId12"/>
          <a:stretch/>
        </p:blipFill>
        <p:spPr>
          <a:xfrm>
            <a:off x="4114800" y="3152880"/>
            <a:ext cx="914400" cy="552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6529320"/>
            <a:ext cx="174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OVOC thes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39240" y="652932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esen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05960" y="6529320"/>
            <a:ext cx="196524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GROVOC 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87920" y="65293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17280" y="6529320"/>
            <a:ext cx="27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icultural ontology 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257520" y="4724280"/>
            <a:ext cx="2702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WL</a:t>
            </a:r>
            <a:br>
              <a:rPr sz="24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b Ontology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2333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al Ontology Service (A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vate terminology services to the semantic we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 AGROVOC thesaurus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S Concept Serv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from proprietary relational databases to standard forma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The Semantic Web Home Page"/>
          <p:cNvPicPr/>
          <p:nvPr/>
        </p:nvPicPr>
        <p:blipFill>
          <a:blip r:embed="rId1"/>
          <a:stretch/>
        </p:blipFill>
        <p:spPr>
          <a:xfrm>
            <a:off x="6300720" y="2133720"/>
            <a:ext cx="2019240" cy="457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W3C"/>
          <p:cNvPicPr/>
          <p:nvPr/>
        </p:nvPicPr>
        <p:blipFill>
          <a:blip r:embed="rId2"/>
          <a:stretch/>
        </p:blipFill>
        <p:spPr>
          <a:xfrm>
            <a:off x="5435640" y="2133720"/>
            <a:ext cx="68580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5508720" y="3716280"/>
          <a:ext cx="1218960" cy="5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3716280"/>
                    <a:ext cx="121896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5508720" y="3213000"/>
            <a:ext cx="1812960" cy="358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W3C"/>
          <p:cNvPicPr/>
          <p:nvPr/>
        </p:nvPicPr>
        <p:blipFill>
          <a:blip r:embed="rId6"/>
          <a:stretch/>
        </p:blipFill>
        <p:spPr>
          <a:xfrm>
            <a:off x="5508720" y="486900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6539040"/>
            <a:ext cx="174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OVOC thes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39240" y="65390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esen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01280" y="6539040"/>
            <a:ext cx="19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OVOC 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92600" y="6539040"/>
            <a:ext cx="51156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17280" y="6539040"/>
            <a:ext cx="27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icultural ontology 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2333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al Ontology Web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ook on possible future web ser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ieval of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ndard OW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ation of terminolog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ieval of semantically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icher concep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ieval of semantically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icher relationshi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ieval of mor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x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ormation (synonyms, acronyms, spelling variants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utomatic trans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rvic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utomatic text class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rvic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ap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rvices to other standard terminology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6539040"/>
            <a:ext cx="174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OVOC thes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39240" y="65390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esen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01280" y="6539040"/>
            <a:ext cx="19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OVOC 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87920" y="65390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1960" y="6539040"/>
            <a:ext cx="271980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gricultural ontology 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2333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al Information Management Stand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fao.org/ai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OVOC Web Servi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fao.org/aims/ag_webservices.js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6453360"/>
            <a:ext cx="174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OVOC thes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39240" y="645336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esen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01280" y="6453360"/>
            <a:ext cx="19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OVOC 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87920" y="645336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17280" y="6453360"/>
            <a:ext cx="27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icultural ontology 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2708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333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O and its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AGROVOC thesa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situation an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OVOC web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S and AOS Concept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ook: AOS/CS web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539040"/>
            <a:ext cx="174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OVOC thes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39240" y="65390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esen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01280" y="6539040"/>
            <a:ext cx="19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OVOC 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87920" y="65390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17280" y="6539040"/>
            <a:ext cx="27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icultural ontology 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333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le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 and Agriculture Organ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A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471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Article of the FAO Constit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rganization shall collect, analyse, interpret and disseminate information relating to nutrition, food and agricultur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AIC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l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cultur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orm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Disse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 with internal/external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ion of Agricultural Information Management Standards (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I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ibliographical databases, use of metadata and knowledge organization systems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K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lik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sauri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ntolog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tc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451640" y="3068640"/>
            <a:ext cx="692280" cy="511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6539040"/>
            <a:ext cx="174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OVOC thes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39240" y="65390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esen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01280" y="6539040"/>
            <a:ext cx="19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OVOC 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87920" y="65390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17280" y="6539040"/>
            <a:ext cx="27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icultural ontology 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333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GROVO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lingual Thesauru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vocabulary to cover terminology in agriculture, fisheries, forestry, food and related domai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available in 14 languag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30.000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online 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932360" y="2060640"/>
          <a:ext cx="3600360" cy="35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060640"/>
                    <a:ext cx="360036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835200" y="5656320"/>
            <a:ext cx="45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http://www.fao.org/aims/ag_alpha.ht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0" y="6529320"/>
            <a:ext cx="174132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GROVOC thes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39240" y="652932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esen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01280" y="6529320"/>
            <a:ext cx="19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OVOC 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87920" y="65293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17280" y="6529320"/>
            <a:ext cx="27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icultural ontology 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333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AGROVOC: Metadata from controlled vocabul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979640" y="2133720"/>
          <a:ext cx="4965840" cy="41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133720"/>
                    <a:ext cx="4965840" cy="41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4680" y="6529320"/>
            <a:ext cx="174132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GROVOC thes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39240" y="652932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esen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01280" y="6529320"/>
            <a:ext cx="19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OVOC 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87920" y="65293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17280" y="6529320"/>
            <a:ext cx="27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icultural ontology 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333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92360" y="2924280"/>
            <a:ext cx="1812960" cy="358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473960" y="930240"/>
            <a:ext cx="1332000" cy="1123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51280" y="3324240"/>
            <a:ext cx="1009800" cy="647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16600" y="4029120"/>
            <a:ext cx="225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OVOC thesau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ational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ster 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47640" y="2133720"/>
            <a:ext cx="574920" cy="360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3573360"/>
            <a:ext cx="574560" cy="360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63640" y="4797360"/>
            <a:ext cx="574920" cy="360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88000" y="2205000"/>
            <a:ext cx="574920" cy="360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08720" y="3500280"/>
            <a:ext cx="574920" cy="360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5084640"/>
            <a:ext cx="574560" cy="360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85480" y="2492280"/>
            <a:ext cx="133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cop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IS cen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933720"/>
            <a:ext cx="133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cop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IS cen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01480" y="5146560"/>
            <a:ext cx="133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cop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IS cen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82520" y="200808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AG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093080" y="1773000"/>
            <a:ext cx="3585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339640" y="2491920"/>
            <a:ext cx="1152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834920" y="3789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484000" y="4581360"/>
            <a:ext cx="79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508720" y="2565000"/>
            <a:ext cx="934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08720" y="37162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64000" y="458136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69840" y="256536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copy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90560" y="38606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copy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06200" y="5445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copy 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77080" y="4581360"/>
          <a:ext cx="208908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4581360"/>
                    <a:ext cx="208908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7147080" y="5445000"/>
            <a:ext cx="17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thesau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ser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443640" y="5013360"/>
            <a:ext cx="433440" cy="7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492000" y="5013360"/>
            <a:ext cx="287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3280" y="501336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74040" y="53197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539040"/>
            <a:ext cx="174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OVOC thes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43920" y="6539040"/>
            <a:ext cx="143640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resen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01280" y="6539040"/>
            <a:ext cx="19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OVOC 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87920" y="65390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17280" y="6539040"/>
            <a:ext cx="27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icultural ontology 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123984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203640" y="2295360"/>
            <a:ext cx="1812960" cy="358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562200" y="2695680"/>
            <a:ext cx="1009800" cy="647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3800" y="1916280"/>
            <a:ext cx="15631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new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ian Fl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2492280"/>
            <a:ext cx="1224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01200" y="3305160"/>
            <a:ext cx="162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erm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32720" y="1495440"/>
            <a:ext cx="574560" cy="360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70560" y="1844640"/>
            <a:ext cx="133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cop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IS cen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tn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7440" y="2935440"/>
            <a:ext cx="574560" cy="360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75280" y="3284640"/>
            <a:ext cx="133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cop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IS cen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16720" y="4303800"/>
            <a:ext cx="574560" cy="360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54560" y="4653000"/>
            <a:ext cx="133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cop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IS cen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728600">
            <a:off x="6684120" y="1914480"/>
            <a:ext cx="9115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Outdate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88000" y="1916280"/>
            <a:ext cx="1728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88000" y="3068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3213000"/>
            <a:ext cx="1727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4254480"/>
          <a:ext cx="3683160" cy="171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4254480"/>
                    <a:ext cx="3683160" cy="17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4573440" y="5300640"/>
            <a:ext cx="451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eed to create an updated export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submit the physical database to ea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GROVOC 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24360" y="5589720"/>
            <a:ext cx="647640" cy="360360"/>
          </a:xfrm>
          <a:custGeom>
            <a:avLst/>
            <a:gdLst>
              <a:gd name="textAreaLeft" fmla="*/ 101160 w 647640"/>
              <a:gd name="textAreaRight" fmla="*/ 567000 w 6476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539040"/>
            <a:ext cx="174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OVOC thes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43920" y="6539040"/>
            <a:ext cx="143640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resen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01280" y="6539040"/>
            <a:ext cx="19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OVOC 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87920" y="65390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17280" y="6539040"/>
            <a:ext cx="27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icultural ontology 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2333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databases ar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requently outda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GROVOC updated 3-monthl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verhe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FAO to export and send new copies with every update / new reque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applications need to be customized to AGROVOC’s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pecific database stru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inte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eds to be implemented on the local application level for each other thesaurus to b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539040"/>
            <a:ext cx="174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OVOC thes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43920" y="6539040"/>
            <a:ext cx="143640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resen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01280" y="6539040"/>
            <a:ext cx="19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OVOC 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87920" y="65390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17280" y="6539040"/>
            <a:ext cx="27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icultural ontology 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2333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lution: web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50920" y="1719360"/>
          <a:ext cx="266364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19360"/>
                    <a:ext cx="266364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5008680" y="2492280"/>
            <a:ext cx="100332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OV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958680" y="4581360"/>
            <a:ext cx="1812960" cy="358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17600" y="4981680"/>
            <a:ext cx="1009800" cy="647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1800" y="59500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97800" y="59500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48720" y="59500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00000" y="5660640"/>
            <a:ext cx="3589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2268360" y="573408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63640" y="400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960" y="4024440"/>
            <a:ext cx="29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web services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16360" y="29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89720" y="259560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2708280"/>
            <a:ext cx="158436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77080" y="4653000"/>
            <a:ext cx="158436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37240" y="3810960"/>
            <a:ext cx="5461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81400" y="4437000"/>
            <a:ext cx="100332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OV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9720" y="3254400"/>
            <a:ext cx="2023920" cy="1326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0160" y="407664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2000" y="2997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2000" y="5013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529320"/>
            <a:ext cx="174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OVOC thes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39240" y="652932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esen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05960" y="6529320"/>
            <a:ext cx="196524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GROVOC 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87920" y="65293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17280" y="6529320"/>
            <a:ext cx="27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gricultural ontology 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9T16:56:32Z</dcterms:created>
  <dc:creator>Patrick Gannon</dc:creator>
  <dc:description>Delphi Summit - 10/29/02
</dc:description>
  <dc:language>en-US</dc:language>
  <cp:lastModifiedBy>Jane Harnard</cp:lastModifiedBy>
  <cp:lastPrinted>2001-10-03T13:09:55Z</cp:lastPrinted>
  <dcterms:modified xsi:type="dcterms:W3CDTF">2006-05-15T15:41:11Z</dcterms:modified>
  <cp:revision>231</cp:revision>
  <dc:subject>Web Services</dc:subject>
  <dc:title>OASIS: Integrating Standards for Web Services, Business Processes &amp; Remote Portals</dc:title>
</cp:coreProperties>
</file>