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EDC2-81BD-46AD-9A92-AECD7B2D68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11340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280" y="3745800"/>
            <a:ext cx="8763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0AD93-721E-4503-A09A-E7A11BA4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11340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276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2560" y="1143000"/>
            <a:ext cx="4276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280" y="3745800"/>
            <a:ext cx="4276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2560" y="3745800"/>
            <a:ext cx="4276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9BC71-64C0-434A-9C3F-7090E70F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11340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2821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5080" y="1143000"/>
            <a:ext cx="2821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7880" y="1143000"/>
            <a:ext cx="2821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280" y="3745800"/>
            <a:ext cx="2821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5080" y="3745800"/>
            <a:ext cx="2821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7880" y="3745800"/>
            <a:ext cx="2821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27398-9CB7-4F11-9CBE-91359ACD0D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11340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280" y="1143000"/>
            <a:ext cx="87631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CC798-E406-4779-A3AC-07AC4399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11340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C515E-703F-45E3-B074-E8548D79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11340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276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1143000"/>
            <a:ext cx="4276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9BBAF-4A9C-4E46-991E-A6A34B19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11340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D5C79-0146-4375-B667-EEF97BE3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7400" y="152280"/>
            <a:ext cx="69343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7CE1-744B-43CA-84CB-DDEA790D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11340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276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2560" y="1143000"/>
            <a:ext cx="4276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280" y="3745800"/>
            <a:ext cx="4276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6D2B9-AA55-4479-8614-0B42475C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11340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276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2560" y="1143000"/>
            <a:ext cx="4276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2560" y="3745800"/>
            <a:ext cx="4276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5E608-622B-4947-9249-4628C69C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11340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276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2560" y="1143000"/>
            <a:ext cx="4276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280" y="3745800"/>
            <a:ext cx="8763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7A3E5-2315-4112-9C8C-3298C637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828800" y="0"/>
            <a:ext cx="7315200" cy="95256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782640"/>
            <a:ext cx="9144000" cy="185760"/>
          </a:xfrm>
          <a:prstGeom prst="rect">
            <a:avLst/>
          </a:prstGeom>
          <a:solidFill>
            <a:srgbClr val="3e77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e77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52280" y="1143000"/>
            <a:ext cx="8763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2956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305920" y="653688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FB23-C92B-43CA-AFDB-917AD5F376F6}" type="slidenum">
              <a:rPr b="0" lang="en-US" sz="1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 Department of Ener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©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ummond Group I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May 11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04920" cy="95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teachingamericanhistory.org/convention/christy/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3325680"/>
            <a:ext cx="4572000" cy="3056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35268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990720"/>
            <a:ext cx="9144000" cy="2361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ASIS Symposium 2006:                      The Meaning of Interoper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k Drummo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idWise Architecture Counc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O Drummond Group In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@drummondgroup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WAC’s Mission - Interope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8840" y="213336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s Cost to ope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s Capital IT c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s cost to upgr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s security Management c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s integration c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s cost to introduce a new instal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choice in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price points and feature s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371600"/>
            <a:ext cx="2743200" cy="2590920"/>
          </a:xfrm>
          <a:prstGeom prst="ellipse">
            <a:avLst/>
          </a:prstGeom>
          <a:solidFill>
            <a:srgbClr val="339966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3505320"/>
            <a:ext cx="2743200" cy="2590560"/>
          </a:xfrm>
          <a:prstGeom prst="ellipse">
            <a:avLst/>
          </a:prstGeom>
          <a:solidFill>
            <a:srgbClr val="0000ff">
              <a:alpha val="31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2438280"/>
            <a:ext cx="2743200" cy="2590920"/>
          </a:xfrm>
          <a:prstGeom prst="ellipse">
            <a:avLst/>
          </a:prstGeom>
          <a:solidFill>
            <a:srgbClr val="993300">
              <a:alpha val="31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828800"/>
            <a:ext cx="259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ganization/H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usiness 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rel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su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olic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muniti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3124080"/>
            <a:ext cx="21337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chnical/ (syste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tandar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-connectiv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91120"/>
            <a:ext cx="1981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man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ynta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usiness domai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90880" y="1106640"/>
            <a:ext cx="36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operable Software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ed Grid Imp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64600" y="5611680"/>
            <a:ext cx="482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ach of these items has a very significa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centage movement in the beneficial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D17F4-728C-4DBA-98A1-02E4D3BF63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WAC’s Strategic Grid Sector Foc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200400" y="1143000"/>
            <a:ext cx="5790960" cy="5029200"/>
            <a:chOff x="3200400" y="1143000"/>
            <a:chExt cx="5790960" cy="5029200"/>
          </a:xfrm>
        </p:grpSpPr>
        <p:grpSp>
          <p:nvGrpSpPr>
            <p:cNvPr id="63" name=""/>
            <p:cNvGrpSpPr/>
            <p:nvPr/>
          </p:nvGrpSpPr>
          <p:grpSpPr>
            <a:xfrm>
              <a:off x="3200400" y="1143000"/>
              <a:ext cx="5790960" cy="5029200"/>
              <a:chOff x="3200400" y="1143000"/>
              <a:chExt cx="5790960" cy="5029200"/>
            </a:xfrm>
          </p:grpSpPr>
          <p:sp>
            <p:nvSpPr>
              <p:cNvPr id="64" name=""/>
              <p:cNvSpPr/>
              <p:nvPr/>
            </p:nvSpPr>
            <p:spPr>
              <a:xfrm>
                <a:off x="3200400" y="1143000"/>
                <a:ext cx="5790960" cy="5008680"/>
              </a:xfrm>
              <a:prstGeom prst="hexagon">
                <a:avLst>
                  <a:gd name="adj" fmla="val 28905"/>
                  <a:gd name="vf" fmla="val 11547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flipV="1">
                <a:off x="4647960" y="1143000"/>
                <a:ext cx="2895840" cy="502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200400" y="3657600"/>
                <a:ext cx="579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4647960" y="1143000"/>
                <a:ext cx="2895840" cy="502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4862160" y="1143000"/>
              <a:ext cx="2597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formation Technology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lecommun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47920" y="2514600"/>
              <a:ext cx="145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mercial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identi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8840" y="2514600"/>
              <a:ext cx="1713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ergy/Electric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neration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mission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47920" y="3833640"/>
              <a:ext cx="1148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dustri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ystem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18080" y="3822840"/>
              <a:ext cx="1915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rkets, Trading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onomic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gulato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41920" y="566244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38680" y="3200400"/>
              <a:ext cx="99072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-2880" y="1143000"/>
            <a:ext cx="406548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ility Strategic Focu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1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mmon Vision across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th American Power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2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id Ownership of Com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3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id Ownership of 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00400"/>
            <a:ext cx="373392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 Technical Foc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1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dentify iss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- With in the Se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- Between the S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 - Across entire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2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ducate – Concep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81480"/>
            <a:ext cx="44197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cted Resul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ustry pickup the cost after initial DoE seed investment in GridWise Architectural Council eff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74EF1-775B-460B-889C-33C35DFCE4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1:39:58Z</dcterms:created>
  <dc:creator>Bosquet</dc:creator>
  <dc:description>From Constitution Whitepaper</dc:description>
  <dc:language>en-US</dc:language>
  <cp:lastModifiedBy>Jishnu Mukerji</cp:lastModifiedBy>
  <dcterms:modified xsi:type="dcterms:W3CDTF">2006-05-09T22:42:39Z</dcterms:modified>
  <cp:revision>244</cp:revision>
  <dc:subject/>
  <dc:title>GWAC Constitution Brief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mments0">
    <vt:lpwstr>Most of v1.1 is now in the backup section ... main body much shorter. Still need to draw the scenario animation.</vt:lpwstr>
  </property>
  <property fmtid="{D5CDD505-2E9C-101B-9397-08002B2CF9AE}" pid="3" name="Suggested by">
    <vt:lpwstr>7</vt:lpwstr>
  </property>
  <property fmtid="{D5CDD505-2E9C-101B-9397-08002B2CF9AE}" pid="4" name="_AdHocReviewCycleID">
    <vt:r8>-324673214</vt:r8>
  </property>
  <property fmtid="{D5CDD505-2E9C-101B-9397-08002B2CF9AE}" pid="5" name="_AuthorEmail">
    <vt:lpwstr>olga@drummondgroup.com</vt:lpwstr>
  </property>
  <property fmtid="{D5CDD505-2E9C-101B-9397-08002B2CF9AE}" pid="6" name="_AuthorEmailDisplayName">
    <vt:lpwstr>Olga Flores Finneran</vt:lpwstr>
  </property>
  <property fmtid="{D5CDD505-2E9C-101B-9397-08002B2CF9AE}" pid="7" name="_EmailSubject">
    <vt:lpwstr>Interoparibility Challenges Panel at OASIS Symposium</vt:lpwstr>
  </property>
  <property fmtid="{D5CDD505-2E9C-101B-9397-08002B2CF9AE}" pid="8" name="_ReviewingToolsShownOnce">
    <vt:lpwstr/>
  </property>
</Properties>
</file>