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i="1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i="1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i="1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F93445-A8EA-414F-8205-9FE9D638C6A2}" type="slidenum">
              <a:rPr b="0" i="1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three are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i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itecture drives Delivery and informs organis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147680" y="6872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7680" y="6872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7680" y="6872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147680" y="6872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7680" y="6872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147680" y="6872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147680" y="6872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investigation requ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8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8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8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8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0088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161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457200" y="114300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How business and IT interoperate using SO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619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How business and IT interoperate using SOA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3886200"/>
            <a:ext cx="762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19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631800"/>
                <a:tab algn="l" pos="1546200"/>
                <a:tab algn="l" pos="2460600"/>
                <a:tab algn="l" pos="3375000"/>
                <a:tab algn="l" pos="4289400"/>
                <a:tab algn="l" pos="5203800"/>
                <a:tab algn="l" pos="6118200"/>
                <a:tab algn="l" pos="7032600"/>
                <a:tab algn="l" pos="7947000"/>
                <a:tab algn="l" pos="8861400"/>
                <a:tab algn="l" pos="977580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1920" indent="0">
              <a:lnSpc>
                <a:spcPct val="80000"/>
              </a:lnSpc>
              <a:spcAft>
                <a:spcPts val="1012"/>
              </a:spcAft>
              <a:buNone/>
              <a:tabLst>
                <a:tab algn="l" pos="0"/>
                <a:tab algn="l" pos="631800"/>
                <a:tab algn="l" pos="1546200"/>
                <a:tab algn="l" pos="2460600"/>
                <a:tab algn="l" pos="3375000"/>
                <a:tab algn="l" pos="4289400"/>
                <a:tab algn="l" pos="5203800"/>
                <a:tab algn="l" pos="6118200"/>
                <a:tab algn="l" pos="7032600"/>
                <a:tab algn="l" pos="7947000"/>
                <a:tab algn="l" pos="8861400"/>
                <a:tab algn="l" pos="977580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24480" y="1206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oasis-open.o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 Black"/>
              </a:rPr>
              <a:t>The three tenets of interoperability</a:t>
            </a: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203640" y="5157720"/>
            <a:ext cx="2520720" cy="722520"/>
          </a:xfrm>
          <a:prstGeom prst="can">
            <a:avLst>
              <a:gd name="adj" fmla="val 12027"/>
            </a:avLst>
          </a:prstGeom>
          <a:gradFill rotWithShape="0">
            <a:gsLst>
              <a:gs pos="0">
                <a:srgbClr val="00b8ff"/>
              </a:gs>
              <a:gs pos="100000">
                <a:srgbClr val="005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03640" y="4437000"/>
            <a:ext cx="2520720" cy="722520"/>
          </a:xfrm>
          <a:prstGeom prst="can">
            <a:avLst>
              <a:gd name="adj" fmla="val 12027"/>
            </a:avLst>
          </a:prstGeom>
          <a:gradFill rotWithShape="0">
            <a:gsLst>
              <a:gs pos="0">
                <a:srgbClr val="00b8ff"/>
              </a:gs>
              <a:gs pos="100000">
                <a:srgbClr val="005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i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48656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three tenets of interoperability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9" name=""/>
          <p:cNvSpPr/>
          <p:nvPr/>
        </p:nvSpPr>
        <p:spPr>
          <a:xfrm>
            <a:off x="3203640" y="3716280"/>
            <a:ext cx="2520720" cy="722520"/>
          </a:xfrm>
          <a:prstGeom prst="can">
            <a:avLst>
              <a:gd name="adj" fmla="val 12027"/>
            </a:avLst>
          </a:prstGeom>
          <a:gradFill rotWithShape="0">
            <a:gsLst>
              <a:gs pos="0">
                <a:srgbClr val="00b8ff"/>
              </a:gs>
              <a:gs pos="100000">
                <a:srgbClr val="005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 Black"/>
              </a:rPr>
              <a:t>Method</a:t>
            </a: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76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Our take on the SOA hype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4518000" cy="3205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262160" y="2473200"/>
            <a:ext cx="222912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HOW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1600200"/>
            <a:ext cx="4781520" cy="32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A is not 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A is not about B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A is not about E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A is not about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driven by the “How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52920" y="5140440"/>
            <a:ext cx="739980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ervice-oriented Architectur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because it represents a real-worl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at we do”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650880"/>
            <a:ext cx="7010280" cy="10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Use the SOA Reference Model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95280" y="1876320"/>
            <a:ext cx="4858920" cy="3241800"/>
            <a:chOff x="395280" y="1876320"/>
            <a:chExt cx="4858920" cy="3241800"/>
          </a:xfrm>
        </p:grpSpPr>
        <p:sp>
          <p:nvSpPr>
            <p:cNvPr id="148" name=""/>
            <p:cNvSpPr/>
            <p:nvPr/>
          </p:nvSpPr>
          <p:spPr>
            <a:xfrm>
              <a:off x="2082600" y="1876320"/>
              <a:ext cx="1584000" cy="93528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Visi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09520" y="2943360"/>
              <a:ext cx="1584000" cy="93492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670200" y="2438280"/>
              <a:ext cx="1584000" cy="93528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ervic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escrip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5280" y="2381400"/>
              <a:ext cx="1584000" cy="93492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xecu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2160" y="3519360"/>
              <a:ext cx="1584000" cy="93528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Real Wor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ff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95120" y="4183200"/>
              <a:ext cx="1584000" cy="93492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ntra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&amp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olic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98480" y="3606840"/>
              <a:ext cx="1584000" cy="93492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ntera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39640" y="5401800"/>
            <a:ext cx="8064720" cy="12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service is a mechanism to enable access to a set of one or more capabilities provided by one entity – the service provider –  for use by oth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65800" y="1992240"/>
            <a:ext cx="3635280" cy="30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vendor dr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es to business as well as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s what “good” looks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't tell you “how” to d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7312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ngage the business to determine the what, who and why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352680" y="1599840"/>
            <a:ext cx="556272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Defining the scope of services, this is about determining what the services actually 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are the external actors that drive the services or with which the services inter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dentifying why one service talks to another, and why external actors interact with the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detail about the processes that co-ordinate the services and also the detail on how a service itself will be implemen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219320" y="1523880"/>
            <a:ext cx="192708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Structure matters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375080" y="1254240"/>
            <a:ext cx="4768920" cy="33271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85200" y="4876920"/>
            <a:ext cx="396324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lions of “Service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joint from how the company 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ck of clear owner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ssed opportun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lear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iven by techies using Web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3440" y="4800600"/>
            <a:ext cx="4403520" cy="17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early defined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ined areas of shared owner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iven by how the company 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it once, well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igned to the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iven by how the business wants to re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about Process sec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OT THE SAME AS ORG CH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228600" y="1523880"/>
            <a:ext cx="4213080" cy="316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657000"/>
            <a:ext cx="8164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Rules for establishing an Enterprise SOA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6920" y="1976040"/>
            <a:ext cx="7925040" cy="40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75000"/>
              </a:lnSpc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ith the business to understand the key business services and their dr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75000"/>
              </a:lnSpc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Enterprise SO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n aim to deliver it tac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75000"/>
              </a:lnSpc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 that tactical projects leave the compan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tter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75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 the Busines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75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 the Enterprise S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75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alise the projects that make it wo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 Black"/>
              </a:rPr>
              <a:t>Delivery</a:t>
            </a: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573120"/>
            <a:ext cx="84582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business-driven SOA drives the delivery approach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295280" y="1600200"/>
            <a:ext cx="6610320" cy="4957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2438280" y="1523880"/>
            <a:ext cx="4307040" cy="4903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052720" y="2400480"/>
            <a:ext cx="4689720" cy="26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rcing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ivery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siness Trans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ivery Transform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4572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1828800"/>
            <a:ext cx="69339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1206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oasis-open.o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51120"/>
            <a:ext cx="7010280" cy="5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Speakers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00080"/>
            <a:ext cx="71629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Pettit. Head of Integration and Product Serv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Jones. CTO Application Development Trans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804000" y="6165720"/>
            <a:ext cx="2158920" cy="51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607680"/>
            <a:ext cx="8458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Delivering SOA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1739880"/>
            <a:ext cx="1485720" cy="838080"/>
          </a:xfrm>
          <a:prstGeom prst="ellipse">
            <a:avLst/>
          </a:prstGeom>
          <a:solidFill>
            <a:srgbClr val="99ff99"/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24480" y="1739880"/>
            <a:ext cx="1486080" cy="838080"/>
          </a:xfrm>
          <a:prstGeom prst="ellipse">
            <a:avLst/>
          </a:prstGeom>
          <a:solidFill>
            <a:srgbClr val="99ff99"/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41480" y="3416400"/>
            <a:ext cx="1384200" cy="723960"/>
          </a:xfrm>
          <a:prstGeom prst="rect">
            <a:avLst/>
          </a:prstGeom>
          <a:solidFill>
            <a:srgbClr val="99ff99"/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73" idx="2"/>
            <a:endCxn id="175" idx="0"/>
          </p:cNvCxnSpPr>
          <p:nvPr/>
        </p:nvCxnSpPr>
        <p:spPr>
          <a:xfrm>
            <a:off x="1733040" y="2577600"/>
            <a:ext cx="2520" cy="839160"/>
          </a:xfrm>
          <a:prstGeom prst="bentConnector3">
            <a:avLst>
              <a:gd name="adj1" fmla="val 50000"/>
            </a:avLst>
          </a:prstGeom>
          <a:ln w="7632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3429000" y="1803240"/>
            <a:ext cx="1778040" cy="698760"/>
          </a:xfrm>
          <a:prstGeom prst="rect">
            <a:avLst/>
          </a:prstGeom>
          <a:solidFill>
            <a:srgbClr val="99ff99"/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ver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73" idx="3"/>
            <a:endCxn id="177" idx="1"/>
          </p:cNvCxnSpPr>
          <p:nvPr/>
        </p:nvCxnSpPr>
        <p:spPr>
          <a:xfrm flipV="1">
            <a:off x="2476440" y="2152080"/>
            <a:ext cx="953280" cy="6840"/>
          </a:xfrm>
          <a:prstGeom prst="straightConnector1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4" idx="1"/>
            <a:endCxn id="177" idx="3"/>
          </p:cNvCxnSpPr>
          <p:nvPr/>
        </p:nvCxnSpPr>
        <p:spPr>
          <a:xfrm flipH="1" flipV="1">
            <a:off x="5207040" y="2152080"/>
            <a:ext cx="1117800" cy="6840"/>
          </a:xfrm>
          <a:prstGeom prst="straightConnector1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3429000" y="5334120"/>
            <a:ext cx="1778040" cy="698400"/>
          </a:xfrm>
          <a:prstGeom prst="rect">
            <a:avLst/>
          </a:prstGeom>
          <a:solidFill>
            <a:srgbClr val="99ff99"/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658680" y="2501640"/>
            <a:ext cx="1169640" cy="2830680"/>
            <a:chOff x="3658680" y="2501640"/>
            <a:chExt cx="1169640" cy="2830680"/>
          </a:xfrm>
        </p:grpSpPr>
        <p:cxnSp>
          <p:nvCxnSpPr>
            <p:cNvPr id="182" name=""/>
            <p:cNvCxnSpPr>
              <a:stCxn id="180" idx="0"/>
              <a:endCxn id="177" idx="2"/>
            </p:cNvCxnSpPr>
            <p:nvPr/>
          </p:nvCxnSpPr>
          <p:spPr>
            <a:xfrm flipV="1">
              <a:off x="4316760" y="2501640"/>
              <a:ext cx="2160" cy="2831040"/>
            </a:xfrm>
            <a:prstGeom prst="straightConnector1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</p:cxnSp>
        <p:sp>
          <p:nvSpPr>
            <p:cNvPr id="183" name=""/>
            <p:cNvSpPr/>
            <p:nvPr/>
          </p:nvSpPr>
          <p:spPr>
            <a:xfrm>
              <a:off x="3658680" y="3691440"/>
              <a:ext cx="1169640" cy="352800"/>
            </a:xfrm>
            <a:prstGeom prst="rect">
              <a:avLst/>
            </a:prstGeom>
            <a:noFill/>
            <a:ln w="1908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gn Of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1031400" y="3777840"/>
            <a:ext cx="3285000" cy="2691720"/>
            <a:chOff x="1031400" y="3777840"/>
            <a:chExt cx="3285000" cy="2691720"/>
          </a:xfrm>
        </p:grpSpPr>
        <p:cxnSp>
          <p:nvCxnSpPr>
            <p:cNvPr id="185" name=""/>
            <p:cNvCxnSpPr>
              <a:stCxn id="180" idx="2"/>
            </p:cNvCxnSpPr>
            <p:nvPr/>
          </p:nvCxnSpPr>
          <p:spPr>
            <a:xfrm rot="10800000">
              <a:off x="1031040" y="3777480"/>
              <a:ext cx="3285360" cy="2253600"/>
            </a:xfrm>
            <a:prstGeom prst="curvedConnector5">
              <a:avLst>
                <a:gd name="adj1" fmla="val 49994"/>
                <a:gd name="adj2" fmla="val 49992"/>
                <a:gd name="adj3" fmla="val 49994"/>
              </a:avLst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</p:cxnSp>
        <p:sp>
          <p:nvSpPr>
            <p:cNvPr id="186" name=""/>
            <p:cNvSpPr/>
            <p:nvPr/>
          </p:nvSpPr>
          <p:spPr>
            <a:xfrm>
              <a:off x="2323080" y="6116760"/>
              <a:ext cx="1044720" cy="352800"/>
            </a:xfrm>
            <a:prstGeom prst="rect">
              <a:avLst/>
            </a:prstGeom>
            <a:noFill/>
            <a:ln w="1908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pd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733400" y="4140000"/>
            <a:ext cx="1694520" cy="1541520"/>
            <a:chOff x="1733400" y="4140000"/>
            <a:chExt cx="1694520" cy="1541520"/>
          </a:xfrm>
        </p:grpSpPr>
        <p:cxnSp>
          <p:nvCxnSpPr>
            <p:cNvPr id="188" name=""/>
            <p:cNvCxnSpPr>
              <a:stCxn id="175" idx="2"/>
              <a:endCxn id="180" idx="1"/>
            </p:cNvCxnSpPr>
            <p:nvPr/>
          </p:nvCxnSpPr>
          <p:spPr>
            <a:xfrm>
              <a:off x="1733400" y="4140000"/>
              <a:ext cx="1694880" cy="1541880"/>
            </a:xfrm>
            <a:prstGeom prst="curvedConnector5">
              <a:avLst>
                <a:gd name="adj1" fmla="val 49989"/>
                <a:gd name="adj2" fmla="val 50000"/>
                <a:gd name="adj3" fmla="val 49989"/>
              </a:avLst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</p:cxnSp>
        <p:sp>
          <p:nvSpPr>
            <p:cNvPr id="189" name=""/>
            <p:cNvSpPr/>
            <p:nvPr/>
          </p:nvSpPr>
          <p:spPr>
            <a:xfrm>
              <a:off x="1978920" y="4745880"/>
              <a:ext cx="1130040" cy="352800"/>
            </a:xfrm>
            <a:prstGeom prst="rect">
              <a:avLst/>
            </a:prstGeom>
            <a:noFill/>
            <a:ln w="1908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6032520" y="5334120"/>
            <a:ext cx="1778040" cy="698400"/>
          </a:xfrm>
          <a:prstGeom prst="rect">
            <a:avLst/>
          </a:prstGeom>
          <a:solidFill>
            <a:srgbClr val="99ff99"/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80" idx="3"/>
            <a:endCxn id="190" idx="1"/>
          </p:cNvCxnSpPr>
          <p:nvPr/>
        </p:nvCxnSpPr>
        <p:spPr>
          <a:xfrm>
            <a:off x="5206680" y="5683320"/>
            <a:ext cx="826200" cy="2160"/>
          </a:xfrm>
          <a:prstGeom prst="straightConnector1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</p:cxnSp>
      <p:grpSp>
        <p:nvGrpSpPr>
          <p:cNvPr id="192" name=""/>
          <p:cNvGrpSpPr/>
          <p:nvPr/>
        </p:nvGrpSpPr>
        <p:grpSpPr>
          <a:xfrm>
            <a:off x="5600880" y="3530520"/>
            <a:ext cx="2207520" cy="1103040"/>
            <a:chOff x="5600880" y="3530520"/>
            <a:chExt cx="2207520" cy="1103040"/>
          </a:xfrm>
        </p:grpSpPr>
        <p:sp>
          <p:nvSpPr>
            <p:cNvPr id="193" name=""/>
            <p:cNvSpPr/>
            <p:nvPr/>
          </p:nvSpPr>
          <p:spPr>
            <a:xfrm>
              <a:off x="5600880" y="3530520"/>
              <a:ext cx="1775880" cy="697680"/>
            </a:xfrm>
            <a:prstGeom prst="rect">
              <a:avLst/>
            </a:prstGeom>
            <a:solidFill>
              <a:srgbClr val="99ff99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663880" y="3580920"/>
              <a:ext cx="1776240" cy="697680"/>
            </a:xfrm>
            <a:prstGeom prst="rect">
              <a:avLst/>
            </a:prstGeom>
            <a:solidFill>
              <a:srgbClr val="99ff99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27240" y="3657240"/>
              <a:ext cx="1776240" cy="697320"/>
            </a:xfrm>
            <a:prstGeom prst="rect">
              <a:avLst/>
            </a:prstGeom>
            <a:solidFill>
              <a:srgbClr val="99ff99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90960" y="3708000"/>
              <a:ext cx="1776240" cy="697320"/>
            </a:xfrm>
            <a:prstGeom prst="rect">
              <a:avLst/>
            </a:prstGeom>
            <a:solidFill>
              <a:srgbClr val="99ff99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41720" y="3758760"/>
              <a:ext cx="1776240" cy="697680"/>
            </a:xfrm>
            <a:prstGeom prst="rect">
              <a:avLst/>
            </a:prstGeom>
            <a:solidFill>
              <a:srgbClr val="99ff99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05080" y="3809160"/>
              <a:ext cx="1776240" cy="697680"/>
            </a:xfrm>
            <a:prstGeom prst="rect">
              <a:avLst/>
            </a:prstGeom>
            <a:solidFill>
              <a:srgbClr val="99ff99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68800" y="3885480"/>
              <a:ext cx="1775880" cy="697320"/>
            </a:xfrm>
            <a:prstGeom prst="rect">
              <a:avLst/>
            </a:prstGeom>
            <a:solidFill>
              <a:srgbClr val="99ff99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32160" y="3936240"/>
              <a:ext cx="1776240" cy="697320"/>
            </a:xfrm>
            <a:prstGeom prst="rect">
              <a:avLst/>
            </a:prstGeom>
            <a:solidFill>
              <a:srgbClr val="99ff99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1" name=""/>
          <p:cNvCxnSpPr>
            <a:stCxn id="190" idx="0"/>
            <a:endCxn id="200" idx="2"/>
          </p:cNvCxnSpPr>
          <p:nvPr/>
        </p:nvCxnSpPr>
        <p:spPr>
          <a:xfrm flipV="1">
            <a:off x="6921000" y="4634640"/>
            <a:ext cx="2520" cy="699480"/>
          </a:xfrm>
          <a:prstGeom prst="straightConnector1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</p:cxn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Drive down from the top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95160" y="1528560"/>
            <a:ext cx="838224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jects and enterprises should define their Service Architecture FIRS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quirements and process need to be in the context of that archite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rchitecture needs to be defined so all stakeholders understan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eeds to be an collaborative exercis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nce you have the service, THEN think about proces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 Black"/>
              </a:rPr>
              <a:t>Organisation</a:t>
            </a: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54000" y="2016000"/>
            <a:ext cx="1224000" cy="42609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95640" y="2387520"/>
            <a:ext cx="4106880" cy="388620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an Enterprise Architecture build the bridge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3419640" y="3754440"/>
            <a:ext cx="1368360" cy="12952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76720" y="3141720"/>
            <a:ext cx="201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08000" y="3645000"/>
            <a:ext cx="2016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27640" y="3716280"/>
            <a:ext cx="201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34200" y="1987560"/>
            <a:ext cx="1224000" cy="43196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08000" y="4668840"/>
            <a:ext cx="2016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03640" y="5445000"/>
            <a:ext cx="201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43480" y="4640400"/>
            <a:ext cx="201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ver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32000" y="2349360"/>
            <a:ext cx="23036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nterprise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Governance of a new IT Asse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7162920" cy="38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services are a new IT asset that require a new governance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predicated on ow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form of centra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ding and resource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 - e.g. for business semantic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119320" y="4386240"/>
            <a:ext cx="4267080" cy="1143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entral IT (AD, Governance, SO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Organisation for SOA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1" name=""/>
          <p:cNvSpPr/>
          <p:nvPr/>
        </p:nvSpPr>
        <p:spPr>
          <a:xfrm>
            <a:off x="2119320" y="3376440"/>
            <a:ext cx="914400" cy="9144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T (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86000" y="3376440"/>
            <a:ext cx="914400" cy="9144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T (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329000" y="3376440"/>
            <a:ext cx="914400" cy="9144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T (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43720" y="2349360"/>
            <a:ext cx="620640" cy="31910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6200000">
            <a:off x="137160" y="3690000"/>
            <a:ext cx="3135600" cy="540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unding and Gover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19320" y="2386080"/>
            <a:ext cx="914400" cy="9144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86000" y="2386080"/>
            <a:ext cx="914400" cy="9144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29000" y="2386080"/>
            <a:ext cx="914400" cy="9144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72000" y="3376440"/>
            <a:ext cx="914400" cy="9144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T (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72000" y="2386080"/>
            <a:ext cx="914400" cy="9144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 Black"/>
              </a:rPr>
              <a:t>Summary</a:t>
            </a: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785600"/>
            <a:ext cx="7162920" cy="480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liver the true value of SOA and become a service-oriented enterprise, we must recognise the importance of interoperability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ing in an enterprise SOA developed by both the Business an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ing delivery processes accommodate SOA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ing the organisation to ensure successful delivery and ongoing management of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 Black"/>
              </a:rPr>
              <a:t>Questions?</a:t>
            </a: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951120"/>
            <a:ext cx="7010280" cy="5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ontents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785960"/>
            <a:ext cx="7162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roperability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ree tenets of interope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 Black"/>
              </a:rPr>
              <a:t>The interoperability challenge</a:t>
            </a: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933120"/>
            <a:ext cx="701028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Is Business and IT divided or united by SOA?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716292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have a shared understanding of business probl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have a shared understanding of business opportun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collaborate to find solutions and act in unison to deliv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00884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interoperability chasm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987640" y="2637000"/>
            <a:ext cx="3097080" cy="4221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759280" y="1773360"/>
            <a:ext cx="33847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Business F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700280"/>
            <a:ext cx="381636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ntrenched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0360" y="2955960"/>
            <a:ext cx="230508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40360" y="3676680"/>
            <a:ext cx="230508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40360" y="4324320"/>
            <a:ext cx="352908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rgan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2924280"/>
            <a:ext cx="230508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8760" y="3645000"/>
            <a:ext cx="230508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9680" y="4365720"/>
            <a:ext cx="266400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7600" y="5108400"/>
            <a:ext cx="302436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“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” and “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0102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Who is the Babelfish?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71629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often Business and IT speak different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sides continually argue that the other is “wrong” and they are “righ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estates rarely look like the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rarely looks to the long term impacts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905120" y="5224320"/>
            <a:ext cx="43956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entral IT (mainly infrastruct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4448160"/>
            <a:ext cx="4395600" cy="6858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gram Off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799920"/>
            <a:ext cx="701028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Traditional Organisation – Business Aligned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905120" y="3467160"/>
            <a:ext cx="1006200" cy="9144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T (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00240" y="3467160"/>
            <a:ext cx="1006560" cy="9144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T (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467160"/>
            <a:ext cx="1006560" cy="9144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T (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57800" y="3467160"/>
            <a:ext cx="1006560" cy="9144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T (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05120" y="2476440"/>
            <a:ext cx="1006200" cy="9144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00240" y="2476440"/>
            <a:ext cx="1006560" cy="9144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2476440"/>
            <a:ext cx="1006560" cy="9144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57800" y="2476440"/>
            <a:ext cx="1006560" cy="9144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947960" y="5006880"/>
            <a:ext cx="1108080" cy="9144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14720" y="4995720"/>
            <a:ext cx="1020600" cy="9144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24240" y="4992840"/>
            <a:ext cx="903240" cy="9144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80040" y="4992840"/>
            <a:ext cx="1189080" cy="9144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799920"/>
            <a:ext cx="701028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Traditional Organisation – Capability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1947960" y="4265640"/>
            <a:ext cx="441936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entral 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47960" y="3503520"/>
            <a:ext cx="4419360" cy="6858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gram Off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47960" y="2490840"/>
            <a:ext cx="1006200" cy="9144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14640" y="2490840"/>
            <a:ext cx="1006560" cy="9144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29200" y="2490840"/>
            <a:ext cx="1058760" cy="9144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00640" y="2490840"/>
            <a:ext cx="1066680" cy="9144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pettit</cp:lastModifiedBy>
  <dcterms:modified xsi:type="dcterms:W3CDTF">2006-04-17T19:11:12Z</dcterms:modified>
  <cp:revision>172</cp:revision>
  <dc:subject/>
  <dc:title>How business and IT interoperate using SOA</dc:title>
</cp:coreProperties>
</file>