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0716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292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0716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5292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0716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292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4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0716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5292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19320" y="19810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okia.com/nokia/0,,33210,00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finman.info/terms/search.asp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040" y="3657600"/>
            <a:ext cx="762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lnSpc>
                <a:spcPct val="80000"/>
              </a:lnSpc>
              <a:spcAft>
                <a:spcPts val="10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120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IT Service Specification Synchronicity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1240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rl Matt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ASIS BCM TC,co-Cha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ebXMLRegistry Semantic Content SC, co-Chair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TIL Knowledge Application Consultant, Met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IT Service Specification Focal Point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unneeded risk by providing proven techniques that enab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service oriented architecture and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terprise agility and interoper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business people the choice to think and communicate in business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managers communicate precisely their business goals among heterogeneous partne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 well as layering the appropriate steps that must be applied for a project to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Business Goals of Deploying a Standard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 Dependency on Proprietary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rease Time-to-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rease Expenditure o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rease Developmen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use Component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tilize Knowledge from Community of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 Ease of Vendor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Benefits of Employing IT centric Service Standard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of I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Quality of I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Alignment with Process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that meets Business, Customer and User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ier Aud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Formal Specification of a Shared Conceptualization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Data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 Processing described with Templates &amp; Controlled Vocabulary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cal Concepts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notions embedded in vocabulary terms and templat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Languag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authors to write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-30960"/>
            <a:ext cx="8686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9245520" y="5273640"/>
            <a:ext cx="9906120" cy="6858000"/>
          </a:xfrm>
          <a:custGeom>
            <a:avLst/>
            <a:gdLst>
              <a:gd name="textAreaLeft" fmla="*/ 0 w 9906120"/>
              <a:gd name="textAreaRight" fmla="*/ 9906120 w 990612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31200" h="21600">
                <a:moveTo>
                  <a:pt x="0" y="0"/>
                </a:moveTo>
                <a:lnTo>
                  <a:pt x="31200" y="0"/>
                </a:lnTo>
                <a:lnTo>
                  <a:pt x="31200" y="21600"/>
                </a:lnTo>
                <a:lnTo>
                  <a:pt x="0" y="21600"/>
                </a:lnTo>
                <a:close/>
              </a:path>
              <a:path fill="lightenLess" w="31200" h="21600">
                <a:moveTo>
                  <a:pt x="0" y="0"/>
                </a:moveTo>
                <a:lnTo>
                  <a:pt x="31200" y="0"/>
                </a:lnTo>
                <a:lnTo>
                  <a:pt x="31200" y="0"/>
                </a:lnTo>
                <a:lnTo>
                  <a:pt x="0" y="0"/>
                </a:lnTo>
                <a:close/>
              </a:path>
              <a:path fill="darken" w="31200" h="21600">
                <a:moveTo>
                  <a:pt x="31200" y="0"/>
                </a:moveTo>
                <a:lnTo>
                  <a:pt x="31200" y="21600"/>
                </a:lnTo>
                <a:lnTo>
                  <a:pt x="31200" y="21600"/>
                </a:lnTo>
                <a:lnTo>
                  <a:pt x="31200" y="0"/>
                </a:lnTo>
                <a:close/>
              </a:path>
              <a:path fill="darkenLess" w="31200" h="21600">
                <a:moveTo>
                  <a:pt x="312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1200" y="21600"/>
                </a:lnTo>
                <a:close/>
              </a:path>
              <a:path fill="lighten" w="312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482760"/>
            <a:ext cx="9524880" cy="6108480"/>
            <a:chOff x="0" y="482760"/>
            <a:chExt cx="9524880" cy="6108480"/>
          </a:xfrm>
        </p:grpSpPr>
        <p:sp>
          <p:nvSpPr>
            <p:cNvPr id="90" name=""/>
            <p:cNvSpPr/>
            <p:nvPr/>
          </p:nvSpPr>
          <p:spPr>
            <a:xfrm>
              <a:off x="4070520" y="6254640"/>
              <a:ext cx="169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482760"/>
              <a:ext cx="914400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006640"/>
              <a:ext cx="8686800" cy="312408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19920" y="3073320"/>
              <a:ext cx="1218960" cy="685800"/>
            </a:xfrm>
            <a:prstGeom prst="cube">
              <a:avLst>
                <a:gd name="adj" fmla="val 527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81080" y="2158920"/>
              <a:ext cx="6863040" cy="2438640"/>
            </a:xfrm>
            <a:prstGeom prst="ellipse">
              <a:avLst/>
            </a:prstGeom>
            <a:noFill/>
            <a:ln w="507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03040" y="4848120"/>
              <a:ext cx="442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8000"/>
                  </a:solidFill>
                  <a:latin typeface="Arial"/>
                </a:rPr>
                <a:t>Service Management Business Appl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62520" y="2463840"/>
              <a:ext cx="90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Assur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81080" y="2997360"/>
              <a:ext cx="90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4064040"/>
              <a:ext cx="98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Gatewa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15200" y="28447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91520" y="360684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Exch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7391160" y="1701720"/>
              <a:ext cx="469800" cy="6858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" y="1854360"/>
              <a:ext cx="8534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280" y="4826160"/>
              <a:ext cx="8534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8320" y="5083200"/>
              <a:ext cx="98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Back-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-581760" y="3031200"/>
              <a:ext cx="2284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Enterprise Information Services Layer  - EIS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89280" y="1010520"/>
              <a:ext cx="922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Front-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19920" y="2540160"/>
              <a:ext cx="533160" cy="457200"/>
            </a:xfrm>
            <a:prstGeom prst="can">
              <a:avLst>
                <a:gd name="adj" fmla="val 1785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DC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52680" y="3835440"/>
              <a:ext cx="113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Collabo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91120" y="2006640"/>
              <a:ext cx="457200" cy="38088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33720" y="2616120"/>
              <a:ext cx="457200" cy="38124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48720" y="2463840"/>
              <a:ext cx="457200" cy="38088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0400" y="4140360"/>
              <a:ext cx="457200" cy="38088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0080" y="4368960"/>
              <a:ext cx="457200" cy="38088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3911760"/>
              <a:ext cx="457200" cy="38088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6171840" y="1701720"/>
              <a:ext cx="228600" cy="5335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5520" y="1625760"/>
              <a:ext cx="0" cy="5331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1280" y="1701720"/>
              <a:ext cx="152640" cy="6098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2320" y="1473120"/>
              <a:ext cx="685800" cy="10670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7391160" y="4368960"/>
              <a:ext cx="609480" cy="8380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6324120" y="4597200"/>
              <a:ext cx="228600" cy="6094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362320" y="4216320"/>
              <a:ext cx="533160" cy="990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657600" y="4520880"/>
              <a:ext cx="152280" cy="6858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105160" y="4597200"/>
              <a:ext cx="75960" cy="6094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76520" y="863640"/>
              <a:ext cx="990360" cy="838080"/>
            </a:xfrm>
            <a:prstGeom prst="cube">
              <a:avLst>
                <a:gd name="adj" fmla="val 10416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Ap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24080" y="863640"/>
              <a:ext cx="990720" cy="838080"/>
            </a:xfrm>
            <a:prstGeom prst="cube">
              <a:avLst>
                <a:gd name="adj" fmla="val 10416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Brow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863640"/>
              <a:ext cx="990360" cy="838080"/>
            </a:xfrm>
            <a:prstGeom prst="cube">
              <a:avLst>
                <a:gd name="adj" fmla="val 10416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Em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5880" y="863640"/>
              <a:ext cx="990720" cy="838080"/>
            </a:xfrm>
            <a:prstGeom prst="cube">
              <a:avLst>
                <a:gd name="adj" fmla="val 10416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Teleph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43800" y="863640"/>
              <a:ext cx="990720" cy="838080"/>
            </a:xfrm>
            <a:prstGeom prst="cube">
              <a:avLst>
                <a:gd name="adj" fmla="val 10416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Wirel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52480" y="5207040"/>
              <a:ext cx="990720" cy="838080"/>
            </a:xfrm>
            <a:prstGeom prst="cube">
              <a:avLst>
                <a:gd name="adj" fmla="val 10416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Financ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Bud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5207040"/>
              <a:ext cx="990720" cy="838080"/>
            </a:xfrm>
            <a:prstGeom prst="cube">
              <a:avLst>
                <a:gd name="adj" fmla="val 12120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Configu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5880" y="5207040"/>
              <a:ext cx="990720" cy="838080"/>
            </a:xfrm>
            <a:prstGeom prst="cube">
              <a:avLst>
                <a:gd name="adj" fmla="val 1212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Relea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48320" y="5207040"/>
              <a:ext cx="990360" cy="838080"/>
            </a:xfrm>
            <a:prstGeom prst="cube">
              <a:avLst>
                <a:gd name="adj" fmla="val 12120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Capacit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67480" y="5207040"/>
              <a:ext cx="990720" cy="838080"/>
            </a:xfrm>
            <a:prstGeom prst="cube">
              <a:avLst>
                <a:gd name="adj" fmla="val 1212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Incident /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Proble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477120" y="2311560"/>
              <a:ext cx="457200" cy="3808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3080" y="3759120"/>
              <a:ext cx="304920" cy="762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78280" y="482760"/>
              <a:ext cx="299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8000"/>
                  </a:solidFill>
                  <a:latin typeface="Arial"/>
                </a:rPr>
                <a:t>User Interface - Presentation</a:t>
              </a:r>
              <a:r>
                <a:rPr b="1" i="1" lang="en-US" sz="18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57400" y="3759120"/>
              <a:ext cx="380880" cy="228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90720" y="3683160"/>
              <a:ext cx="160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81080" y="2463840"/>
              <a:ext cx="381240" cy="228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0720" y="208296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53080" y="3149640"/>
              <a:ext cx="533520" cy="457200"/>
            </a:xfrm>
            <a:prstGeom prst="can">
              <a:avLst>
                <a:gd name="adj" fmla="val 1785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DC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81480" y="2768760"/>
              <a:ext cx="83052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Registry Reposit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5880" y="3225960"/>
              <a:ext cx="533520" cy="457200"/>
            </a:xfrm>
            <a:prstGeom prst="can">
              <a:avLst>
                <a:gd name="adj" fmla="val 1785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DC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48520" y="2921040"/>
              <a:ext cx="7596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48520" y="2921040"/>
              <a:ext cx="533160" cy="304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558720"/>
              <a:ext cx="91440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-571320" y="3035160"/>
              <a:ext cx="22860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SO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6350040"/>
              <a:ext cx="137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2692440"/>
              <a:ext cx="38124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72200" y="3378240"/>
              <a:ext cx="3808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9400" y="3301920"/>
              <a:ext cx="38088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569200" y="22604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Ware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1244520"/>
            <a:ext cx="533160" cy="21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3759120"/>
            <a:ext cx="533520" cy="21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2463840"/>
            <a:ext cx="533160" cy="21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971640" y="476280"/>
            <a:ext cx="2375640" cy="2160360"/>
            <a:chOff x="971640" y="476280"/>
            <a:chExt cx="2375640" cy="2160360"/>
          </a:xfrm>
        </p:grpSpPr>
        <p:pic>
          <p:nvPicPr>
            <p:cNvPr id="157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971640" y="476280"/>
              <a:ext cx="237564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>
              <a:off x="1868040" y="1240560"/>
              <a:ext cx="601920" cy="65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1547640" y="1125000"/>
            <a:ext cx="6840360" cy="5387040"/>
            <a:chOff x="1547640" y="1125000"/>
            <a:chExt cx="6840360" cy="5387040"/>
          </a:xfrm>
        </p:grpSpPr>
        <p:sp>
          <p:nvSpPr>
            <p:cNvPr id="160" name=""/>
            <p:cNvSpPr/>
            <p:nvPr/>
          </p:nvSpPr>
          <p:spPr>
            <a:xfrm>
              <a:off x="5778720" y="1896480"/>
              <a:ext cx="2112840" cy="31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326760" y="1126440"/>
              <a:ext cx="3991680" cy="3670560"/>
              <a:chOff x="3326760" y="1126440"/>
              <a:chExt cx="3991680" cy="3670560"/>
            </a:xfrm>
          </p:grpSpPr>
          <p:sp>
            <p:nvSpPr>
              <p:cNvPr id="162" name=""/>
              <p:cNvSpPr/>
              <p:nvPr/>
            </p:nvSpPr>
            <p:spPr>
              <a:xfrm>
                <a:off x="4879800" y="1126440"/>
                <a:ext cx="893880" cy="813960"/>
              </a:xfrm>
              <a:prstGeom prst="pie">
                <a:avLst/>
              </a:pr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363200" y="1940400"/>
                <a:ext cx="1925640" cy="954360"/>
              </a:xfrm>
              <a:prstGeom prst="pi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850200" y="2893680"/>
                <a:ext cx="2949840" cy="952920"/>
              </a:xfrm>
              <a:prstGeom prst="pie">
                <a:avLst/>
              </a:pr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26760" y="3842280"/>
                <a:ext cx="3991680" cy="95472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 flipH="1">
              <a:off x="2867400" y="4786560"/>
              <a:ext cx="47232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96200" y="5653080"/>
              <a:ext cx="4934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08720" y="4796280"/>
              <a:ext cx="518040" cy="85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07920" y="4507200"/>
              <a:ext cx="32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otivation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ime                Peo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55040" y="3513960"/>
              <a:ext cx="295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pecifications  Sch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63600" y="2678760"/>
              <a:ext cx="13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Workf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3680" y="1653840"/>
              <a:ext cx="124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ntr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5307120" y="1578600"/>
              <a:ext cx="13741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68200" y="189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842600" y="4027680"/>
              <a:ext cx="177840" cy="162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6920640" y="2604240"/>
              <a:ext cx="269280" cy="11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3720000">
              <a:off x="6491880" y="4577400"/>
              <a:ext cx="219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irectory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3600000">
              <a:off x="6666120" y="4002120"/>
              <a:ext cx="159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s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08920" y="1140840"/>
              <a:ext cx="2646720" cy="348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5307480" y="1125000"/>
              <a:ext cx="2714400" cy="29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3420000">
              <a:off x="6485040" y="3448440"/>
              <a:ext cx="203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rtifact relationships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28280" y="2678760"/>
              <a:ext cx="1970280" cy="5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172600" y="3459960"/>
              <a:ext cx="1112760" cy="683640"/>
              <a:chOff x="2172600" y="3459960"/>
              <a:chExt cx="1112760" cy="683640"/>
            </a:xfrm>
          </p:grpSpPr>
          <p:sp>
            <p:nvSpPr>
              <p:cNvPr id="184" name=""/>
              <p:cNvSpPr/>
              <p:nvPr/>
            </p:nvSpPr>
            <p:spPr>
              <a:xfrm>
                <a:off x="2172600" y="3459960"/>
                <a:ext cx="1112760" cy="683640"/>
              </a:xfrm>
              <a:prstGeom prst="parallelogram">
                <a:avLst>
                  <a:gd name="adj" fmla="val 6905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43520" y="3516840"/>
                <a:ext cx="933480" cy="568080"/>
              </a:xfrm>
              <a:prstGeom prst="parallelogram">
                <a:avLst>
                  <a:gd name="adj" fmla="val 68863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79160" y="3913920"/>
                <a:ext cx="610560" cy="113760"/>
              </a:xfrm>
              <a:prstGeom prst="parallelogram">
                <a:avLst>
                  <a:gd name="adj" fmla="val 7198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58080" y="3687840"/>
                <a:ext cx="573120" cy="113760"/>
              </a:xfrm>
              <a:prstGeom prst="parallelogram">
                <a:avLst>
                  <a:gd name="adj" fmla="val 6756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566440" y="3516840"/>
                <a:ext cx="610560" cy="113760"/>
              </a:xfrm>
              <a:prstGeom prst="parallelogram">
                <a:avLst>
                  <a:gd name="adj" fmla="val 7198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980800" y="5315040"/>
              <a:ext cx="477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ata/Codes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ervices/Functions        Network</a:t>
              </a:r>
              <a:r>
                <a:rPr b="1" lang="en-GB" sz="1200" spc="-1" strike="noStrike">
                  <a:solidFill>
                    <a:srgbClr val="99ccff"/>
                  </a:solidFill>
                  <a:latin typeface="Times New Roman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107120" y="3116520"/>
              <a:ext cx="532080" cy="58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466320" y="5675400"/>
              <a:ext cx="1116000" cy="683640"/>
              <a:chOff x="6466320" y="5675400"/>
              <a:chExt cx="1116000" cy="683640"/>
            </a:xfrm>
          </p:grpSpPr>
          <p:sp>
            <p:nvSpPr>
              <p:cNvPr id="192" name=""/>
              <p:cNvSpPr/>
              <p:nvPr/>
            </p:nvSpPr>
            <p:spPr>
              <a:xfrm>
                <a:off x="6466320" y="5675400"/>
                <a:ext cx="1116000" cy="683640"/>
              </a:xfrm>
              <a:prstGeom prst="parallelogram">
                <a:avLst>
                  <a:gd name="adj" fmla="val 6925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37240" y="5732280"/>
                <a:ext cx="935280" cy="569520"/>
              </a:xfrm>
              <a:prstGeom prst="parallelogram">
                <a:avLst>
                  <a:gd name="adj" fmla="val 68821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72880" y="6131160"/>
                <a:ext cx="612000" cy="113760"/>
              </a:xfrm>
              <a:prstGeom prst="parallelogram">
                <a:avLst>
                  <a:gd name="adj" fmla="val 7215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53600" y="5903280"/>
                <a:ext cx="576720" cy="113760"/>
              </a:xfrm>
              <a:prstGeom prst="parallelogram">
                <a:avLst>
                  <a:gd name="adj" fmla="val 6799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61960" y="5732280"/>
                <a:ext cx="612000" cy="113760"/>
              </a:xfrm>
              <a:prstGeom prst="parallelogram">
                <a:avLst>
                  <a:gd name="adj" fmla="val 7215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599280" y="5675400"/>
              <a:ext cx="1111320" cy="683640"/>
              <a:chOff x="3599280" y="5675400"/>
              <a:chExt cx="1111320" cy="683640"/>
            </a:xfrm>
          </p:grpSpPr>
          <p:sp>
            <p:nvSpPr>
              <p:cNvPr id="198" name=""/>
              <p:cNvSpPr/>
              <p:nvPr/>
            </p:nvSpPr>
            <p:spPr>
              <a:xfrm>
                <a:off x="3599280" y="5675400"/>
                <a:ext cx="1111320" cy="683640"/>
              </a:xfrm>
              <a:prstGeom prst="parallelogram">
                <a:avLst>
                  <a:gd name="adj" fmla="val 6896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70200" y="5732280"/>
                <a:ext cx="933840" cy="569520"/>
              </a:xfrm>
              <a:prstGeom prst="parallelogram">
                <a:avLst>
                  <a:gd name="adj" fmla="val 68715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07280" y="6131160"/>
                <a:ext cx="610560" cy="113760"/>
              </a:xfrm>
              <a:prstGeom prst="parallelogram">
                <a:avLst>
                  <a:gd name="adj" fmla="val 7198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86920" y="5903280"/>
                <a:ext cx="573120" cy="113760"/>
              </a:xfrm>
              <a:prstGeom prst="parallelogram">
                <a:avLst>
                  <a:gd name="adj" fmla="val 6756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93120" y="5732280"/>
                <a:ext cx="610560" cy="113760"/>
              </a:xfrm>
              <a:prstGeom prst="parallelogram">
                <a:avLst>
                  <a:gd name="adj" fmla="val 7198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1547640" y="6265800"/>
              <a:ext cx="279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ource: BC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49480" y="5318280"/>
              <a:ext cx="1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33560" y="5657760"/>
              <a:ext cx="1409760" cy="669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Cor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664080" y="5396040"/>
              <a:ext cx="144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4997520" y="5675400"/>
              <a:ext cx="1116000" cy="683640"/>
              <a:chOff x="4997520" y="5675400"/>
              <a:chExt cx="1116000" cy="683640"/>
            </a:xfrm>
          </p:grpSpPr>
          <p:sp>
            <p:nvSpPr>
              <p:cNvPr id="208" name=""/>
              <p:cNvSpPr/>
              <p:nvPr/>
            </p:nvSpPr>
            <p:spPr>
              <a:xfrm>
                <a:off x="4997520" y="5675400"/>
                <a:ext cx="1116000" cy="683640"/>
              </a:xfrm>
              <a:prstGeom prst="parallelogram">
                <a:avLst>
                  <a:gd name="adj" fmla="val 6925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070240" y="5732280"/>
                <a:ext cx="934920" cy="568080"/>
              </a:xfrm>
              <a:prstGeom prst="parallelogram">
                <a:avLst>
                  <a:gd name="adj" fmla="val 68969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105520" y="6131160"/>
                <a:ext cx="612360" cy="113760"/>
              </a:xfrm>
              <a:prstGeom prst="parallelogram">
                <a:avLst>
                  <a:gd name="adj" fmla="val 7219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85160" y="5903280"/>
                <a:ext cx="576360" cy="113760"/>
              </a:xfrm>
              <a:prstGeom prst="parallelogram">
                <a:avLst>
                  <a:gd name="adj" fmla="val 6795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393160" y="5732280"/>
                <a:ext cx="612000" cy="113760"/>
              </a:xfrm>
              <a:prstGeom prst="parallelogram">
                <a:avLst>
                  <a:gd name="adj" fmla="val 7215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 flipV="1">
              <a:off x="5127840" y="5384520"/>
              <a:ext cx="468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39880" y="5746680"/>
              <a:ext cx="1406160" cy="598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WSD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336120" y="1653840"/>
              <a:ext cx="3407400" cy="101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59480" y="2898000"/>
              <a:ext cx="726840" cy="366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XFo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64880" y="4886640"/>
              <a:ext cx="1894320" cy="501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Routing, Packag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66760" y="1434600"/>
              <a:ext cx="2116440" cy="4172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1bfefe"/>
                </a:gs>
              </a:gsLst>
              <a:lin ang="5400000"/>
            </a:gradFill>
            <a:ln w="93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 Narrow"/>
                  <a:ea typeface="Times New Roman"/>
                </a:rPr>
                <a:t>Collaboration Part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 Narrow"/>
                  <a:ea typeface="Times New Roman"/>
                </a:rPr>
                <a:t>Agreements-</a:t>
              </a: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Times New Roman"/>
                </a:rPr>
                <a:t> C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336120" y="2605680"/>
              <a:ext cx="3855240" cy="131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157200" y="2530800"/>
              <a:ext cx="987840" cy="1832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246840" y="2677320"/>
              <a:ext cx="3048120" cy="161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31080" y="5746680"/>
              <a:ext cx="1173960" cy="601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MSH</a:t>
              </a:r>
              <a:br>
                <a:rPr sz="1200"/>
              </a:b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SO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248640" y="2677320"/>
              <a:ext cx="2062080" cy="161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82160" y="2983680"/>
              <a:ext cx="1489320" cy="426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Arial Narrow"/>
                  <a:ea typeface="Times New Roman"/>
                </a:rPr>
                <a:t>Mess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4680" y="4069080"/>
              <a:ext cx="1057320" cy="4284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Ro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3520" y="2385360"/>
              <a:ext cx="1914480" cy="439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 Narrow"/>
                  <a:ea typeface="Times New Roman"/>
                </a:rPr>
                <a:t>Collaboration Part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 Narrow"/>
                  <a:ea typeface="Times New Roman"/>
                </a:rPr>
                <a:t>Profiles - </a:t>
              </a: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Times New Roman"/>
                </a:rPr>
                <a:t>CP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3157200" y="2603880"/>
              <a:ext cx="2153520" cy="1686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3066840" y="2677320"/>
              <a:ext cx="630360" cy="2418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48640" y="4875480"/>
              <a:ext cx="1053720" cy="4284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Nou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92320" y="4069080"/>
              <a:ext cx="1053720" cy="4284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Ev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2052360" y="4229640"/>
              <a:ext cx="1116000" cy="680400"/>
              <a:chOff x="2052360" y="4229640"/>
              <a:chExt cx="1116000" cy="680400"/>
            </a:xfrm>
          </p:grpSpPr>
          <p:sp>
            <p:nvSpPr>
              <p:cNvPr id="232" name=""/>
              <p:cNvSpPr/>
              <p:nvPr/>
            </p:nvSpPr>
            <p:spPr>
              <a:xfrm>
                <a:off x="2052360" y="4229640"/>
                <a:ext cx="1116000" cy="680400"/>
              </a:xfrm>
              <a:prstGeom prst="parallelogram">
                <a:avLst>
                  <a:gd name="adj" fmla="val 6958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24720" y="4286160"/>
                <a:ext cx="935640" cy="566640"/>
              </a:xfrm>
              <a:prstGeom prst="parallelogram">
                <a:avLst>
                  <a:gd name="adj" fmla="val 69198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60360" y="4683240"/>
                <a:ext cx="612000" cy="113760"/>
              </a:xfrm>
              <a:prstGeom prst="parallelogram">
                <a:avLst>
                  <a:gd name="adj" fmla="val 7215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40000" y="4455720"/>
                <a:ext cx="576360" cy="113760"/>
              </a:xfrm>
              <a:prstGeom prst="parallelogram">
                <a:avLst>
                  <a:gd name="adj" fmla="val 6795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48000" y="4286160"/>
                <a:ext cx="612000" cy="113760"/>
              </a:xfrm>
              <a:prstGeom prst="parallelogram">
                <a:avLst>
                  <a:gd name="adj" fmla="val 7215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1994760" y="4997880"/>
              <a:ext cx="1114560" cy="680760"/>
              <a:chOff x="1994760" y="4997880"/>
              <a:chExt cx="1114560" cy="680760"/>
            </a:xfrm>
          </p:grpSpPr>
          <p:sp>
            <p:nvSpPr>
              <p:cNvPr id="238" name=""/>
              <p:cNvSpPr/>
              <p:nvPr/>
            </p:nvSpPr>
            <p:spPr>
              <a:xfrm>
                <a:off x="1994760" y="4997880"/>
                <a:ext cx="1114560" cy="680760"/>
              </a:xfrm>
              <a:prstGeom prst="parallelogram">
                <a:avLst>
                  <a:gd name="adj" fmla="val 6946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67480" y="5054760"/>
                <a:ext cx="933480" cy="566280"/>
              </a:xfrm>
              <a:prstGeom prst="parallelogram">
                <a:avLst>
                  <a:gd name="adj" fmla="val 69082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02760" y="5451840"/>
                <a:ext cx="610560" cy="114120"/>
              </a:xfrm>
              <a:prstGeom prst="parallelogram">
                <a:avLst>
                  <a:gd name="adj" fmla="val 7175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82400" y="5225760"/>
                <a:ext cx="574920" cy="113760"/>
              </a:xfrm>
              <a:prstGeom prst="parallelogram">
                <a:avLst>
                  <a:gd name="adj" fmla="val 6778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90400" y="5054760"/>
                <a:ext cx="610560" cy="113760"/>
              </a:xfrm>
              <a:prstGeom prst="parallelogram">
                <a:avLst>
                  <a:gd name="adj" fmla="val 7198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 flipV="1">
              <a:off x="2354040" y="4740480"/>
              <a:ext cx="54000" cy="76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586240" y="3544200"/>
              <a:ext cx="55440" cy="77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2762280" y="4482000"/>
              <a:ext cx="57240" cy="60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891160" y="2677320"/>
              <a:ext cx="447120" cy="88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308920" y="1944000"/>
              <a:ext cx="1611360" cy="44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45360" y="1242360"/>
              <a:ext cx="1698480" cy="950040"/>
              <a:chOff x="2745360" y="1242360"/>
              <a:chExt cx="1698480" cy="95004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2745360" y="1242360"/>
                <a:ext cx="1698480" cy="950040"/>
                <a:chOff x="2745360" y="1242360"/>
                <a:chExt cx="1698480" cy="9500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745360" y="1315440"/>
                  <a:ext cx="1567080" cy="8056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164840" y="1506240"/>
                  <a:ext cx="279000" cy="1396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>
                  <a:off x="4164120" y="1792440"/>
                  <a:ext cx="279000" cy="137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" name=""/>
                <p:cNvGrpSpPr/>
                <p:nvPr/>
              </p:nvGrpSpPr>
              <p:grpSpPr>
                <a:xfrm>
                  <a:off x="2792880" y="1785960"/>
                  <a:ext cx="662400" cy="217440"/>
                  <a:chOff x="2792880" y="1785960"/>
                  <a:chExt cx="662400" cy="217440"/>
                </a:xfrm>
              </p:grpSpPr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792880" y="1785960"/>
                    <a:ext cx="497880" cy="120600"/>
                    <a:chOff x="2792880" y="1785960"/>
                    <a:chExt cx="497880" cy="120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2792880" y="1785960"/>
                      <a:ext cx="497880" cy="120600"/>
                    </a:xfrm>
                    <a:prstGeom prst="parallelogram">
                      <a:avLst>
                        <a:gd name="adj" fmla="val 175149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1880" bIns="11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823120" y="1794960"/>
                      <a:ext cx="416880" cy="100440"/>
                    </a:xfrm>
                    <a:prstGeom prst="parallelogram">
                      <a:avLst>
                        <a:gd name="adj" fmla="val 173938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2839680" y="1865880"/>
                      <a:ext cx="273600" cy="20160"/>
                    </a:xfrm>
                    <a:prstGeom prst="parallelogram">
                      <a:avLst>
                        <a:gd name="adj" fmla="val 182020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2921040" y="1824840"/>
                      <a:ext cx="256320" cy="20520"/>
                    </a:xfrm>
                    <a:prstGeom prst="parallelogram">
                      <a:avLst>
                        <a:gd name="adj" fmla="val 167533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2968560" y="1794960"/>
                      <a:ext cx="273240" cy="20520"/>
                    </a:xfrm>
                    <a:prstGeom prst="parallelogram">
                      <a:avLst>
                        <a:gd name="adj" fmla="val 178592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875680" y="1835280"/>
                    <a:ext cx="497880" cy="120600"/>
                    <a:chOff x="2875680" y="1835280"/>
                    <a:chExt cx="497880" cy="12060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2875680" y="1835280"/>
                      <a:ext cx="497880" cy="120600"/>
                    </a:xfrm>
                    <a:prstGeom prst="parallelogram">
                      <a:avLst>
                        <a:gd name="adj" fmla="val 175149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1880" bIns="11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2905920" y="1844280"/>
                      <a:ext cx="418680" cy="100080"/>
                    </a:xfrm>
                    <a:prstGeom prst="parallelogram">
                      <a:avLst>
                        <a:gd name="adj" fmla="val 175318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2922480" y="1915200"/>
                      <a:ext cx="273600" cy="20160"/>
                    </a:xfrm>
                    <a:prstGeom prst="parallelogram">
                      <a:avLst>
                        <a:gd name="adj" fmla="val 182020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3003840" y="1874160"/>
                      <a:ext cx="256320" cy="20160"/>
                    </a:xfrm>
                    <a:prstGeom prst="parallelogram">
                      <a:avLst>
                        <a:gd name="adj" fmla="val 170524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3051360" y="1844280"/>
                      <a:ext cx="273240" cy="20160"/>
                    </a:xfrm>
                    <a:prstGeom prst="parallelogram">
                      <a:avLst>
                        <a:gd name="adj" fmla="val 181781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957400" y="1882800"/>
                    <a:ext cx="497880" cy="120600"/>
                    <a:chOff x="2957400" y="1882800"/>
                    <a:chExt cx="497880" cy="1206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2957400" y="1882800"/>
                      <a:ext cx="497880" cy="120600"/>
                    </a:xfrm>
                    <a:prstGeom prst="parallelogram">
                      <a:avLst>
                        <a:gd name="adj" fmla="val 175149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1880" bIns="11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2989080" y="1891800"/>
                      <a:ext cx="418680" cy="100440"/>
                    </a:xfrm>
                    <a:prstGeom prst="parallelogram">
                      <a:avLst>
                        <a:gd name="adj" fmla="val 174689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3006360" y="1962720"/>
                      <a:ext cx="273240" cy="20160"/>
                    </a:xfrm>
                    <a:prstGeom prst="parallelogram">
                      <a:avLst>
                        <a:gd name="adj" fmla="val 181781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3085560" y="1923480"/>
                      <a:ext cx="256320" cy="20160"/>
                    </a:xfrm>
                    <a:prstGeom prst="parallelogram">
                      <a:avLst>
                        <a:gd name="adj" fmla="val 170524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3134520" y="1891800"/>
                      <a:ext cx="273240" cy="20520"/>
                    </a:xfrm>
                    <a:prstGeom prst="parallelogram">
                      <a:avLst>
                        <a:gd name="adj" fmla="val 178592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2792880" y="1432800"/>
                  <a:ext cx="709920" cy="209520"/>
                  <a:chOff x="2792880" y="1432800"/>
                  <a:chExt cx="709920" cy="20952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2792880" y="1432800"/>
                    <a:ext cx="532080" cy="115920"/>
                    <a:chOff x="2792880" y="1432800"/>
                    <a:chExt cx="532080" cy="11592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2792880" y="1432800"/>
                      <a:ext cx="532080" cy="115920"/>
                    </a:xfrm>
                    <a:prstGeom prst="parallelogram">
                      <a:avLst>
                        <a:gd name="adj" fmla="val 194738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360" bIns="9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2826360" y="1443600"/>
                      <a:ext cx="446040" cy="96840"/>
                    </a:xfrm>
                    <a:prstGeom prst="parallelogram">
                      <a:avLst>
                        <a:gd name="adj" fmla="val 193023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2843280" y="1510920"/>
                      <a:ext cx="292320" cy="18720"/>
                    </a:xfrm>
                    <a:prstGeom prst="parallelogram">
                      <a:avLst>
                        <a:gd name="adj" fmla="val 209434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2929680" y="1471680"/>
                      <a:ext cx="275400" cy="18720"/>
                    </a:xfrm>
                    <a:prstGeom prst="parallelogram">
                      <a:avLst>
                        <a:gd name="adj" fmla="val 197312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2980080" y="1443600"/>
                      <a:ext cx="292320" cy="18720"/>
                    </a:xfrm>
                    <a:prstGeom prst="parallelogram">
                      <a:avLst>
                        <a:gd name="adj" fmla="val 209434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2880720" y="1480320"/>
                    <a:ext cx="533520" cy="115920"/>
                    <a:chOff x="2880720" y="1480320"/>
                    <a:chExt cx="533520" cy="11592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2880720" y="1480320"/>
                      <a:ext cx="533520" cy="115920"/>
                    </a:xfrm>
                    <a:prstGeom prst="parallelogram">
                      <a:avLst>
                        <a:gd name="adj" fmla="val 195264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360" bIns="9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2914200" y="1489680"/>
                      <a:ext cx="447480" cy="96480"/>
                    </a:xfrm>
                    <a:prstGeom prst="parallelogram">
                      <a:avLst>
                        <a:gd name="adj" fmla="val 194369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2931480" y="1556640"/>
                      <a:ext cx="291600" cy="18720"/>
                    </a:xfrm>
                    <a:prstGeom prst="parallelogram">
                      <a:avLst>
                        <a:gd name="adj" fmla="val 208918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3017160" y="1519560"/>
                      <a:ext cx="275040" cy="18360"/>
                    </a:xfrm>
                    <a:prstGeom prst="parallelogram">
                      <a:avLst>
                        <a:gd name="adj" fmla="val 200918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3069720" y="1489680"/>
                      <a:ext cx="291960" cy="18720"/>
                    </a:xfrm>
                    <a:prstGeom prst="parallelogram">
                      <a:avLst>
                        <a:gd name="adj" fmla="val 209176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2969280" y="1526400"/>
                    <a:ext cx="533520" cy="115920"/>
                    <a:chOff x="2969280" y="1526400"/>
                    <a:chExt cx="533520" cy="11592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2969280" y="1526400"/>
                      <a:ext cx="533520" cy="115920"/>
                    </a:xfrm>
                    <a:prstGeom prst="parallelogram">
                      <a:avLst>
                        <a:gd name="adj" fmla="val 195264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360" bIns="9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3002760" y="1535760"/>
                      <a:ext cx="447480" cy="96840"/>
                    </a:xfrm>
                    <a:prstGeom prst="parallelogram">
                      <a:avLst>
                        <a:gd name="adj" fmla="val 193646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3019680" y="1603080"/>
                      <a:ext cx="292320" cy="18720"/>
                    </a:xfrm>
                    <a:prstGeom prst="parallelogram">
                      <a:avLst>
                        <a:gd name="adj" fmla="val 209434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3107520" y="1565280"/>
                      <a:ext cx="275400" cy="18720"/>
                    </a:xfrm>
                    <a:prstGeom prst="parallelogram">
                      <a:avLst>
                        <a:gd name="adj" fmla="val 197312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157920" y="1535760"/>
                      <a:ext cx="292320" cy="18720"/>
                    </a:xfrm>
                    <a:prstGeom prst="parallelogram">
                      <a:avLst>
                        <a:gd name="adj" fmla="val 209434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1" name=""/>
                <p:cNvSpPr/>
                <p:nvPr/>
              </p:nvSpPr>
              <p:spPr>
                <a:xfrm>
                  <a:off x="4219200" y="1576080"/>
                  <a:ext cx="19800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5400000">
                  <a:off x="3211560" y="1181880"/>
                  <a:ext cx="142920" cy="263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rot="5400000">
                  <a:off x="3751560" y="1184040"/>
                  <a:ext cx="144720" cy="263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281760" y="1277280"/>
                  <a:ext cx="1800" cy="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3826440" y="1264680"/>
                  <a:ext cx="3240" cy="101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>
                  <a:off x="4197240" y="1860480"/>
                  <a:ext cx="1980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5400000">
                  <a:off x="3211560" y="1987560"/>
                  <a:ext cx="142560" cy="263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 rot="5400000">
                  <a:off x="3752640" y="1989000"/>
                  <a:ext cx="142920" cy="263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281760" y="2083320"/>
                  <a:ext cx="1800" cy="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3826440" y="2070000"/>
                  <a:ext cx="3240" cy="103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3340080" y="1577160"/>
                <a:ext cx="92664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Template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 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eng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3338640" y="2166480"/>
              <a:ext cx="448560" cy="293400"/>
            </a:xfrm>
            <a:prstGeom prst="upArrow">
              <a:avLst>
                <a:gd name="adj1" fmla="val 51852"/>
                <a:gd name="adj2" fmla="val 52606"/>
              </a:avLst>
            </a:prstGeom>
            <a:solidFill>
              <a:srgbClr val="00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3336480" y="2677320"/>
              <a:ext cx="1614960" cy="2418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28080" y="4069080"/>
              <a:ext cx="1053720" cy="4284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Ru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12880" y="4875480"/>
              <a:ext cx="1055520" cy="4284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Ver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3516120" y="2166480"/>
              <a:ext cx="3853080" cy="51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31880" y="2460240"/>
              <a:ext cx="2094120" cy="89172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Content Assemb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 </a:t>
              </a: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Mechanism - </a:t>
              </a:r>
              <a:r>
                <a:rPr b="0" lang="en-GB" sz="14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CAM</a:t>
              </a: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93520" y="1874160"/>
              <a:ext cx="1738800" cy="452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 Narrow"/>
                  <a:ea typeface="Times New Roman"/>
                </a:rPr>
                <a:t>BP Specification Sche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Times New Roman"/>
                </a:rPr>
                <a:t>BP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02680" y="2166480"/>
              <a:ext cx="1055520" cy="428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0" y="189000"/>
            <a:ext cx="79135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Arial"/>
              </a:rPr>
              <a:t>Semantic Interoperability Standards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ahoma"/>
                <a:ea typeface="Arial"/>
              </a:rPr>
              <a:t>(</a:t>
            </a:r>
            <a:r>
              <a:rPr b="1" lang="en-GB" sz="1600" spc="-1" strike="noStrike">
                <a:solidFill>
                  <a:srgbClr val="3333cc"/>
                </a:solidFill>
                <a:latin typeface="Tahoma"/>
              </a:rPr>
              <a:t>OASIS- CAM , BCM , SAML, ebSOA, BPEL ………………….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8880" y="2193840"/>
            <a:ext cx="185544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eF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emplates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rganizing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rchestra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sely coupl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ebXML, W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179280" y="1125360"/>
            <a:ext cx="1365480" cy="1024200"/>
          </a:xfrm>
          <a:prstGeom prst="rect">
            <a:avLst/>
          </a:prstGeom>
          <a:ln w="0">
            <a:noFill/>
          </a:ln>
        </p:spPr>
      </p:pic>
      <p:grpSp>
        <p:nvGrpSpPr>
          <p:cNvPr id="313" name=""/>
          <p:cNvGrpSpPr/>
          <p:nvPr/>
        </p:nvGrpSpPr>
        <p:grpSpPr>
          <a:xfrm>
            <a:off x="611280" y="4365720"/>
            <a:ext cx="1047240" cy="923760"/>
            <a:chOff x="611280" y="4365720"/>
            <a:chExt cx="1047240" cy="923760"/>
          </a:xfrm>
        </p:grpSpPr>
        <p:grpSp>
          <p:nvGrpSpPr>
            <p:cNvPr id="314" name=""/>
            <p:cNvGrpSpPr/>
            <p:nvPr/>
          </p:nvGrpSpPr>
          <p:grpSpPr>
            <a:xfrm>
              <a:off x="612720" y="4903920"/>
              <a:ext cx="1041120" cy="385560"/>
              <a:chOff x="612720" y="4903920"/>
              <a:chExt cx="1041120" cy="385560"/>
            </a:xfrm>
          </p:grpSpPr>
          <p:sp>
            <p:nvSpPr>
              <p:cNvPr id="315" name=""/>
              <p:cNvSpPr/>
              <p:nvPr/>
            </p:nvSpPr>
            <p:spPr>
              <a:xfrm>
                <a:off x="612720" y="4903920"/>
                <a:ext cx="1041120" cy="385560"/>
              </a:xfrm>
              <a:prstGeom prst="parallelogram">
                <a:avLst>
                  <a:gd name="adj" fmla="val 11456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79320" y="4935600"/>
                <a:ext cx="872280" cy="320400"/>
              </a:xfrm>
              <a:prstGeom prst="parallelogram">
                <a:avLst>
                  <a:gd name="adj" fmla="val 114092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12440" y="5161320"/>
                <a:ext cx="570240" cy="64800"/>
              </a:xfrm>
              <a:prstGeom prst="parallelogram">
                <a:avLst>
                  <a:gd name="adj" fmla="val 11802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80560" y="5032080"/>
                <a:ext cx="536760" cy="64440"/>
              </a:xfrm>
              <a:prstGeom prst="parallelogram">
                <a:avLst>
                  <a:gd name="adj" fmla="val 11171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981720" y="4935600"/>
                <a:ext cx="571680" cy="64440"/>
              </a:xfrm>
              <a:prstGeom prst="parallelogram">
                <a:avLst>
                  <a:gd name="adj" fmla="val 11898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11280" y="4772160"/>
              <a:ext cx="1044360" cy="387360"/>
              <a:chOff x="611280" y="4772160"/>
              <a:chExt cx="1044360" cy="387360"/>
            </a:xfrm>
          </p:grpSpPr>
          <p:sp>
            <p:nvSpPr>
              <p:cNvPr id="321" name=""/>
              <p:cNvSpPr/>
              <p:nvPr/>
            </p:nvSpPr>
            <p:spPr>
              <a:xfrm>
                <a:off x="611280" y="4772160"/>
                <a:ext cx="1044360" cy="387360"/>
              </a:xfrm>
              <a:prstGeom prst="parallelogram">
                <a:avLst>
                  <a:gd name="adj" fmla="val 11438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7520" y="4803840"/>
                <a:ext cx="876240" cy="323640"/>
              </a:xfrm>
              <a:prstGeom prst="parallelogram">
                <a:avLst>
                  <a:gd name="adj" fmla="val 113462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2440" y="5029560"/>
                <a:ext cx="572040" cy="64800"/>
              </a:xfrm>
              <a:prstGeom prst="parallelogram">
                <a:avLst>
                  <a:gd name="adj" fmla="val 11839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80560" y="4901760"/>
                <a:ext cx="538560" cy="64800"/>
              </a:xfrm>
              <a:prstGeom prst="parallelogram">
                <a:avLst>
                  <a:gd name="adj" fmla="val 11146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982080" y="4803840"/>
                <a:ext cx="573480" cy="64440"/>
              </a:xfrm>
              <a:prstGeom prst="parallelogram">
                <a:avLst>
                  <a:gd name="adj" fmla="val 11936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12720" y="4610160"/>
              <a:ext cx="1042560" cy="385560"/>
              <a:chOff x="612720" y="4610160"/>
              <a:chExt cx="1042560" cy="385560"/>
            </a:xfrm>
          </p:grpSpPr>
          <p:sp>
            <p:nvSpPr>
              <p:cNvPr id="327" name=""/>
              <p:cNvSpPr/>
              <p:nvPr/>
            </p:nvSpPr>
            <p:spPr>
              <a:xfrm>
                <a:off x="612720" y="4610160"/>
                <a:ext cx="1042560" cy="385560"/>
              </a:xfrm>
              <a:prstGeom prst="parallelogram">
                <a:avLst>
                  <a:gd name="adj" fmla="val 11472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9320" y="4641480"/>
                <a:ext cx="874080" cy="320400"/>
              </a:xfrm>
              <a:prstGeom prst="parallelogram">
                <a:avLst>
                  <a:gd name="adj" fmla="val 114327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2440" y="4867200"/>
                <a:ext cx="571680" cy="64800"/>
              </a:xfrm>
              <a:prstGeom prst="parallelogram">
                <a:avLst>
                  <a:gd name="adj" fmla="val 11832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82000" y="4739400"/>
                <a:ext cx="538200" cy="64800"/>
              </a:xfrm>
              <a:prstGeom prst="parallelogram">
                <a:avLst>
                  <a:gd name="adj" fmla="val 11139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81720" y="4641480"/>
                <a:ext cx="571680" cy="64800"/>
              </a:xfrm>
              <a:prstGeom prst="parallelogram">
                <a:avLst>
                  <a:gd name="adj" fmla="val 11832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12720" y="4487760"/>
              <a:ext cx="1045800" cy="384120"/>
              <a:chOff x="612720" y="4487760"/>
              <a:chExt cx="1045800" cy="384120"/>
            </a:xfrm>
          </p:grpSpPr>
          <p:sp>
            <p:nvSpPr>
              <p:cNvPr id="333" name=""/>
              <p:cNvSpPr/>
              <p:nvPr/>
            </p:nvSpPr>
            <p:spPr>
              <a:xfrm>
                <a:off x="612720" y="4487760"/>
                <a:ext cx="1045800" cy="384120"/>
              </a:xfrm>
              <a:prstGeom prst="parallelogram">
                <a:avLst>
                  <a:gd name="adj" fmla="val 11550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9320" y="4519080"/>
                <a:ext cx="877320" cy="320400"/>
              </a:xfrm>
              <a:prstGeom prst="parallelogram">
                <a:avLst>
                  <a:gd name="adj" fmla="val 114751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14240" y="4743360"/>
                <a:ext cx="573120" cy="64800"/>
              </a:xfrm>
              <a:prstGeom prst="parallelogram">
                <a:avLst>
                  <a:gd name="adj" fmla="val 11862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82000" y="4615560"/>
                <a:ext cx="540000" cy="64800"/>
              </a:xfrm>
              <a:prstGeom prst="parallelogram">
                <a:avLst>
                  <a:gd name="adj" fmla="val 11176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983160" y="4519080"/>
                <a:ext cx="573480" cy="64800"/>
              </a:xfrm>
              <a:prstGeom prst="parallelogram">
                <a:avLst>
                  <a:gd name="adj" fmla="val 11869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12720" y="4365720"/>
              <a:ext cx="1044000" cy="382320"/>
              <a:chOff x="612720" y="4365720"/>
              <a:chExt cx="1044000" cy="382320"/>
            </a:xfrm>
          </p:grpSpPr>
          <p:sp>
            <p:nvSpPr>
              <p:cNvPr id="339" name=""/>
              <p:cNvSpPr/>
              <p:nvPr/>
            </p:nvSpPr>
            <p:spPr>
              <a:xfrm>
                <a:off x="612720" y="4365720"/>
                <a:ext cx="1044000" cy="382320"/>
              </a:xfrm>
              <a:prstGeom prst="parallelogram">
                <a:avLst>
                  <a:gd name="adj" fmla="val 11585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9320" y="4397400"/>
                <a:ext cx="875520" cy="318600"/>
              </a:xfrm>
              <a:prstGeom prst="parallelogram">
                <a:avLst>
                  <a:gd name="adj" fmla="val 115162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4240" y="4619880"/>
                <a:ext cx="571680" cy="64440"/>
              </a:xfrm>
              <a:prstGeom prst="parallelogram">
                <a:avLst>
                  <a:gd name="adj" fmla="val 11898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82000" y="4493520"/>
                <a:ext cx="538200" cy="63000"/>
              </a:xfrm>
              <a:prstGeom prst="parallelogram">
                <a:avLst>
                  <a:gd name="adj" fmla="val 11457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983160" y="4397400"/>
                <a:ext cx="573480" cy="63000"/>
              </a:xfrm>
              <a:prstGeom prst="parallelogram">
                <a:avLst>
                  <a:gd name="adj" fmla="val 12208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4" name=""/>
          <p:cNvSpPr/>
          <p:nvPr/>
        </p:nvSpPr>
        <p:spPr>
          <a:xfrm>
            <a:off x="7696080" y="3429000"/>
            <a:ext cx="10670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48720" y="3505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867280" y="3276720"/>
            <a:ext cx="1905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4920" y="457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828800"/>
            <a:ext cx="69339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24480" y="120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5335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457200"/>
            <a:ext cx="9305280" cy="6481440"/>
            <a:chOff x="0" y="457200"/>
            <a:chExt cx="9305280" cy="6481440"/>
          </a:xfrm>
        </p:grpSpPr>
        <p:sp>
          <p:nvSpPr>
            <p:cNvPr id="352" name=""/>
            <p:cNvSpPr/>
            <p:nvPr/>
          </p:nvSpPr>
          <p:spPr>
            <a:xfrm>
              <a:off x="0" y="2143440"/>
              <a:ext cx="9294480" cy="42480"/>
            </a:xfrm>
            <a:prstGeom prst="line">
              <a:avLst/>
            </a:prstGeom>
            <a:ln w="475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3071520" y="1065600"/>
              <a:ext cx="690840" cy="7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816640" y="2318040"/>
              <a:ext cx="1689840" cy="1062720"/>
            </a:xfrm>
            <a:prstGeom prst="parallelogram">
              <a:avLst>
                <a:gd name="adj" fmla="val 3188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0" y="4955400"/>
              <a:ext cx="1845000" cy="218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3439080"/>
              <a:ext cx="1845000" cy="219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1922400"/>
              <a:ext cx="1845000" cy="21564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0" y="457200"/>
              <a:ext cx="1845000" cy="2127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0" y="669960"/>
              <a:ext cx="1830600" cy="0"/>
            </a:xfrm>
            <a:prstGeom prst="line">
              <a:avLst/>
            </a:prstGeom>
            <a:ln w="475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8720" y="4975920"/>
              <a:ext cx="116460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960" rIns="30960" tIns="15480" bIns="15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1000" spc="-1" strike="noStrike">
                  <a:solidFill>
                    <a:srgbClr val="006600"/>
                  </a:solidFill>
                  <a:latin typeface="Comic Sans MS"/>
                </a:rPr>
                <a:t>Conceptual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8440" y="3459600"/>
              <a:ext cx="100152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960" rIns="30960" tIns="15480" bIns="15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1000" spc="-1" strike="noStrike">
                  <a:solidFill>
                    <a:srgbClr val="006600"/>
                  </a:solidFill>
                  <a:latin typeface="Comic Sans MS"/>
                </a:rPr>
                <a:t>Business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560" y="1974960"/>
              <a:ext cx="106704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960" rIns="30960" tIns="15480" bIns="15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1000" spc="-1" strike="noStrike">
                  <a:solidFill>
                    <a:srgbClr val="006600"/>
                  </a:solidFill>
                  <a:latin typeface="Comic Sans MS"/>
                </a:rPr>
                <a:t>Extension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6120" y="461160"/>
              <a:ext cx="1490760" cy="2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960" rIns="30960" tIns="15480" bIns="15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omic Sans MS"/>
                </a:rPr>
                <a:t>Implementation</a:t>
              </a: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1" lang="en-US" sz="1000" spc="-1" strike="noStrike">
                  <a:solidFill>
                    <a:srgbClr val="008000"/>
                  </a:solidFill>
                  <a:latin typeface="Comic Sans MS"/>
                </a:rPr>
                <a:t>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09480" y="2521440"/>
              <a:ext cx="21895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entify Demo / Solution CoI’s Specific 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61160" y="2532240"/>
              <a:ext cx="9072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17800" y="2212560"/>
              <a:ext cx="24642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External Alignment: Stds, Specs &amp; Framework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02360" y="2668320"/>
              <a:ext cx="21607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seline Architecture for Business Artifacts for Std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51880" y="2676600"/>
              <a:ext cx="9072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22720" y="2374560"/>
              <a:ext cx="19184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erform Industry Survey of Leading Practice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70080" y="2388240"/>
              <a:ext cx="9108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93800" y="2813760"/>
              <a:ext cx="23634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seline Architecture for Required Technologies for St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42960" y="2820600"/>
              <a:ext cx="91080" cy="9468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6880" y="2628720"/>
              <a:ext cx="96480" cy="9612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06520" y="2772720"/>
              <a:ext cx="99720" cy="9468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97600" y="2915640"/>
              <a:ext cx="99720" cy="9576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59720" y="2521440"/>
              <a:ext cx="9748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t-based Collater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34080" y="2367720"/>
              <a:ext cx="13816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raining / Education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15280" y="2478600"/>
              <a:ext cx="98280" cy="9612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91840" y="2671200"/>
              <a:ext cx="1049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hange Mgmt Activit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06360" y="2639520"/>
              <a:ext cx="97920" cy="9468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48400" y="669960"/>
              <a:ext cx="8197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Implementation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50160" y="1098720"/>
              <a:ext cx="20509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termine Tactics: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Use Case / Scope / Tran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74040" y="537840"/>
              <a:ext cx="1490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80680" y="950040"/>
              <a:ext cx="18180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ject Mgmt: 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Cost / Schedule / Risks, etc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47360" y="1245240"/>
              <a:ext cx="20736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sign &amp; Development (Integration/Programming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67960" y="1396440"/>
              <a:ext cx="18363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quirements </a:t>
              </a:r>
              <a:r>
                <a:rPr b="0" lang="en-US" sz="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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Test Plan, Data, &amp; Test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56880" y="1543320"/>
              <a:ext cx="3988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17800" y="5217480"/>
              <a:ext cx="18306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Lower Semantic Alignmen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03360" y="5532120"/>
              <a:ext cx="1293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entify Authoritative Source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06160" y="5386680"/>
              <a:ext cx="15984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entify Business Concepts / Atomic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92360" y="4320720"/>
              <a:ext cx="13284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siness Object Identification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78040" y="5966280"/>
              <a:ext cx="13665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velop/Add to Terms Service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1280" y="5841000"/>
              <a:ext cx="10472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Pattern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88480" y="4467960"/>
              <a:ext cx="11091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cover/Define Servi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82760" y="3879720"/>
              <a:ext cx="10771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 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17480" y="4173840"/>
              <a:ext cx="11440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entify Form/Transaction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2400" y="5989680"/>
              <a:ext cx="11869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cognize Business Mo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2960" y="6003360"/>
              <a:ext cx="90720" cy="95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60280" y="3702600"/>
              <a:ext cx="19360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Business Proces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39680" y="4761360"/>
              <a:ext cx="13953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fine Workflow/Choreograph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83520" y="4614480"/>
              <a:ext cx="1104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fine Roles &amp; Security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96880" y="4028040"/>
              <a:ext cx="10191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fine Events/Trigg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415120" y="2963880"/>
              <a:ext cx="16898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velop Guidelines / Alignments - Map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35480" y="2963880"/>
              <a:ext cx="9108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2840" y="5374080"/>
              <a:ext cx="16502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scribe Scenarios &amp; Interface Type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1520" y="2186280"/>
              <a:ext cx="6336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Outreac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86600" y="5821920"/>
              <a:ext cx="11120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entify Like/Exact Ter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544960" y="6452280"/>
              <a:ext cx="124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3600"/>
                  <a:tab algn="l" pos="1987560"/>
                  <a:tab algn="l" pos="2981160"/>
                  <a:tab algn="l" pos="3975120"/>
                  <a:tab algn="l" pos="4968720"/>
                  <a:tab algn="l" pos="5962680"/>
                  <a:tab algn="l" pos="6956280"/>
                  <a:tab algn="l" pos="7950240"/>
                  <a:tab algn="l" pos="8943840"/>
                  <a:tab algn="l" pos="9937800"/>
                  <a:tab algn="l" pos="10931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9880" y="6419520"/>
              <a:ext cx="16941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terprise Architecture Fit / Compli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2960" y="6438600"/>
              <a:ext cx="90720" cy="95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13480" y="2507760"/>
              <a:ext cx="1414080" cy="829080"/>
            </a:xfrm>
            <a:prstGeom prst="parallelogram">
              <a:avLst>
                <a:gd name="adj" fmla="val 317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16640" y="3768480"/>
              <a:ext cx="1689840" cy="1130040"/>
            </a:xfrm>
            <a:prstGeom prst="parallelogram">
              <a:avLst>
                <a:gd name="adj" fmla="val 3258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>
              <a:hlinkClick r:id="rId3"/>
            </p:cNvPr>
            <p:cNvSpPr/>
            <p:nvPr/>
          </p:nvSpPr>
          <p:spPr>
            <a:xfrm>
              <a:off x="2816640" y="5482440"/>
              <a:ext cx="1689840" cy="1150920"/>
            </a:xfrm>
            <a:prstGeom prst="parallelogram">
              <a:avLst>
                <a:gd name="adj" fmla="val 31996"/>
              </a:avLst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8100000"/>
            </a:gradFill>
            <a:ln w="9360">
              <a:solidFill>
                <a:srgbClr val="cc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16640" y="5218920"/>
              <a:ext cx="1689840" cy="1128600"/>
            </a:xfrm>
            <a:prstGeom prst="parallelogram">
              <a:avLst>
                <a:gd name="adj" fmla="val 326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09840" y="6011280"/>
              <a:ext cx="58500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36160" y="5784840"/>
              <a:ext cx="58500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98520" y="5394600"/>
              <a:ext cx="52236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83960" y="3809520"/>
              <a:ext cx="1551600" cy="1013760"/>
            </a:xfrm>
            <a:prstGeom prst="parallelogram">
              <a:avLst>
                <a:gd name="adj" fmla="val 32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9" name="" descr=""/>
            <p:cNvPicPr/>
            <p:nvPr/>
          </p:nvPicPr>
          <p:blipFill>
            <a:blip r:embed="rId4"/>
            <a:stretch/>
          </p:blipFill>
          <p:spPr>
            <a:xfrm>
              <a:off x="3591000" y="3966480"/>
              <a:ext cx="351720" cy="2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3855240" y="4007520"/>
              <a:ext cx="53460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Publis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15000" y="4404600"/>
              <a:ext cx="57420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2" name="" descr=""/>
            <p:cNvPicPr/>
            <p:nvPr/>
          </p:nvPicPr>
          <p:blipFill>
            <a:blip r:embed="rId5"/>
            <a:stretch/>
          </p:blipFill>
          <p:spPr>
            <a:xfrm>
              <a:off x="3872880" y="4405680"/>
              <a:ext cx="210960" cy="13140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423" name=""/>
            <p:cNvSpPr/>
            <p:nvPr/>
          </p:nvSpPr>
          <p:spPr>
            <a:xfrm>
              <a:off x="3800160" y="4227480"/>
              <a:ext cx="54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4" name="" descr=""/>
            <p:cNvPicPr/>
            <p:nvPr/>
          </p:nvPicPr>
          <p:blipFill>
            <a:blip r:embed="rId6"/>
            <a:stretch/>
          </p:blipFill>
          <p:spPr>
            <a:xfrm>
              <a:off x="3027600" y="4559760"/>
              <a:ext cx="735840" cy="185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e574e"/>
              </a:outerShdw>
            </a:effectLst>
          </p:spPr>
        </p:pic>
        <p:sp>
          <p:nvSpPr>
            <p:cNvPr id="425" name=""/>
            <p:cNvSpPr/>
            <p:nvPr/>
          </p:nvSpPr>
          <p:spPr>
            <a:xfrm flipH="1">
              <a:off x="3591000" y="4230000"/>
              <a:ext cx="21096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28600" y="4271400"/>
              <a:ext cx="7020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112200" y="2871360"/>
              <a:ext cx="95400" cy="34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12560" y="3213360"/>
              <a:ext cx="89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03640" y="2870280"/>
              <a:ext cx="687600" cy="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38920" y="1263240"/>
              <a:ext cx="844920" cy="658800"/>
            </a:xfrm>
            <a:prstGeom prst="can">
              <a:avLst>
                <a:gd name="adj" fmla="val 18958"/>
              </a:avLst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10800000"/>
            </a:gra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872880" y="1131480"/>
              <a:ext cx="562680" cy="702720"/>
              <a:chOff x="3872880" y="1131480"/>
              <a:chExt cx="562680" cy="702720"/>
            </a:xfrm>
          </p:grpSpPr>
          <p:sp>
            <p:nvSpPr>
              <p:cNvPr id="432" name=""/>
              <p:cNvSpPr/>
              <p:nvPr/>
            </p:nvSpPr>
            <p:spPr>
              <a:xfrm>
                <a:off x="3872880" y="1131480"/>
                <a:ext cx="562680" cy="702720"/>
              </a:xfrm>
              <a:prstGeom prst="foldedCorner">
                <a:avLst>
                  <a:gd name="adj" fmla="val 3072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985560" y="1365480"/>
                <a:ext cx="2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985560" y="1248120"/>
                <a:ext cx="0" cy="4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985560" y="1599480"/>
                <a:ext cx="2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97880" y="1365480"/>
                <a:ext cx="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097880" y="1482840"/>
                <a:ext cx="22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97880" y="1599480"/>
                <a:ext cx="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097880" y="171684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3661560" y="4691520"/>
              <a:ext cx="0" cy="914760"/>
            </a:xfrm>
            <a:prstGeom prst="line">
              <a:avLst/>
            </a:prstGeom>
            <a:ln w="93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3452400" y="2911320"/>
              <a:ext cx="208440" cy="1450440"/>
            </a:xfrm>
            <a:prstGeom prst="line">
              <a:avLst/>
            </a:prstGeom>
            <a:ln w="93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09120" y="3241080"/>
              <a:ext cx="140760" cy="1186560"/>
            </a:xfrm>
            <a:prstGeom prst="line">
              <a:avLst/>
            </a:prstGeom>
            <a:ln w="93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723120" y="1790640"/>
              <a:ext cx="7200" cy="1085040"/>
            </a:xfrm>
            <a:prstGeom prst="line">
              <a:avLst/>
            </a:prstGeom>
            <a:ln w="93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4" name="" descr=""/>
            <p:cNvPicPr/>
            <p:nvPr/>
          </p:nvPicPr>
          <p:blipFill>
            <a:blip r:embed="rId7"/>
            <a:stretch/>
          </p:blipFill>
          <p:spPr>
            <a:xfrm>
              <a:off x="3379680" y="5455080"/>
              <a:ext cx="75096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206880" y="2985480"/>
              <a:ext cx="47088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12680" y="2856600"/>
              <a:ext cx="43704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66880" y="4922280"/>
              <a:ext cx="5407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i="1" lang="en-US" sz="800" spc="-1" strike="noStrike">
                  <a:solidFill>
                    <a:srgbClr val="cc0000"/>
                  </a:solidFill>
                  <a:latin typeface="Arial"/>
                </a:rPr>
                <a:t>Part of</a:t>
              </a:r>
              <a:r>
                <a:rPr b="0" i="1" lang="en-US" sz="1100" spc="-1" strike="noStrike">
                  <a:solidFill>
                    <a:srgbClr val="ff505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58960" y="3439080"/>
              <a:ext cx="40968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i="1" lang="en-US" sz="800" spc="-1" strike="noStrike">
                  <a:solidFill>
                    <a:srgbClr val="cc0000"/>
                  </a:solidFill>
                  <a:latin typeface="Arial"/>
                </a:rPr>
                <a:t>Is A</a:t>
              </a:r>
              <a:r>
                <a:rPr b="0" i="1" lang="en-US" sz="9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27600" y="6406920"/>
              <a:ext cx="98568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i="1" lang="en-US" sz="900" spc="-1" strike="noStrike">
                  <a:solidFill>
                    <a:srgbClr val="cc0000"/>
                  </a:solidFill>
                  <a:latin typeface="Arial"/>
                </a:rPr>
                <a:t>Terms 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47760" y="6059520"/>
              <a:ext cx="628920" cy="543960"/>
            </a:xfrm>
            <a:prstGeom prst="can">
              <a:avLst>
                <a:gd name="adj" fmla="val 16412"/>
              </a:avLst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10800000"/>
            </a:gra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53680" y="3139200"/>
              <a:ext cx="172800" cy="140040"/>
            </a:xfrm>
            <a:prstGeom prst="parallelogram">
              <a:avLst>
                <a:gd name="adj" fmla="val 3241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35760" y="2809800"/>
              <a:ext cx="172800" cy="140040"/>
            </a:xfrm>
            <a:prstGeom prst="parallelogram">
              <a:avLst>
                <a:gd name="adj" fmla="val 3241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17280" y="2809800"/>
              <a:ext cx="173160" cy="140040"/>
            </a:xfrm>
            <a:prstGeom prst="parallelogram">
              <a:avLst>
                <a:gd name="adj" fmla="val 3248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46160" y="3139200"/>
              <a:ext cx="173160" cy="140040"/>
            </a:xfrm>
            <a:prstGeom prst="parallelogram">
              <a:avLst>
                <a:gd name="adj" fmla="val 3248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42960" y="1692000"/>
              <a:ext cx="172800" cy="139680"/>
            </a:xfrm>
            <a:prstGeom prst="parallelogram">
              <a:avLst>
                <a:gd name="adj" fmla="val 3250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20440" y="1461240"/>
              <a:ext cx="173160" cy="139680"/>
            </a:xfrm>
            <a:prstGeom prst="parallelogram">
              <a:avLst>
                <a:gd name="adj" fmla="val 3257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61560" y="1658880"/>
              <a:ext cx="172800" cy="139680"/>
            </a:xfrm>
            <a:prstGeom prst="parallelogram">
              <a:avLst>
                <a:gd name="adj" fmla="val 3250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08160" y="1186560"/>
              <a:ext cx="172800" cy="140040"/>
            </a:xfrm>
            <a:prstGeom prst="parallelogram">
              <a:avLst>
                <a:gd name="adj" fmla="val 3241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49560" y="6125400"/>
              <a:ext cx="567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buClr>
                  <a:srgbClr val="cc0000"/>
                </a:buClr>
                <a:buFont typeface="Arial"/>
                <a:buChar char="•"/>
                <a:tabLst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i="1" lang="en-US" sz="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i="1" lang="en-US" sz="800" spc="-1" strike="noStrike">
                  <a:solidFill>
                    <a:srgbClr val="cc0000"/>
                  </a:solidFill>
                  <a:latin typeface="Arial"/>
                </a:rPr>
                <a:t>Conce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0000"/>
                </a:buClr>
                <a:buFont typeface="Arial"/>
                <a:buChar char="•"/>
                <a:tabLst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i="1" lang="en-US" sz="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i="1" lang="en-US" sz="800" spc="-1" strike="noStrike">
                  <a:solidFill>
                    <a:srgbClr val="cc0000"/>
                  </a:solidFill>
                  <a:latin typeface="Arial"/>
                </a:rPr>
                <a:t>SKO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0000"/>
                </a:buClr>
                <a:buFont typeface="Arial"/>
                <a:buChar char="•"/>
                <a:tabLst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i="1" lang="en-US" sz="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i="1" lang="en-US" sz="800" spc="-1" strike="noStrike">
                  <a:solidFill>
                    <a:srgbClr val="cc0000"/>
                  </a:solidFill>
                  <a:latin typeface="Arial"/>
                </a:rPr>
                <a:t>OW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83840" y="5878080"/>
              <a:ext cx="83160" cy="214200"/>
            </a:xfrm>
            <a:prstGeom prst="line">
              <a:avLst/>
            </a:prstGeom>
            <a:ln w="2232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95280" y="2502000"/>
              <a:ext cx="126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i="1" lang="en-US" sz="800" spc="-1" strike="noStrike">
                  <a:solidFill>
                    <a:srgbClr val="cc0000"/>
                  </a:solidFill>
                  <a:latin typeface="Arial"/>
                </a:rPr>
                <a:t>Stds, Specifica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i="1" lang="en-US" sz="800" spc="-1" strike="noStrike">
                  <a:solidFill>
                    <a:srgbClr val="cc0000"/>
                  </a:solidFill>
                  <a:latin typeface="Arial"/>
                </a:rPr>
                <a:t>and Frameworks</a:t>
              </a:r>
              <a:r>
                <a:rPr b="1" i="1" lang="en-US" sz="7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65600" y="999720"/>
              <a:ext cx="774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800" spc="-1" strike="noStrike">
                  <a:solidFill>
                    <a:srgbClr val="cc0000"/>
                  </a:solidFill>
                  <a:latin typeface="Arial"/>
                </a:rPr>
                <a:t>Transaction</a:t>
              </a:r>
              <a:r>
                <a:rPr b="1" i="1" lang="en-US" sz="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38920" y="1241280"/>
              <a:ext cx="774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Ba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2360" y="3007800"/>
              <a:ext cx="14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83400" y="2941560"/>
              <a:ext cx="173160" cy="140040"/>
            </a:xfrm>
            <a:prstGeom prst="parallelogram">
              <a:avLst>
                <a:gd name="adj" fmla="val 3248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39920" y="2876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1040" y="2346840"/>
              <a:ext cx="19378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entify Community of Interest (CoI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3040" y="2494080"/>
              <a:ext cx="9975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hannel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28880" y="1978920"/>
              <a:ext cx="9169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i="1" lang="en-US" sz="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i="1" lang="en-US" sz="800" spc="-1" strike="noStrike">
                  <a:solidFill>
                    <a:srgbClr val="cc0000"/>
                  </a:solidFill>
                  <a:latin typeface="Arial"/>
                </a:rPr>
                <a:t>Condition (Rule)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68360" y="2318040"/>
              <a:ext cx="11966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i="1" lang="en-US" sz="800" spc="-1" strike="noStrike">
                  <a:solidFill>
                    <a:srgbClr val="cc0000"/>
                  </a:solidFill>
                  <a:latin typeface="Arial"/>
                </a:rPr>
                <a:t>Alignment - Ma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9160" y="4014360"/>
              <a:ext cx="16927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entify Stakehold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3360" y="3702600"/>
              <a:ext cx="12776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Business Case Analys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73360" y="4452480"/>
              <a:ext cx="12661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easibility, Risk, Cost Benef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062360" y="4743720"/>
              <a:ext cx="18118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termine Scope: In Scope / Out of Scop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48960" y="4597920"/>
              <a:ext cx="16074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st Success Metrics Per Stakehold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6240" y="3867480"/>
              <a:ext cx="88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sion Statement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7520" y="4160160"/>
              <a:ext cx="18291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inpoint Challenges / Issu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29760" y="1131480"/>
              <a:ext cx="84492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entify Initiative Champion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71720" y="1149480"/>
              <a:ext cx="97920" cy="95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0" name="" descr=""/>
            <p:cNvPicPr/>
            <p:nvPr/>
          </p:nvPicPr>
          <p:blipFill>
            <a:blip r:embed="rId8"/>
            <a:stretch/>
          </p:blipFill>
          <p:spPr>
            <a:xfrm rot="187800">
              <a:off x="140400" y="801720"/>
              <a:ext cx="689400" cy="10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950760" y="694800"/>
              <a:ext cx="11260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Solution Envision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94120" y="1152000"/>
              <a:ext cx="492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53000" y="1154880"/>
              <a:ext cx="9828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94480" y="1010520"/>
              <a:ext cx="6426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llabo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53000" y="1011960"/>
              <a:ext cx="91080" cy="9468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94120" y="1577520"/>
              <a:ext cx="4629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53000" y="1298880"/>
              <a:ext cx="9108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93760" y="1436400"/>
              <a:ext cx="2862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53000" y="1443240"/>
              <a:ext cx="9108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95560" y="867960"/>
              <a:ext cx="9324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lf-Synchroniz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53000" y="867960"/>
              <a:ext cx="91080" cy="95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53000" y="1589040"/>
              <a:ext cx="91080" cy="9468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94120" y="1296360"/>
              <a:ext cx="492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taLin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53000" y="1735920"/>
              <a:ext cx="91080" cy="9468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93040" y="1726200"/>
              <a:ext cx="4140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ublis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591000" y="5246280"/>
              <a:ext cx="63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i="1" lang="en-US" sz="800" spc="-1" strike="noStrike">
                  <a:solidFill>
                    <a:srgbClr val="cc0000"/>
                  </a:solidFill>
                  <a:latin typeface="Arial"/>
                </a:rPr>
                <a:t>Ontolo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96440" y="3809520"/>
              <a:ext cx="11498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i="1" lang="en-US" sz="800" spc="-1" strike="noStrike">
                  <a:solidFill>
                    <a:srgbClr val="cc0000"/>
                  </a:solidFill>
                  <a:latin typeface="Arial"/>
                </a:rPr>
                <a:t>Business Objec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41080" y="6341040"/>
              <a:ext cx="1231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27600" y="933480"/>
              <a:ext cx="774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800" spc="-1" strike="noStrike">
                  <a:solidFill>
                    <a:srgbClr val="cc0000"/>
                  </a:solidFill>
                  <a:latin typeface="Arial"/>
                </a:rPr>
                <a:t>Form</a:t>
              </a:r>
              <a:r>
                <a:rPr b="1" i="1" lang="en-US" sz="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1680" y="6132240"/>
              <a:ext cx="8589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velop Playbook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2960" y="6145920"/>
              <a:ext cx="9072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29760" y="1396440"/>
              <a:ext cx="84492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has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monstration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71720" y="1413000"/>
              <a:ext cx="9792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72520" y="2386800"/>
              <a:ext cx="9108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565040" y="2539080"/>
              <a:ext cx="9072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47120" y="2684880"/>
              <a:ext cx="90720" cy="95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60680" y="2964960"/>
              <a:ext cx="8532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rochures - Pres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820280" y="2830320"/>
              <a:ext cx="11923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llaboration - Collec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6200" y="2927880"/>
              <a:ext cx="98280" cy="9612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033400" y="3105000"/>
              <a:ext cx="7160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cument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757280" y="3074760"/>
              <a:ext cx="97920" cy="9468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24880" y="2832120"/>
              <a:ext cx="90720" cy="95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12720" y="2977560"/>
              <a:ext cx="9108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91920" y="3124440"/>
              <a:ext cx="9108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82680" y="2787840"/>
              <a:ext cx="97920" cy="9468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22760" y="2212560"/>
              <a:ext cx="11264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Communic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6960" y="5521320"/>
              <a:ext cx="12538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velop Concept Operation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3840" y="6276600"/>
              <a:ext cx="1284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seline Capability Inventory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2960" y="6291720"/>
              <a:ext cx="90720" cy="95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94800" y="5676120"/>
              <a:ext cx="7556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fine Concep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70560" y="6111720"/>
              <a:ext cx="13179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dd/Converge/Link Ontolog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64880" y="6256080"/>
              <a:ext cx="9324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ify/List Concep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4788000" y="5401440"/>
              <a:ext cx="724320" cy="973440"/>
              <a:chOff x="4788000" y="5401440"/>
              <a:chExt cx="724320" cy="973440"/>
            </a:xfrm>
          </p:grpSpPr>
          <p:sp>
            <p:nvSpPr>
              <p:cNvPr id="524" name=""/>
              <p:cNvSpPr/>
              <p:nvPr/>
            </p:nvSpPr>
            <p:spPr>
              <a:xfrm>
                <a:off x="5069520" y="5943600"/>
                <a:ext cx="9972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175360" y="6081120"/>
                <a:ext cx="9936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263200" y="6221160"/>
                <a:ext cx="99720" cy="9576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950720" y="5545440"/>
                <a:ext cx="90720" cy="943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879080" y="5640120"/>
                <a:ext cx="10080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879080" y="5640120"/>
                <a:ext cx="10080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858200" y="5401440"/>
                <a:ext cx="9072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88000" y="5497560"/>
                <a:ext cx="98280" cy="943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132880" y="5837760"/>
                <a:ext cx="9072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969800" y="5784480"/>
                <a:ext cx="9972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038560" y="5689800"/>
                <a:ext cx="9108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230800" y="5985000"/>
                <a:ext cx="9072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321520" y="6130800"/>
                <a:ext cx="91080" cy="9576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1240" y="6278760"/>
                <a:ext cx="9108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4788000" y="3900240"/>
              <a:ext cx="724320" cy="973440"/>
              <a:chOff x="4788000" y="3900240"/>
              <a:chExt cx="724320" cy="973440"/>
            </a:xfrm>
          </p:grpSpPr>
          <p:sp>
            <p:nvSpPr>
              <p:cNvPr id="539" name=""/>
              <p:cNvSpPr/>
              <p:nvPr/>
            </p:nvSpPr>
            <p:spPr>
              <a:xfrm>
                <a:off x="5069520" y="4442400"/>
                <a:ext cx="9972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75360" y="4579920"/>
                <a:ext cx="9936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263200" y="4719960"/>
                <a:ext cx="99720" cy="9576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950720" y="4044240"/>
                <a:ext cx="90720" cy="943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879080" y="4138920"/>
                <a:ext cx="10080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79080" y="4138920"/>
                <a:ext cx="10080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858200" y="3900240"/>
                <a:ext cx="9072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88000" y="3996360"/>
                <a:ext cx="98280" cy="943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132880" y="4336560"/>
                <a:ext cx="9072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969800" y="4283280"/>
                <a:ext cx="9972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038560" y="4188600"/>
                <a:ext cx="9108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230800" y="4483800"/>
                <a:ext cx="9072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321520" y="4629600"/>
                <a:ext cx="91080" cy="9576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1240" y="4777560"/>
                <a:ext cx="9108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7473960" y="4317840"/>
              <a:ext cx="14612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fine Slice &amp; Dice (Filter) Tactic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72600" y="4463280"/>
              <a:ext cx="8956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shboard Load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258320" y="4024080"/>
              <a:ext cx="1346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entify Facets (Classification)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167600" y="3876840"/>
              <a:ext cx="15890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fine Value-chain Visibility Strategy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00480" y="3702600"/>
              <a:ext cx="19364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Business Intelligence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68720" y="4611960"/>
              <a:ext cx="1284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shboard Setup &amp; Security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375320" y="4170960"/>
              <a:ext cx="16729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clude Facet in Navigation Framework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52560" y="4442760"/>
              <a:ext cx="99720" cy="9612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58040" y="4580280"/>
              <a:ext cx="99720" cy="9612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33400" y="4044600"/>
              <a:ext cx="91080" cy="9468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61760" y="4139640"/>
              <a:ext cx="101160" cy="9576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61760" y="4139640"/>
              <a:ext cx="101160" cy="9576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41240" y="3900240"/>
              <a:ext cx="9072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71040" y="3996360"/>
              <a:ext cx="97920" cy="9468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15560" y="4337280"/>
              <a:ext cx="91080" cy="95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52840" y="4283640"/>
              <a:ext cx="99720" cy="9576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21600" y="4188600"/>
              <a:ext cx="9072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13840" y="4484160"/>
              <a:ext cx="9072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04920" y="4629600"/>
              <a:ext cx="9108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6200000">
              <a:off x="832680" y="791280"/>
              <a:ext cx="23076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4788000" y="826560"/>
              <a:ext cx="724320" cy="973440"/>
              <a:chOff x="4788000" y="826560"/>
              <a:chExt cx="724320" cy="973440"/>
            </a:xfrm>
          </p:grpSpPr>
          <p:sp>
            <p:nvSpPr>
              <p:cNvPr id="574" name=""/>
              <p:cNvSpPr/>
              <p:nvPr/>
            </p:nvSpPr>
            <p:spPr>
              <a:xfrm>
                <a:off x="5069520" y="1368720"/>
                <a:ext cx="9972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175360" y="1506240"/>
                <a:ext cx="9936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63200" y="1646280"/>
                <a:ext cx="99720" cy="9576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950720" y="970560"/>
                <a:ext cx="90720" cy="943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879080" y="1065240"/>
                <a:ext cx="10080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879080" y="1065240"/>
                <a:ext cx="10080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858200" y="826560"/>
                <a:ext cx="9072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788000" y="922680"/>
                <a:ext cx="98280" cy="943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32880" y="1262880"/>
                <a:ext cx="9072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69800" y="1209600"/>
                <a:ext cx="9972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038560" y="1114920"/>
                <a:ext cx="9108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230800" y="1410120"/>
                <a:ext cx="9072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321520" y="1555920"/>
                <a:ext cx="91080" cy="9576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1240" y="1703880"/>
                <a:ext cx="9108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7041240" y="669960"/>
              <a:ext cx="18306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Semantic Alignmen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40480" y="944640"/>
              <a:ext cx="14688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entify Event </a:t>
              </a: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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Condition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(Rule)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08240" y="1252080"/>
              <a:ext cx="14533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ttribute; Mandatory vs. Optional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39840" y="1094400"/>
              <a:ext cx="133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ppendix B:  Terms Alignmen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48280" y="1396440"/>
              <a:ext cx="10252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list Sub/Superse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937280" y="1690560"/>
              <a:ext cx="12661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hysical – Content Assemb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7129080" y="834840"/>
              <a:ext cx="724320" cy="973080"/>
              <a:chOff x="7129080" y="834840"/>
              <a:chExt cx="724320" cy="973080"/>
            </a:xfrm>
          </p:grpSpPr>
          <p:sp>
            <p:nvSpPr>
              <p:cNvPr id="595" name=""/>
              <p:cNvSpPr/>
              <p:nvPr/>
            </p:nvSpPr>
            <p:spPr>
              <a:xfrm>
                <a:off x="7410600" y="1377000"/>
                <a:ext cx="9972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16440" y="1514160"/>
                <a:ext cx="9936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04280" y="1654200"/>
                <a:ext cx="99720" cy="9576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291800" y="978840"/>
                <a:ext cx="90720" cy="943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20160" y="1073520"/>
                <a:ext cx="10080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20160" y="1073520"/>
                <a:ext cx="10080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199280" y="834840"/>
                <a:ext cx="9072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129080" y="930960"/>
                <a:ext cx="98280" cy="943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473960" y="1271160"/>
                <a:ext cx="9072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310880" y="1217520"/>
                <a:ext cx="9972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379640" y="1122840"/>
                <a:ext cx="9108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571880" y="1418040"/>
                <a:ext cx="9072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662600" y="1563840"/>
                <a:ext cx="91080" cy="9576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762320" y="1711800"/>
                <a:ext cx="9108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5573160" y="1692000"/>
              <a:ext cx="4903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raining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09040" y="801720"/>
              <a:ext cx="17568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morandum of Understanding  (CPP/A)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14640" y="2483280"/>
              <a:ext cx="96480" cy="9576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90800" y="817200"/>
              <a:ext cx="15631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ppendix A:  Interface Specification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06800" y="884520"/>
              <a:ext cx="19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03360" y="1510560"/>
              <a:ext cx="1501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(Publish/Subscribe, etc)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3600" y="2642400"/>
              <a:ext cx="21121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velop/Join COP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(wiki, etc.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33800" y="2517480"/>
              <a:ext cx="91080" cy="95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5240" y="2661480"/>
              <a:ext cx="90720" cy="95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3080" y="2373120"/>
              <a:ext cx="90720" cy="95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9880" y="2613240"/>
              <a:ext cx="96480" cy="9612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280" y="2467800"/>
              <a:ext cx="96480" cy="9612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4120" y="5529240"/>
              <a:ext cx="9108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3400" y="5384880"/>
              <a:ext cx="9072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7240" y="5479920"/>
              <a:ext cx="96480" cy="9576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281520" y="3900240"/>
              <a:ext cx="724320" cy="973440"/>
              <a:chOff x="281520" y="3900240"/>
              <a:chExt cx="724320" cy="973440"/>
            </a:xfrm>
          </p:grpSpPr>
          <p:sp>
            <p:nvSpPr>
              <p:cNvPr id="625" name=""/>
              <p:cNvSpPr/>
              <p:nvPr/>
            </p:nvSpPr>
            <p:spPr>
              <a:xfrm>
                <a:off x="563040" y="4442400"/>
                <a:ext cx="9972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68520" y="4579920"/>
                <a:ext cx="9936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56360" y="4719960"/>
                <a:ext cx="99720" cy="9576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44240" y="4044240"/>
                <a:ext cx="90720" cy="943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72600" y="4138920"/>
                <a:ext cx="10080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72600" y="4138920"/>
                <a:ext cx="10080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51720" y="3900240"/>
                <a:ext cx="9072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81520" y="3996360"/>
                <a:ext cx="98280" cy="943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6040" y="4336560"/>
                <a:ext cx="9072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63320" y="4283280"/>
                <a:ext cx="99720" cy="9612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56" y="0"/>
                    </a:moveTo>
                    <a:cubicBezTo>
                      <a:pt x="28" y="16"/>
                      <a:pt x="0" y="32"/>
                      <a:pt x="8" y="48"/>
                    </a:cubicBezTo>
                    <a:cubicBezTo>
                      <a:pt x="16" y="64"/>
                      <a:pt x="60" y="80"/>
                      <a:pt x="104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32080" y="4188600"/>
                <a:ext cx="9108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23960" y="4483800"/>
                <a:ext cx="9072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15040" y="4629600"/>
                <a:ext cx="91080" cy="9576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914760" y="4777560"/>
                <a:ext cx="91080" cy="9612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772920" y="4305600"/>
              <a:ext cx="18291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sumptions </a:t>
              </a:r>
              <a:r>
                <a:rPr b="0" lang="en-US" sz="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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sertion Evaluation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63280" y="6382440"/>
              <a:ext cx="99720" cy="9576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09800" y="6430320"/>
              <a:ext cx="9072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43360" y="6406920"/>
              <a:ext cx="15404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termine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(Meta)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Link Opportunit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48640" y="4758840"/>
              <a:ext cx="11930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xceptions &amp; Notifications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40120" y="4730040"/>
              <a:ext cx="99720" cy="9576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87000" y="4779720"/>
              <a:ext cx="90720" cy="95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67600" y="1808640"/>
              <a:ext cx="99720" cy="9612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05480" y="1856880"/>
              <a:ext cx="90720" cy="95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48040" y="1840320"/>
              <a:ext cx="12812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eedback – Lessons Learn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0040" y="2787840"/>
              <a:ext cx="16743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raft Initiative Brochure Per Commun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9200" y="2802960"/>
              <a:ext cx="9072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9080" y="5681880"/>
              <a:ext cx="91080" cy="95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0200" y="5624280"/>
              <a:ext cx="96480" cy="9576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6880" y="5668200"/>
              <a:ext cx="11610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rvice Operation Suppor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87560" y="5217480"/>
              <a:ext cx="10472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Story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5400" y="2933640"/>
              <a:ext cx="13554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rive Community 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0920" y="2952720"/>
              <a:ext cx="91080" cy="95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6280" y="2904480"/>
              <a:ext cx="96480" cy="9612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56" y="0"/>
                  </a:moveTo>
                  <a:cubicBezTo>
                    <a:pt x="28" y="16"/>
                    <a:pt x="0" y="32"/>
                    <a:pt x="8" y="48"/>
                  </a:cubicBezTo>
                  <a:cubicBezTo>
                    <a:pt x="16" y="64"/>
                    <a:pt x="60" y="80"/>
                    <a:pt x="10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29760" y="1658880"/>
              <a:ext cx="91548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ow do you know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09600"/>
                  <a:tab algn="l" pos="619200"/>
                  <a:tab algn="l" pos="928800"/>
                  <a:tab algn="l" pos="1238400"/>
                  <a:tab algn="l" pos="1547640"/>
                  <a:tab algn="l" pos="1857240"/>
                  <a:tab algn="l" pos="2166840"/>
                  <a:tab algn="l" pos="2476440"/>
                  <a:tab algn="l" pos="2786040"/>
                  <a:tab algn="l" pos="3095640"/>
                  <a:tab algn="l" pos="3405240"/>
                  <a:tab algn="l" pos="3714840"/>
                  <a:tab algn="l" pos="4024440"/>
                  <a:tab algn="l" pos="4334040"/>
                  <a:tab algn="l" pos="4643280"/>
                  <a:tab algn="l" pos="4952880"/>
                  <a:tab algn="l" pos="5262480"/>
                  <a:tab algn="l" pos="5572080"/>
                  <a:tab algn="l" pos="5881680"/>
                  <a:tab algn="l" pos="61912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initiative is done?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71720" y="1676880"/>
              <a:ext cx="97920" cy="96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15080" y="6114600"/>
              <a:ext cx="1223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r>
                <a:rPr b="0" lang="en-US" sz="1200" spc="-1" strike="noStrike">
                  <a:solidFill>
                    <a:srgbClr val="6600cc"/>
                  </a:solidFill>
                  <a:latin typeface="Arial"/>
                </a:rPr>
                <a:t>BCM Checklist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r>
                <a:rPr b="0" lang="en-US" sz="1200" spc="-1" strike="noStrike">
                  <a:solidFill>
                    <a:srgbClr val="6600cc"/>
                  </a:solidFill>
                  <a:latin typeface="Arial"/>
                </a:rPr>
                <a:t>Operability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r>
                <a:rPr b="0" lang="en-US" sz="1200" spc="-1" strike="noStrike">
                  <a:solidFill>
                    <a:srgbClr val="6600cc"/>
                  </a:solidFill>
                  <a:latin typeface="Arial"/>
                </a:rPr>
                <a:t>Interopera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0" y="3636720"/>
              <a:ext cx="9294480" cy="0"/>
            </a:xfrm>
            <a:prstGeom prst="line">
              <a:avLst/>
            </a:prstGeom>
            <a:ln w="475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0" y="5153040"/>
              <a:ext cx="9294480" cy="0"/>
            </a:xfrm>
            <a:prstGeom prst="line">
              <a:avLst/>
            </a:prstGeom>
            <a:ln w="475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1 Standard May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C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RP / e-Fol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orwegian Electronic Process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me Healthcare services and Building and Construction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ew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C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raming language that will use 'service bridges' to ensure information used by one SOA artifact is accurately communicated to the other BCM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C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ntology for eBusiness that resides in the Concept layer to ensure semantic synchronicity across all BCM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OASIS BCM TC Work Statu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6:56:32Z</dcterms:created>
  <dc:creator>Patrick Gannon</dc:creator>
  <dc:description>Delphi Summit - 10/29/02
</dc:description>
  <dc:language>en-US</dc:language>
  <cp:lastModifiedBy>MetLife</cp:lastModifiedBy>
  <cp:lastPrinted>2001-10-03T13:09:55Z</cp:lastPrinted>
  <dcterms:modified xsi:type="dcterms:W3CDTF">2006-05-05T19:50:53Z</dcterms:modified>
  <cp:revision>248</cp:revision>
  <dc:subject>Web Services</dc:subject>
  <dc:title>OASIS: Integrating Standards for Web Services, Business Processes &amp; Remote Portals</dc:title>
</cp:coreProperties>
</file>