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417-F675-4479-9207-0C5D089D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4B0-8F02-4BE5-BC77-58E2F44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0948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EDA-3DB2-4F43-8C19-F3AA0868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264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09480"/>
            <a:ext cx="264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09480"/>
            <a:ext cx="264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5A4-D991-4C84-97ED-112306DB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776-6AD4-45FF-BA57-9F77CFCB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22C-090B-462E-9A6D-F019278B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4015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09480"/>
            <a:ext cx="4015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ED7-0F68-4FE0-AF4A-B4BFA8B8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7E0-CDE0-4C63-B1C9-86A4994C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035-969E-40AC-A6BE-1A85BBB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09480"/>
            <a:ext cx="4015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FEF-95F5-40ED-9FCF-B69DE24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4015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0948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E41-F7E6-4618-85AD-9A6E280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09480"/>
            <a:ext cx="40158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9A7-42BE-446A-85DF-CF6D77B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1349280"/>
            <a:ext cx="8718480" cy="54198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13287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9 Ma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06480" y="6235200"/>
            <a:ext cx="624384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ffffcc"/>
                </a:solidFill>
                <a:latin typeface="Verdana"/>
              </a:rPr>
              <a:t>Interoperability at work: Semantic &amp; Contractual Perspectives in a Healthcare Informatics Registry-OASIS Symposium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5960" y="6324480"/>
            <a:ext cx="609840" cy="533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EFBE-03BB-4779-AC88-69D252AF05AB}" type="slidenum">
              <a:rPr b="1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46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teroperability at Work: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Semantic &amp; Contractual Perspectives in a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Healthcare Informatics Registry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OASIS Symposium 2006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950-B622-4CF5-89CD-B53CC52A4A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Registries Facilitate Contractual &amp; Policy Negotiations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rvice Descriptions can be Standardized According to Service Type, Simplifying Policies and Contracts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aboratory Testing Service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harmaceutical Service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linical Practice Service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Hospital Service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inancial Service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6F0-A235-4728-B59A-A8FC46C757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Health Informatics Registry Semantic Augmentation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Having Standards and Standards Organizations Listed Allows: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dentifying Ongoing Standards Development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Developers Need to Know Expected Lifecycle of Standards-When to Expect Next Version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nsure Cross-Referencing to Previous Versions for Comparison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vide Information About Liaisons Between Standards Organizations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vide for Best Practices Recommendations for Developers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CFE-5599-4EC3-917C-28AC8B2245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Health Informatics Registry Semantic Augmentation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Having Standards and Standards Organizations Listed Allows: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omparing Standards for Overlaps, Duplications of Terms &amp; Datatype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elp Developers Use Correct Standard for Specific Areas, such as Drug Code List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llow Developers to Choose Standard that Fits with Other Standards Used by Specific Partner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rovide Information About How Different Standards are Rated by Rating Organization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CE8-C0BD-4796-9A16-8024685913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Health Informatics Registry Semantic Augmentation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Having Standards and Standards Organizations Listed Allows: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White Papers, User’s Guide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References to Conformance Test Suites, Facilities, Program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f/Where Possible, Provide Object Class Code, Sample Code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rovide References to Legal &amp; Policy Resources Where Pertinent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780-E679-4643-97A2-55A0BE800D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lot Prototype Intended as First Step to Commercial Fee for Servic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tended as TestBed for Emerging Technology Standards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hen Proven, Regular Service Can Evolve From Existing Public Service Preparedness Porta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Will Use NIST Services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XML Modeling &amp; Testing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chema Validation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Health Care Standards Roadmap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3B5-0771-4F26-8303-7BB5C001C4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NIST XML Modeling &amp; Testing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01720" y="1582560"/>
            <a:ext cx="5727960" cy="447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464-9866-4C29-B351-9DC42A143C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NIST Schema Validation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62040" y="1566720"/>
            <a:ext cx="5886360" cy="459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33B-2906-4EF7-8827-2E9A40BC51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4600" y="279360"/>
            <a:ext cx="8229600" cy="1193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IST Health Standards Landscap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avigation &amp; Selection Service</a:t>
            </a:r>
            <a:br>
              <a:rPr sz="2400"/>
            </a:b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44640" y="1608120"/>
            <a:ext cx="5324400" cy="44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9D7-A9AE-4647-A199-6DF14C59A4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ublic Service Preparedness Portal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81120" y="1490760"/>
            <a:ext cx="6024600" cy="47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86C-5006-453B-A0D0-27DB884D6B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ortal Interface to Registry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81120" y="1490760"/>
            <a:ext cx="6024600" cy="4707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587600" y="1477800"/>
            <a:ext cx="61452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346-6C7F-490F-899B-7EA945679A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teroperability at Work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6160" y="1631520"/>
            <a:ext cx="3136680" cy="168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First, Foremost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Interoperability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Means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eamwork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1880" y="2670120"/>
            <a:ext cx="3429000" cy="56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30680" y="4422600"/>
            <a:ext cx="3389400" cy="85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835600" y="1603440"/>
            <a:ext cx="22352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111320" y="4441680"/>
            <a:ext cx="2514600" cy="838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701880" y="3413160"/>
            <a:ext cx="342900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701880" y="1616040"/>
            <a:ext cx="197172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243920" y="4414680"/>
            <a:ext cx="1296720" cy="84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248600" y="3419640"/>
            <a:ext cx="1444680" cy="86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571680" y="3621240"/>
            <a:ext cx="3035160" cy="65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29160" y="2585880"/>
            <a:ext cx="3585960" cy="743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699000" y="2784600"/>
          <a:ext cx="3041640" cy="49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99000" y="2784600"/>
                    <a:ext cx="304164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953-ED18-4251-85B1-4374637F37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Illustrative Diagram of Network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58840" y="1521000"/>
            <a:ext cx="5023080" cy="46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119-9284-40D8-A647-4094B7C023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Health Informatics Registry in Semantic Interoperability Pilo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mantic Perspective Challenge: No Stakeholders without Access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Open, Public Standards Required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o, We Use Both ebXML &amp; UDDI Web Services Registry Standards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ach Standard has its proponents, specific use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oth are Valuable &amp; Can be Combined or Mapped to Each Other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E1C-D233-46C8-8BC8-2FD089D367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emantic Interoperability Pilot Also Service-Oriented Architectur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ilot Project Initiated at Suggestion of SICoP - Semantic Interoperability Community of Practice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ubsequently, Pilot to be included as a Working SOA in SOA for E-Government Conference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931-9300-4EE2-9FD3-DF80BC47C9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lot Models Emergency Incident – Train Derailed w/Chlorine Releas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mulates National Incident Management Service (NIMS)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cludes Health Informatics &amp; Emergency Management IT Domains in Emergency Response Scenario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Registries Intended for Responders &amp; Service Developers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F8C-FB16-4491-A7AB-AB68DDDB16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Health Informatics Registry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id for Adoption of Open, Public Standards – Key to Practical Interoperability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Registry is Reference Repository, as well as Business Registry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tandard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tandards Organizations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ompanies/Products/Services that use Standards 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9D9-DAC9-48AC-A296-CFD2F3BD7F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Health Informatics Registry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09480"/>
            <a:ext cx="8229600" cy="461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Registry Provides Means (WSDL-Service Description w SOAP Messaging) for Service Providers and Consumers to: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ublish (Provide/Advertise Public Accessibility)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ind (Discover Partners)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ind (Automate-Legally Contract-Service Information Exchange )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E54-4B56-4FB5-BF3C-8963284497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Health Informatics Registry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20920" y="1454040"/>
            <a:ext cx="6249960" cy="47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A93-46EE-455D-B713-1FD60566AA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9:48:15Z</dcterms:created>
  <dc:creator>Rex Brooks</dc:creator>
  <dc:description/>
  <dc:language>en-US</dc:language>
  <cp:lastModifiedBy>Jacques Durand</cp:lastModifiedBy>
  <dcterms:modified xsi:type="dcterms:W3CDTF">2006-05-08T23:34:12Z</dcterms:modified>
  <cp:revision>6</cp:revision>
  <dc:subject/>
  <dc:title>Slide 1</dc:title>
</cp:coreProperties>
</file>