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088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1611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388400"/>
            <a:ext cx="71611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088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494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55280" y="2209320"/>
            <a:ext cx="3494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388400"/>
            <a:ext cx="3494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55280" y="4388400"/>
            <a:ext cx="3494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088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30580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07160" y="2209320"/>
            <a:ext cx="230580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28880" y="2209320"/>
            <a:ext cx="230580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388400"/>
            <a:ext cx="230580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07160" y="4388400"/>
            <a:ext cx="230580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528880" y="4388400"/>
            <a:ext cx="230580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088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1611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8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088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1611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088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494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55280" y="2209320"/>
            <a:ext cx="3494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088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440" y="914040"/>
            <a:ext cx="70088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8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088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494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55280" y="2209320"/>
            <a:ext cx="3494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388400"/>
            <a:ext cx="3494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088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1611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8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088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494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55280" y="2209320"/>
            <a:ext cx="3494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355280" y="4388400"/>
            <a:ext cx="3494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088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494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5280" y="2209320"/>
            <a:ext cx="3494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8400"/>
            <a:ext cx="71611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088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1611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800" y="4388400"/>
            <a:ext cx="71611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088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494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55280" y="2209320"/>
            <a:ext cx="3494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388400"/>
            <a:ext cx="3494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355280" y="4388400"/>
            <a:ext cx="3494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088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30580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07160" y="2209320"/>
            <a:ext cx="230580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28880" y="2209320"/>
            <a:ext cx="230580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800" y="4388400"/>
            <a:ext cx="230580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107160" y="4388400"/>
            <a:ext cx="230580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528880" y="4388400"/>
            <a:ext cx="230580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088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1611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088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494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55280" y="2209320"/>
            <a:ext cx="3494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088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914040"/>
            <a:ext cx="70088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8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088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494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55280" y="2209320"/>
            <a:ext cx="3494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388400"/>
            <a:ext cx="3494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088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494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55280" y="2209320"/>
            <a:ext cx="3494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55280" y="4388400"/>
            <a:ext cx="3494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088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494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55280" y="2209320"/>
            <a:ext cx="3494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388400"/>
            <a:ext cx="71611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088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1611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219320" y="198108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2133720"/>
            <a:ext cx="7010640" cy="14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Arial Black"/>
              </a:rPr>
              <a:t>OASIS Symposium 2006</a:t>
            </a: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rand-Finale Pane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3886200"/>
            <a:ext cx="762012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631800"/>
                <a:tab algn="l" pos="1546200"/>
                <a:tab algn="l" pos="2460600"/>
                <a:tab algn="l" pos="3375000"/>
                <a:tab algn="l" pos="4289400"/>
                <a:tab algn="l" pos="5203800"/>
                <a:tab algn="l" pos="6118200"/>
                <a:tab algn="l" pos="7032600"/>
                <a:tab algn="l" pos="7947000"/>
                <a:tab algn="l" pos="8861400"/>
                <a:tab algn="l" pos="97758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1920">
              <a:lnSpc>
                <a:spcPct val="75000"/>
              </a:lnSpc>
              <a:spcAft>
                <a:spcPts val="1012"/>
              </a:spcAft>
              <a:tabLst>
                <a:tab algn="l" pos="0"/>
                <a:tab algn="l" pos="631800"/>
                <a:tab algn="l" pos="1546200"/>
                <a:tab algn="l" pos="2460600"/>
                <a:tab algn="l" pos="3375000"/>
                <a:tab algn="l" pos="4289400"/>
                <a:tab algn="l" pos="5203800"/>
                <a:tab algn="l" pos="6118200"/>
                <a:tab algn="l" pos="7032600"/>
                <a:tab algn="l" pos="7947000"/>
                <a:tab algn="l" pos="8861400"/>
                <a:tab algn="l" pos="97758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120600"/>
            <a:ext cx="25909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oasis-open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4191120"/>
            <a:ext cx="7543800" cy="13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6b2394"/>
                </a:solidFill>
                <a:latin typeface="Arial"/>
              </a:rPr>
              <a:t>Interoperability 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6b2394"/>
                </a:solidFill>
                <a:latin typeface="Arial"/>
              </a:rPr>
              <a:t>Jishnu Mukerji – Hewlett-Pack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14040" y="3886200"/>
            <a:ext cx="762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920" indent="0">
              <a:lnSpc>
                <a:spcPct val="93000"/>
              </a:lnSpc>
              <a:spcBef>
                <a:spcPts val="675"/>
              </a:spcBef>
              <a:buNone/>
              <a:tabLst>
                <a:tab algn="l" pos="0"/>
                <a:tab algn="l" pos="631800"/>
                <a:tab algn="l" pos="1546200"/>
                <a:tab algn="l" pos="2460600"/>
                <a:tab algn="l" pos="3375000"/>
                <a:tab algn="l" pos="4289400"/>
                <a:tab algn="l" pos="5203800"/>
                <a:tab algn="l" pos="6118200"/>
                <a:tab algn="l" pos="7032600"/>
                <a:tab algn="l" pos="7947000"/>
                <a:tab algn="l" pos="8861400"/>
                <a:tab algn="l" pos="97758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1920" indent="0">
              <a:lnSpc>
                <a:spcPct val="75000"/>
              </a:lnSpc>
              <a:spcAft>
                <a:spcPts val="1012"/>
              </a:spcAft>
              <a:buNone/>
              <a:tabLst>
                <a:tab algn="l" pos="0"/>
                <a:tab algn="l" pos="631800"/>
                <a:tab algn="l" pos="1546200"/>
                <a:tab algn="l" pos="2460600"/>
                <a:tab algn="l" pos="3375000"/>
                <a:tab algn="l" pos="4289400"/>
                <a:tab algn="l" pos="5203800"/>
                <a:tab algn="l" pos="6118200"/>
                <a:tab algn="l" pos="7032600"/>
                <a:tab algn="l" pos="7947000"/>
                <a:tab algn="l" pos="8861400"/>
                <a:tab algn="l" pos="97758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120600"/>
            <a:ext cx="25909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oasis-open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762120"/>
            <a:ext cx="8001000" cy="60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6b2394"/>
                </a:solidFill>
                <a:latin typeface="Arial"/>
              </a:rPr>
              <a:t>Introduction to the Pa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6b2394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b2394"/>
                </a:solidFill>
                <a:latin typeface="Arial"/>
              </a:rPr>
              <a:t>Work has been ongoing for over 30 years on various aspects of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6b2394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b2394"/>
                </a:solidFill>
                <a:latin typeface="Arial"/>
              </a:rPr>
              <a:t>There have been many significant suc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6b2394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b2394"/>
                </a:solidFill>
                <a:latin typeface="Arial"/>
              </a:rPr>
              <a:t>Successful technologies become invisible thus giving the impression that there are few suc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6b2394"/>
                </a:solidFill>
                <a:latin typeface="Arial"/>
              </a:rPr>
              <a:t>Each success breeds additional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6b2394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b2394"/>
                </a:solidFill>
                <a:latin typeface="Arial"/>
              </a:rPr>
              <a:t>The more we succeed the more still remains to do building upon the suc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6b2394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b2394"/>
                </a:solidFill>
                <a:latin typeface="Arial"/>
              </a:rPr>
              <a:t>Different complementary aspects of interoperability – interoperability among what sort of artifacts for what purpo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6b2394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b2394"/>
                </a:solidFill>
                <a:latin typeface="Arial"/>
              </a:rPr>
              <a:t>Five experts in the field with diverse perspectives will help us get a better understanding of this exciting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14040" y="3886200"/>
            <a:ext cx="762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920" indent="0">
              <a:lnSpc>
                <a:spcPct val="93000"/>
              </a:lnSpc>
              <a:spcBef>
                <a:spcPts val="675"/>
              </a:spcBef>
              <a:buNone/>
              <a:tabLst>
                <a:tab algn="l" pos="0"/>
                <a:tab algn="l" pos="631800"/>
                <a:tab algn="l" pos="1546200"/>
                <a:tab algn="l" pos="2460600"/>
                <a:tab algn="l" pos="3375000"/>
                <a:tab algn="l" pos="4289400"/>
                <a:tab algn="l" pos="5203800"/>
                <a:tab algn="l" pos="6118200"/>
                <a:tab algn="l" pos="7032600"/>
                <a:tab algn="l" pos="7947000"/>
                <a:tab algn="l" pos="8861400"/>
                <a:tab algn="l" pos="97758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1920" indent="0">
              <a:lnSpc>
                <a:spcPct val="75000"/>
              </a:lnSpc>
              <a:spcAft>
                <a:spcPts val="1012"/>
              </a:spcAft>
              <a:buNone/>
              <a:tabLst>
                <a:tab algn="l" pos="0"/>
                <a:tab algn="l" pos="631800"/>
                <a:tab algn="l" pos="1546200"/>
                <a:tab algn="l" pos="2460600"/>
                <a:tab algn="l" pos="3375000"/>
                <a:tab algn="l" pos="4289400"/>
                <a:tab algn="l" pos="5203800"/>
                <a:tab algn="l" pos="6118200"/>
                <a:tab algn="l" pos="7032600"/>
                <a:tab algn="l" pos="7947000"/>
                <a:tab algn="l" pos="8861400"/>
                <a:tab algn="l" pos="97758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120600"/>
            <a:ext cx="25909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oasis-open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828800"/>
            <a:ext cx="800100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6b2394"/>
                </a:solidFill>
                <a:latin typeface="Arial"/>
              </a:rPr>
              <a:t>Paneli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6b2394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6b239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b2394"/>
                </a:solidFill>
                <a:latin typeface="Arial"/>
              </a:rPr>
              <a:t>Peter Davis – NeuStar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6b239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b2394"/>
                </a:solidFill>
                <a:latin typeface="Arial"/>
              </a:rPr>
              <a:t>Pat Snack – AIA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6b239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b2394"/>
                </a:solidFill>
                <a:latin typeface="Arial"/>
              </a:rPr>
              <a:t>Rik Drummond – Drummond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6b239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b2394"/>
                </a:solidFill>
                <a:latin typeface="Arial"/>
              </a:rPr>
              <a:t>David Burdett – SAP L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6b239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b2394"/>
                </a:solidFill>
                <a:latin typeface="Arial"/>
              </a:rPr>
              <a:t>Garret Minakawa – Orac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914040" y="3886200"/>
            <a:ext cx="762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920" indent="0">
              <a:lnSpc>
                <a:spcPct val="93000"/>
              </a:lnSpc>
              <a:spcBef>
                <a:spcPts val="675"/>
              </a:spcBef>
              <a:buNone/>
              <a:tabLst>
                <a:tab algn="l" pos="0"/>
                <a:tab algn="l" pos="631800"/>
                <a:tab algn="l" pos="1546200"/>
                <a:tab algn="l" pos="2460600"/>
                <a:tab algn="l" pos="3375000"/>
                <a:tab algn="l" pos="4289400"/>
                <a:tab algn="l" pos="5203800"/>
                <a:tab algn="l" pos="6118200"/>
                <a:tab algn="l" pos="7032600"/>
                <a:tab algn="l" pos="7947000"/>
                <a:tab algn="l" pos="8861400"/>
                <a:tab algn="l" pos="97758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1920" indent="0">
              <a:lnSpc>
                <a:spcPct val="75000"/>
              </a:lnSpc>
              <a:spcAft>
                <a:spcPts val="1012"/>
              </a:spcAft>
              <a:buNone/>
              <a:tabLst>
                <a:tab algn="l" pos="0"/>
                <a:tab algn="l" pos="631800"/>
                <a:tab algn="l" pos="1546200"/>
                <a:tab algn="l" pos="2460600"/>
                <a:tab algn="l" pos="3375000"/>
                <a:tab algn="l" pos="4289400"/>
                <a:tab algn="l" pos="5203800"/>
                <a:tab algn="l" pos="6118200"/>
                <a:tab algn="l" pos="7032600"/>
                <a:tab algn="l" pos="7947000"/>
                <a:tab algn="l" pos="8861400"/>
                <a:tab algn="l" pos="97758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120600"/>
            <a:ext cx="25909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oasis-open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371600"/>
            <a:ext cx="754380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6b2394"/>
                </a:solidFill>
                <a:latin typeface="Arial"/>
              </a:rPr>
              <a:t>Questions about Interoperability Nirva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6b2394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6b2394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b2394"/>
                </a:solidFill>
                <a:latin typeface="Arial"/>
              </a:rPr>
              <a:t>What are the Goal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6b2394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b2394"/>
                </a:solidFill>
                <a:latin typeface="Arial"/>
              </a:rPr>
              <a:t>Are they realistic and worthy goal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6b2394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b2394"/>
                </a:solidFill>
                <a:latin typeface="Arial"/>
              </a:rPr>
              <a:t>Are we there ye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6b2394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b2394"/>
                </a:solidFill>
                <a:latin typeface="Arial"/>
              </a:rPr>
              <a:t>Will we ever get ther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6b2394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b2394"/>
                </a:solidFill>
                <a:latin typeface="Arial"/>
              </a:rPr>
              <a:t>How would we know when we are ther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6b2394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b2394"/>
                </a:solidFill>
                <a:latin typeface="Arial"/>
              </a:rPr>
              <a:t>How come we are not already ther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6b2394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b2394"/>
                </a:solidFill>
                <a:latin typeface="Arial"/>
              </a:rPr>
              <a:t>What is keeping us from getting ther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6b2394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b2394"/>
                </a:solidFill>
                <a:latin typeface="Arial"/>
              </a:rPr>
              <a:t>What can we do about i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6b2394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b2394"/>
                </a:solidFill>
                <a:latin typeface="Arial"/>
              </a:rPr>
              <a:t>How can we work better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2828520"/>
            <a:ext cx="7010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Peter Davi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3886200"/>
            <a:ext cx="762012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631800"/>
                <a:tab algn="l" pos="1546200"/>
                <a:tab algn="l" pos="2460600"/>
                <a:tab algn="l" pos="3375000"/>
                <a:tab algn="l" pos="4289400"/>
                <a:tab algn="l" pos="5203800"/>
                <a:tab algn="l" pos="6118200"/>
                <a:tab algn="l" pos="7032600"/>
                <a:tab algn="l" pos="7947000"/>
                <a:tab algn="l" pos="8861400"/>
                <a:tab algn="l" pos="97758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1920">
              <a:lnSpc>
                <a:spcPct val="75000"/>
              </a:lnSpc>
              <a:spcAft>
                <a:spcPts val="1012"/>
              </a:spcAft>
              <a:tabLst>
                <a:tab algn="l" pos="0"/>
                <a:tab algn="l" pos="631800"/>
                <a:tab algn="l" pos="1546200"/>
                <a:tab algn="l" pos="2460600"/>
                <a:tab algn="l" pos="3375000"/>
                <a:tab algn="l" pos="4289400"/>
                <a:tab algn="l" pos="5203800"/>
                <a:tab algn="l" pos="6118200"/>
                <a:tab algn="l" pos="7032600"/>
                <a:tab algn="l" pos="7947000"/>
                <a:tab algn="l" pos="8861400"/>
                <a:tab algn="l" pos="97758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120600"/>
            <a:ext cx="25909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oasis-open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739880"/>
            <a:ext cx="75438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6b2394"/>
                </a:solidFill>
                <a:latin typeface="Arial"/>
              </a:rPr>
              <a:t>Interoperability 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2514240"/>
            <a:ext cx="70102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Q &amp; A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3886200"/>
            <a:ext cx="762012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631800"/>
                <a:tab algn="l" pos="1546200"/>
                <a:tab algn="l" pos="2460600"/>
                <a:tab algn="l" pos="3375000"/>
                <a:tab algn="l" pos="4289400"/>
                <a:tab algn="l" pos="5203800"/>
                <a:tab algn="l" pos="6118200"/>
                <a:tab algn="l" pos="7032600"/>
                <a:tab algn="l" pos="7947000"/>
                <a:tab algn="l" pos="8861400"/>
                <a:tab algn="l" pos="97758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1920">
              <a:lnSpc>
                <a:spcPct val="75000"/>
              </a:lnSpc>
              <a:spcAft>
                <a:spcPts val="1012"/>
              </a:spcAft>
              <a:tabLst>
                <a:tab algn="l" pos="0"/>
                <a:tab algn="l" pos="631800"/>
                <a:tab algn="l" pos="1546200"/>
                <a:tab algn="l" pos="2460600"/>
                <a:tab algn="l" pos="3375000"/>
                <a:tab algn="l" pos="4289400"/>
                <a:tab algn="l" pos="5203800"/>
                <a:tab algn="l" pos="6118200"/>
                <a:tab algn="l" pos="7032600"/>
                <a:tab algn="l" pos="7947000"/>
                <a:tab algn="l" pos="8861400"/>
                <a:tab algn="l" pos="97758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24480" y="120600"/>
            <a:ext cx="25909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oasis-open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739880"/>
            <a:ext cx="75438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6b2394"/>
                </a:solidFill>
                <a:latin typeface="Arial"/>
              </a:rPr>
              <a:t>Interoperability 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14040" y="3886200"/>
            <a:ext cx="762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920" indent="0">
              <a:lnSpc>
                <a:spcPct val="93000"/>
              </a:lnSpc>
              <a:spcBef>
                <a:spcPts val="675"/>
              </a:spcBef>
              <a:buNone/>
              <a:tabLst>
                <a:tab algn="l" pos="0"/>
                <a:tab algn="l" pos="631800"/>
                <a:tab algn="l" pos="1546200"/>
                <a:tab algn="l" pos="2460600"/>
                <a:tab algn="l" pos="3375000"/>
                <a:tab algn="l" pos="4289400"/>
                <a:tab algn="l" pos="5203800"/>
                <a:tab algn="l" pos="6118200"/>
                <a:tab algn="l" pos="7032600"/>
                <a:tab algn="l" pos="7947000"/>
                <a:tab algn="l" pos="8861400"/>
                <a:tab algn="l" pos="97758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1920" indent="0">
              <a:lnSpc>
                <a:spcPct val="75000"/>
              </a:lnSpc>
              <a:spcAft>
                <a:spcPts val="1012"/>
              </a:spcAft>
              <a:buNone/>
              <a:tabLst>
                <a:tab algn="l" pos="0"/>
                <a:tab algn="l" pos="631800"/>
                <a:tab algn="l" pos="1546200"/>
                <a:tab algn="l" pos="2460600"/>
                <a:tab algn="l" pos="3375000"/>
                <a:tab algn="l" pos="4289400"/>
                <a:tab algn="l" pos="5203800"/>
                <a:tab algn="l" pos="6118200"/>
                <a:tab algn="l" pos="7032600"/>
                <a:tab algn="l" pos="7947000"/>
                <a:tab algn="l" pos="8861400"/>
                <a:tab algn="l" pos="97758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120600"/>
            <a:ext cx="25909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oasis-open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2133720"/>
            <a:ext cx="563868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6b2394"/>
                </a:solidFill>
                <a:latin typeface="Mistral"/>
              </a:rPr>
              <a:t>The woods are lovely dark and d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6b2394"/>
                </a:solidFill>
                <a:latin typeface="Mistral"/>
              </a:rPr>
              <a:t>	</a:t>
            </a:r>
            <a:r>
              <a:rPr b="1" lang="en-US" sz="2800" spc="-1" strike="noStrike">
                <a:solidFill>
                  <a:srgbClr val="6b2394"/>
                </a:solidFill>
                <a:latin typeface="Mistral"/>
              </a:rPr>
              <a:t>But I have promises to k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6b2394"/>
                </a:solidFill>
                <a:latin typeface="Mistral"/>
              </a:rPr>
              <a:t>And miles to go before I sl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6b2394"/>
                </a:solidFill>
                <a:latin typeface="Mistral"/>
              </a:rPr>
              <a:t>	</a:t>
            </a:r>
            <a:r>
              <a:rPr b="1" lang="en-US" sz="2800" spc="-1" strike="noStrike">
                <a:solidFill>
                  <a:srgbClr val="6b2394"/>
                </a:solidFill>
                <a:latin typeface="Mistral"/>
              </a:rPr>
              <a:t>And miles to go before I sl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6b2394"/>
                </a:solidFill>
                <a:latin typeface="Mistral"/>
              </a:rPr>
              <a:t>	</a:t>
            </a:r>
            <a:r>
              <a:rPr b="1" lang="en-US" sz="2800" spc="-1" strike="noStrike">
                <a:solidFill>
                  <a:srgbClr val="6b2394"/>
                </a:solidFill>
                <a:latin typeface="Mistral"/>
              </a:rPr>
              <a:t>	</a:t>
            </a:r>
            <a:r>
              <a:rPr b="1" lang="en-US" sz="2800" spc="-1" strike="noStrike">
                <a:solidFill>
                  <a:srgbClr val="6b2394"/>
                </a:solidFill>
                <a:latin typeface="Mistral"/>
              </a:rPr>
              <a:t>	</a:t>
            </a:r>
            <a:r>
              <a:rPr b="1" lang="en-US" sz="2800" spc="-1" strike="noStrike">
                <a:solidFill>
                  <a:srgbClr val="6b2394"/>
                </a:solidFill>
                <a:latin typeface="Mistral"/>
              </a:rPr>
              <a:t>- Robert Fr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89280" y="1884240"/>
            <a:ext cx="183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shnu Mukerji</cp:lastModifiedBy>
  <dcterms:modified xsi:type="dcterms:W3CDTF">2006-05-11T17:31:41Z</dcterms:modified>
  <cp:revision>4</cp:revision>
  <dc:subject/>
  <dc:title>Grand-Finale Panel</dc:title>
</cp:coreProperties>
</file>