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279680"/>
            <a:ext cx="716292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2796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56000" y="42796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07160" y="19810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29240" y="19810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2796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07160" y="42796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29240" y="42796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52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34952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34952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440" y="42796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52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56000" y="42796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4279680"/>
            <a:ext cx="716292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440" y="4279680"/>
            <a:ext cx="716292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42796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56000" y="42796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07160" y="19810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529240" y="19810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440" y="42796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07160" y="42796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529240" y="4279680"/>
            <a:ext cx="23061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52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34952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34952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2796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52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56000" y="42796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349524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279680"/>
            <a:ext cx="716292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A Use-Case Driven Approach to the Development of Reusable Stylesheet Modules 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Terry Brady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LexisNexis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Faq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q:fa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ut:label? , out:header , out:section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:hea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|out:italics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: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ut:label? , out:header? 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ut: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: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 | out:italics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:ital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:lab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Modules Needed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146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(default/me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f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01760" y="1981080"/>
            <a:ext cx="4303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rule, warn on unmapped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:tit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: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:para &amp; in:e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:sec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: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:step/man: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ok: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q:f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Module Imports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book.xsl imports section.x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faq.xsl imports section.x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.xsl impor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ral.x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.xsl imports para.xsl, title.xsl, step.x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.xsl imports para.x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.xsl impor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ral.x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4038480"/>
            <a:ext cx="259056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638680"/>
            <a:ext cx="182880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200400"/>
            <a:ext cx="182880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reate Use Cas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s complex as needed to illustrate on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understanding before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reate Contrived Use Cas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Title Use Cas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?xml version='1.0' 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?use-case scenario=Simple title;;stylesheet=stylesheets/demo/title.xsl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in:title SYSTEM "../article.dtd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:title&gt;Hello&lt;/in:tit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Title with Metadata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in:title SYSTEM "../article.dtd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?use-case scenario=Title with metadata;;stylesheet=stylesheets/demo/title.xsl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:title&gt;Hello&lt;meta:edit-by&gt;Terry&lt;/meta:edit-by&gt;&lt;meta:edit-date&gt;1/1/2006&lt;/meta:edit-dat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in:tit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reate stylesheet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mport hierarchy in 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&lt;xsl:apply-templates/&gt; wherever possible to allow the DTD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ly test with use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to DTD and schematron as an additional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Import Precedence Issu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:title processed fine by title.x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:para processed fine by para.x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executing the same files with section.x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:para processed 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:title processed by default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Introduce “template files”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the import tree as needed for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components reference a “template file” via a processing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sion of default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sive set of namespace 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-specific match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Problem to Solv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XSL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useful modules that will operate in multiple data con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put DT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DT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does not consist of schema “exper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New import strateg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book.xsl imports general.xsl, section.x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faq.xsl imports general.xsl, section.x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.xsl imports para.xsl, title.xsl, step.x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 template.xsl via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.xsl imports para.x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 template.xsl via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.xsl imports general.x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ther Challeng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ng output of common modules to multiple target DT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use cases appropriate to a subset of target DT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Unit Test Driver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16765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16765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6720" y="121932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Cod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7440" y="32004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82880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810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8288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198108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16765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16765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010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py Resources to runtime are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306720" y="121932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Cod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6765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16765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16765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7440" y="32004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82880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18288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198108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3733920"/>
            <a:ext cx="121932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3733920"/>
            <a:ext cx="121932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3733920"/>
            <a:ext cx="121896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3886200"/>
            <a:ext cx="121932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038480"/>
            <a:ext cx="121896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3886200"/>
            <a:ext cx="121932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038480"/>
            <a:ext cx="121932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17524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2920" y="175248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3733920"/>
            <a:ext cx="121932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3733920"/>
            <a:ext cx="121896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terate over use case fi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307440" y="15238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0574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0574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205740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2096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362320"/>
            <a:ext cx="121896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2096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23623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205740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20574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7440" y="15238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0574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0574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05740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22096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362320"/>
            <a:ext cx="1218960" cy="76176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2096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23623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3505320"/>
            <a:ext cx="121932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>
            <a:off x="837720" y="3123720"/>
            <a:ext cx="5342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5791320" y="205740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057400"/>
            <a:ext cx="121932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0"/>
            <a:endCxn id="177" idx="0"/>
          </p:cNvCxnSpPr>
          <p:nvPr/>
        </p:nvCxnSpPr>
        <p:spPr>
          <a:xfrm flipH="1" flipV="1" rot="5400000">
            <a:off x="4457520" y="-1029240"/>
            <a:ext cx="305640" cy="6477840"/>
          </a:xfrm>
          <a:prstGeom prst="curvedConnector5">
            <a:avLst>
              <a:gd name="adj1" fmla="val 281250"/>
              <a:gd name="adj2" fmla="val 49997"/>
              <a:gd name="adj3" fmla="val 281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3276720" y="5029200"/>
            <a:ext cx="4572000" cy="1371600"/>
          </a:xfrm>
          <a:prstGeom prst="cloudCallout">
            <a:avLst>
              <a:gd name="adj1" fmla="val -23435"/>
              <a:gd name="adj2" fmla="val 7002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it easier to view the input file in a browser that is not catalog a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76212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 use case file with fully resolved DTD (if using catal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port the validity of use case fi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07440" y="15238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20574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0574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205740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22096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362320"/>
            <a:ext cx="1218960" cy="76176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22096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23623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7" idx="0"/>
          </p:cNvCxnSpPr>
          <p:nvPr/>
        </p:nvCxnSpPr>
        <p:spPr>
          <a:xfrm flipH="1" flipV="1" rot="5400000">
            <a:off x="4457520" y="-1029240"/>
            <a:ext cx="305640" cy="6477840"/>
          </a:xfrm>
          <a:prstGeom prst="curvedConnector5">
            <a:avLst>
              <a:gd name="adj1" fmla="val 281250"/>
              <a:gd name="adj2" fmla="val 49997"/>
              <a:gd name="adj3" fmla="val 281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5791320" y="205740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2057400"/>
            <a:ext cx="121932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d each stylesheet referenced by the use case fil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07440" y="15238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0574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2057400"/>
            <a:ext cx="121932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205740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2096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362320"/>
            <a:ext cx="1218960" cy="76176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22096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23623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05740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20574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9" idx="2"/>
            <a:endCxn id="196" idx="2"/>
          </p:cNvCxnSpPr>
          <p:nvPr/>
        </p:nvCxnSpPr>
        <p:spPr>
          <a:xfrm flipH="1" flipV="1" rot="5400000">
            <a:off x="1942920" y="2247480"/>
            <a:ext cx="305280" cy="1448640"/>
          </a:xfrm>
          <a:prstGeom prst="curvedConnector5">
            <a:avLst>
              <a:gd name="adj1" fmla="val -374970"/>
              <a:gd name="adj2" fmla="val 49987"/>
              <a:gd name="adj3" fmla="val -374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3276720" y="5029200"/>
            <a:ext cx="4572000" cy="1371600"/>
          </a:xfrm>
          <a:prstGeom prst="cloudCallout">
            <a:avLst>
              <a:gd name="adj1" fmla="val -23435"/>
              <a:gd name="adj2" fmla="val 7002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use case could serve as input to multiple 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stylesheet references a template, compile a new stylesheet.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307440" y="1600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337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133720"/>
            <a:ext cx="1219320" cy="76176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21337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2438280"/>
            <a:ext cx="1218960" cy="76212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24382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3124080"/>
            <a:ext cx="1218960" cy="762120"/>
          </a:xfrm>
          <a:prstGeom prst="rect">
            <a:avLst/>
          </a:prstGeom>
          <a:solidFill>
            <a:srgbClr val="66ff3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2" idx="0"/>
            <a:endCxn id="209" idx="0"/>
          </p:cNvCxnSpPr>
          <p:nvPr/>
        </p:nvCxnSpPr>
        <p:spPr>
          <a:xfrm flipH="1" flipV="1" rot="5400000">
            <a:off x="1942920" y="1561680"/>
            <a:ext cx="305280" cy="1448640"/>
          </a:xfrm>
          <a:prstGeom prst="curvedConnector5">
            <a:avLst>
              <a:gd name="adj1" fmla="val 174970"/>
              <a:gd name="adj2" fmla="val 49987"/>
              <a:gd name="adj3" fmla="val 174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9" idx="0"/>
            <a:endCxn id="218" idx="0"/>
          </p:cNvCxnSpPr>
          <p:nvPr/>
        </p:nvCxnSpPr>
        <p:spPr>
          <a:xfrm flipH="1" rot="16200000">
            <a:off x="4571280" y="381600"/>
            <a:ext cx="2160" cy="3505680"/>
          </a:xfrm>
          <a:prstGeom prst="curvedConnector5">
            <a:avLst>
              <a:gd name="adj1" fmla="val -36500000"/>
              <a:gd name="adj2" fmla="val 49994"/>
              <a:gd name="adj3" fmla="val -36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8" idx="2"/>
            <a:endCxn id="215" idx="1"/>
          </p:cNvCxnSpPr>
          <p:nvPr/>
        </p:nvCxnSpPr>
        <p:spPr>
          <a:xfrm>
            <a:off x="6324120" y="2895480"/>
            <a:ext cx="12963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715000" y="2133720"/>
            <a:ext cx="121932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21337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5029200"/>
            <a:ext cx="4572000" cy="1371600"/>
          </a:xfrm>
          <a:prstGeom prst="cloudCallout">
            <a:avLst>
              <a:gd name="adj1" fmla="val -23435"/>
              <a:gd name="adj2" fmla="val 7002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o allow the creation of a custom import tree when testing an individual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stylesheet references a schematron file, compile the schematron and perform semantic validation on the use case file.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307440" y="1600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1337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2133720"/>
            <a:ext cx="121932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21337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2438280"/>
            <a:ext cx="1218960" cy="76212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24382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4191120"/>
            <a:ext cx="1218960" cy="761760"/>
          </a:xfrm>
          <a:prstGeom prst="rect">
            <a:avLst/>
          </a:prstGeom>
          <a:solidFill>
            <a:srgbClr val="66ff3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3124080"/>
            <a:ext cx="1218960" cy="762120"/>
          </a:xfrm>
          <a:prstGeom prst="rect">
            <a:avLst/>
          </a:prstGeom>
          <a:solidFill>
            <a:srgbClr val="f6fa6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28" idx="0"/>
            <a:endCxn id="225" idx="0"/>
          </p:cNvCxnSpPr>
          <p:nvPr/>
        </p:nvCxnSpPr>
        <p:spPr>
          <a:xfrm flipH="1" flipV="1" rot="5400000">
            <a:off x="1942920" y="1561680"/>
            <a:ext cx="305280" cy="1448640"/>
          </a:xfrm>
          <a:prstGeom prst="curvedConnector5">
            <a:avLst>
              <a:gd name="adj1" fmla="val 174970"/>
              <a:gd name="adj2" fmla="val 49987"/>
              <a:gd name="adj3" fmla="val 174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5" idx="0"/>
            <a:endCxn id="235" idx="0"/>
          </p:cNvCxnSpPr>
          <p:nvPr/>
        </p:nvCxnSpPr>
        <p:spPr>
          <a:xfrm flipH="1" rot="16200000">
            <a:off x="4571280" y="381600"/>
            <a:ext cx="2160" cy="3505680"/>
          </a:xfrm>
          <a:prstGeom prst="curvedConnector5">
            <a:avLst>
              <a:gd name="adj1" fmla="val -36500000"/>
              <a:gd name="adj2" fmla="val 49994"/>
              <a:gd name="adj3" fmla="val -36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5" idx="2"/>
            <a:endCxn id="231" idx="1"/>
          </p:cNvCxnSpPr>
          <p:nvPr/>
        </p:nvCxnSpPr>
        <p:spPr>
          <a:xfrm>
            <a:off x="6324120" y="2895120"/>
            <a:ext cx="129636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5715000" y="21337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21337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28" idx="2"/>
            <a:endCxn id="231" idx="2"/>
          </p:cNvCxnSpPr>
          <p:nvPr/>
        </p:nvCxnSpPr>
        <p:spPr>
          <a:xfrm flipH="1" rot="16200000">
            <a:off x="3924360" y="647280"/>
            <a:ext cx="1753200" cy="6858720"/>
          </a:xfrm>
          <a:prstGeom prst="curvedConnector5">
            <a:avLst>
              <a:gd name="adj1" fmla="val 194002"/>
              <a:gd name="adj2" fmla="val 49997"/>
              <a:gd name="adj3" fmla="val 194002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3276720" y="5029200"/>
            <a:ext cx="4572000" cy="1371600"/>
          </a:xfrm>
          <a:prstGeom prst="cloudCallout">
            <a:avLst>
              <a:gd name="adj1" fmla="val -23435"/>
              <a:gd name="adj2" fmla="val 7002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mits the enforcement of boundary/scope conditions for a styesh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halleng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lt containment not as easy as OO con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precedence is trickier than you th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of the import tree can radically alter the behavior of individual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validate to multiple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or each dtd referenced in the use case file or stylesheet, apply the stylesheet to the use case file.  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307440" y="16765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22096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209680"/>
            <a:ext cx="1219320" cy="76212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20968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23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1218960" cy="76212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23623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25146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4343400"/>
            <a:ext cx="121932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2133720"/>
            <a:ext cx="1218960" cy="761760"/>
          </a:xfrm>
          <a:prstGeom prst="rect">
            <a:avLst/>
          </a:prstGeom>
          <a:solidFill>
            <a:srgbClr val="66ff3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46" idx="2"/>
            <a:endCxn id="249" idx="0"/>
          </p:cNvCxnSpPr>
          <p:nvPr/>
        </p:nvCxnSpPr>
        <p:spPr>
          <a:xfrm>
            <a:off x="1371600" y="3276360"/>
            <a:ext cx="19058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3" idx="1"/>
            <a:endCxn id="249" idx="0"/>
          </p:cNvCxnSpPr>
          <p:nvPr/>
        </p:nvCxnSpPr>
        <p:spPr>
          <a:xfrm flipH="1">
            <a:off x="3276360" y="3657240"/>
            <a:ext cx="35056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3"/>
            <a:endCxn id="250" idx="3"/>
          </p:cNvCxnSpPr>
          <p:nvPr/>
        </p:nvCxnSpPr>
        <p:spPr>
          <a:xfrm flipV="1">
            <a:off x="3886200" y="2514240"/>
            <a:ext cx="4496400" cy="2210400"/>
          </a:xfrm>
          <a:prstGeom prst="curvedConnector5">
            <a:avLst>
              <a:gd name="adj1" fmla="val 105076"/>
              <a:gd name="adj2" fmla="val 49991"/>
              <a:gd name="adj3" fmla="val 10507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5562720" y="220968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,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43" idx="0"/>
            <a:endCxn id="250" idx="0"/>
          </p:cNvCxnSpPr>
          <p:nvPr/>
        </p:nvCxnSpPr>
        <p:spPr>
          <a:xfrm flipH="1" flipV="1" rot="5400000">
            <a:off x="5257800" y="-305280"/>
            <a:ext cx="76680" cy="4953240"/>
          </a:xfrm>
          <a:prstGeom prst="curvedConnector5">
            <a:avLst>
              <a:gd name="adj1" fmla="val 601886"/>
              <a:gd name="adj2" fmla="val 50000"/>
              <a:gd name="adj3" fmla="val 601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6781680" y="3276720"/>
            <a:ext cx="1219320" cy="761760"/>
          </a:xfrm>
          <a:prstGeom prst="rect">
            <a:avLst/>
          </a:prstGeom>
          <a:solidFill>
            <a:srgbClr val="f6fa6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51240" y="491328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system identifier of the output file to the referenced D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5715000"/>
            <a:ext cx="6324840" cy="685800"/>
          </a:xfrm>
          <a:prstGeom prst="cloudCallout">
            <a:avLst>
              <a:gd name="adj1" fmla="val -3087"/>
              <a:gd name="adj2" fmla="val 900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 transformation output to all appropriate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port on the validity of the output file. 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307440" y="16765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22096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209680"/>
            <a:ext cx="1219320" cy="76212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220968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3623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2514600"/>
            <a:ext cx="1218960" cy="76212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23623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25146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4343400"/>
            <a:ext cx="121932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2133720"/>
            <a:ext cx="1218960" cy="761760"/>
          </a:xfrm>
          <a:prstGeom prst="rect">
            <a:avLst/>
          </a:prstGeom>
          <a:solidFill>
            <a:srgbClr val="66ff3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68" idx="3"/>
            <a:endCxn id="269" idx="3"/>
          </p:cNvCxnSpPr>
          <p:nvPr/>
        </p:nvCxnSpPr>
        <p:spPr>
          <a:xfrm flipV="1">
            <a:off x="3886200" y="2514240"/>
            <a:ext cx="4496400" cy="2210400"/>
          </a:xfrm>
          <a:prstGeom prst="curvedConnector5">
            <a:avLst>
              <a:gd name="adj1" fmla="val 105076"/>
              <a:gd name="adj2" fmla="val 49991"/>
              <a:gd name="adj3" fmla="val 10507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5562720" y="220968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,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81680" y="3276720"/>
            <a:ext cx="1219320" cy="761760"/>
          </a:xfrm>
          <a:prstGeom prst="rect">
            <a:avLst/>
          </a:prstGeom>
          <a:solidFill>
            <a:srgbClr val="f6fa6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51240" y="491328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system identifier of the output file to the referenced D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pply transformation to use case file without referencing an output DTD.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307440" y="1600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21337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2133720"/>
            <a:ext cx="1219320" cy="76176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21337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2438280"/>
            <a:ext cx="1218960" cy="76212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24382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66880" y="4267080"/>
            <a:ext cx="121932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62720" y="21337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,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80" idx="2"/>
            <a:endCxn id="283" idx="0"/>
          </p:cNvCxnSpPr>
          <p:nvPr/>
        </p:nvCxnSpPr>
        <p:spPr>
          <a:xfrm>
            <a:off x="1371600" y="3200040"/>
            <a:ext cx="19058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7" idx="1"/>
            <a:endCxn id="283" idx="0"/>
          </p:cNvCxnSpPr>
          <p:nvPr/>
        </p:nvCxnSpPr>
        <p:spPr>
          <a:xfrm flipH="1">
            <a:off x="3276360" y="3657240"/>
            <a:ext cx="3505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6781680" y="3276720"/>
            <a:ext cx="1219320" cy="761760"/>
          </a:xfrm>
          <a:prstGeom prst="rect">
            <a:avLst/>
          </a:prstGeom>
          <a:solidFill>
            <a:srgbClr val="f6fa6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2133720"/>
            <a:ext cx="1218960" cy="761760"/>
          </a:xfrm>
          <a:prstGeom prst="rect">
            <a:avLst/>
          </a:prstGeom>
          <a:solidFill>
            <a:srgbClr val="ff66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a use case file references a schematron, compile the schematron and perform semantic validation on the output file.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0" name=""/>
          <p:cNvSpPr/>
          <p:nvPr/>
        </p:nvSpPr>
        <p:spPr>
          <a:xfrm>
            <a:off x="307440" y="1600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21337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133720"/>
            <a:ext cx="1219320" cy="76176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21337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2438280"/>
            <a:ext cx="1218960" cy="76212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24382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4267080"/>
            <a:ext cx="1219320" cy="76212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2133720"/>
            <a:ext cx="121896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,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95" idx="2"/>
            <a:endCxn id="299" idx="2"/>
          </p:cNvCxnSpPr>
          <p:nvPr/>
        </p:nvCxnSpPr>
        <p:spPr>
          <a:xfrm flipH="1" flipV="1" rot="5400000">
            <a:off x="3618360" y="646920"/>
            <a:ext cx="305640" cy="4801320"/>
          </a:xfrm>
          <a:prstGeom prst="curvedConnector5">
            <a:avLst>
              <a:gd name="adj1" fmla="val -241037"/>
              <a:gd name="adj2" fmla="val 50000"/>
              <a:gd name="adj3" fmla="val -24103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7162920" y="4191120"/>
            <a:ext cx="1218960" cy="761760"/>
          </a:xfrm>
          <a:prstGeom prst="rect">
            <a:avLst/>
          </a:prstGeom>
          <a:solidFill>
            <a:srgbClr val="66ff3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99" idx="3"/>
            <a:endCxn id="301" idx="0"/>
          </p:cNvCxnSpPr>
          <p:nvPr/>
        </p:nvCxnSpPr>
        <p:spPr>
          <a:xfrm>
            <a:off x="6781680" y="2514240"/>
            <a:ext cx="991440" cy="1677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303" name=""/>
          <p:cNvCxnSpPr>
            <a:stCxn id="298" idx="2"/>
            <a:endCxn id="301" idx="2"/>
          </p:cNvCxnSpPr>
          <p:nvPr/>
        </p:nvCxnSpPr>
        <p:spPr>
          <a:xfrm flipH="1" flipV="1" rot="5400000">
            <a:off x="5486400" y="2743200"/>
            <a:ext cx="76680" cy="4496400"/>
          </a:xfrm>
          <a:prstGeom prst="curvedConnector5">
            <a:avLst>
              <a:gd name="adj1" fmla="val -1098584"/>
              <a:gd name="adj2" fmla="val 49995"/>
              <a:gd name="adj3" fmla="val -1098584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a baseline file exists that matches the output file, perform a comparison of the two files.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307440" y="1600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21337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2133720"/>
            <a:ext cx="1219320" cy="76176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62520" y="21337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2438280"/>
            <a:ext cx="1218960" cy="76212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2438280"/>
            <a:ext cx="121932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4267080"/>
            <a:ext cx="1219320" cy="762120"/>
          </a:xfrm>
          <a:prstGeom prst="rect">
            <a:avLst/>
          </a:prstGeom>
          <a:solidFill>
            <a:srgbClr val="f6fa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21337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,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313" idx="0"/>
            <a:endCxn id="312" idx="2"/>
          </p:cNvCxnSpPr>
          <p:nvPr/>
        </p:nvCxnSpPr>
        <p:spPr>
          <a:xfrm flipV="1">
            <a:off x="3276360" y="3199680"/>
            <a:ext cx="160092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a summary report of test execu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307440" y="1600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21337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2133720"/>
            <a:ext cx="1219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21337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2438280"/>
            <a:ext cx="12189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14800" y="228600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2438280"/>
            <a:ext cx="12193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2133720"/>
            <a:ext cx="121896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,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76520" y="3809880"/>
            <a:ext cx="121896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ummary Repor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85800" y="1981080"/>
          <a:ext cx="7162920" cy="4695840"/>
        </p:xfrm>
        <a:graphic>
          <a:graphicData uri="http://schemas.openxmlformats.org/drawingml/2006/table">
            <a:tbl>
              <a:tblPr/>
              <a:tblGrid>
                <a:gridCol w="3581280"/>
                <a:gridCol w="3581640"/>
              </a:tblGrid>
              <a:tr h="87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Stat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7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ase file hierarc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50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 Struc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50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xt to re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50000"/>
                        <a:buFont typeface="Monotype Sort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mess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F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F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sheet, DTD, Schemat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ummary of methodolog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architect defines stylesheet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 is assigned a mo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 creates use case fi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are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 iteratively creates XSLT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sheet and output files are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is "baseline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Benefit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is defined for deve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 demonstrates understanding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files serve as communication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 does not simply state constraints.  Constraints are enfor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test is built dur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XSLT Us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con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a shift in mind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support not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so counter-intuitive everyone must solve on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XSLT Modularit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sl:im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import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precedence overrides other prece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for named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sl: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a single logica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ed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 with named templa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Very Contrived Exampl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T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.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.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DT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.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q.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Articl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:arti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:title , in:section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:tit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|in:emph|meta:edit-by | meta:edit-date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: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:title? , (in:para+ | in:section+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: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 | in:emph | meta:edit-by | meta:edit-date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:em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 | meta:edit-by | meta:edit-date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:edit-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:edit-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Instruction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:man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:title , (in:section+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| man:step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:tit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#PCDATA|in:emph | meta:edit-by | meta:edit-dat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:s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:title? , (in:para+ | in:section+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n:st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)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n: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n:num , in:para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: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#PCDATA | in:emph | meta:edit-by | meta:edit-dat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:e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#PCDATA | meta:edit-by | meta:edit-dat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:edit-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#PC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:edit-d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#PC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n:n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#PC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Book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:bo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ut:label? , out:header , out:section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:hea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|out:italics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: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ut:label? , out:header? 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out:section | out:par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: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 | out:italics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:ital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:lab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#PC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Jane Harnard</cp:lastModifiedBy>
  <cp:lastPrinted>2009-04-22T19:24:48Z</cp:lastPrinted>
  <dcterms:modified xsi:type="dcterms:W3CDTF">2006-05-10T21:10:2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