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861F-4609-4EF3-93CC-ED7093A5E17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 is human factors.  Bertolt Brecht:  “Dissolve the people and elect anoth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t is not outcome”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 Most Things F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aul Or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never join a club that would have me as a member.”  Groucho Marx – (may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D719-C27F-43AA-A4E2-62B6C75A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EA90-3A53-4BCC-8040-CEE2FE1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7454-EC4F-44B1-8745-DF7B9FC6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3A85-288B-4E3E-9F20-7E610FC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B3F2-4890-4113-9BE6-F8890B15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B796-EC0F-4B0C-9DA6-5D7ABC2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967D-B51D-4530-A7F3-3492719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DA91-BF18-42EA-B431-8D16754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36F1-191B-4C33-A3DF-538D1BB4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A46C-9845-449F-8D9B-E0909FD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4CDD-7C95-4E0D-A458-D5B0BFB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39B-EA7F-4D1D-8365-2409E44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6384960"/>
            <a:ext cx="5866920" cy="320760"/>
            <a:chOff x="685800" y="6384960"/>
            <a:chExt cx="5866920" cy="320760"/>
          </a:xfrm>
        </p:grpSpPr>
        <p:sp>
          <p:nvSpPr>
            <p:cNvPr id="1" name=""/>
            <p:cNvSpPr/>
            <p:nvPr/>
          </p:nvSpPr>
          <p:spPr>
            <a:xfrm>
              <a:off x="2231640" y="6384960"/>
              <a:ext cx="2775240" cy="320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988160" y="6384960"/>
              <a:ext cx="1564560" cy="32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6384960"/>
              <a:ext cx="1564560" cy="32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7150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6F7-0107-456E-A25D-77A25D57185A}" type="slidenum">
              <a:rPr b="0" lang="en-US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723600" y="6400440"/>
            <a:ext cx="1104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3"/>
          </p:nvPr>
        </p:nvSpPr>
        <p:spPr>
          <a:xfrm>
            <a:off x="1828440" y="6400440"/>
            <a:ext cx="388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234200" y="6248520"/>
            <a:ext cx="145260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he Goal of Interoperability -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ocio-Economic Liberty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 Black"/>
              </a:rPr>
              <a:t>OASIS Symposium 2006</a:t>
            </a:r>
            <a:endParaRPr b="0" lang="en-US" sz="32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ocio-Economic Cost &amp; Regul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The Model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gulations/Standards cost something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tes 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tes de-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522A-74A6-456E-A7C8-2B8452280F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Socio-Economic Cost - Regul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-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952880" y="5562720"/>
            <a:ext cx="3810240" cy="330120"/>
            <a:chOff x="4952880" y="5562720"/>
            <a:chExt cx="3810240" cy="330120"/>
          </a:xfrm>
        </p:grpSpPr>
        <p:sp>
          <p:nvSpPr>
            <p:cNvPr id="136" name=""/>
            <p:cNvSpPr/>
            <p:nvPr/>
          </p:nvSpPr>
          <p:spPr>
            <a:xfrm>
              <a:off x="5029200" y="5562720"/>
              <a:ext cx="3657600" cy="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29600" y="5600880"/>
              <a:ext cx="53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5600880"/>
              <a:ext cx="53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5600880"/>
              <a:ext cx="1143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gul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86200" y="2300400"/>
            <a:ext cx="1143000" cy="3401640"/>
            <a:chOff x="3886200" y="2300400"/>
            <a:chExt cx="1143000" cy="3401640"/>
          </a:xfrm>
        </p:grpSpPr>
        <p:sp>
          <p:nvSpPr>
            <p:cNvPr id="141" name=""/>
            <p:cNvSpPr/>
            <p:nvPr/>
          </p:nvSpPr>
          <p:spPr>
            <a:xfrm flipV="1">
              <a:off x="5029200" y="2362320"/>
              <a:ext cx="0" cy="320040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5410080"/>
              <a:ext cx="53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3656160"/>
              <a:ext cx="11430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cio-Economic Co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5680" y="2300400"/>
              <a:ext cx="53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029200" y="259092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Arial"/>
              </a:rPr>
              <a:t>Anarch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59236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Arial"/>
              </a:rPr>
              <a:t>Tyrann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38960" y="2886120"/>
            <a:ext cx="633240" cy="1838160"/>
          </a:xfrm>
          <a:custGeom>
            <a:avLst/>
            <a:gdLst/>
            <a:ahLst/>
            <a:rect l="l" t="t" r="r" b="b"/>
            <a:pathLst>
              <a:path w="399" h="1158">
                <a:moveTo>
                  <a:pt x="0" y="0"/>
                </a:moveTo>
                <a:cubicBezTo>
                  <a:pt x="6" y="46"/>
                  <a:pt x="19" y="183"/>
                  <a:pt x="39" y="279"/>
                </a:cubicBezTo>
                <a:cubicBezTo>
                  <a:pt x="59" y="375"/>
                  <a:pt x="89" y="480"/>
                  <a:pt x="120" y="576"/>
                </a:cubicBezTo>
                <a:cubicBezTo>
                  <a:pt x="151" y="672"/>
                  <a:pt x="179" y="758"/>
                  <a:pt x="225" y="855"/>
                </a:cubicBezTo>
                <a:cubicBezTo>
                  <a:pt x="271" y="952"/>
                  <a:pt x="363" y="1095"/>
                  <a:pt x="399" y="1158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19400" y="2895480"/>
            <a:ext cx="633240" cy="1838520"/>
          </a:xfrm>
          <a:custGeom>
            <a:avLst/>
            <a:gdLst/>
            <a:ahLst/>
            <a:rect l="l" t="t" r="r" b="b"/>
            <a:pathLst>
              <a:path w="399" h="1158">
                <a:moveTo>
                  <a:pt x="0" y="0"/>
                </a:moveTo>
                <a:cubicBezTo>
                  <a:pt x="6" y="46"/>
                  <a:pt x="19" y="183"/>
                  <a:pt x="39" y="279"/>
                </a:cubicBezTo>
                <a:cubicBezTo>
                  <a:pt x="59" y="375"/>
                  <a:pt x="89" y="480"/>
                  <a:pt x="120" y="576"/>
                </a:cubicBezTo>
                <a:cubicBezTo>
                  <a:pt x="151" y="672"/>
                  <a:pt x="179" y="758"/>
                  <a:pt x="225" y="855"/>
                </a:cubicBezTo>
                <a:cubicBezTo>
                  <a:pt x="271" y="952"/>
                  <a:pt x="363" y="1095"/>
                  <a:pt x="399" y="1158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66236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Arial"/>
              </a:rPr>
              <a:t>Liber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FC52-E400-49AB-93BB-FB023C4D91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Socio-Economic Liber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86200" y="2286000"/>
            <a:ext cx="4876920" cy="3592440"/>
            <a:chOff x="3886200" y="2286000"/>
            <a:chExt cx="4876920" cy="3592440"/>
          </a:xfrm>
        </p:grpSpPr>
        <p:grpSp>
          <p:nvGrpSpPr>
            <p:cNvPr id="152" name=""/>
            <p:cNvGrpSpPr/>
            <p:nvPr/>
          </p:nvGrpSpPr>
          <p:grpSpPr>
            <a:xfrm>
              <a:off x="4953240" y="5548320"/>
              <a:ext cx="3809520" cy="330120"/>
              <a:chOff x="4953240" y="5548320"/>
              <a:chExt cx="3809520" cy="330120"/>
            </a:xfrm>
          </p:grpSpPr>
          <p:sp>
            <p:nvSpPr>
              <p:cNvPr id="153" name=""/>
              <p:cNvSpPr/>
              <p:nvPr/>
            </p:nvSpPr>
            <p:spPr>
              <a:xfrm>
                <a:off x="5029200" y="5548320"/>
                <a:ext cx="3657240" cy="0"/>
              </a:xfrm>
              <a:prstGeom prst="line">
                <a:avLst/>
              </a:prstGeom>
              <a:ln w="28440">
                <a:solidFill>
                  <a:srgbClr val="5e574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29600" y="5586480"/>
                <a:ext cx="533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53240" y="5586480"/>
                <a:ext cx="533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5586480"/>
                <a:ext cx="1142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egula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86200" y="2286000"/>
              <a:ext cx="1143000" cy="3401640"/>
              <a:chOff x="3886200" y="2286000"/>
              <a:chExt cx="1143000" cy="340164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5029200" y="2347920"/>
                <a:ext cx="0" cy="3200400"/>
              </a:xfrm>
              <a:prstGeom prst="line">
                <a:avLst/>
              </a:prstGeom>
              <a:ln w="28440">
                <a:solidFill>
                  <a:srgbClr val="5e574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95680" y="5395680"/>
                <a:ext cx="5335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86200" y="3641760"/>
                <a:ext cx="11430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ocio-Economic Cos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2286000"/>
                <a:ext cx="5335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029200" y="257652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99"/>
                  </a:solidFill>
                  <a:latin typeface="Arial"/>
                </a:rPr>
                <a:t>Anarch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2577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99"/>
                  </a:solidFill>
                  <a:latin typeface="Arial"/>
                </a:rPr>
                <a:t>Tyrann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38960" y="2871720"/>
              <a:ext cx="633240" cy="1838520"/>
            </a:xfrm>
            <a:custGeom>
              <a:avLst/>
              <a:gdLst/>
              <a:ahLst/>
              <a:rect l="l" t="t" r="r" b="b"/>
              <a:pathLst>
                <a:path w="399" h="1158">
                  <a:moveTo>
                    <a:pt x="0" y="0"/>
                  </a:moveTo>
                  <a:cubicBezTo>
                    <a:pt x="6" y="46"/>
                    <a:pt x="19" y="183"/>
                    <a:pt x="39" y="279"/>
                  </a:cubicBezTo>
                  <a:cubicBezTo>
                    <a:pt x="59" y="375"/>
                    <a:pt x="89" y="480"/>
                    <a:pt x="120" y="576"/>
                  </a:cubicBezTo>
                  <a:cubicBezTo>
                    <a:pt x="151" y="672"/>
                    <a:pt x="179" y="758"/>
                    <a:pt x="225" y="855"/>
                  </a:cubicBezTo>
                  <a:cubicBezTo>
                    <a:pt x="271" y="952"/>
                    <a:pt x="363" y="1095"/>
                    <a:pt x="399" y="1158"/>
                  </a:cubicBezTo>
                </a:path>
              </a:pathLst>
            </a:custGeom>
            <a:noFill/>
            <a:ln w="57240">
              <a:solidFill>
                <a:srgbClr val="33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19400" y="2881440"/>
              <a:ext cx="633240" cy="1838160"/>
            </a:xfrm>
            <a:custGeom>
              <a:avLst/>
              <a:gdLst/>
              <a:ahLst/>
              <a:rect l="l" t="t" r="r" b="b"/>
              <a:pathLst>
                <a:path w="399" h="1158">
                  <a:moveTo>
                    <a:pt x="0" y="0"/>
                  </a:moveTo>
                  <a:cubicBezTo>
                    <a:pt x="6" y="46"/>
                    <a:pt x="19" y="183"/>
                    <a:pt x="39" y="279"/>
                  </a:cubicBezTo>
                  <a:cubicBezTo>
                    <a:pt x="59" y="375"/>
                    <a:pt x="89" y="480"/>
                    <a:pt x="120" y="576"/>
                  </a:cubicBezTo>
                  <a:cubicBezTo>
                    <a:pt x="151" y="672"/>
                    <a:pt x="179" y="758"/>
                    <a:pt x="225" y="855"/>
                  </a:cubicBezTo>
                  <a:cubicBezTo>
                    <a:pt x="271" y="952"/>
                    <a:pt x="363" y="1095"/>
                    <a:pt x="399" y="1158"/>
                  </a:cubicBezTo>
                </a:path>
              </a:pathLst>
            </a:custGeom>
            <a:noFill/>
            <a:ln w="57240">
              <a:solidFill>
                <a:srgbClr val="33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464832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99"/>
                  </a:solidFill>
                  <a:latin typeface="Arial"/>
                </a:rPr>
                <a:t>Liber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lowest-cost regulation enabling optimal 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A5F3-1480-4629-855C-97EB254D5B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does Interoperability mea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657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means, with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ted domain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al -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o-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berty -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hieved by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ents: human,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9A41-54AA-4418-BCC8-A32ED2EC8C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quirements &amp; Choic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Deriving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Socio-Economic Liberty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quirements Domain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FC 2119 Key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, SHALL,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ONAL, MAY,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4114800"/>
            <a:ext cx="1600200" cy="99072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34040" y="42973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42670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602240"/>
            <a:ext cx="7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952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9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602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790C-AC08-4B11-BB40-FA06FE19BD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riving Choice –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eriving Liberty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nel m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 – Po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114800"/>
            <a:ext cx="1600200" cy="99072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748560" y="3505320"/>
            <a:ext cx="295200" cy="533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7476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334200" y="3524400"/>
            <a:ext cx="371520" cy="514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629400" y="403848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010280" y="4038480"/>
            <a:ext cx="1526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96160" y="4038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09480" y="2286000"/>
            <a:ext cx="374760" cy="380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692280" y="2743200"/>
            <a:ext cx="21096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638280" y="3200400"/>
            <a:ext cx="315720" cy="43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648320"/>
            <a:ext cx="68580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2D2D-0AB6-4361-87E2-1F3EF5EA85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halleng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Too many good ideas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main diversi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tive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e of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of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15200" y="3962520"/>
            <a:ext cx="914400" cy="914400"/>
            <a:chOff x="7315200" y="3962520"/>
            <a:chExt cx="914400" cy="91440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7315200" y="3962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7770960" y="4205880"/>
              <a:ext cx="149400" cy="3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7620120" y="2900520"/>
            <a:ext cx="914400" cy="914400"/>
            <a:chOff x="7620120" y="2900520"/>
            <a:chExt cx="914400" cy="914400"/>
          </a:xfrm>
        </p:grpSpPr>
        <p:pic>
          <p:nvPicPr>
            <p:cNvPr id="208" name="" descr=""/>
            <p:cNvPicPr/>
            <p:nvPr/>
          </p:nvPicPr>
          <p:blipFill>
            <a:blip r:embed="rId5"/>
            <a:stretch/>
          </p:blipFill>
          <p:spPr>
            <a:xfrm>
              <a:off x="7620120" y="2900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8044920" y="3241440"/>
              <a:ext cx="189360" cy="24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5181480" y="2933640"/>
            <a:ext cx="914400" cy="847800"/>
            <a:chOff x="5181480" y="2933640"/>
            <a:chExt cx="914400" cy="8478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181480" y="2933640"/>
              <a:ext cx="9144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5632560" y="3204360"/>
              <a:ext cx="1879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5562720" y="3962520"/>
            <a:ext cx="914400" cy="914400"/>
            <a:chOff x="5562720" y="3962520"/>
            <a:chExt cx="914400" cy="914400"/>
          </a:xfrm>
        </p:grpSpPr>
        <p:pic>
          <p:nvPicPr>
            <p:cNvPr id="214" name="" descr=""/>
            <p:cNvPicPr/>
            <p:nvPr/>
          </p:nvPicPr>
          <p:blipFill>
            <a:blip r:embed="rId9"/>
            <a:stretch/>
          </p:blipFill>
          <p:spPr>
            <a:xfrm>
              <a:off x="5562720" y="3962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0"/>
            <a:stretch/>
          </p:blipFill>
          <p:spPr>
            <a:xfrm>
              <a:off x="6009840" y="4303080"/>
              <a:ext cx="1630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562720" y="3581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648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B594-E622-4656-AD7E-8984155F89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457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828800"/>
            <a:ext cx="69339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uthor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ck Fe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Research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ling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9B33-CE15-4022-A86D-016310222F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volution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ars as a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et new standa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3610080"/>
            <a:ext cx="295560" cy="533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315200" y="3686040"/>
            <a:ext cx="374760" cy="381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095880" y="3619440"/>
            <a:ext cx="371520" cy="514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562800" y="4648320"/>
            <a:ext cx="68580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70680" y="4495680"/>
            <a:ext cx="1670040" cy="622440"/>
            <a:chOff x="6070680" y="4495680"/>
            <a:chExt cx="1670040" cy="622440"/>
          </a:xfrm>
        </p:grpSpPr>
        <p:sp>
          <p:nvSpPr>
            <p:cNvPr id="228" name=""/>
            <p:cNvSpPr/>
            <p:nvPr/>
          </p:nvSpPr>
          <p:spPr>
            <a:xfrm>
              <a:off x="6902280" y="4495680"/>
              <a:ext cx="838440" cy="622440"/>
            </a:xfrm>
            <a:custGeom>
              <a:avLst/>
              <a:gdLst/>
              <a:ahLst/>
              <a:rect l="l" t="t" r="r" b="b"/>
              <a:pathLst>
                <a:path w="528" h="392">
                  <a:moveTo>
                    <a:pt x="0" y="392"/>
                  </a:moveTo>
                  <a:cubicBezTo>
                    <a:pt x="31" y="383"/>
                    <a:pt x="127" y="365"/>
                    <a:pt x="188" y="336"/>
                  </a:cubicBezTo>
                  <a:cubicBezTo>
                    <a:pt x="249" y="307"/>
                    <a:pt x="307" y="272"/>
                    <a:pt x="364" y="216"/>
                  </a:cubicBezTo>
                  <a:cubicBezTo>
                    <a:pt x="421" y="160"/>
                    <a:pt x="494" y="45"/>
                    <a:pt x="528" y="0"/>
                  </a:cubicBezTo>
                </a:path>
              </a:pathLst>
            </a:custGeom>
            <a:noFill/>
            <a:ln w="28440">
              <a:solidFill>
                <a:srgbClr val="a0005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70680" y="4495680"/>
              <a:ext cx="863640" cy="622440"/>
            </a:xfrm>
            <a:custGeom>
              <a:avLst/>
              <a:gdLst/>
              <a:ahLst/>
              <a:rect l="l" t="t" r="r" b="b"/>
              <a:pathLst>
                <a:path w="544" h="392">
                  <a:moveTo>
                    <a:pt x="544" y="392"/>
                  </a:moveTo>
                  <a:cubicBezTo>
                    <a:pt x="512" y="383"/>
                    <a:pt x="413" y="369"/>
                    <a:pt x="352" y="340"/>
                  </a:cubicBezTo>
                  <a:cubicBezTo>
                    <a:pt x="291" y="311"/>
                    <a:pt x="239" y="273"/>
                    <a:pt x="180" y="216"/>
                  </a:cubicBezTo>
                  <a:cubicBezTo>
                    <a:pt x="121" y="159"/>
                    <a:pt x="38" y="45"/>
                    <a:pt x="0" y="0"/>
                  </a:cubicBezTo>
                </a:path>
              </a:pathLst>
            </a:custGeom>
            <a:noFill/>
            <a:ln w="28440">
              <a:solidFill>
                <a:srgbClr val="a0005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324480" y="5211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0050"/>
                </a:solidFill>
                <a:latin typeface="Arial"/>
              </a:rPr>
              <a:t>Ver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421A-D766-4E09-B1A8-C6CB052417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isrup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 Conv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velo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ffic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fosters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638680" y="3733920"/>
            <a:ext cx="37152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410080" y="2971800"/>
            <a:ext cx="37152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371520" cy="514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6553080" y="2971800"/>
            <a:ext cx="6001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DDF1-59CF-454D-AE6B-529C5E0AAD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Understanding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Model Use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he Model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you’ve b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you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where you are go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 is not outcome</a:t>
            </a:r>
            <a:r>
              <a:rPr b="0" lang="en-US" sz="2600" spc="-1" strike="noStrike" baseline="50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8672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Ormerod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 Most Things F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(New York: Pantheon Books, 2005), Page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D87E-9A56-430F-87EF-FA4EB3F47C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does Interoperability mea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means, with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ted domain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al -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o-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ber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hieved by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ents: human,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08E2-9412-4C52-BB08-5D116E55A7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38560" y="2133720"/>
            <a:ext cx="4700520" cy="3724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sk yourself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3886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contributing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ran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r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riving lib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reac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have you b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i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5604-9636-496F-B63F-EEFCEF32E5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Question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does interoperability mea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means, within a regulated domain, the goal -- socio-economic liberty (optimal commerce) -- has been achieved by participating agents: human, software, hardwa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12F8-1D31-44D4-AA22-D3912C1294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-Economic Cost &amp;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&amp;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7716-79B4-47FE-AF6B-12EFF9AC5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gulation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33"/>
                </a:solidFill>
                <a:latin typeface="Arial Black"/>
              </a:rPr>
              <a:t>“</a:t>
            </a:r>
            <a:r>
              <a:rPr b="0" i="1" lang="en-US" sz="2400" spc="-1" strike="noStrike">
                <a:solidFill>
                  <a:srgbClr val="ff9933"/>
                </a:solidFill>
                <a:latin typeface="Arial Black"/>
              </a:rPr>
              <a:t>Regulations are for people that need to be regulated”</a:t>
            </a:r>
            <a:endParaRPr b="0" lang="en-US" sz="2400" spc="-1" strike="noStrike">
              <a:solidFill>
                <a:srgbClr val="ff9933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33"/>
                </a:solidFill>
                <a:latin typeface="Arial Black"/>
              </a:rPr>
              <a:t>Anonymous</a:t>
            </a:r>
            <a:endParaRPr b="0" lang="en-US" sz="1800" spc="-1" strike="noStrike">
              <a:solidFill>
                <a:srgbClr val="ff9933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i="1" lang="en-US" sz="1800" spc="-1" strike="noStrike">
                <a:solidFill>
                  <a:srgbClr val="ff9933"/>
                </a:solidFill>
                <a:latin typeface="Arial Black"/>
              </a:rPr>
              <a:t>US Army -1946</a:t>
            </a:r>
            <a:endParaRPr b="0" lang="en-US" sz="1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gulations Govern: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– a regulation of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06B0-EA9A-428F-8402-16013A76FA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gulation Domai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 – To establish acceptable community behavior to foster 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participation in/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erc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9F1B-77CF-4DD8-A6A8-B90F0731DA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o imposes regulations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y –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-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– social mores,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i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D023-2296-4BB9-838D-A533E176C2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114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ing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703440" cy="971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467480" y="1523880"/>
            <a:ext cx="70344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629400" y="2514600"/>
            <a:ext cx="703440" cy="97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831080" y="2838600"/>
            <a:ext cx="703440" cy="97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831080" y="4114800"/>
            <a:ext cx="703440" cy="971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0080" y="114300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121932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251460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3809880"/>
            <a:ext cx="137160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324480" y="5105520"/>
            <a:ext cx="703440" cy="971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257800" y="4419720"/>
            <a:ext cx="703440" cy="97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6400800" y="3753000"/>
            <a:ext cx="703440" cy="97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5880" y="350532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11480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876920"/>
            <a:ext cx="13716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e Goal of Interoperability - Socio-Economic Liber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6D62-1C7E-46DD-A27D-9CA240C3CA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9,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Jane Harnard</cp:lastModifiedBy>
  <cp:lastPrinted>2001-10-03T13:09:55Z</cp:lastPrinted>
  <dcterms:modified xsi:type="dcterms:W3CDTF">2006-05-11T15:39:16Z</dcterms:modified>
  <cp:revision>264</cp:revision>
  <dc:subject>Web Services</dc:subject>
  <dc:title>OASIS: Integrating Standards for Web Services, Business Processes &amp; Remote Portals</dc:title>
</cp:coreProperties>
</file>