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23619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nteroperability Challeng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440" y="4876920"/>
            <a:ext cx="32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rret Minak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irector of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racl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omponents of Interoperabilit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etwork Availabilit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4743360"/>
            <a:ext cx="71629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bility to connect two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ubiqui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not exclude SMEs due to excessive hardware/softwar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.  Success: 9 out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9880" y="2247840"/>
            <a:ext cx="851040" cy="851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1828800" y="2781000"/>
            <a:ext cx="160020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38280" y="308628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21715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00996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05720" y="2514600"/>
            <a:ext cx="900000" cy="93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5800" y="152388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477120" y="137160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1441440" y="335268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5791320" y="3429000"/>
            <a:ext cx="900000" cy="93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623880" y="2651040"/>
            <a:ext cx="90000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liable Deliver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4743360"/>
            <a:ext cx="71629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y deliver to a specifi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must be sec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trac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&amp; SOAP-based protocols.  Success: 6 out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9880" y="2247840"/>
            <a:ext cx="851040" cy="851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828800" y="2742840"/>
            <a:ext cx="1676520" cy="19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705720" y="2514600"/>
            <a:ext cx="900000" cy="93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5800" y="152388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77120" y="137160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441440" y="335268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791320" y="3429000"/>
            <a:ext cx="900000" cy="93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623880" y="265104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800600" y="2133720"/>
            <a:ext cx="144792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240" y="297180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2819520" y="3048120"/>
            <a:ext cx="782640" cy="420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2209680" y="2590920"/>
            <a:ext cx="782640" cy="420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029200" y="2133720"/>
            <a:ext cx="78264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ommon Languag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4743360"/>
            <a:ext cx="71629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must be in a language understood by all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,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&amp; XML-related standards.  Success: 8 out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63760" y="167652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76520" y="2057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2514600"/>
            <a:ext cx="1371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3360" y="297180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3880" y="1676520"/>
            <a:ext cx="900000" cy="93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902200" y="1447920"/>
            <a:ext cx="2522520" cy="32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248520" y="3822840"/>
            <a:ext cx="1676160" cy="59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248520" y="3008160"/>
            <a:ext cx="1676160" cy="649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248520" y="2209680"/>
            <a:ext cx="90000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omprehens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743360"/>
            <a:ext cx="71629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language is no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and meaning of the content must be understood by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industry standards.  Success: 1 out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63760" y="167652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76520" y="2057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752480" y="2514600"/>
            <a:ext cx="1371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3360" y="2971800"/>
            <a:ext cx="1073160" cy="1069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23880" y="1676520"/>
            <a:ext cx="900000" cy="930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902200" y="1447920"/>
            <a:ext cx="2522520" cy="327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029200" y="2133720"/>
            <a:ext cx="725400" cy="769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0040" y="2514600"/>
            <a:ext cx="222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uld like to acquire in exchange for money 5 INV.PID356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5257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&amp; SOAP-based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&amp; XML-base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industr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248520" y="2362320"/>
          <a:ext cx="2590560" cy="27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362320"/>
                    <a:ext cx="259056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248520" y="3276720"/>
          <a:ext cx="2590560" cy="27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3276720"/>
                    <a:ext cx="259056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4267080"/>
          <a:ext cx="2590560" cy="273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4267080"/>
                    <a:ext cx="259056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48520" y="5213520"/>
          <a:ext cx="2590560" cy="27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48520" y="5213520"/>
                    <a:ext cx="259056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81960" y="27432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ut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6440" y="46483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out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82680" y="36576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ut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6440" y="55627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ut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2209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3124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114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olving the Comprehension Problem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Naming and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11179 (C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mponents Technical Specification (C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ebiz suite</cp:lastModifiedBy>
  <cp:lastPrinted>2001-10-03T13:09:55Z</cp:lastPrinted>
  <dcterms:modified xsi:type="dcterms:W3CDTF">2006-05-02T16:21:06Z</dcterms:modified>
  <cp:revision>252</cp:revision>
  <dc:subject>Web Services</dc:subject>
  <dc:title>OASIS: Integrating Standards for Web Services, Business Processes &amp; Remote Portals</dc:title>
</cp:coreProperties>
</file>