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68360" y="763200"/>
            <a:ext cx="5011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4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4980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4980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4980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4980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61DBA-296E-4404-A789-C8AE24846B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71600" y="763560"/>
            <a:ext cx="502128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71600" y="763560"/>
            <a:ext cx="502128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371600" y="763560"/>
            <a:ext cx="502128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5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368360" y="763560"/>
            <a:ext cx="501480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71600" y="763560"/>
            <a:ext cx="502128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195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9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59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5480" y="176832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5480" y="437400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7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9760" y="1768320"/>
            <a:ext cx="2917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7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66520" y="4374000"/>
            <a:ext cx="2917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9760" y="4374000"/>
            <a:ext cx="2917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9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6948"/>
              </a:lnSpc>
              <a:spcBef>
                <a:spcPts val="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9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45480" y="1768320"/>
            <a:ext cx="4420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976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6948"/>
              </a:lnSpc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5480" y="1768320"/>
            <a:ext cx="4420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9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6948"/>
              </a:lnSpc>
              <a:spcBef>
                <a:spcPts val="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5480" y="176832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45480" y="437400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5480" y="176832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59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9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59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5480" y="176832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45480" y="437400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7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29760" y="1768320"/>
            <a:ext cx="2917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7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66520" y="4374000"/>
            <a:ext cx="2917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29760" y="4374000"/>
            <a:ext cx="2917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ABB-0DD2-4A26-B142-2329453B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9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6948"/>
              </a:lnSpc>
              <a:spcBef>
                <a:spcPts val="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12E8-B606-45CC-BA7A-449F5A4C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9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3370-BC45-48DE-B55F-7528F859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45480" y="1768320"/>
            <a:ext cx="4420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7F2-02C2-4448-8C7C-9C03F171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07D-2CED-4DBA-AA5C-17B6779E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9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976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6948"/>
              </a:lnSpc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621-35C2-477F-A978-220AA00E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5480" y="1768320"/>
            <a:ext cx="4420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8B86-5D60-4C9A-AA45-A2E26FD9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5480" y="176832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45480" y="437400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668-8741-4AC4-BE1E-1556ED39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5480" y="176832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59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C9C-55CF-48A3-9A48-ACCECB21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9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59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293-C7E4-4CF6-B81C-23217B0D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5480" y="176832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145480" y="437400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B58-07BD-4B85-9E06-AD01921C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7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629760" y="1768320"/>
            <a:ext cx="2917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7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66520" y="4374000"/>
            <a:ext cx="2917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629760" y="4374000"/>
            <a:ext cx="2917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001-36C8-485D-8245-91201D33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5480" y="1768320"/>
            <a:ext cx="4420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976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6948"/>
              </a:lnSpc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5480" y="1768320"/>
            <a:ext cx="4420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5480" y="176832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5480" y="437400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5480" y="1768320"/>
            <a:ext cx="4420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59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4000"/>
              </a:lnSpc>
              <a:spcBef>
                <a:spcPts val="887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3080" y="415800"/>
            <a:ext cx="9588600" cy="849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9400" y="2435040"/>
            <a:ext cx="9512280" cy="4586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63600" indent="-363600">
              <a:lnSpc>
                <a:spcPct val="54000"/>
              </a:lnSpc>
              <a:spcBef>
                <a:spcPts val="887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4920">
              <a:lnSpc>
                <a:spcPct val="54000"/>
              </a:lnSpc>
              <a:spcBef>
                <a:spcPts val="887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247680">
              <a:lnSpc>
                <a:spcPct val="54000"/>
              </a:lnSpc>
              <a:spcBef>
                <a:spcPts val="887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51040" indent="-239760">
              <a:lnSpc>
                <a:spcPct val="54000"/>
              </a:lnSpc>
              <a:spcBef>
                <a:spcPts val="887"/>
              </a:spcBef>
              <a:buClr>
                <a:srgbClr val="ffcc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55760" indent="-247680">
              <a:lnSpc>
                <a:spcPct val="54000"/>
              </a:lnSpc>
              <a:spcBef>
                <a:spcPts val="887"/>
              </a:spcBef>
              <a:buClr>
                <a:srgbClr val="ffcc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55760" indent="-247680">
              <a:lnSpc>
                <a:spcPct val="54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55760" indent="-247680">
              <a:lnSpc>
                <a:spcPct val="54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344600" y="2184480"/>
            <a:ext cx="77281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97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59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lnSpc>
                <a:spcPct val="54000"/>
              </a:lnSpc>
              <a:spcBef>
                <a:spcPts val="887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4920">
              <a:lnSpc>
                <a:spcPct val="54000"/>
              </a:lnSpc>
              <a:spcBef>
                <a:spcPts val="887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247680">
              <a:lnSpc>
                <a:spcPct val="54000"/>
              </a:lnSpc>
              <a:spcBef>
                <a:spcPts val="887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51040" indent="-239760">
              <a:lnSpc>
                <a:spcPct val="54000"/>
              </a:lnSpc>
              <a:spcBef>
                <a:spcPts val="887"/>
              </a:spcBef>
              <a:buClr>
                <a:srgbClr val="ffcc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55760" indent="-247680">
              <a:lnSpc>
                <a:spcPct val="54000"/>
              </a:lnSpc>
              <a:spcBef>
                <a:spcPts val="887"/>
              </a:spcBef>
              <a:buClr>
                <a:srgbClr val="ffcc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55760" indent="-247680">
              <a:lnSpc>
                <a:spcPct val="54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55760" indent="-247680">
              <a:lnSpc>
                <a:spcPct val="54000"/>
              </a:lnSpc>
              <a:spcBef>
                <a:spcPts val="88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46080"/>
            <a:ext cx="90471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504360" y="1494000"/>
            <a:ext cx="9047160" cy="52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9680" indent="-304920">
              <a:lnSpc>
                <a:spcPct val="3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1320" indent="-279360">
              <a:lnSpc>
                <a:spcPct val="3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12760">
              <a:lnSpc>
                <a:spcPct val="3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193680">
              <a:lnSpc>
                <a:spcPct val="3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36600" indent="-203040">
              <a:lnSpc>
                <a:spcPct val="3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36600" indent="-203040">
              <a:lnSpc>
                <a:spcPct val="3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36600" indent="-203040">
              <a:lnSpc>
                <a:spcPct val="3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3227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19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241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2EF2C-C9E2-4F52-B2D3-1CA2D953C8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0720" y="2112480"/>
            <a:ext cx="90727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 Black"/>
              </a:rPr>
              <a:t>A Use Case for SAML Extensi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04720" y="4404960"/>
            <a:ext cx="9072720" cy="15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100" spc="-1" strike="noStrike">
                <a:solidFill>
                  <a:srgbClr val="ff9933"/>
                </a:solidFill>
                <a:latin typeface="Arial Black"/>
              </a:rPr>
              <a:t>Ashish Patel, France Telecom</a:t>
            </a:r>
            <a:endParaRPr b="0" lang="en-US" sz="3100" spc="-1" strike="noStrike">
              <a:solidFill>
                <a:srgbClr val="ff9933"/>
              </a:solidFill>
              <a:latin typeface="Arial Black"/>
            </a:endParaRPr>
          </a:p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100" spc="-1" strike="noStrike">
                <a:solidFill>
                  <a:srgbClr val="ff9933"/>
                </a:solidFill>
                <a:latin typeface="Arial Black"/>
              </a:rPr>
              <a:t>Paul Madsen, NTT</a:t>
            </a:r>
            <a:endParaRPr b="0" lang="en-US" sz="31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0720" y="728640"/>
            <a:ext cx="907272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Wildcard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4080" y="1284120"/>
            <a:ext cx="915516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03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3560" indent="-299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me content models contain the XSD </a:t>
            </a:r>
            <a:r>
              <a:rPr b="1" lang="en-GB" sz="3200" spc="-1" strike="noStrike">
                <a:solidFill>
                  <a:srgbClr val="000000"/>
                </a:solidFill>
                <a:latin typeface="CourierNewPSMT"/>
              </a:rPr>
              <a:t>&lt;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:any</a:t>
            </a:r>
            <a:r>
              <a:rPr b="1" lang="en-GB" sz="3200" spc="-1" strike="noStrike">
                <a:solidFill>
                  <a:srgbClr val="000000"/>
                </a:solidFill>
                <a:latin typeface="CourierNewPSMT"/>
              </a:rPr>
              <a:t>&gt;,&lt;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:anyAttribute</a:t>
            </a:r>
            <a:r>
              <a:rPr b="1" lang="en-GB" sz="3200" spc="-1" strike="noStrike">
                <a:solidFill>
                  <a:srgbClr val="000000"/>
                </a:solidFill>
                <a:latin typeface="CourierNewPSMT"/>
              </a:rPr>
              <a:t>&gt;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CourierNewPSMT"/>
              </a:rPr>
              <a:t> &lt;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saml:Extensions</a:t>
            </a:r>
            <a:r>
              <a:rPr b="1" lang="en-GB" sz="3200" spc="-1" strike="noStrike">
                <a:solidFill>
                  <a:srgbClr val="000000"/>
                </a:solidFill>
                <a:latin typeface="CourierNewPSMT"/>
              </a:rPr>
              <a:t>&gt;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ru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560" indent="-299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y create partially or fully “open” portions of a content model, where a variety of specific elem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nts not </a:t>
            </a:r>
            <a:r>
              <a:rPr b="1" i="1" lang="en-GB" sz="3200" spc="-1" strike="noStrike">
                <a:solidFill>
                  <a:srgbClr val="000000"/>
                </a:solidFill>
                <a:latin typeface="ArialMT"/>
              </a:rPr>
              <a:t>foreseen by the original schema may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560" indent="-299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lows elements from different namespaces to appear in assertions and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560" indent="-299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ch extensions can go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unremark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no need for new types to b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9200" y="460440"/>
            <a:ext cx="90648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Example wildcard extension poin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442880"/>
            <a:ext cx="9941040" cy="61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&lt;complexType name="StatusResponseType"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&lt;sequenc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&lt;element ref="saml:Issuer" minOccurs="0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200" spc="-1" strike="noStrike">
                <a:solidFill>
                  <a:srgbClr val="0000ff"/>
                </a:solidFill>
                <a:latin typeface="Courier New"/>
              </a:rPr>
              <a:t>&lt;element ref="samlp:Extensions" minOccurs="0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&lt;element ref="samlp:Status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&lt;/sequenc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&lt;attribute name="ID" type="ID" use="required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&lt;attribute name="InResponseTo" type="NCName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&lt;attribute name="Consent" type="anyURI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&lt;/complexTyp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Courier New"/>
              </a:rPr>
              <a:t>&lt;complexType name="ExtensionsType"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00ff"/>
                </a:solidFill>
                <a:latin typeface="Courier New"/>
              </a:rPr>
              <a:t>&lt;sequenc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Courier New"/>
              </a:rPr>
              <a:t>     </a:t>
            </a:r>
            <a:r>
              <a:rPr b="1" lang="en-GB" sz="2200" spc="-1" strike="noStrike">
                <a:solidFill>
                  <a:srgbClr val="0000ff"/>
                </a:solidFill>
                <a:latin typeface="Courier New"/>
              </a:rPr>
              <a:t>&lt;any namespace="##other" processContents="lax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00ff"/>
                </a:solidFill>
                <a:latin typeface="Courier New"/>
              </a:rPr>
              <a:t>&lt;/sequenc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Courier New"/>
              </a:rPr>
              <a:t>&lt;/complexTyp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9040" y="646200"/>
            <a:ext cx="9064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Example Wildcard instan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7920" y="2257560"/>
            <a:ext cx="93423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lt;saml:Response ID=”” InResponseTo=”” Consent=””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lt;saml:Issuer&gt;provider.example.com&lt;/saml:Issu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lt;saml:Extension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&lt;other:OtherElemen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&lt;/other:OtherElemen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lt;/saml:Extension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lt;saml:Statu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lt;saml:StatusCode Value=”Success”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lt;/saml:Statu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lt;/saml:Respons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587160"/>
            <a:ext cx="90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URI Identifier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3200" y="1370160"/>
            <a:ext cx="907272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03560" indent="-299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i="1" lang="en-GB" sz="3500" spc="-1" strike="noStrike">
                <a:solidFill>
                  <a:srgbClr val="000000"/>
                </a:solidFill>
                <a:latin typeface="Arial"/>
              </a:rPr>
              <a:t>SAML uses URI-based identifiers for interpreting selected SAML element and attribute content correctly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03560" indent="-299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i="1" lang="en-GB" sz="3500" spc="-1" strike="noStrike">
                <a:solidFill>
                  <a:srgbClr val="000000"/>
                </a:solidFill>
                <a:latin typeface="Arial"/>
              </a:rPr>
              <a:t>Different meanings indicated through an attribute that contains a URI referen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03560" indent="-299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i="1" lang="en-GB" sz="3500" spc="-1" strike="noStrike">
                <a:solidFill>
                  <a:srgbClr val="000000"/>
                </a:solidFill>
                <a:latin typeface="Arial"/>
              </a:rPr>
              <a:t>Extensible through the definition of new URI value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03560" indent="-299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i="1" lang="en-GB" sz="3500" spc="-1" strike="noStrike">
                <a:solidFill>
                  <a:srgbClr val="000000"/>
                </a:solidFill>
                <a:latin typeface="Arial"/>
              </a:rPr>
              <a:t>Technique specific to the SAML vocabulary and not global to XSD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7040" y="630360"/>
            <a:ext cx="906480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Example URI extension poin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9680" y="1765440"/>
            <a:ext cx="9941040" cy="52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&lt;complexType name="NameIDType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&lt;simpleConten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&lt;extension base="string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&lt;attributeGroup ref="saml:IDNameQualifiers"/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&lt;attribute name="Format" </a:t>
            </a:r>
            <a:r>
              <a:rPr b="1" lang="en-GB" sz="2600" spc="-1" strike="noStrike">
                <a:solidFill>
                  <a:srgbClr val="0000ff"/>
                </a:solidFill>
                <a:latin typeface="Courier New"/>
              </a:rPr>
              <a:t>type="anyURI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use="optional"/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&lt;attribute name="SPProvidedID" type="string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use="optional"/&gt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&lt;/extens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&lt;/simpleConten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&lt;/complexTyp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2920" y="608040"/>
            <a:ext cx="907092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Successful Extensions of SAM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33000" y="1476000"/>
            <a:ext cx="907092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30312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berty ID-FF is best known example of a customization/extension of SAML 1.0/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792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-FF used derived types to extend SAML AuthnRequest &amp; Authn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7880" indent="-3031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ibboleth defined new URIs for Format and AttributeName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7880" indent="-30312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ACML uses derived types to extend the SAML base request type for its own authz &amp; policy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7880" indent="-30312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P uses the &lt;Conditions&gt; extension point for binding a SAML 1.1 assertion to a SIP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22000" y="2925360"/>
            <a:ext cx="907236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Arial Black"/>
              </a:rPr>
              <a:t>Extensibility Use Case - “Shared Credential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652320"/>
            <a:ext cx="900900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Shared Credentials Use case</a:t>
            </a:r>
            <a:r>
              <a:rPr b="0" lang="en-GB" sz="49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417680"/>
            <a:ext cx="973296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lnSpc>
                <a:spcPct val="93000"/>
              </a:lnSpc>
              <a:spcBef>
                <a:spcPts val="887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ISPs and Telcos often identify "family" of Principals via IP address or phone line circuit. This passive authentication is sufficient to grant access to certain services: placing a phone call, accessing interne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3000"/>
              </a:lnSpc>
              <a:spcBef>
                <a:spcPts val="887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so need to be able to deliver personalized service to such shared terminal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3000"/>
              </a:lnSpc>
              <a:spcBef>
                <a:spcPts val="887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 3</a:t>
            </a:r>
            <a:r>
              <a:rPr b="0" lang="en-GB" sz="31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party service provider may provide both group level and personalized service e.g. address book in the above mentioned setup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3000"/>
              </a:lnSpc>
              <a:spcBef>
                <a:spcPts val="887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he SP relies on the IDP for both passive group authentication as well as active individual level authenticatio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9760" y="502920"/>
            <a:ext cx="952488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Shared Credentials - Use case</a:t>
            </a:r>
            <a:r>
              <a:rPr b="0" lang="en-GB" sz="4900" spc="-1" strike="noStrike">
                <a:solidFill>
                  <a:srgbClr val="000066"/>
                </a:solidFill>
                <a:latin typeface="Times New Roman"/>
              </a:rPr>
              <a:t> Cont'd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16080" y="1112760"/>
            <a:ext cx="9372600" cy="644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4680" y="884160"/>
            <a:ext cx="908496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Shared Credentials - Requirem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17520" y="1767960"/>
            <a:ext cx="94456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lnSpc>
                <a:spcPct val="93000"/>
              </a:lnSpc>
              <a:spcBef>
                <a:spcPts val="887"/>
              </a:spcBef>
              <a:buClr>
                <a:srgbClr val="ffcc00"/>
              </a:buClr>
              <a:buFont typeface="Arial"/>
              <a:buAutoNum type="arabicParenR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he SP can rely on IDP to authenticate Principal at both group and individual level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3000"/>
              </a:lnSpc>
              <a:spcBef>
                <a:spcPts val="887"/>
              </a:spcBef>
              <a:buClr>
                <a:srgbClr val="ffcc00"/>
              </a:buClr>
              <a:buFont typeface="Arial"/>
              <a:buAutoNum type="arabicParenR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he IDP can specify type of assertion it is issuing i.e. whether Principal was authenticated at group or individual level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3000"/>
              </a:lnSpc>
              <a:spcBef>
                <a:spcPts val="887"/>
              </a:spcBef>
              <a:buClr>
                <a:srgbClr val="ffcc00"/>
              </a:buClr>
              <a:buFont typeface="Arial"/>
              <a:buAutoNum type="arabicParenR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he SP can request of the IDP a particular type of assertion (group/individual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3000"/>
              </a:lnSpc>
              <a:spcBef>
                <a:spcPts val="887"/>
              </a:spcBef>
              <a:buClr>
                <a:srgbClr val="ffcc00"/>
              </a:buClr>
              <a:buFont typeface="Arial"/>
              <a:buAutoNum type="arabicParenR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he SP may not have knowledge about Principal belonging to group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447480"/>
            <a:ext cx="90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800" y="1328400"/>
            <a:ext cx="8977320" cy="59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303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operability is best enabled by tightly defined spec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7880" indent="-303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, new requirements, unforeseen when specs are first defined, will inevitably eme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7880" indent="-303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extensible standard provides near-term interoperability while accounting for such future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7880" indent="-303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igners of SAML attempted to anticipate future requirements by building in extensibility points throughout spec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7880" indent="-303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'll discuss the application of SAML's extensibility mechanisms in meeting the requirements of a common ISP identity use ca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280" y="652320"/>
            <a:ext cx="900900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Shared Credentials - Proposa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7360" y="1755720"/>
            <a:ext cx="9491760" cy="54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lnSpc>
                <a:spcPct val="71000"/>
              </a:lnSpc>
              <a:spcBef>
                <a:spcPts val="887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STZhongsong"/>
              </a:rPr>
              <a:t>Group or individual level will be distinguished by the type of credential by which the user authenticates to the ID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71000"/>
              </a:lnSpc>
              <a:spcBef>
                <a:spcPts val="887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STZhongsong"/>
              </a:rPr>
              <a:t>Group Identity == Shared Credent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71000"/>
              </a:lnSpc>
              <a:spcBef>
                <a:spcPts val="887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STZhongsong"/>
              </a:rPr>
              <a:t>Nature of the credential (i.e. shared or unique) will be expressed through the SAML Authentication Context (AC)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3000"/>
              </a:lnSpc>
              <a:spcBef>
                <a:spcPts val="887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STZhongsong"/>
              </a:rPr>
              <a:t>SAML AC provides a syntax by which the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STZhongsong"/>
              </a:rPr>
              <a:t>contex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STZhongsong"/>
              </a:rPr>
              <a:t> of an authentication event can be expres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66000"/>
              </a:lnSpc>
              <a:spcBef>
                <a:spcPts val="887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STZhongsong"/>
              </a:rPr>
              <a:t>Shared credential interpreted as just another aspect of the authentication con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3800" y="669600"/>
            <a:ext cx="893268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Shared Credentials - Detail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9240" y="1695240"/>
            <a:ext cx="9072360" cy="53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9640" indent="-359640">
              <a:lnSpc>
                <a:spcPct val="71000"/>
              </a:lnSpc>
              <a:spcBef>
                <a:spcPts val="887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request structure give SP little flexibility in expressing combinations of AC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301680">
              <a:lnSpc>
                <a:spcPct val="87000"/>
              </a:lnSpc>
              <a:spcBef>
                <a:spcPts val="774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) We are proposing a new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tocol exten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provide the required 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301680">
              <a:lnSpc>
                <a:spcPct val="87000"/>
              </a:lnSpc>
              <a:spcBef>
                <a:spcPts val="774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) We are proposing a new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adata exten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which providers can advertise support above exten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9640" indent="-359640">
              <a:lnSpc>
                <a:spcPct val="87000"/>
              </a:lnSpc>
              <a:spcBef>
                <a:spcPts val="887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AC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ngua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oes not cover concept of shared credent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301680">
              <a:lnSpc>
                <a:spcPct val="87000"/>
              </a:lnSpc>
              <a:spcBef>
                <a:spcPts val="774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) We are proposing a new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 schema exten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distinguish between shared /unique credent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6080" y="639360"/>
            <a:ext cx="976464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Protocol Extension Exampl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41200" y="1843200"/>
            <a:ext cx="9669600" cy="52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&lt;samlp:AuthnReques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&lt;samlp:Extension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&lt;rac:RequestedAuthnContext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&lt;rac:AuthnContextClassRef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           </a:t>
            </a:r>
            <a:r>
              <a:rPr b="1" i="1" lang="en-GB" sz="2800" spc="-1" strike="noStrike">
                <a:solidFill>
                  <a:srgbClr val="0000ff"/>
                </a:solidFill>
                <a:latin typeface="Courier New"/>
              </a:rPr>
              <a:t>ac:classes:Password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&lt;/rac:AuthnContextClassRef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&lt;rac:AuthnContextClassRef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Courier New"/>
              </a:rPr>
              <a:t>           </a:t>
            </a:r>
            <a:r>
              <a:rPr b="1" i="1" lang="en-GB" sz="2800" spc="-1" strike="noStrike">
                <a:solidFill>
                  <a:srgbClr val="0000ff"/>
                </a:solidFill>
                <a:latin typeface="Courier New"/>
              </a:rPr>
              <a:t>ac:classes:Non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&lt;/rac:AuthnContextClassRef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&lt;/rac:RequestedAuthnContext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&lt;/samlp:Extension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&lt;/samlp:AuthnReques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6000" y="731520"/>
            <a:ext cx="972504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tadata Extension Example</a:t>
            </a: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17520" y="2093400"/>
            <a:ext cx="976320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lt;md:EntityDescrip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mlns:md="SAML:2.0:metadata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lt;md:SingleSignOn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GB" sz="3200" spc="-1" strike="noStrike">
                <a:solidFill>
                  <a:srgbClr val="0000ff"/>
                </a:solidFill>
                <a:latin typeface="Courier New"/>
              </a:rPr>
              <a:t>sc:supportsRequestedAC="true"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.... 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lt;/md:EntityDescript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2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8000" y="609480"/>
            <a:ext cx="1008072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C Declaration Extensio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8802720" cy="57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&lt;saml:AuthnContext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&lt;ac:AuthnContextDeclaration&gt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&lt;ac:AuthnMethod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&lt;ac:PrincipalAuthenticationMechanis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&lt;ac:Extension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i="1" lang="en-GB" sz="2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i="1" lang="en-GB" sz="2200" spc="-1" strike="noStrike">
                <a:solidFill>
                  <a:srgbClr val="0000ff"/>
                </a:solidFill>
                <a:latin typeface="Courier New"/>
              </a:rPr>
              <a:t>&lt;sc:SharedCredential&gt;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200" spc="-1" strike="noStrike">
                <a:solidFill>
                  <a:srgbClr val="0000ff"/>
                </a:solidFill>
                <a:latin typeface="Courier New"/>
              </a:rPr>
              <a:t>                       </a:t>
            </a:r>
            <a:r>
              <a:rPr b="1" i="1" lang="en-GB" sz="2200" spc="-1" strike="noStrike">
                <a:solidFill>
                  <a:srgbClr val="0000ff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200" spc="-1" strike="noStrike">
                <a:solidFill>
                  <a:srgbClr val="0000ff"/>
                </a:solidFill>
                <a:latin typeface="Courier New"/>
              </a:rPr>
              <a:t>                   </a:t>
            </a:r>
            <a:r>
              <a:rPr b="1" i="1" lang="en-GB" sz="2200" spc="-1" strike="noStrike">
                <a:solidFill>
                  <a:srgbClr val="0000ff"/>
                </a:solidFill>
                <a:latin typeface="Courier New"/>
              </a:rPr>
              <a:t>&lt;/sc:SharedCredential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&lt;/ac:Extension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&lt;/ac:PrincipalAuthenticationMechanis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&lt;/ac:AuthnMethod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&lt;/ac:AuthnContextDeclaration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&lt;/saml:AuthnContext&gt;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22000" y="3490920"/>
            <a:ext cx="90723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280" y="652320"/>
            <a:ext cx="900900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30040" y="1767960"/>
            <a:ext cx="9647280" cy="51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9640" indent="-359640">
              <a:lnSpc>
                <a:spcPct val="93000"/>
              </a:lnSpc>
              <a:spcBef>
                <a:spcPts val="887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AML 2.0 provides a number of extensibility points by which new requirements, unforeseen at original drafting, can be accomodated in an interoperable manner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9640" indent="-359640">
              <a:lnSpc>
                <a:spcPct val="93000"/>
              </a:lnSpc>
              <a:spcBef>
                <a:spcPts val="887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e are proposing to leverage a number of SAML's extensibility points in order to address our Shared Credential Use Case requirement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9640" indent="-359640">
              <a:lnSpc>
                <a:spcPct val="93000"/>
              </a:lnSpc>
              <a:spcBef>
                <a:spcPts val="887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Balancing support for new Shared Credential requirements with interoperability based on unextended SAML 2.0 spec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14280" y="1875960"/>
            <a:ext cx="745200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58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lnSpc>
                <a:spcPct val="58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lnSpc>
                <a:spcPct val="58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Arial"/>
              </a:rPr>
              <a:t>'We demand rigid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lnSpc>
                <a:spcPct val="58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5400" spc="-1" strike="noStrike">
                <a:solidFill>
                  <a:srgbClr val="000000"/>
                </a:solidFill>
                <a:latin typeface="Arial"/>
              </a:rPr>
              <a:t>defined areas of doub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lnSpc>
                <a:spcPct val="58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Arial"/>
              </a:rPr>
              <a:t>and uncertainty'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58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r">
              <a:lnSpc>
                <a:spcPct val="58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Arial"/>
              </a:rPr>
              <a:t>Vroomfondl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r">
              <a:lnSpc>
                <a:spcPct val="58000"/>
              </a:lnSpc>
              <a:spcBef>
                <a:spcPts val="88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Arial"/>
              </a:rPr>
              <a:t>in Hitchhiker's Guide to the Galax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22000" y="3490920"/>
            <a:ext cx="90723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Arial Black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637920"/>
            <a:ext cx="77263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3840" y="1767960"/>
            <a:ext cx="970920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lnSpc>
                <a:spcPct val="93000"/>
              </a:lnSpc>
              <a:spcBef>
                <a:spcPts val="887"/>
              </a:spcBef>
              <a:buClr>
                <a:srgbClr val="ffcc00"/>
              </a:buClr>
              <a:buFont typeface="Arial"/>
              <a:buAutoNum type="arabicParenR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AML Introd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3000"/>
              </a:lnSpc>
              <a:spcBef>
                <a:spcPts val="887"/>
              </a:spcBef>
              <a:buClr>
                <a:srgbClr val="ffcc00"/>
              </a:buClr>
              <a:buFont typeface="Arial"/>
              <a:buAutoNum type="arabicParenR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AML Extensibility Mechanis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3000"/>
              </a:lnSpc>
              <a:spcBef>
                <a:spcPts val="887"/>
              </a:spcBef>
              <a:buClr>
                <a:srgbClr val="ffcc00"/>
              </a:buClr>
              <a:buFont typeface="Arial"/>
              <a:buAutoNum type="arabicParenR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xtensibility Use Case – 'Shared Credentials'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3000"/>
              </a:lnSpc>
              <a:spcBef>
                <a:spcPts val="887"/>
              </a:spcBef>
              <a:buClr>
                <a:srgbClr val="ffcc00"/>
              </a:buClr>
              <a:buFont typeface="Arial"/>
              <a:buAutoNum type="arabicParenR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480520" y="4603680"/>
            <a:ext cx="1457280" cy="27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22000" y="3348000"/>
            <a:ext cx="907236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 Black"/>
              </a:rPr>
              <a:t>SAML Introduction (Brief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587160"/>
            <a:ext cx="90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SAML Introdu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3840" y="1355400"/>
            <a:ext cx="9588600" cy="611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03560" indent="-2998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ecurity Assertions Markup Language (SAML) defines XML-based protocols &amp; syntax for passing security &amp; identity attributes between provid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03560" indent="-2998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AML 2.0 standardized by OASIS Security Services TC in Mar 200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03560" indent="-2998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Defines assertion &amp; protocol syntax, bindings to transport channels, and profiles for typical appli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03560" indent="-2998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trong support across wide range of applications &amp; industry, including telecommuni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2000" y="3348000"/>
            <a:ext cx="907236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 Black"/>
              </a:rPr>
              <a:t>SAML Extensibility Mech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9880" y="728640"/>
            <a:ext cx="90712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SAML Extensibility Mechanism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1640" y="1695600"/>
            <a:ext cx="9335880" cy="56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30312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tensibility of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792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ludes ways to modify (add to or subtract from) SAML's native XML content mode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7880" indent="-303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tensibility of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792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ludes ways to define new flows, called profiles, of SAML assertion creation, usage, and exchange. Sometimes these profiles also involve extended XML structures and content, as described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tensibility of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 includes ways to customize the format and interpretation of the content of SAML's XML elements and attrib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587160"/>
            <a:ext cx="90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Derived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431720"/>
            <a:ext cx="9072720" cy="61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03560" indent="-299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XML Schema allows a type to serve as a base type of an extended (or restricted)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560" indent="-299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ll of SAML's defined types are non-final and are explicitly documented as being deriv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560" indent="-299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SAML defines “deep” complex type hierarchies (and matching elements) especially for derivation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560" indent="-299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Such “Abstract” types MUST be derived and cannot appear directly in a SAML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560" indent="-299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llows for definition of completely novel assertio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87080" y="430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Example type extension poin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8200" y="1657440"/>
            <a:ext cx="10272960" cy="53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1013472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lt;complexType name="StatementAbstractType"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abstract="true"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1013472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1013472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lt;complexType name="AuthnStatementType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1013472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lt;complexConten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1013472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&lt;extension base="saml:StatementAbstractType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1013472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lt;sequenc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1013472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lt;element ref="saml:SubjectLocality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1013472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inOccurs="0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1013472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lt;element ref="saml:AuthnContext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1013472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lt;/sequenc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1013472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&lt;/extens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1013472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lt;/complexConten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410760"/>
                <a:tab algn="l" pos="1013472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lt;/complexTyp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ne Harnard</cp:lastModifiedBy>
  <dcterms:modified xsi:type="dcterms:W3CDTF">2006-05-11T15:43:30Z</dcterms:modified>
  <cp:revision>1</cp:revision>
  <dc:subject/>
  <dc:title>A Use Case for SAML Extensibility</dc:title>
</cp:coreProperties>
</file>