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10920" y="301680"/>
            <a:ext cx="7467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28600" y="2438280"/>
            <a:ext cx="8763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tegories of Vocabulary Compati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95280" y="3809880"/>
            <a:ext cx="662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733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mitry Lenk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and Metadata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8240" y="5181480"/>
            <a:ext cx="1780920" cy="398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Entity (ass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8400" y="3505320"/>
            <a:ext cx="2881080" cy="3988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751746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escriptions /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0720" y="3505320"/>
            <a:ext cx="1552320" cy="3988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174675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720" y="1828800"/>
            <a:ext cx="2881080" cy="3988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751746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escriptions /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040" y="1828800"/>
            <a:ext cx="1552320" cy="3988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174675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2057400"/>
            <a:ext cx="106668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733920"/>
            <a:ext cx="106668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209680"/>
            <a:ext cx="0" cy="12956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86200"/>
            <a:ext cx="0" cy="1295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2160" y="2590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840" y="43434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2200" y="33526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840" y="16765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143000"/>
            <a:ext cx="0" cy="68580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760" y="10666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5280" y="144792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ata/meta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5680" y="312408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ata/meta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y Equivalence -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Equal vocabularies (A &amp; 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4479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terms, same data type model, same tax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enough to say that they are equal? – N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743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vocabulary met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2767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ame vocabulary C used for A’s and B’s meta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, evaluate A’s and B’s metadata – same constraints, conversion (XSLT: A to B), set of synonyms, etc. -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334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ion – apply the process to A’s &amp; B’s metadata vocabu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480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, different vocabularies - for A’s &amp; B’s met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y Equival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cabularies A and B are equivalent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52388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’s and B’s metadata are specified in the same vocabulary C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’s and B’s metadata specify same set of constraints and/or a conversion (XSLT A to B, taxonomy mapping, etc.) and/or a set of synonym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58128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if for A’s and B’s metadata vocabularies C and D correspondingly are used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cabularies C and D are equivalen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1148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’s and B’s metadata satisfy cond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590920"/>
            <a:ext cx="152280" cy="1522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666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5181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able vocabu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914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cabularies with equivalent sub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44792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al with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 values or 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al fields and partial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3276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0988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cabulary evolution and vers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creation for the same purpose and the same 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ation vs. Pear-to-p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44792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set of (standard) vocabularies supported by a me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cabularies of all  communicating parties should be equivalent to one or more vocabularies in the mediator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276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ar-to-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8098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cabulary equivalence is on a pear-to-pear b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effort for each p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degree of flexibility, independence, and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9880" y="2666880"/>
            <a:ext cx="331488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7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27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49160" y="533520"/>
            <a:ext cx="7670880" cy="4764600"/>
            <a:chOff x="749160" y="533520"/>
            <a:chExt cx="7670880" cy="4764600"/>
          </a:xfrm>
        </p:grpSpPr>
        <p:sp>
          <p:nvSpPr>
            <p:cNvPr id="192" name=""/>
            <p:cNvSpPr/>
            <p:nvPr/>
          </p:nvSpPr>
          <p:spPr>
            <a:xfrm>
              <a:off x="1600200" y="533520"/>
              <a:ext cx="3314880" cy="34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3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700" spc="-1" strike="noStrike">
                  <a:solidFill>
                    <a:srgbClr val="292929"/>
                  </a:solidFill>
                  <a:latin typeface="Times New Roman"/>
                </a:rPr>
                <a:t>Q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14560" y="1828800"/>
              <a:ext cx="3314880" cy="34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3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700" spc="-1" strike="noStrike">
                  <a:solidFill>
                    <a:srgbClr val="fd0000"/>
                  </a:solidFill>
                  <a:latin typeface="Times New Roman"/>
                </a:rPr>
                <a:t>&amp;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720" y="2803680"/>
              <a:ext cx="7645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Q U E S T I O N 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9160" y="3429000"/>
              <a:ext cx="76456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 N S W E R 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352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y of two or more partie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86200"/>
            <a:ext cx="8610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information about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metadata equival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and understand metadata (or data about as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data (information) or provide service (car delive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238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ing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– syntax and 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operability l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e0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damental for accessing data and services on the Internet</a:t>
            </a:r>
            <a:r>
              <a:rPr b="1" lang="en-US" sz="2800" spc="-1" strike="noStrike">
                <a:solidFill>
                  <a:srgbClr val="cee02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86000"/>
            <a:ext cx="79246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between multiple descriptions in term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le (common semantics) vocabul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query meaning over descriptions expressed in     multiple descriptive formats (vocabular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ies of interest based on a set of interoperable vocabul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486400" y="762120"/>
            <a:ext cx="3352680" cy="53337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762120"/>
            <a:ext cx="3352680" cy="5333760"/>
          </a:xfrm>
          <a:prstGeom prst="rect">
            <a:avLst/>
          </a:prstGeom>
          <a:solidFill>
            <a:srgbClr val="b2b2b2"/>
          </a:solidFill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057400" cy="520200"/>
          </a:xfrm>
          <a:prstGeom prst="flowChartInputOutpu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pic sub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752480"/>
            <a:ext cx="99072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523880"/>
            <a:ext cx="1752480" cy="735480"/>
          </a:xfrm>
          <a:prstGeom prst="ellipse">
            <a:avLst/>
          </a:prstGeom>
          <a:gradFill rotWithShape="0">
            <a:gsLst>
              <a:gs pos="0">
                <a:srgbClr val="740000"/>
              </a:gs>
              <a:gs pos="100000">
                <a:srgbClr val="fd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scription met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14240" y="1905120"/>
            <a:ext cx="121932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05720" y="190512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1752480"/>
            <a:ext cx="1293840" cy="307080"/>
          </a:xfrm>
          <a:prstGeom prst="flowChartPreparation">
            <a:avLst/>
          </a:prstGeom>
          <a:gradFill rotWithShape="0">
            <a:gsLst>
              <a:gs pos="0">
                <a:srgbClr val="00433c"/>
              </a:gs>
              <a:gs pos="100000">
                <a:srgbClr val="009284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75248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772400" y="1523520"/>
            <a:ext cx="0" cy="22860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315200" y="152388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334120" y="190512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51460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fi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96252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27672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514600"/>
            <a:ext cx="83808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0040" y="3276720"/>
            <a:ext cx="1065240" cy="307080"/>
          </a:xfrm>
          <a:prstGeom prst="flowChartInputOutpu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962520"/>
            <a:ext cx="1293840" cy="307080"/>
          </a:xfrm>
          <a:prstGeom prst="flowChartPreparation">
            <a:avLst/>
          </a:prstGeom>
          <a:gradFill rotWithShape="0">
            <a:gsLst>
              <a:gs pos="0">
                <a:srgbClr val="00433c"/>
              </a:gs>
              <a:gs pos="100000">
                <a:srgbClr val="009284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962520"/>
            <a:ext cx="1293840" cy="307080"/>
          </a:xfrm>
          <a:prstGeom prst="flowChartPreparation">
            <a:avLst/>
          </a:prstGeom>
          <a:gradFill rotWithShape="0">
            <a:gsLst>
              <a:gs pos="0">
                <a:srgbClr val="00433c"/>
              </a:gs>
              <a:gs pos="100000">
                <a:srgbClr val="009284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962520"/>
            <a:ext cx="99072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733920"/>
            <a:ext cx="1295280" cy="1036440"/>
          </a:xfrm>
          <a:prstGeom prst="ellipse">
            <a:avLst/>
          </a:prstGeom>
          <a:gradFill rotWithShape="0">
            <a:gsLst>
              <a:gs pos="0">
                <a:srgbClr val="740000"/>
              </a:gs>
              <a:gs pos="100000">
                <a:srgbClr val="fd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 met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87692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487692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876920"/>
            <a:ext cx="1293840" cy="307080"/>
          </a:xfrm>
          <a:prstGeom prst="flowChartPreparation">
            <a:avLst/>
          </a:prstGeom>
          <a:gradFill rotWithShape="0">
            <a:gsLst>
              <a:gs pos="0">
                <a:srgbClr val="00433c"/>
              </a:gs>
              <a:gs pos="100000">
                <a:srgbClr val="009284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772400" y="3733560"/>
            <a:ext cx="0" cy="22860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315200" y="373392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600200" y="4724280"/>
            <a:ext cx="0" cy="15264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600200" y="472428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00200" y="4267080"/>
            <a:ext cx="0" cy="15264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441972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5715000"/>
            <a:ext cx="91440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5715000"/>
            <a:ext cx="2209680" cy="3070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and / or distribute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638680"/>
            <a:ext cx="1295280" cy="433800"/>
          </a:xfrm>
          <a:prstGeom prst="ellipse">
            <a:avLst/>
          </a:prstGeom>
          <a:gradFill rotWithShape="0">
            <a:gsLst>
              <a:gs pos="0">
                <a:srgbClr val="740000"/>
              </a:gs>
              <a:gs pos="100000">
                <a:srgbClr val="fd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705360" y="2057400"/>
            <a:ext cx="1066680" cy="68580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00040" y="2666880"/>
            <a:ext cx="259092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29000" y="5029200"/>
            <a:ext cx="236232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29000" y="4114800"/>
            <a:ext cx="53352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57800" y="4114800"/>
            <a:ext cx="53352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05720" y="411480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705360" y="4267080"/>
            <a:ext cx="1066680" cy="76212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29000" y="5867280"/>
            <a:ext cx="53352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257800" y="5867280"/>
            <a:ext cx="53352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3429000"/>
            <a:ext cx="45720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00200" y="3581280"/>
            <a:ext cx="457200" cy="38124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5029200"/>
            <a:ext cx="304920" cy="0"/>
          </a:xfrm>
          <a:prstGeom prst="line">
            <a:avLst/>
          </a:prstGeom>
          <a:ln w="28440">
            <a:solidFill>
              <a:srgbClr val="b8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181480"/>
            <a:ext cx="914400" cy="68580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5410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809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2362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0" y="3657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267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1447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2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762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371600"/>
            <a:ext cx="0" cy="380880"/>
          </a:xfrm>
          <a:prstGeom prst="line">
            <a:avLst/>
          </a:prstGeom>
          <a:ln w="28440">
            <a:solidFill>
              <a:srgbClr val="b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/ Metadata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eroperability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e02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sion of Standards and Standard 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44792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zens of standard organizations and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oord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onsis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895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e02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cost of multi-end, multi-standard interoper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429000"/>
            <a:ext cx="7772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25780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ertical - on the deployment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orizontal - on multiple client/server/peer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operability depend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operability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44792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L, XML schema and query languages, ont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language provides means to build vocabularies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 to communicate data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queries abou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733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tibility of vocabul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26708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one language – same XML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ss languages – DM schema to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s of compatibility – equality, equivalence, compar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ity / Data / As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4479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term to items such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s, applications, books, scientific 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514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ty can b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048120"/>
            <a:ext cx="737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book, document, Information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as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, DVD with music or fi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191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ty can be non-digital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ty has associated metadata in one or more    vocabul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5105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inction between description, query, and filter is purely func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/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data is data about an asset o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29528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set of statements about an asset in one or more vocabu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n asset is data (information), these vocabularies usually are different from vocabularies expressing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8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data can be of three kin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 – specifics of an asset o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y – short term expression of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 (subscription) – long term expression of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562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cabu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terms representing classes of entities, or 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data types model, if 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195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relations between classes of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 - Subsumption, instantiation,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vocabulary with non-empty taxonomy and a set of constraints in the associated constraint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d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Mark Scardina</dc:creator>
  <dc:description/>
  <dc:language>en-US</dc:language>
  <cp:lastModifiedBy>Dmitry Lenkov</cp:lastModifiedBy>
  <dcterms:modified xsi:type="dcterms:W3CDTF">2006-05-04T22:28:52Z</dcterms:modified>
  <cp:revision>733</cp:revision>
  <dc:subject/>
  <dc:title>TIE Technology Demos</dc:title>
</cp:coreProperties>
</file>