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374-FE3E-4EC7-8DEB-16AE9E7054F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with slides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put down DITA Open Toolkit or its develo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 was an author of the original XSL 1.0 W3C Recommendation released in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ment in stylesheet is ok, not going to rewrite it with 1.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moving tar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scount email archives as collective accumulated wis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w” DITA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ath is easi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Book is computer hardware and software tech do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general elements are usable for other do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TA is not tied to any particular content type, so some specializations may not map to Doc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areer parallels them: doing DocBook for a long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to work with DITA more rec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FDA-9C86-4D7F-9CF2-ACA7E608E1D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and Docbook  first released in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” is in quotes for a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a carpenter: Which is better: a saw or a ham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need a saw, a saw is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need a hammer, a hammer is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8A1-02D3-4573-8109-B2C66552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0CA-BC28-42CA-8CB1-6B8BCAE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F43-C70E-46B1-9FD9-E0C567ED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6B7-F2D0-46D3-8F9A-4C10EC07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93F-AC4F-4A23-B7E4-0D9BB67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220932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4388400"/>
            <a:ext cx="2551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E44-27F5-4B08-B01E-3C288AD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12A-9E09-4C07-BC6E-55C2123D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80F-ED4C-4BB2-AF26-F2350067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F67-5F57-4F3E-BAF3-3F9650EE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AA1-99EF-4CAC-985E-07775B8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438840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858-05CF-4FBD-8617-3D1DB07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2209320"/>
            <a:ext cx="38671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924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612-4C89-4725-A910-9ED05A5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734-EF90-4CA4-A4FC-C325A914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xon.sourceforge.net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cbook.org/ns/docbook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asis-open.org/committees/-download.php/21795/dita1.1.zip" TargetMode="External"/><Relationship Id="rId3" Type="http://schemas.openxmlformats.org/officeDocument/2006/relationships/hyperlink" Target="http://sourceforge.net/projects/dita-ot/" TargetMode="External"/><Relationship Id="rId4" Type="http://schemas.openxmlformats.org/officeDocument/2006/relationships/hyperlink" Target="http://sourceforge.net/projects/docbook/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cbook.org/tdg/en/html/docbook.html" TargetMode="External"/><Relationship Id="rId3" Type="http://schemas.openxmlformats.org/officeDocument/2006/relationships/hyperlink" Target="http://www.sagehill.net/docbookxsl/index.html" TargetMode="External"/><Relationship Id="rId4" Type="http://schemas.openxmlformats.org/officeDocument/2006/relationships/hyperlink" Target="http://www.sagehill.net/dita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ublishing DITA with DocBook XSL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Bob Stayton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Sagehill Enterprises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OASIS Symposium 2007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16 April 2007</a:t>
            </a: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  <a:p>
            <a:pPr marL="6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y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is oriented to publishing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XSL is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schema is more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te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0C5-8C7B-434C-88EB-2BA680ED50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ook oriente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: amorphous cloud of top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: ordered hierarchical in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th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features are auto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08B-752C-461F-8DF9-58588D4507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XSL is better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development since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ature, more bug fi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te coverage of its sch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asily customized, up to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E86-5EB9-4D54-92AD-148B4B57B6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tylesheet customiz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ly parameter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placeholder templ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pages from XML specif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BC5-2227-4115-AF29-659383E6EF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XSL book featur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C, index, List of Fig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for XSL-FO process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 book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crop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pag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HTML chunk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highl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1EF-1001-43E3-967F-451BA6315B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schema more stabl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Spec: 4.5 versus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ndergoing major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are incremental, not architec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ommitment to backwards compatibi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90A-D99A-442B-8FCC-5325CF2087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ore complete document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cBook: The Definitiv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cBook XSL: The Complet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stocked user email arch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BE2-D937-4E1A-A060-9B275711F3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Use cas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ing as book, not top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on’t have the resources to develop DITA bookmap XS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n existing DocBook XSL custo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ransitioning from DocBook to D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62C-2B08-4600-B3DE-CC929023B7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ore use cas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a DocBook fe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partment tools are DocBook and you want to author in D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xing both source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15F-8043-4DF6-BFA8-935915A082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orst cas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t publishing as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pecializing DITA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specializations do not fit into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eed extensive output style custom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2E0-1354-48CC-8189-DE0BA08304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o am I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Technical Committe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TC 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of DocBook XSL: The Complet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737-89D3-4252-8E15-2DEC1EFEC7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wns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learn Doc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customize 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Book X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custom DITA bookmap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76C-4C6D-46FF-9EE9-4A2DD30DA0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at you need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1.1 DT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Open Toolkit from SourceF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4CC-59F8-4DCE-85DE-A27912A334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ther tool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T processor such as Sa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saxon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-FO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nn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059-4E41-45D3-827B-2A82C7C5E7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teps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DITA book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ith bookmap2docbk.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ith DocBook 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1E3-2E6C-4BBA-900B-065F983E24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is hierarchical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is modula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and bookmap creat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map in DITA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62A-0F76-42E8-BBD1-2791590312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ITA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  <a:ea typeface="Arial"/>
              </a:rPr>
              <a:t>→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ma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info/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re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FF2-CF72-4239-BDE8-FCB648E8F8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ITA special featur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r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references with DITA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map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these during con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E5D-1FDB-46AC-8387-78EBB380B7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nversion customiz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bookmap2docbk.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usag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mplates for speci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need style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use DITA class f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0E5-85DB-44B6-930D-FED29AAE3E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rol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outputclass 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o DocBook with role 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XSL matche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B45-22FA-461C-AA22-5AFD9B00B9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ntity in XSL patter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ntity for each element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tities like elements in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d by parser before XS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dabl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859-6931-4153-A2C7-29978065F3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at is  DITA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Information Typ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for technic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SIS standard since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alone topics, assembled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speci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CBC-C11A-489E-9973-6DDB322C2C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ntity exampl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925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!ENTITY booktitle "*[contains(@clas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' bookmap/booktitle ')]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pl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l:template match="*[contains(@clas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bookmap/booktitle ')]/*[contains(@clas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bookmap/mainbooktitle ')]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l:template match=“&amp;booktitle;/&amp;mainbooktitle;”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A96-D5E3-4151-84F0-98F0310058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valida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Book stylesheets expect valid Doc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conversion for valid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with your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213-4F12-4AA0-8664-86A32AFE56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ITA content model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models enable spec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validate in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cont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s block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odd orders (e.g., title l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problems with DITA publishing style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FA5-B082-47FF-A8B3-45C24C7E34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onstrain your DITA authoring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nversion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od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cept, task, reference, not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uthoring DTD for D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AAD-0868-4C38-A1AC-876B4C549B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ocBook 5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4.5 is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5 adds a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docbook.org/ns/doc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yet OASIS Committe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TA to DocBook 5 con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C89-5A5D-4AF0-9C5B-72BB51D0E0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1.1 DT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www.oasis-open.org/committees/ download.php/21795/dita1.1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A Open Toolkit from SourceFor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http://sourceforge.net/projects/dita-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X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4"/>
              </a:rPr>
              <a:t>http://sourceforge.net/projects/docboo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388-0A23-4FBD-BC20-13905198BC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ore resour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: The Definitiv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docbook.org/tdg/en/html/docbo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Book XSL: The Complete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http://www.sagehill.net/docbookxsl/index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gehill.net D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hlinkClick r:id="rId4"/>
              </a:rPr>
              <a:t>http://www.sagehill.net/d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F91-2CB1-4848-B242-63C7B4CAF4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at is DocBook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for technical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1991 as SGML, now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SIS standard since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ori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” out of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DBA-7845-4DF5-81D7-7D28A6745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t DITA versus DocBoo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versus ha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trengths of e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A modular auth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Book publishing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137-77F2-402A-9E41-14C9DC89C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DITA Open Toolki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n SourceForge since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implementation of D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multiple out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map XSL is “proof-of-concep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1BA-C70C-4A0E-BDDE-2A59EF2F32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Basic idea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content in D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ily convert DITA to Doc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he temporary DocBook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ard the DocBook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9D8-A100-4818-AA13-27D96C4BE2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t …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ermanent con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ound trip con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oss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4D7-5241-4A0C-A732-F6DAA9287E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t lossles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e or collaps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entities 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that can’t be undone or re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ing DITA with DocBook 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68F-4476-4C77-8DAD-17439AD0F0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April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bobs</cp:lastModifiedBy>
  <cp:lastPrinted>2001-10-03T13:09:55Z</cp:lastPrinted>
  <dcterms:modified xsi:type="dcterms:W3CDTF">2007-03-17T01:45:20Z</dcterms:modified>
  <cp:revision>253</cp:revision>
  <dc:subject>Web Services</dc:subject>
  <dc:title>OASIS: Integrating Standards for Web Services, Business Processes &amp; Remote Portals</dc:title>
</cp:coreProperties>
</file>