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.png" ContentType="image/png"/>
  <Override PartName="/ppt/media/image33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42.jpeg" ContentType="image/jpeg"/>
  <Override PartName="/ppt/media/image35.wmf" ContentType="image/x-wmf"/>
  <Override PartName="/ppt/media/image36.wmf" ContentType="image/x-wmf"/>
  <Override PartName="/ppt/media/image37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43.jpeg" ContentType="image/jpeg"/>
  <Override PartName="/ppt/media/image13.wmf" ContentType="image/x-wmf"/>
  <Override PartName="/ppt/media/image7.jpeg" ContentType="image/jpeg"/>
  <Override PartName="/ppt/media/image31.wmf" ContentType="image/x-wmf"/>
  <Override PartName="/ppt/media/image11.wmf" ContentType="image/x-wmf"/>
  <Override PartName="/ppt/media/image5.jpeg" ContentType="image/jpeg"/>
  <Override PartName="/ppt/media/image38.wmf" ContentType="image/x-wmf"/>
  <Override PartName="/ppt/media/image8.wmf" ContentType="image/x-wmf"/>
  <Override PartName="/ppt/media/image4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920A-BD5B-4559-B145-13BCDC46F8C7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aving dealt with procurement for some years now, I know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e of the big challenges is that the legal framework is rather w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t is impossible to force the public authorities to use framework agreements and to work systematically with 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ut then came the law on public payments – and the world chang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act was passed on 27. December 2004 in the parliament. All members voted for the a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ists of 3 elements – the last being that all bills must be digital when arriving to or send from the public auth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hat if the bill is on paper? The public authority don’t have to pay until it is received electron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tify: the term ”bill” is used for all document containing claim or demand for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The Departmental Orders have a build in asynchrony:</a:t>
            </a:r>
            <a:br>
              <a:rPr sz="1200"/>
            </a:br>
            <a:r>
              <a:rPr b="0" i="1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(Notify: The term “asynchrony” means that the departmental orders</a:t>
            </a:r>
            <a:r>
              <a:rPr b="0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makes demands on the public sector and offers possibilities to the private se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private customers and companies: the invoices can be electronic if wished so</a:t>
            </a:r>
            <a:br>
              <a:rPr sz="1200"/>
            </a:br>
            <a:r>
              <a:rPr b="0" i="1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(Notify: the act has therefore no impact for the citizens and the private compan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Routing is done by attributing at least one GLN (EAN-13 number) to each public authority – the unique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All public authorities must be connected to 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Vendors can either send invoices electronically through VANS or via 2 central scanning bureaus or via an invoicing 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Use of a standardformat (OIO-XML) for electronic in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e change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90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The project involves almost the whole country </a:t>
            </a:r>
            <a:br>
              <a:rPr sz="1200"/>
            </a:br>
            <a:r>
              <a:rPr b="0" i="1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(Notify: a large part of the Danish companies are vendors to the public sector, and are therefore aff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90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The project is an infrastructure project </a:t>
            </a:r>
            <a:br>
              <a:rPr sz="1200"/>
            </a:br>
            <a:r>
              <a:rPr b="0" i="1" lang="en-GB" sz="1200" spc="-1" strike="noStrike">
                <a:solidFill>
                  <a:srgbClr val="090d2e"/>
                </a:solidFill>
                <a:latin typeface="Arial"/>
                <a:ea typeface="Arial"/>
              </a:rPr>
              <a:t>(Notify: Many companies are vendors to the public sector → Vendors able to electronically invoice the public sector can – accordingly – with great possibility electronically invoice other private vendors → Possibility for streamlining the work processes in the private se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ounties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unicipalities = e.g. kinder gardens and elderly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9720" y="4354200"/>
            <a:ext cx="82756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9720" y="435420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0520" y="435420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7640" y="198072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5560" y="198072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9720" y="435420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7640" y="435420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5560" y="435420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39720" y="836640"/>
            <a:ext cx="8275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39720" y="435420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80520" y="435420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9720" y="4354200"/>
            <a:ext cx="82756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9720" y="4354200"/>
            <a:ext cx="82756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720" y="435420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80520" y="435420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7640" y="198072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35560" y="198072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39720" y="435420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7640" y="435420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35560" y="4354200"/>
            <a:ext cx="2664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39720" y="836640"/>
            <a:ext cx="8275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39720" y="435420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0520" y="435420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40384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9720" y="4354200"/>
            <a:ext cx="8275680" cy="216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90440" indent="-190440">
              <a:spcBef>
                <a:spcPts val="601"/>
              </a:spcBef>
              <a:buClr>
                <a:srgbClr val="e6eb87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90440" indent="-190440">
              <a:spcBef>
                <a:spcPts val="601"/>
              </a:spcBef>
              <a:buClr>
                <a:srgbClr val="f0d47a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0440" indent="-190440">
              <a:spcBef>
                <a:spcPts val="601"/>
              </a:spcBef>
              <a:buClr>
                <a:srgbClr val="c7d1d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0440" indent="-190440">
              <a:spcBef>
                <a:spcPts val="601"/>
              </a:spcBef>
              <a:buClr>
                <a:srgbClr val="c7dce6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90440" indent="-190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90440" indent="-190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22115" b="37797"/>
          <a:stretch/>
        </p:blipFill>
        <p:spPr>
          <a:xfrm>
            <a:off x="4680" y="0"/>
            <a:ext cx="9137880" cy="91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0" t="0" r="22103" b="0"/>
          <a:stretch/>
        </p:blipFill>
        <p:spPr>
          <a:xfrm>
            <a:off x="4680" y="0"/>
            <a:ext cx="9139320" cy="1465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9720" y="1369800"/>
            <a:ext cx="719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0d47a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41360" algn="ctr">
              <a:spcBef>
                <a:spcPts val="400"/>
              </a:spcBef>
              <a:buClr>
                <a:srgbClr val="c7d1d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792440" algn="ctr">
              <a:spcBef>
                <a:spcPts val="349"/>
              </a:spcBef>
              <a:buClr>
                <a:srgbClr val="c7dce6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9244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9244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dk/imgres?imgurl=http://uts.cc.utexas.edu/~danish/webpage/Dannebrog2.jpg&amp;imgrefurl=http://uts.cc.utexas.edu/~danish/webpage/Study%2520Abroad.htm&amp;h=284&amp;w=264&amp;sz=36&amp;hl=da&amp;start=13&amp;um=1&amp;tbnid=AovM3b3f0IegDM:&amp;tbnh=114&amp;tbnw=106&amp;prev=/images%3Fq%3Ddannebrog%26svnum%3D10%26um%3D1%26hl%3Dda%26rls%3DGGLG,GGLG:2004-50,GGLG: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dk/imgres?imgurl=http://www.racksolutions.com/images/accessories/rack-mount-power-strips-plugs.gif&amp;imgrefurl=http://www.racksolution.co.uk/rack-mount-power-strip.shtml&amp;h=377&amp;w=650&amp;sz=73&amp;hl=da&amp;start=14&amp;um=1&amp;tbnid=HQ1Xb0zDUL1VHM:&amp;tbnh=79&amp;tbnw=137&amp;prev=/images%3Fq%3Dplugs%26ndsp%3D18%26svnum%3D10%26um%3D1%26hl%3Dda%26rls%3DGGLG,GGLG:2004-50,GGLG:en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dk/imgres?imgurl=http://lunner.custompublish.com/getfile.php/255983.621.bbetbbbxcy/82_400x300.jpg&amp;imgrefurl=http://lunner.custompublish.com/reguleringsplan-for-quotsanering-av-planoverganger-vest-for-roa-stasjonquot.307708-30796.html&amp;h=300&amp;w=400&amp;sz=128&amp;hl=da&amp;start=6&amp;um=1&amp;tbnid=5KIQ5QfdZyOXmM:&amp;tbnh=93&amp;tbnw=124&amp;prev=/images%3Fq%3Djernbanespor%26svnum%3D10%26um%3D1%26hl%3Dda%26rls%3DGGLG,GGLG:2004-50,GGLG: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dk/imgres?imgurl=http://www.photo-gallery.dk/oversigt/diverse/skilte_reklame/image/trafikskilt-26.jpg&amp;imgrefurl=http://www.photo-gallery.dk/oversigt/diverse/skilte_reklame/_trafikskilt-26.html&amp;h=491&amp;w=650&amp;sz=93&amp;hl=da&amp;start=1&amp;um=1&amp;tbnid=utBmrX2raFjKrM:&amp;tbnh=103&amp;tbnw=137&amp;prev=/images%3Fq%3Dtrafikskilt%26svnum%3D10%26um%3D1%26hl%3Dda%26rls%3DGGLG,GGLG:2004-50,GGLG:en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83502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OIOUBL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Verdana"/>
              </a:rPr>
              <a:t>Study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 of How to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mplement a Nationwide Procurement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4220640"/>
            <a:ext cx="7197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Peter L. Borre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IT-archit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National IT and Telecom Agengcy, Denma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Ministry of Sc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ith international standards adoption can be based on standard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76360" y="2637000"/>
            <a:ext cx="6553080" cy="3457440"/>
            <a:chOff x="1476360" y="2637000"/>
            <a:chExt cx="6553080" cy="3457440"/>
          </a:xfrm>
        </p:grpSpPr>
        <p:sp>
          <p:nvSpPr>
            <p:cNvPr id="112" name=""/>
            <p:cNvSpPr/>
            <p:nvPr/>
          </p:nvSpPr>
          <p:spPr>
            <a:xfrm>
              <a:off x="1476360" y="5445000"/>
              <a:ext cx="6553080" cy="649440"/>
            </a:xfrm>
            <a:prstGeom prst="rect">
              <a:avLst/>
            </a:prstGeom>
            <a:solidFill>
              <a:srgbClr val="c7d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ational stand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3440" y="4581360"/>
              <a:ext cx="4895640" cy="649440"/>
            </a:xfrm>
            <a:prstGeom prst="rect">
              <a:avLst/>
            </a:prstGeom>
            <a:solidFill>
              <a:srgbClr val="c7d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National or regional Custom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9440" y="3789360"/>
              <a:ext cx="3239640" cy="649440"/>
            </a:xfrm>
            <a:prstGeom prst="rect">
              <a:avLst/>
            </a:prstGeom>
            <a:solidFill>
              <a:srgbClr val="c7d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Branch specific custom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76360" y="2637000"/>
              <a:ext cx="6481440" cy="647640"/>
            </a:xfrm>
            <a:prstGeom prst="rect">
              <a:avLst/>
            </a:prstGeom>
            <a:solidFill>
              <a:srgbClr val="f0d4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Standard software 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3440" y="3789360"/>
              <a:ext cx="1510920" cy="647640"/>
            </a:xfrm>
            <a:prstGeom prst="rect">
              <a:avLst/>
            </a:prstGeom>
            <a:solidFill>
              <a:srgbClr val="f0d4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76360" y="4581360"/>
              <a:ext cx="1511280" cy="648000"/>
            </a:xfrm>
            <a:prstGeom prst="rect">
              <a:avLst/>
            </a:prstGeom>
            <a:solidFill>
              <a:srgbClr val="f0d4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9440" y="3286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1080" y="3286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25440" y="32860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68360" y="4437000"/>
            <a:ext cx="647640" cy="792360"/>
          </a:xfrm>
          <a:prstGeom prst="flowChartMagneticDisk">
            <a:avLst/>
          </a:prstGeom>
          <a:solidFill>
            <a:srgbClr val="f0d4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5" idx="1"/>
            <a:endCxn id="121" idx="1"/>
          </p:cNvCxnSpPr>
          <p:nvPr/>
        </p:nvCxnSpPr>
        <p:spPr>
          <a:xfrm flipV="1" rot="10800000">
            <a:off x="791280" y="2959560"/>
            <a:ext cx="685080" cy="147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2" idx="1"/>
            <a:endCxn id="121" idx="3"/>
          </p:cNvCxnSpPr>
          <p:nvPr/>
        </p:nvCxnSpPr>
        <p:spPr>
          <a:xfrm rot="10800000">
            <a:off x="791280" y="5228640"/>
            <a:ext cx="685080" cy="541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470880" y="5805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9080" y="3500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he history of OIOUB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st savings project from the ministry of fin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ublic procurement portal in 20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RP integrated solution in 2003: OIOXML standard for procurement based on UBL 0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dating e-invoicing by law in 2005:  OIOXML electronic Inv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w standard needed for eOrder and eCatalog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Where’s the mone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00000" y="2166840"/>
          <a:ext cx="658836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66840"/>
                    <a:ext cx="65883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244600" y="2924280"/>
            <a:ext cx="1462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6920" y="3716280"/>
            <a:ext cx="1662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41760" y="2421000"/>
            <a:ext cx="1595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07040" y="551664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ntur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Public procurement 2000 – 2004 (€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1960" y="1596960"/>
          <a:ext cx="64468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96960"/>
                    <a:ext cx="64468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9720" y="836280"/>
            <a:ext cx="8275680" cy="538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First step: e-invoicing in Denm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1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All bills must be digital when arriving to a public author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f not the authority can refuse pay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~ 15 million invoices/yea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~ €5 in handling cost per manual 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Perspectiv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avings of € 60 mill./y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Verdana"/>
                <a:ea typeface="Arial"/>
              </a:rPr>
              <a:t>Both the private and the public sector will benefit from the initi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This is the first step – once the invoice is digital, the upstream process can be optimized (ie. procurement and tender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455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mpact on Public and Private Sector</a:t>
            </a: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3040" y="1255680"/>
            <a:ext cx="64184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ach public institution must be connected to a VANS suppl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Other Networks can be used if both parties agre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ach public institution must be able to receive and read the OIOXML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Other formats can be used if both parties agre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The invoices must be electronic o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arri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Vendors can choo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Verdana"/>
              </a:rPr>
              <a:t>Full integ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Verdana"/>
              </a:rPr>
              <a:t>Invoice port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Verdana"/>
              </a:rPr>
              <a:t>Central scanning burea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9720" y="836280"/>
            <a:ext cx="8275680" cy="42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E-invoicing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42880"/>
          <a:ext cx="60847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2880"/>
                    <a:ext cx="60847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284720" y="4941720"/>
            <a:ext cx="43210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GLN 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=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VANS = Electronic pos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OIOXML = Common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9720" y="836280"/>
            <a:ext cx="8275680" cy="506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al scanning bureaus</a:t>
            </a: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73280" y="1644480"/>
            <a:ext cx="74707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Receives paper bills and transforms them into electronic format (OIOXM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Are certified regarding e.g. secur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5 working days to process invo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Big suppliers and the public authorities have to pay for the service (approx €1 per invo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he service is free of charge for SME’s (&gt;8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9720" y="836280"/>
            <a:ext cx="8275680" cy="446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February 1st 20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9720" y="1773360"/>
            <a:ext cx="82756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low start with 400.000 invoices in february (approx. 30% of the potential volum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egativity from the industry and public authorities because of the very tight sched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ny invoices were not paid 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al requirements 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rd party involvement (e.g. facto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9720" y="836280"/>
            <a:ext cx="8275680" cy="377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us after one year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62080" y="1459080"/>
          <a:ext cx="7043760" cy="45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459080"/>
                    <a:ext cx="704376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flipV="1">
            <a:off x="1486080" y="2557440"/>
            <a:ext cx="5357520" cy="144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7520" y="2414520"/>
            <a:ext cx="8874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ent of this pres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roduction about the Danish initi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history of OIOUB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ckground: The Danish eInvoicing initi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ext step: OIOUB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BL 2.0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434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us after one year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91840" y="1528920"/>
            <a:ext cx="6062760" cy="401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All public institutions are able to receive electronic invo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All vendors send invoices either fully digitized or through Read In-bureau (70/3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Times New Roman"/>
              </a:rPr>
              <a:t>The press has not been as critical as expected (but expectations were grim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Times New Roman"/>
              </a:rPr>
              <a:t>The technical concept is working, BUT full implementation of the new processes will take a long time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Times New Roman"/>
              </a:rPr>
              <a:t>Change management in the individual institutions is a big 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80120" y="1576440"/>
            <a:ext cx="2063880" cy="4100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28680" y="5559480"/>
            <a:ext cx="43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90d2e"/>
                </a:solidFill>
                <a:latin typeface="Arial"/>
                <a:ea typeface="Times New Roman"/>
              </a:rPr>
              <a:t>One E-Europe Award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355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essons Learned in 2005</a:t>
            </a: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Focus 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Continuous improvement and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The keyword is “information” to all parties of interes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The process of information should have been initiated earlier in the project (as alway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Don’t forget the people – change management is essent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Electronic invoicing is “only” one step on the road to efficient public proc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0d2e"/>
                </a:solidFill>
                <a:latin typeface="Verdana"/>
                <a:ea typeface="Arial"/>
              </a:rPr>
              <a:t>Validation tool is necessary from the begi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90d2e"/>
                </a:solidFill>
                <a:latin typeface="Verdana"/>
                <a:ea typeface="Arial"/>
              </a:rPr>
              <a:t>International based standard ease ado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90d2e"/>
                </a:solidFill>
                <a:latin typeface="Verdana"/>
                <a:ea typeface="Times New Roman"/>
              </a:rPr>
              <a:t>A standard must apply to the private as well as the public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OIOUBL – doing it r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athering European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rive for technical interoperability – publish on the Common standard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European custom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ep engaging in Standard organis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vide better tools and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ke the customization side by side with the stand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666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he origine of UBL 2.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1828800" cy="9144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4292640"/>
            <a:ext cx="1752840" cy="83808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276640"/>
            <a:ext cx="1871640" cy="7920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we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3429000"/>
            <a:ext cx="2057400" cy="1295280"/>
          </a:xfrm>
          <a:prstGeom prst="ellipse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BL 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268360" y="450828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360" y="3716280"/>
            <a:ext cx="151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56000" y="479736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38480" y="495252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2852640"/>
            <a:ext cx="165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5300640"/>
            <a:ext cx="1832040" cy="78408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a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5734080"/>
            <a:ext cx="2070000" cy="89208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orweg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lvl="1" marL="66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1773360"/>
            <a:ext cx="2057400" cy="1295280"/>
          </a:xfrm>
          <a:prstGeom prst="ellipse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BL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64000" y="2924280"/>
            <a:ext cx="72072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3789360"/>
            <a:ext cx="2057400" cy="1295280"/>
          </a:xfrm>
          <a:prstGeom prst="ellipse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BL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020000" y="306828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5373720"/>
            <a:ext cx="1512720" cy="9144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xC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5734080"/>
            <a:ext cx="1512720" cy="9144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eb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003640" y="508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084720" y="4652640"/>
            <a:ext cx="5749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4797360"/>
            <a:ext cx="1512720" cy="9144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20000" y="472392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7740360" y="4581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227640" y="537372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227640" y="602100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1628640"/>
            <a:ext cx="1871640" cy="12240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arbou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2852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he timeline of UBL 2.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03592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2005: TC meeting in Hangzhou, China, Start of UBL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nurary 2006: First public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2006: Second public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gust 2006: Third public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ptember 2006: OIOUBL public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vember 2006: OIOUBL publish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vember 2006 UBL International Con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ember 2006: UBL published as a OASIS stand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deliverables of OIOUB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cument guidelines (html, pdf, od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uidelines about selected su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enario descriptions with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de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idation t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sentation style 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nsformation style 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 fo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hat does UBL 2.0 cove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628640"/>
            <a:ext cx="1439640" cy="865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1628640"/>
            <a:ext cx="1440000" cy="8654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1628640"/>
            <a:ext cx="1439640" cy="865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fi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1557360"/>
            <a:ext cx="1440000" cy="86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1557360"/>
            <a:ext cx="1439640" cy="86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00" y="2708280"/>
            <a:ext cx="20160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Request for Qua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Qua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Catalogue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Cat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Catalogue Item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Catalogue pricing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Catalogue De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79640" y="2781360"/>
            <a:ext cx="18730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 Response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 Cance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2781360"/>
            <a:ext cx="187344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Despatch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Receipt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Bill of La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Forwarding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Certificate of Ori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Freight In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Transport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2924280"/>
            <a:ext cx="187308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Credi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Debi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Selfbilled in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Selfbilled Credi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64360" y="2997360"/>
            <a:ext cx="1873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Remittance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2781360"/>
            <a:ext cx="18003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 Response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Order Cance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2781360"/>
            <a:ext cx="187344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Despatch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Receipt ad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Bill of La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Forwarding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Certificate of Ori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Freight In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Transport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5373720"/>
            <a:ext cx="20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5589720"/>
            <a:ext cx="241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Applicatio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rial"/>
              </a:rPr>
              <a:t>Attached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Content of a UBL 2.0 docu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40608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ta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cument ident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cument 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y and contact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livery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yment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4600" y="1980720"/>
            <a:ext cx="40608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owance and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urrency and exchange r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etary To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cument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em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a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UBL 2.0 persists namespace for major rel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Customized versions can publish on th UBL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he business context is identified by a profile 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Ensures techinical interoperabil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4365720"/>
            <a:ext cx="8280360" cy="172728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UBLVersionID&gt;2.0&lt;/cbc:UBLVersion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CustomizationID&gt;OIOUBL-2.0&lt;/cbc:Customization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ProfileID shemeID="urn:oioubl:id:profileid-1.0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Procurement-OrdSimR-BilSim-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bc:Profile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mantic Interoper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633840" y="4726080"/>
            <a:ext cx="1297080" cy="7920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9640" y="3357720"/>
            <a:ext cx="1727280" cy="7920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ustomiz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3357720"/>
            <a:ext cx="1727280" cy="7920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ustomiz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4149720"/>
            <a:ext cx="5745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930560" y="4149720"/>
            <a:ext cx="649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060640"/>
            <a:ext cx="1656000" cy="720720"/>
          </a:xfrm>
          <a:prstGeom prst="flowChartProcess">
            <a:avLst/>
          </a:prstGeom>
          <a:solidFill>
            <a:srgbClr val="f0d4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pplic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4149720"/>
            <a:ext cx="1655640" cy="720720"/>
          </a:xfrm>
          <a:prstGeom prst="flowChartProcess">
            <a:avLst/>
          </a:prstGeom>
          <a:solidFill>
            <a:srgbClr val="f0d4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pplic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065480" y="1628640"/>
            <a:ext cx="368280" cy="1944720"/>
            <a:chOff x="4065480" y="1628640"/>
            <a:chExt cx="368280" cy="1944720"/>
          </a:xfrm>
        </p:grpSpPr>
        <p:sp>
          <p:nvSpPr>
            <p:cNvPr id="225" name=""/>
            <p:cNvSpPr/>
            <p:nvPr/>
          </p:nvSpPr>
          <p:spPr>
            <a:xfrm>
              <a:off x="4067280" y="1628640"/>
              <a:ext cx="360000" cy="1944720"/>
            </a:xfrm>
            <a:prstGeom prst="rect">
              <a:avLst/>
            </a:prstGeom>
            <a:solidFill>
              <a:srgbClr val="c7d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3665520" y="253656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v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867280" y="1989000"/>
            <a:ext cx="1656000" cy="720720"/>
          </a:xfrm>
          <a:prstGeom prst="flowChartProcess">
            <a:avLst/>
          </a:prstGeom>
          <a:solidFill>
            <a:srgbClr val="f0d4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pplic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2781360"/>
            <a:ext cx="1081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547640" y="393372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12000" y="2708280"/>
            <a:ext cx="7207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2349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234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5040" y="5950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ublish on different name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341360"/>
            <a:ext cx="3780000" cy="4175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7600" y="5589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emantic isla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463800">
            <a:off x="5001120" y="1061280"/>
            <a:ext cx="2695320" cy="3763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70520" y="44370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emantic isl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333360"/>
            <a:ext cx="1576440" cy="1695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About Denm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427.459 citizens (January 200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NI: 208 Billion Euro per year (278 Billion US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stitutional Monarchy since 1849, monarchy documented since 95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ber of EU since 197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tradition of Citizen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1 on the Networked IT Readiness ranking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19640" y="4437000"/>
            <a:ext cx="1296720" cy="79236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09840" y="3141720"/>
            <a:ext cx="1297080" cy="7920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3789360"/>
            <a:ext cx="1297080" cy="7920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393372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42920" y="450864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844640"/>
            <a:ext cx="1656000" cy="720720"/>
          </a:xfrm>
          <a:prstGeom prst="flowChartProcess">
            <a:avLst/>
          </a:prstGeom>
          <a:solidFill>
            <a:srgbClr val="f0d4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pplic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933720"/>
            <a:ext cx="1655640" cy="720720"/>
          </a:xfrm>
          <a:prstGeom prst="flowChartProcess">
            <a:avLst/>
          </a:prstGeom>
          <a:solidFill>
            <a:srgbClr val="f0d4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pplic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1773360"/>
            <a:ext cx="1656000" cy="720720"/>
          </a:xfrm>
          <a:prstGeom prst="flowChartProcess">
            <a:avLst/>
          </a:prstGeom>
          <a:solidFill>
            <a:srgbClr val="f0d4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pplic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2565360"/>
            <a:ext cx="934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547640" y="357300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2565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5400" y="537372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ublish on the namespace of the Common Standard as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s the derivations are true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2781360"/>
            <a:ext cx="1297080" cy="792000"/>
          </a:xfrm>
          <a:prstGeom prst="ellipse">
            <a:avLst/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866920" y="3500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1672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95640" y="2205000"/>
            <a:ext cx="36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echnical Interoper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6237360"/>
            <a:ext cx="8640720" cy="36036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mlns="urn:oasis:names:specification:ubl:schema:xsd:Invoice-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Use of profile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ies the agreement in the transaction of what to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termines the business rules for the receiv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for end-user customization of business process and document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idated by Schematron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file ex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532720" y="1628280"/>
            <a:ext cx="25560" cy="238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47760" y="1628640"/>
            <a:ext cx="63849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873600" y="4248000"/>
            <a:ext cx="3628800" cy="2347920"/>
            <a:chOff x="3873600" y="4248000"/>
            <a:chExt cx="3628800" cy="2347920"/>
          </a:xfrm>
        </p:grpSpPr>
        <p:sp>
          <p:nvSpPr>
            <p:cNvPr id="264" name=""/>
            <p:cNvSpPr/>
            <p:nvPr/>
          </p:nvSpPr>
          <p:spPr>
            <a:xfrm>
              <a:off x="3873600" y="4248000"/>
              <a:ext cx="1440" cy="234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3600" y="6594480"/>
              <a:ext cx="362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500960" y="4248000"/>
              <a:ext cx="1440" cy="234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873600" y="42480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3600" y="4419720"/>
              <a:ext cx="105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30920" y="4292280"/>
              <a:ext cx="9684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027760" y="42480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17880" y="4275000"/>
              <a:ext cx="115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act Procurement-BilSim-1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0800" y="4562640"/>
              <a:ext cx="922320" cy="45864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60800" y="4562640"/>
              <a:ext cx="920880" cy="45864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38480" y="4535640"/>
              <a:ext cx="922320" cy="45864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8480" y="4535640"/>
              <a:ext cx="920880" cy="4586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4818240" y="4572000"/>
              <a:ext cx="12672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362840" y="457992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Invoi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61040" y="4689360"/>
              <a:ext cx="277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32520" y="4589640"/>
              <a:ext cx="1041120" cy="45864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32520" y="4589640"/>
              <a:ext cx="1041120" cy="45864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10200" y="4562640"/>
              <a:ext cx="1041480" cy="45864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10200" y="4562640"/>
              <a:ext cx="1041480" cy="4586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6008760" y="4599000"/>
              <a:ext cx="12852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442120" y="460836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CreditNo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40320" y="4714920"/>
              <a:ext cx="380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3120" y="5973840"/>
              <a:ext cx="1430280" cy="45864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83120" y="5973840"/>
              <a:ext cx="1430280" cy="45864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60800" y="5946840"/>
              <a:ext cx="1430640" cy="45864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60800" y="5946840"/>
              <a:ext cx="1430640" cy="4586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6248520" y="5983200"/>
              <a:ext cx="128520" cy="1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280480" y="5992920"/>
              <a:ext cx="921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Application Respon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5440" y="6099120"/>
              <a:ext cx="8013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62400" y="5291280"/>
              <a:ext cx="1101960" cy="422280"/>
            </a:xfrm>
            <a:custGeom>
              <a:avLst/>
              <a:gdLst/>
              <a:ahLst/>
              <a:rect l="l" t="t" r="r" b="b"/>
              <a:pathLst>
                <a:path w="3469" h="1331">
                  <a:moveTo>
                    <a:pt x="0" y="0"/>
                  </a:moveTo>
                  <a:lnTo>
                    <a:pt x="2997" y="0"/>
                  </a:lnTo>
                  <a:lnTo>
                    <a:pt x="3469" y="652"/>
                  </a:lnTo>
                  <a:lnTo>
                    <a:pt x="2997" y="1331"/>
                  </a:lnTo>
                  <a:lnTo>
                    <a:pt x="0" y="1331"/>
                  </a:lnTo>
                  <a:lnTo>
                    <a:pt x="472" y="6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2400" y="5291280"/>
              <a:ext cx="1101960" cy="422280"/>
            </a:xfrm>
            <a:custGeom>
              <a:avLst/>
              <a:gdLst/>
              <a:ahLst/>
              <a:rect l="l" t="t" r="r" b="b"/>
              <a:pathLst>
                <a:path w="3469" h="1331">
                  <a:moveTo>
                    <a:pt x="0" y="0"/>
                  </a:moveTo>
                  <a:lnTo>
                    <a:pt x="2997" y="0"/>
                  </a:lnTo>
                  <a:lnTo>
                    <a:pt x="3469" y="652"/>
                  </a:lnTo>
                  <a:lnTo>
                    <a:pt x="2997" y="1331"/>
                  </a:lnTo>
                  <a:lnTo>
                    <a:pt x="0" y="1331"/>
                  </a:lnTo>
                  <a:lnTo>
                    <a:pt x="472" y="68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b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40440" y="5264280"/>
              <a:ext cx="1101600" cy="422280"/>
            </a:xfrm>
            <a:custGeom>
              <a:avLst/>
              <a:gdLst/>
              <a:ahLst/>
              <a:rect l="l" t="t" r="r" b="b"/>
              <a:pathLst>
                <a:path w="3469" h="1332">
                  <a:moveTo>
                    <a:pt x="0" y="0"/>
                  </a:moveTo>
                  <a:lnTo>
                    <a:pt x="2997" y="0"/>
                  </a:lnTo>
                  <a:lnTo>
                    <a:pt x="3469" y="651"/>
                  </a:lnTo>
                  <a:lnTo>
                    <a:pt x="2997" y="1332"/>
                  </a:lnTo>
                  <a:lnTo>
                    <a:pt x="0" y="1332"/>
                  </a:lnTo>
                  <a:lnTo>
                    <a:pt x="472" y="6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40440" y="5264280"/>
              <a:ext cx="1101600" cy="422280"/>
            </a:xfrm>
            <a:custGeom>
              <a:avLst/>
              <a:gdLst/>
              <a:ahLst/>
              <a:rect l="l" t="t" r="r" b="b"/>
              <a:pathLst>
                <a:path w="3469" h="1332">
                  <a:moveTo>
                    <a:pt x="0" y="0"/>
                  </a:moveTo>
                  <a:lnTo>
                    <a:pt x="2997" y="0"/>
                  </a:lnTo>
                  <a:lnTo>
                    <a:pt x="3469" y="651"/>
                  </a:lnTo>
                  <a:lnTo>
                    <a:pt x="2997" y="1332"/>
                  </a:lnTo>
                  <a:lnTo>
                    <a:pt x="0" y="1332"/>
                  </a:lnTo>
                  <a:lnTo>
                    <a:pt x="472" y="68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58160" y="5335560"/>
              <a:ext cx="950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Billing Simple Proces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6680" y="5524560"/>
              <a:ext cx="68040" cy="63360"/>
            </a:xfrm>
            <a:prstGeom prst="ellipse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16680" y="5524560"/>
              <a:ext cx="60120" cy="54000"/>
            </a:xfrm>
            <a:custGeom>
              <a:avLst/>
              <a:gdLst/>
              <a:ahLst/>
              <a:rect l="l" t="t" r="r" b="b"/>
              <a:pathLst>
                <a:path w="188" h="171">
                  <a:moveTo>
                    <a:pt x="188" y="86"/>
                  </a:moveTo>
                  <a:lnTo>
                    <a:pt x="188" y="82"/>
                  </a:lnTo>
                  <a:lnTo>
                    <a:pt x="188" y="77"/>
                  </a:lnTo>
                  <a:lnTo>
                    <a:pt x="187" y="73"/>
                  </a:lnTo>
                  <a:lnTo>
                    <a:pt x="186" y="68"/>
                  </a:lnTo>
                  <a:lnTo>
                    <a:pt x="186" y="65"/>
                  </a:lnTo>
                  <a:lnTo>
                    <a:pt x="184" y="60"/>
                  </a:lnTo>
                  <a:lnTo>
                    <a:pt x="182" y="56"/>
                  </a:lnTo>
                  <a:lnTo>
                    <a:pt x="181" y="52"/>
                  </a:lnTo>
                  <a:lnTo>
                    <a:pt x="178" y="48"/>
                  </a:lnTo>
                  <a:lnTo>
                    <a:pt x="176" y="45"/>
                  </a:lnTo>
                  <a:lnTo>
                    <a:pt x="173" y="41"/>
                  </a:lnTo>
                  <a:lnTo>
                    <a:pt x="171" y="37"/>
                  </a:lnTo>
                  <a:lnTo>
                    <a:pt x="168" y="34"/>
                  </a:lnTo>
                  <a:lnTo>
                    <a:pt x="166" y="30"/>
                  </a:lnTo>
                  <a:lnTo>
                    <a:pt x="162" y="26"/>
                  </a:lnTo>
                  <a:lnTo>
                    <a:pt x="158" y="24"/>
                  </a:lnTo>
                  <a:lnTo>
                    <a:pt x="156" y="21"/>
                  </a:lnTo>
                  <a:lnTo>
                    <a:pt x="152" y="18"/>
                  </a:lnTo>
                  <a:lnTo>
                    <a:pt x="147" y="15"/>
                  </a:lnTo>
                  <a:lnTo>
                    <a:pt x="144" y="13"/>
                  </a:lnTo>
                  <a:lnTo>
                    <a:pt x="140" y="11"/>
                  </a:lnTo>
                  <a:lnTo>
                    <a:pt x="135" y="9"/>
                  </a:lnTo>
                  <a:lnTo>
                    <a:pt x="131" y="8"/>
                  </a:lnTo>
                  <a:lnTo>
                    <a:pt x="126" y="5"/>
                  </a:lnTo>
                  <a:lnTo>
                    <a:pt x="122" y="4"/>
                  </a:lnTo>
                  <a:lnTo>
                    <a:pt x="118" y="3"/>
                  </a:lnTo>
                  <a:lnTo>
                    <a:pt x="113" y="1"/>
                  </a:lnTo>
                  <a:lnTo>
                    <a:pt x="109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5" y="1"/>
                  </a:lnTo>
                  <a:lnTo>
                    <a:pt x="70" y="3"/>
                  </a:lnTo>
                  <a:lnTo>
                    <a:pt x="65" y="4"/>
                  </a:lnTo>
                  <a:lnTo>
                    <a:pt x="62" y="5"/>
                  </a:lnTo>
                  <a:lnTo>
                    <a:pt x="57" y="8"/>
                  </a:lnTo>
                  <a:lnTo>
                    <a:pt x="53" y="9"/>
                  </a:lnTo>
                  <a:lnTo>
                    <a:pt x="48" y="11"/>
                  </a:lnTo>
                  <a:lnTo>
                    <a:pt x="44" y="13"/>
                  </a:lnTo>
                  <a:lnTo>
                    <a:pt x="41" y="15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30" y="24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17" y="37"/>
                  </a:lnTo>
                  <a:lnTo>
                    <a:pt x="15" y="41"/>
                  </a:lnTo>
                  <a:lnTo>
                    <a:pt x="12" y="45"/>
                  </a:lnTo>
                  <a:lnTo>
                    <a:pt x="10" y="48"/>
                  </a:lnTo>
                  <a:lnTo>
                    <a:pt x="7" y="52"/>
                  </a:lnTo>
                  <a:lnTo>
                    <a:pt x="6" y="56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4" y="112"/>
                  </a:lnTo>
                  <a:lnTo>
                    <a:pt x="6" y="115"/>
                  </a:lnTo>
                  <a:lnTo>
                    <a:pt x="7" y="119"/>
                  </a:lnTo>
                  <a:lnTo>
                    <a:pt x="10" y="123"/>
                  </a:lnTo>
                  <a:lnTo>
                    <a:pt x="12" y="127"/>
                  </a:lnTo>
                  <a:lnTo>
                    <a:pt x="15" y="130"/>
                  </a:lnTo>
                  <a:lnTo>
                    <a:pt x="17" y="134"/>
                  </a:lnTo>
                  <a:lnTo>
                    <a:pt x="20" y="138"/>
                  </a:lnTo>
                  <a:lnTo>
                    <a:pt x="22" y="141"/>
                  </a:lnTo>
                  <a:lnTo>
                    <a:pt x="26" y="145"/>
                  </a:lnTo>
                  <a:lnTo>
                    <a:pt x="30" y="148"/>
                  </a:lnTo>
                  <a:lnTo>
                    <a:pt x="32" y="150"/>
                  </a:lnTo>
                  <a:lnTo>
                    <a:pt x="36" y="154"/>
                  </a:lnTo>
                  <a:lnTo>
                    <a:pt x="41" y="156"/>
                  </a:lnTo>
                  <a:lnTo>
                    <a:pt x="44" y="159"/>
                  </a:lnTo>
                  <a:lnTo>
                    <a:pt x="48" y="160"/>
                  </a:lnTo>
                  <a:lnTo>
                    <a:pt x="53" y="162"/>
                  </a:lnTo>
                  <a:lnTo>
                    <a:pt x="57" y="164"/>
                  </a:lnTo>
                  <a:lnTo>
                    <a:pt x="62" y="166"/>
                  </a:lnTo>
                  <a:lnTo>
                    <a:pt x="65" y="167"/>
                  </a:lnTo>
                  <a:lnTo>
                    <a:pt x="70" y="169"/>
                  </a:lnTo>
                  <a:lnTo>
                    <a:pt x="75" y="170"/>
                  </a:lnTo>
                  <a:lnTo>
                    <a:pt x="79" y="170"/>
                  </a:lnTo>
                  <a:lnTo>
                    <a:pt x="84" y="171"/>
                  </a:lnTo>
                  <a:lnTo>
                    <a:pt x="89" y="171"/>
                  </a:lnTo>
                  <a:lnTo>
                    <a:pt x="94" y="171"/>
                  </a:lnTo>
                  <a:lnTo>
                    <a:pt x="94" y="171"/>
                  </a:lnTo>
                  <a:lnTo>
                    <a:pt x="99" y="171"/>
                  </a:lnTo>
                  <a:lnTo>
                    <a:pt x="104" y="171"/>
                  </a:lnTo>
                  <a:lnTo>
                    <a:pt x="109" y="170"/>
                  </a:lnTo>
                  <a:lnTo>
                    <a:pt x="113" y="170"/>
                  </a:lnTo>
                  <a:lnTo>
                    <a:pt x="118" y="169"/>
                  </a:lnTo>
                  <a:lnTo>
                    <a:pt x="122" y="167"/>
                  </a:lnTo>
                  <a:lnTo>
                    <a:pt x="126" y="166"/>
                  </a:lnTo>
                  <a:lnTo>
                    <a:pt x="131" y="164"/>
                  </a:lnTo>
                  <a:lnTo>
                    <a:pt x="135" y="162"/>
                  </a:lnTo>
                  <a:lnTo>
                    <a:pt x="140" y="160"/>
                  </a:lnTo>
                  <a:lnTo>
                    <a:pt x="144" y="159"/>
                  </a:lnTo>
                  <a:lnTo>
                    <a:pt x="147" y="156"/>
                  </a:lnTo>
                  <a:lnTo>
                    <a:pt x="152" y="154"/>
                  </a:lnTo>
                  <a:lnTo>
                    <a:pt x="156" y="150"/>
                  </a:lnTo>
                  <a:lnTo>
                    <a:pt x="158" y="148"/>
                  </a:lnTo>
                  <a:lnTo>
                    <a:pt x="162" y="145"/>
                  </a:lnTo>
                  <a:lnTo>
                    <a:pt x="166" y="141"/>
                  </a:lnTo>
                  <a:lnTo>
                    <a:pt x="168" y="138"/>
                  </a:lnTo>
                  <a:lnTo>
                    <a:pt x="171" y="134"/>
                  </a:lnTo>
                  <a:lnTo>
                    <a:pt x="173" y="130"/>
                  </a:lnTo>
                  <a:lnTo>
                    <a:pt x="176" y="127"/>
                  </a:lnTo>
                  <a:lnTo>
                    <a:pt x="178" y="123"/>
                  </a:lnTo>
                  <a:lnTo>
                    <a:pt x="181" y="119"/>
                  </a:lnTo>
                  <a:lnTo>
                    <a:pt x="182" y="115"/>
                  </a:lnTo>
                  <a:lnTo>
                    <a:pt x="184" y="112"/>
                  </a:lnTo>
                  <a:lnTo>
                    <a:pt x="186" y="107"/>
                  </a:lnTo>
                  <a:lnTo>
                    <a:pt x="186" y="103"/>
                  </a:lnTo>
                  <a:lnTo>
                    <a:pt x="187" y="98"/>
                  </a:lnTo>
                  <a:lnTo>
                    <a:pt x="188" y="94"/>
                  </a:lnTo>
                  <a:lnTo>
                    <a:pt x="188" y="89"/>
                  </a:lnTo>
                  <a:lnTo>
                    <a:pt x="188" y="8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21440" y="5524560"/>
              <a:ext cx="66600" cy="63360"/>
            </a:xfrm>
            <a:prstGeom prst="ellipse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21440" y="5524560"/>
              <a:ext cx="60120" cy="54000"/>
            </a:xfrm>
            <a:custGeom>
              <a:avLst/>
              <a:gdLst/>
              <a:ahLst/>
              <a:rect l="l" t="t" r="r" b="b"/>
              <a:pathLst>
                <a:path w="188" h="171">
                  <a:moveTo>
                    <a:pt x="188" y="86"/>
                  </a:moveTo>
                  <a:lnTo>
                    <a:pt x="188" y="82"/>
                  </a:lnTo>
                  <a:lnTo>
                    <a:pt x="188" y="77"/>
                  </a:lnTo>
                  <a:lnTo>
                    <a:pt x="187" y="73"/>
                  </a:lnTo>
                  <a:lnTo>
                    <a:pt x="185" y="68"/>
                  </a:lnTo>
                  <a:lnTo>
                    <a:pt x="185" y="65"/>
                  </a:lnTo>
                  <a:lnTo>
                    <a:pt x="184" y="60"/>
                  </a:lnTo>
                  <a:lnTo>
                    <a:pt x="182" y="56"/>
                  </a:lnTo>
                  <a:lnTo>
                    <a:pt x="181" y="52"/>
                  </a:lnTo>
                  <a:lnTo>
                    <a:pt x="178" y="48"/>
                  </a:lnTo>
                  <a:lnTo>
                    <a:pt x="176" y="45"/>
                  </a:lnTo>
                  <a:lnTo>
                    <a:pt x="173" y="41"/>
                  </a:lnTo>
                  <a:lnTo>
                    <a:pt x="171" y="37"/>
                  </a:lnTo>
                  <a:lnTo>
                    <a:pt x="168" y="34"/>
                  </a:lnTo>
                  <a:lnTo>
                    <a:pt x="166" y="30"/>
                  </a:lnTo>
                  <a:lnTo>
                    <a:pt x="162" y="26"/>
                  </a:lnTo>
                  <a:lnTo>
                    <a:pt x="158" y="24"/>
                  </a:lnTo>
                  <a:lnTo>
                    <a:pt x="156" y="21"/>
                  </a:lnTo>
                  <a:lnTo>
                    <a:pt x="152" y="18"/>
                  </a:lnTo>
                  <a:lnTo>
                    <a:pt x="147" y="15"/>
                  </a:lnTo>
                  <a:lnTo>
                    <a:pt x="143" y="13"/>
                  </a:lnTo>
                  <a:lnTo>
                    <a:pt x="140" y="11"/>
                  </a:lnTo>
                  <a:lnTo>
                    <a:pt x="135" y="9"/>
                  </a:lnTo>
                  <a:lnTo>
                    <a:pt x="131" y="8"/>
                  </a:lnTo>
                  <a:lnTo>
                    <a:pt x="126" y="5"/>
                  </a:lnTo>
                  <a:lnTo>
                    <a:pt x="122" y="4"/>
                  </a:lnTo>
                  <a:lnTo>
                    <a:pt x="117" y="3"/>
                  </a:lnTo>
                  <a:lnTo>
                    <a:pt x="112" y="1"/>
                  </a:lnTo>
                  <a:lnTo>
                    <a:pt x="109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5" y="1"/>
                  </a:lnTo>
                  <a:lnTo>
                    <a:pt x="70" y="3"/>
                  </a:lnTo>
                  <a:lnTo>
                    <a:pt x="65" y="4"/>
                  </a:lnTo>
                  <a:lnTo>
                    <a:pt x="62" y="5"/>
                  </a:lnTo>
                  <a:lnTo>
                    <a:pt x="57" y="8"/>
                  </a:lnTo>
                  <a:lnTo>
                    <a:pt x="53" y="9"/>
                  </a:lnTo>
                  <a:lnTo>
                    <a:pt x="48" y="11"/>
                  </a:lnTo>
                  <a:lnTo>
                    <a:pt x="44" y="13"/>
                  </a:lnTo>
                  <a:lnTo>
                    <a:pt x="41" y="15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9" y="24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9" y="34"/>
                  </a:lnTo>
                  <a:lnTo>
                    <a:pt x="17" y="37"/>
                  </a:lnTo>
                  <a:lnTo>
                    <a:pt x="14" y="41"/>
                  </a:lnTo>
                  <a:lnTo>
                    <a:pt x="12" y="45"/>
                  </a:lnTo>
                  <a:lnTo>
                    <a:pt x="10" y="48"/>
                  </a:lnTo>
                  <a:lnTo>
                    <a:pt x="7" y="52"/>
                  </a:lnTo>
                  <a:lnTo>
                    <a:pt x="6" y="56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3" y="112"/>
                  </a:lnTo>
                  <a:lnTo>
                    <a:pt x="6" y="115"/>
                  </a:lnTo>
                  <a:lnTo>
                    <a:pt x="7" y="119"/>
                  </a:lnTo>
                  <a:lnTo>
                    <a:pt x="10" y="123"/>
                  </a:lnTo>
                  <a:lnTo>
                    <a:pt x="12" y="127"/>
                  </a:lnTo>
                  <a:lnTo>
                    <a:pt x="14" y="130"/>
                  </a:lnTo>
                  <a:lnTo>
                    <a:pt x="17" y="134"/>
                  </a:lnTo>
                  <a:lnTo>
                    <a:pt x="19" y="138"/>
                  </a:lnTo>
                  <a:lnTo>
                    <a:pt x="22" y="141"/>
                  </a:lnTo>
                  <a:lnTo>
                    <a:pt x="26" y="145"/>
                  </a:lnTo>
                  <a:lnTo>
                    <a:pt x="29" y="148"/>
                  </a:lnTo>
                  <a:lnTo>
                    <a:pt x="32" y="150"/>
                  </a:lnTo>
                  <a:lnTo>
                    <a:pt x="36" y="154"/>
                  </a:lnTo>
                  <a:lnTo>
                    <a:pt x="41" y="156"/>
                  </a:lnTo>
                  <a:lnTo>
                    <a:pt x="44" y="159"/>
                  </a:lnTo>
                  <a:lnTo>
                    <a:pt x="48" y="160"/>
                  </a:lnTo>
                  <a:lnTo>
                    <a:pt x="53" y="162"/>
                  </a:lnTo>
                  <a:lnTo>
                    <a:pt x="57" y="164"/>
                  </a:lnTo>
                  <a:lnTo>
                    <a:pt x="62" y="166"/>
                  </a:lnTo>
                  <a:lnTo>
                    <a:pt x="65" y="167"/>
                  </a:lnTo>
                  <a:lnTo>
                    <a:pt x="70" y="169"/>
                  </a:lnTo>
                  <a:lnTo>
                    <a:pt x="75" y="170"/>
                  </a:lnTo>
                  <a:lnTo>
                    <a:pt x="79" y="170"/>
                  </a:lnTo>
                  <a:lnTo>
                    <a:pt x="84" y="171"/>
                  </a:lnTo>
                  <a:lnTo>
                    <a:pt x="89" y="171"/>
                  </a:lnTo>
                  <a:lnTo>
                    <a:pt x="94" y="171"/>
                  </a:lnTo>
                  <a:lnTo>
                    <a:pt x="94" y="171"/>
                  </a:lnTo>
                  <a:lnTo>
                    <a:pt x="99" y="171"/>
                  </a:lnTo>
                  <a:lnTo>
                    <a:pt x="104" y="171"/>
                  </a:lnTo>
                  <a:lnTo>
                    <a:pt x="109" y="170"/>
                  </a:lnTo>
                  <a:lnTo>
                    <a:pt x="112" y="170"/>
                  </a:lnTo>
                  <a:lnTo>
                    <a:pt x="117" y="169"/>
                  </a:lnTo>
                  <a:lnTo>
                    <a:pt x="122" y="167"/>
                  </a:lnTo>
                  <a:lnTo>
                    <a:pt x="126" y="166"/>
                  </a:lnTo>
                  <a:lnTo>
                    <a:pt x="131" y="164"/>
                  </a:lnTo>
                  <a:lnTo>
                    <a:pt x="135" y="162"/>
                  </a:lnTo>
                  <a:lnTo>
                    <a:pt x="140" y="160"/>
                  </a:lnTo>
                  <a:lnTo>
                    <a:pt x="143" y="159"/>
                  </a:lnTo>
                  <a:lnTo>
                    <a:pt x="147" y="156"/>
                  </a:lnTo>
                  <a:lnTo>
                    <a:pt x="152" y="154"/>
                  </a:lnTo>
                  <a:lnTo>
                    <a:pt x="156" y="150"/>
                  </a:lnTo>
                  <a:lnTo>
                    <a:pt x="158" y="148"/>
                  </a:lnTo>
                  <a:lnTo>
                    <a:pt x="162" y="145"/>
                  </a:lnTo>
                  <a:lnTo>
                    <a:pt x="166" y="141"/>
                  </a:lnTo>
                  <a:lnTo>
                    <a:pt x="168" y="138"/>
                  </a:lnTo>
                  <a:lnTo>
                    <a:pt x="171" y="134"/>
                  </a:lnTo>
                  <a:lnTo>
                    <a:pt x="173" y="130"/>
                  </a:lnTo>
                  <a:lnTo>
                    <a:pt x="176" y="127"/>
                  </a:lnTo>
                  <a:lnTo>
                    <a:pt x="178" y="123"/>
                  </a:lnTo>
                  <a:lnTo>
                    <a:pt x="181" y="119"/>
                  </a:lnTo>
                  <a:lnTo>
                    <a:pt x="182" y="115"/>
                  </a:lnTo>
                  <a:lnTo>
                    <a:pt x="184" y="112"/>
                  </a:lnTo>
                  <a:lnTo>
                    <a:pt x="185" y="107"/>
                  </a:lnTo>
                  <a:lnTo>
                    <a:pt x="185" y="103"/>
                  </a:lnTo>
                  <a:lnTo>
                    <a:pt x="187" y="98"/>
                  </a:lnTo>
                  <a:lnTo>
                    <a:pt x="188" y="94"/>
                  </a:lnTo>
                  <a:lnTo>
                    <a:pt x="188" y="89"/>
                  </a:lnTo>
                  <a:lnTo>
                    <a:pt x="188" y="8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1200" y="555156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38880" y="4599000"/>
              <a:ext cx="1011240" cy="45864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38880" y="4599000"/>
              <a:ext cx="1011240" cy="45720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16560" y="4572000"/>
              <a:ext cx="1011240" cy="45864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16560" y="4572000"/>
              <a:ext cx="1011240" cy="4572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7184880" y="4606920"/>
              <a:ext cx="128880" cy="1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647760" y="4616280"/>
              <a:ext cx="40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emind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47040" y="4724280"/>
              <a:ext cx="350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680080" y="5686200"/>
              <a:ext cx="1440" cy="260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80080" y="5686560"/>
              <a:ext cx="3636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641920" y="5686560"/>
              <a:ext cx="3816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1920" y="5011560"/>
              <a:ext cx="180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5603760" y="5136840"/>
              <a:ext cx="3816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641920" y="5136840"/>
              <a:ext cx="3816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43360" y="4984920"/>
              <a:ext cx="397080" cy="36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5035320" y="5308560"/>
              <a:ext cx="104760" cy="3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5079960" y="5237280"/>
              <a:ext cx="60480" cy="108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136920" y="5021280"/>
              <a:ext cx="358920" cy="24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137280" y="5165640"/>
              <a:ext cx="74520" cy="9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6137280" y="5236920"/>
              <a:ext cx="111240" cy="27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147760" y="1653840"/>
            <a:ext cx="6384960" cy="2357640"/>
            <a:chOff x="2147760" y="1653840"/>
            <a:chExt cx="6384960" cy="2357640"/>
          </a:xfrm>
        </p:grpSpPr>
        <p:sp>
          <p:nvSpPr>
            <p:cNvPr id="323" name=""/>
            <p:cNvSpPr/>
            <p:nvPr/>
          </p:nvSpPr>
          <p:spPr>
            <a:xfrm>
              <a:off x="2147760" y="1654200"/>
              <a:ext cx="1800" cy="235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147760" y="4005000"/>
              <a:ext cx="638496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47760" y="1814400"/>
              <a:ext cx="146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616200" y="1695600"/>
              <a:ext cx="104760" cy="11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720960" y="16538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96720" y="1679400"/>
              <a:ext cx="1500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act Procurement-OrdSim-BilSim-1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51160" y="1949400"/>
              <a:ext cx="931680" cy="42876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51160" y="1949400"/>
              <a:ext cx="931680" cy="42876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27400" y="1924200"/>
              <a:ext cx="931680" cy="42840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27400" y="1924200"/>
              <a:ext cx="931680" cy="4284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5"/>
            <a:stretch/>
          </p:blipFill>
          <p:spPr>
            <a:xfrm>
              <a:off x="3105000" y="1957320"/>
              <a:ext cx="13824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683440" y="1965240"/>
              <a:ext cx="241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82720" y="2066760"/>
              <a:ext cx="228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7720" y="1949400"/>
              <a:ext cx="1563480" cy="42876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7720" y="1949400"/>
              <a:ext cx="1562040" cy="42876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32160" y="1924200"/>
              <a:ext cx="1563840" cy="42840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32160" y="1924200"/>
              <a:ext cx="1563840" cy="4284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6"/>
            <a:stretch/>
          </p:blipFill>
          <p:spPr>
            <a:xfrm>
              <a:off x="4743360" y="1957320"/>
              <a:ext cx="13644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669120" y="1965240"/>
              <a:ext cx="950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OrderResponseSimp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65520" y="2066760"/>
              <a:ext cx="900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0040" y="3430440"/>
              <a:ext cx="1549440" cy="42876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0040" y="3430440"/>
              <a:ext cx="1549440" cy="42876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6280" y="3405240"/>
              <a:ext cx="1549440" cy="43020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56280" y="3405240"/>
              <a:ext cx="1549440" cy="4284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6551640" y="3438360"/>
              <a:ext cx="13824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502600" y="3448080"/>
              <a:ext cx="921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Application Respon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97560" y="3548160"/>
              <a:ext cx="866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91120" y="1949400"/>
              <a:ext cx="996840" cy="42876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91120" y="1949400"/>
              <a:ext cx="996840" cy="42876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360" y="1924200"/>
              <a:ext cx="996840" cy="42840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67360" y="1924200"/>
              <a:ext cx="996840" cy="4284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8"/>
            <a:stretch/>
          </p:blipFill>
          <p:spPr>
            <a:xfrm>
              <a:off x="5910120" y="1957320"/>
              <a:ext cx="13824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416920" y="196524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Invoi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5120" y="2066760"/>
              <a:ext cx="299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37280" y="1949400"/>
              <a:ext cx="1128600" cy="428760"/>
            </a:xfrm>
            <a:prstGeom prst="rect">
              <a:avLst/>
            </a:pr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37280" y="1949400"/>
              <a:ext cx="1127160" cy="428760"/>
            </a:xfrm>
            <a:prstGeom prst="rect">
              <a:avLst/>
            </a:prstGeom>
            <a:noFill/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13520" y="1924200"/>
              <a:ext cx="1122480" cy="428400"/>
            </a:xfrm>
            <a:prstGeom prst="rect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13520" y="1924200"/>
              <a:ext cx="1127160" cy="4284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9"/>
            <a:stretch/>
          </p:blipFill>
          <p:spPr>
            <a:xfrm>
              <a:off x="7086600" y="1957320"/>
              <a:ext cx="13824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472440" y="196524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CreditNo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0640" y="2066760"/>
              <a:ext cx="412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4520" y="2714760"/>
              <a:ext cx="996840" cy="463320"/>
            </a:xfrm>
            <a:custGeom>
              <a:avLst/>
              <a:gdLst/>
              <a:ahLst/>
              <a:rect l="l" t="t" r="r" b="b"/>
              <a:pathLst>
                <a:path w="2513" h="1459">
                  <a:moveTo>
                    <a:pt x="0" y="0"/>
                  </a:moveTo>
                  <a:lnTo>
                    <a:pt x="2104" y="0"/>
                  </a:lnTo>
                  <a:lnTo>
                    <a:pt x="2513" y="716"/>
                  </a:lnTo>
                  <a:lnTo>
                    <a:pt x="2104" y="1459"/>
                  </a:lnTo>
                  <a:lnTo>
                    <a:pt x="0" y="1459"/>
                  </a:lnTo>
                  <a:lnTo>
                    <a:pt x="409" y="7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84520" y="2714760"/>
              <a:ext cx="996840" cy="463320"/>
            </a:xfrm>
            <a:custGeom>
              <a:avLst/>
              <a:gdLst/>
              <a:ahLst/>
              <a:rect l="l" t="t" r="r" b="b"/>
              <a:pathLst>
                <a:path w="2513" h="1459">
                  <a:moveTo>
                    <a:pt x="0" y="0"/>
                  </a:moveTo>
                  <a:lnTo>
                    <a:pt x="2104" y="0"/>
                  </a:lnTo>
                  <a:lnTo>
                    <a:pt x="2513" y="716"/>
                  </a:lnTo>
                  <a:lnTo>
                    <a:pt x="2104" y="1459"/>
                  </a:lnTo>
                  <a:lnTo>
                    <a:pt x="0" y="1459"/>
                  </a:lnTo>
                  <a:lnTo>
                    <a:pt x="409" y="743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b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59320" y="2689200"/>
              <a:ext cx="998280" cy="463680"/>
            </a:xfrm>
            <a:custGeom>
              <a:avLst/>
              <a:gdLst/>
              <a:ahLst/>
              <a:rect l="l" t="t" r="r" b="b"/>
              <a:pathLst>
                <a:path w="2514" h="1459">
                  <a:moveTo>
                    <a:pt x="0" y="0"/>
                  </a:moveTo>
                  <a:lnTo>
                    <a:pt x="2105" y="0"/>
                  </a:lnTo>
                  <a:lnTo>
                    <a:pt x="2514" y="716"/>
                  </a:lnTo>
                  <a:lnTo>
                    <a:pt x="2105" y="1459"/>
                  </a:lnTo>
                  <a:lnTo>
                    <a:pt x="0" y="1459"/>
                  </a:lnTo>
                  <a:lnTo>
                    <a:pt x="409" y="7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59320" y="2689200"/>
              <a:ext cx="998280" cy="463680"/>
            </a:xfrm>
            <a:custGeom>
              <a:avLst/>
              <a:gdLst/>
              <a:ahLst/>
              <a:rect l="l" t="t" r="r" b="b"/>
              <a:pathLst>
                <a:path w="2514" h="1459">
                  <a:moveTo>
                    <a:pt x="0" y="0"/>
                  </a:moveTo>
                  <a:lnTo>
                    <a:pt x="2105" y="0"/>
                  </a:lnTo>
                  <a:lnTo>
                    <a:pt x="2514" y="716"/>
                  </a:lnTo>
                  <a:lnTo>
                    <a:pt x="2105" y="1459"/>
                  </a:lnTo>
                  <a:lnTo>
                    <a:pt x="0" y="1459"/>
                  </a:lnTo>
                  <a:lnTo>
                    <a:pt x="409" y="743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16640" y="2757600"/>
              <a:ext cx="68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Ordering Simp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92680" y="285768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c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14960" y="3002040"/>
              <a:ext cx="71280" cy="58680"/>
            </a:xfrm>
            <a:prstGeom prst="ellipse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14960" y="3000240"/>
              <a:ext cx="63360" cy="50760"/>
            </a:xfrm>
            <a:custGeom>
              <a:avLst/>
              <a:gdLst/>
              <a:ahLst/>
              <a:rect l="l" t="t" r="r" b="b"/>
              <a:pathLst>
                <a:path w="163" h="160">
                  <a:moveTo>
                    <a:pt x="163" y="80"/>
                  </a:moveTo>
                  <a:lnTo>
                    <a:pt x="163" y="76"/>
                  </a:lnTo>
                  <a:lnTo>
                    <a:pt x="163" y="71"/>
                  </a:lnTo>
                  <a:lnTo>
                    <a:pt x="162" y="68"/>
                  </a:lnTo>
                  <a:lnTo>
                    <a:pt x="161" y="63"/>
                  </a:lnTo>
                  <a:lnTo>
                    <a:pt x="161" y="60"/>
                  </a:lnTo>
                  <a:lnTo>
                    <a:pt x="160" y="55"/>
                  </a:lnTo>
                  <a:lnTo>
                    <a:pt x="158" y="52"/>
                  </a:lnTo>
                  <a:lnTo>
                    <a:pt x="157" y="48"/>
                  </a:lnTo>
                  <a:lnTo>
                    <a:pt x="155" y="45"/>
                  </a:lnTo>
                  <a:lnTo>
                    <a:pt x="153" y="41"/>
                  </a:lnTo>
                  <a:lnTo>
                    <a:pt x="150" y="38"/>
                  </a:lnTo>
                  <a:lnTo>
                    <a:pt x="148" y="34"/>
                  </a:lnTo>
                  <a:lnTo>
                    <a:pt x="146" y="31"/>
                  </a:lnTo>
                  <a:lnTo>
                    <a:pt x="144" y="27"/>
                  </a:lnTo>
                  <a:lnTo>
                    <a:pt x="141" y="24"/>
                  </a:lnTo>
                  <a:lnTo>
                    <a:pt x="138" y="22"/>
                  </a:lnTo>
                  <a:lnTo>
                    <a:pt x="135" y="19"/>
                  </a:lnTo>
                  <a:lnTo>
                    <a:pt x="132" y="16"/>
                  </a:lnTo>
                  <a:lnTo>
                    <a:pt x="128" y="13"/>
                  </a:lnTo>
                  <a:lnTo>
                    <a:pt x="125" y="11"/>
                  </a:lnTo>
                  <a:lnTo>
                    <a:pt x="121" y="10"/>
                  </a:lnTo>
                  <a:lnTo>
                    <a:pt x="117" y="8"/>
                  </a:lnTo>
                  <a:lnTo>
                    <a:pt x="114" y="6"/>
                  </a:lnTo>
                  <a:lnTo>
                    <a:pt x="110" y="4"/>
                  </a:lnTo>
                  <a:lnTo>
                    <a:pt x="106" y="3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5" y="1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9" y="11"/>
                  </a:lnTo>
                  <a:lnTo>
                    <a:pt x="36" y="13"/>
                  </a:lnTo>
                  <a:lnTo>
                    <a:pt x="31" y="16"/>
                  </a:lnTo>
                  <a:lnTo>
                    <a:pt x="28" y="19"/>
                  </a:lnTo>
                  <a:lnTo>
                    <a:pt x="26" y="22"/>
                  </a:lnTo>
                  <a:lnTo>
                    <a:pt x="23" y="24"/>
                  </a:lnTo>
                  <a:lnTo>
                    <a:pt x="20" y="27"/>
                  </a:lnTo>
                  <a:lnTo>
                    <a:pt x="17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1"/>
                  </a:lnTo>
                  <a:lnTo>
                    <a:pt x="9" y="45"/>
                  </a:lnTo>
                  <a:lnTo>
                    <a:pt x="7" y="48"/>
                  </a:lnTo>
                  <a:lnTo>
                    <a:pt x="6" y="52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2" y="63"/>
                  </a:lnTo>
                  <a:lnTo>
                    <a:pt x="1" y="68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3" y="104"/>
                  </a:lnTo>
                  <a:lnTo>
                    <a:pt x="6" y="107"/>
                  </a:lnTo>
                  <a:lnTo>
                    <a:pt x="7" y="111"/>
                  </a:lnTo>
                  <a:lnTo>
                    <a:pt x="9" y="114"/>
                  </a:lnTo>
                  <a:lnTo>
                    <a:pt x="11" y="118"/>
                  </a:lnTo>
                  <a:lnTo>
                    <a:pt x="13" y="121"/>
                  </a:lnTo>
                  <a:lnTo>
                    <a:pt x="15" y="125"/>
                  </a:lnTo>
                  <a:lnTo>
                    <a:pt x="17" y="128"/>
                  </a:lnTo>
                  <a:lnTo>
                    <a:pt x="20" y="132"/>
                  </a:lnTo>
                  <a:lnTo>
                    <a:pt x="23" y="135"/>
                  </a:lnTo>
                  <a:lnTo>
                    <a:pt x="26" y="138"/>
                  </a:lnTo>
                  <a:lnTo>
                    <a:pt x="28" y="140"/>
                  </a:lnTo>
                  <a:lnTo>
                    <a:pt x="31" y="143"/>
                  </a:lnTo>
                  <a:lnTo>
                    <a:pt x="36" y="146"/>
                  </a:lnTo>
                  <a:lnTo>
                    <a:pt x="39" y="148"/>
                  </a:lnTo>
                  <a:lnTo>
                    <a:pt x="42" y="149"/>
                  </a:lnTo>
                  <a:lnTo>
                    <a:pt x="46" y="152"/>
                  </a:lnTo>
                  <a:lnTo>
                    <a:pt x="50" y="153"/>
                  </a:lnTo>
                  <a:lnTo>
                    <a:pt x="54" y="155"/>
                  </a:lnTo>
                  <a:lnTo>
                    <a:pt x="57" y="156"/>
                  </a:lnTo>
                  <a:lnTo>
                    <a:pt x="61" y="157"/>
                  </a:lnTo>
                  <a:lnTo>
                    <a:pt x="66" y="158"/>
                  </a:lnTo>
                  <a:lnTo>
                    <a:pt x="69" y="158"/>
                  </a:lnTo>
                  <a:lnTo>
                    <a:pt x="73" y="160"/>
                  </a:lnTo>
                  <a:lnTo>
                    <a:pt x="77" y="160"/>
                  </a:lnTo>
                  <a:lnTo>
                    <a:pt x="82" y="160"/>
                  </a:lnTo>
                  <a:lnTo>
                    <a:pt x="82" y="160"/>
                  </a:lnTo>
                  <a:lnTo>
                    <a:pt x="86" y="160"/>
                  </a:lnTo>
                  <a:lnTo>
                    <a:pt x="90" y="160"/>
                  </a:lnTo>
                  <a:lnTo>
                    <a:pt x="95" y="158"/>
                  </a:lnTo>
                  <a:lnTo>
                    <a:pt x="98" y="158"/>
                  </a:lnTo>
                  <a:lnTo>
                    <a:pt x="102" y="157"/>
                  </a:lnTo>
                  <a:lnTo>
                    <a:pt x="106" y="156"/>
                  </a:lnTo>
                  <a:lnTo>
                    <a:pt x="110" y="155"/>
                  </a:lnTo>
                  <a:lnTo>
                    <a:pt x="114" y="153"/>
                  </a:lnTo>
                  <a:lnTo>
                    <a:pt x="117" y="152"/>
                  </a:lnTo>
                  <a:lnTo>
                    <a:pt x="121" y="149"/>
                  </a:lnTo>
                  <a:lnTo>
                    <a:pt x="125" y="148"/>
                  </a:lnTo>
                  <a:lnTo>
                    <a:pt x="128" y="146"/>
                  </a:lnTo>
                  <a:lnTo>
                    <a:pt x="132" y="143"/>
                  </a:lnTo>
                  <a:lnTo>
                    <a:pt x="135" y="140"/>
                  </a:lnTo>
                  <a:lnTo>
                    <a:pt x="138" y="138"/>
                  </a:lnTo>
                  <a:lnTo>
                    <a:pt x="141" y="135"/>
                  </a:lnTo>
                  <a:lnTo>
                    <a:pt x="144" y="132"/>
                  </a:lnTo>
                  <a:lnTo>
                    <a:pt x="146" y="128"/>
                  </a:lnTo>
                  <a:lnTo>
                    <a:pt x="148" y="125"/>
                  </a:lnTo>
                  <a:lnTo>
                    <a:pt x="150" y="121"/>
                  </a:lnTo>
                  <a:lnTo>
                    <a:pt x="153" y="118"/>
                  </a:lnTo>
                  <a:lnTo>
                    <a:pt x="155" y="114"/>
                  </a:lnTo>
                  <a:lnTo>
                    <a:pt x="157" y="111"/>
                  </a:lnTo>
                  <a:lnTo>
                    <a:pt x="158" y="107"/>
                  </a:lnTo>
                  <a:lnTo>
                    <a:pt x="160" y="104"/>
                  </a:lnTo>
                  <a:lnTo>
                    <a:pt x="161" y="99"/>
                  </a:lnTo>
                  <a:lnTo>
                    <a:pt x="161" y="96"/>
                  </a:lnTo>
                  <a:lnTo>
                    <a:pt x="162" y="91"/>
                  </a:lnTo>
                  <a:lnTo>
                    <a:pt x="163" y="88"/>
                  </a:lnTo>
                  <a:lnTo>
                    <a:pt x="163" y="83"/>
                  </a:lnTo>
                  <a:lnTo>
                    <a:pt x="163" y="8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27640" y="3002040"/>
              <a:ext cx="73080" cy="58680"/>
            </a:xfrm>
            <a:prstGeom prst="ellipse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27640" y="3000240"/>
              <a:ext cx="65160" cy="50760"/>
            </a:xfrm>
            <a:custGeom>
              <a:avLst/>
              <a:gdLst/>
              <a:ahLst/>
              <a:rect l="l" t="t" r="r" b="b"/>
              <a:pathLst>
                <a:path w="163" h="160">
                  <a:moveTo>
                    <a:pt x="163" y="80"/>
                  </a:moveTo>
                  <a:lnTo>
                    <a:pt x="163" y="76"/>
                  </a:lnTo>
                  <a:lnTo>
                    <a:pt x="163" y="71"/>
                  </a:lnTo>
                  <a:lnTo>
                    <a:pt x="162" y="68"/>
                  </a:lnTo>
                  <a:lnTo>
                    <a:pt x="161" y="63"/>
                  </a:lnTo>
                  <a:lnTo>
                    <a:pt x="161" y="60"/>
                  </a:lnTo>
                  <a:lnTo>
                    <a:pt x="160" y="55"/>
                  </a:lnTo>
                  <a:lnTo>
                    <a:pt x="157" y="52"/>
                  </a:lnTo>
                  <a:lnTo>
                    <a:pt x="156" y="48"/>
                  </a:lnTo>
                  <a:lnTo>
                    <a:pt x="154" y="45"/>
                  </a:lnTo>
                  <a:lnTo>
                    <a:pt x="152" y="41"/>
                  </a:lnTo>
                  <a:lnTo>
                    <a:pt x="150" y="38"/>
                  </a:lnTo>
                  <a:lnTo>
                    <a:pt x="148" y="34"/>
                  </a:lnTo>
                  <a:lnTo>
                    <a:pt x="146" y="31"/>
                  </a:lnTo>
                  <a:lnTo>
                    <a:pt x="143" y="27"/>
                  </a:lnTo>
                  <a:lnTo>
                    <a:pt x="140" y="24"/>
                  </a:lnTo>
                  <a:lnTo>
                    <a:pt x="137" y="22"/>
                  </a:lnTo>
                  <a:lnTo>
                    <a:pt x="135" y="19"/>
                  </a:lnTo>
                  <a:lnTo>
                    <a:pt x="132" y="16"/>
                  </a:lnTo>
                  <a:lnTo>
                    <a:pt x="127" y="13"/>
                  </a:lnTo>
                  <a:lnTo>
                    <a:pt x="124" y="11"/>
                  </a:lnTo>
                  <a:lnTo>
                    <a:pt x="121" y="10"/>
                  </a:lnTo>
                  <a:lnTo>
                    <a:pt x="117" y="8"/>
                  </a:lnTo>
                  <a:lnTo>
                    <a:pt x="113" y="6"/>
                  </a:lnTo>
                  <a:lnTo>
                    <a:pt x="109" y="4"/>
                  </a:lnTo>
                  <a:lnTo>
                    <a:pt x="106" y="3"/>
                  </a:lnTo>
                  <a:lnTo>
                    <a:pt x="102" y="2"/>
                  </a:lnTo>
                  <a:lnTo>
                    <a:pt x="97" y="1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1"/>
                  </a:lnTo>
                  <a:lnTo>
                    <a:pt x="35" y="13"/>
                  </a:lnTo>
                  <a:lnTo>
                    <a:pt x="31" y="16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2" y="24"/>
                  </a:lnTo>
                  <a:lnTo>
                    <a:pt x="19" y="27"/>
                  </a:lnTo>
                  <a:lnTo>
                    <a:pt x="17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8" y="45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2" y="63"/>
                  </a:lnTo>
                  <a:lnTo>
                    <a:pt x="1" y="68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3" y="104"/>
                  </a:lnTo>
                  <a:lnTo>
                    <a:pt x="5" y="107"/>
                  </a:lnTo>
                  <a:lnTo>
                    <a:pt x="6" y="111"/>
                  </a:lnTo>
                  <a:lnTo>
                    <a:pt x="8" y="114"/>
                  </a:lnTo>
                  <a:lnTo>
                    <a:pt x="10" y="118"/>
                  </a:lnTo>
                  <a:lnTo>
                    <a:pt x="13" y="121"/>
                  </a:lnTo>
                  <a:lnTo>
                    <a:pt x="15" y="125"/>
                  </a:lnTo>
                  <a:lnTo>
                    <a:pt x="17" y="128"/>
                  </a:lnTo>
                  <a:lnTo>
                    <a:pt x="19" y="132"/>
                  </a:lnTo>
                  <a:lnTo>
                    <a:pt x="22" y="135"/>
                  </a:lnTo>
                  <a:lnTo>
                    <a:pt x="25" y="138"/>
                  </a:lnTo>
                  <a:lnTo>
                    <a:pt x="28" y="140"/>
                  </a:lnTo>
                  <a:lnTo>
                    <a:pt x="31" y="143"/>
                  </a:lnTo>
                  <a:lnTo>
                    <a:pt x="35" y="146"/>
                  </a:lnTo>
                  <a:lnTo>
                    <a:pt x="38" y="148"/>
                  </a:lnTo>
                  <a:lnTo>
                    <a:pt x="42" y="149"/>
                  </a:lnTo>
                  <a:lnTo>
                    <a:pt x="46" y="152"/>
                  </a:lnTo>
                  <a:lnTo>
                    <a:pt x="49" y="153"/>
                  </a:lnTo>
                  <a:lnTo>
                    <a:pt x="53" y="155"/>
                  </a:lnTo>
                  <a:lnTo>
                    <a:pt x="57" y="156"/>
                  </a:lnTo>
                  <a:lnTo>
                    <a:pt x="61" y="157"/>
                  </a:lnTo>
                  <a:lnTo>
                    <a:pt x="65" y="158"/>
                  </a:lnTo>
                  <a:lnTo>
                    <a:pt x="68" y="158"/>
                  </a:lnTo>
                  <a:lnTo>
                    <a:pt x="73" y="160"/>
                  </a:lnTo>
                  <a:lnTo>
                    <a:pt x="77" y="160"/>
                  </a:lnTo>
                  <a:lnTo>
                    <a:pt x="81" y="160"/>
                  </a:lnTo>
                  <a:lnTo>
                    <a:pt x="81" y="160"/>
                  </a:lnTo>
                  <a:lnTo>
                    <a:pt x="86" y="160"/>
                  </a:lnTo>
                  <a:lnTo>
                    <a:pt x="90" y="160"/>
                  </a:lnTo>
                  <a:lnTo>
                    <a:pt x="94" y="158"/>
                  </a:lnTo>
                  <a:lnTo>
                    <a:pt x="97" y="158"/>
                  </a:lnTo>
                  <a:lnTo>
                    <a:pt x="102" y="157"/>
                  </a:lnTo>
                  <a:lnTo>
                    <a:pt x="106" y="156"/>
                  </a:lnTo>
                  <a:lnTo>
                    <a:pt x="109" y="155"/>
                  </a:lnTo>
                  <a:lnTo>
                    <a:pt x="113" y="153"/>
                  </a:lnTo>
                  <a:lnTo>
                    <a:pt x="117" y="152"/>
                  </a:lnTo>
                  <a:lnTo>
                    <a:pt x="121" y="149"/>
                  </a:lnTo>
                  <a:lnTo>
                    <a:pt x="124" y="148"/>
                  </a:lnTo>
                  <a:lnTo>
                    <a:pt x="127" y="146"/>
                  </a:lnTo>
                  <a:lnTo>
                    <a:pt x="132" y="143"/>
                  </a:lnTo>
                  <a:lnTo>
                    <a:pt x="135" y="140"/>
                  </a:lnTo>
                  <a:lnTo>
                    <a:pt x="137" y="138"/>
                  </a:lnTo>
                  <a:lnTo>
                    <a:pt x="140" y="135"/>
                  </a:lnTo>
                  <a:lnTo>
                    <a:pt x="143" y="132"/>
                  </a:lnTo>
                  <a:lnTo>
                    <a:pt x="146" y="128"/>
                  </a:lnTo>
                  <a:lnTo>
                    <a:pt x="148" y="125"/>
                  </a:lnTo>
                  <a:lnTo>
                    <a:pt x="150" y="121"/>
                  </a:lnTo>
                  <a:lnTo>
                    <a:pt x="152" y="118"/>
                  </a:lnTo>
                  <a:lnTo>
                    <a:pt x="154" y="114"/>
                  </a:lnTo>
                  <a:lnTo>
                    <a:pt x="156" y="111"/>
                  </a:lnTo>
                  <a:lnTo>
                    <a:pt x="157" y="107"/>
                  </a:lnTo>
                  <a:lnTo>
                    <a:pt x="160" y="104"/>
                  </a:lnTo>
                  <a:lnTo>
                    <a:pt x="161" y="99"/>
                  </a:lnTo>
                  <a:lnTo>
                    <a:pt x="161" y="96"/>
                  </a:lnTo>
                  <a:lnTo>
                    <a:pt x="162" y="91"/>
                  </a:lnTo>
                  <a:lnTo>
                    <a:pt x="163" y="88"/>
                  </a:lnTo>
                  <a:lnTo>
                    <a:pt x="163" y="83"/>
                  </a:lnTo>
                  <a:lnTo>
                    <a:pt x="163" y="8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95960" y="3025800"/>
              <a:ext cx="31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87840" y="2714760"/>
              <a:ext cx="949320" cy="455400"/>
            </a:xfrm>
            <a:custGeom>
              <a:avLst/>
              <a:gdLst/>
              <a:ahLst/>
              <a:rect l="l" t="t" r="r" b="b"/>
              <a:pathLst>
                <a:path w="2390" h="1432">
                  <a:moveTo>
                    <a:pt x="0" y="0"/>
                  </a:moveTo>
                  <a:lnTo>
                    <a:pt x="1981" y="0"/>
                  </a:lnTo>
                  <a:lnTo>
                    <a:pt x="2390" y="716"/>
                  </a:lnTo>
                  <a:lnTo>
                    <a:pt x="1981" y="1432"/>
                  </a:lnTo>
                  <a:lnTo>
                    <a:pt x="0" y="1432"/>
                  </a:lnTo>
                  <a:lnTo>
                    <a:pt x="408" y="7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7840" y="2714760"/>
              <a:ext cx="949320" cy="455400"/>
            </a:xfrm>
            <a:custGeom>
              <a:avLst/>
              <a:gdLst/>
              <a:ahLst/>
              <a:rect l="l" t="t" r="r" b="b"/>
              <a:pathLst>
                <a:path w="2390" h="1432">
                  <a:moveTo>
                    <a:pt x="0" y="0"/>
                  </a:moveTo>
                  <a:lnTo>
                    <a:pt x="1981" y="0"/>
                  </a:lnTo>
                  <a:lnTo>
                    <a:pt x="2390" y="716"/>
                  </a:lnTo>
                  <a:lnTo>
                    <a:pt x="1981" y="1432"/>
                  </a:lnTo>
                  <a:lnTo>
                    <a:pt x="0" y="1432"/>
                  </a:lnTo>
                  <a:lnTo>
                    <a:pt x="408" y="7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b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64080" y="2689200"/>
              <a:ext cx="949320" cy="455760"/>
            </a:xfrm>
            <a:custGeom>
              <a:avLst/>
              <a:gdLst/>
              <a:ahLst/>
              <a:rect l="l" t="t" r="r" b="b"/>
              <a:pathLst>
                <a:path w="2390" h="1432">
                  <a:moveTo>
                    <a:pt x="0" y="0"/>
                  </a:moveTo>
                  <a:lnTo>
                    <a:pt x="1981" y="0"/>
                  </a:lnTo>
                  <a:lnTo>
                    <a:pt x="2390" y="716"/>
                  </a:lnTo>
                  <a:lnTo>
                    <a:pt x="1981" y="1432"/>
                  </a:lnTo>
                  <a:lnTo>
                    <a:pt x="0" y="1432"/>
                  </a:lnTo>
                  <a:lnTo>
                    <a:pt x="408" y="7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64080" y="2689200"/>
              <a:ext cx="949320" cy="455760"/>
            </a:xfrm>
            <a:custGeom>
              <a:avLst/>
              <a:gdLst/>
              <a:ahLst/>
              <a:rect l="l" t="t" r="r" b="b"/>
              <a:pathLst>
                <a:path w="2390" h="1432">
                  <a:moveTo>
                    <a:pt x="0" y="0"/>
                  </a:moveTo>
                  <a:lnTo>
                    <a:pt x="1981" y="0"/>
                  </a:lnTo>
                  <a:lnTo>
                    <a:pt x="2390" y="716"/>
                  </a:lnTo>
                  <a:lnTo>
                    <a:pt x="1981" y="1432"/>
                  </a:lnTo>
                  <a:lnTo>
                    <a:pt x="0" y="1432"/>
                  </a:lnTo>
                  <a:lnTo>
                    <a:pt x="408" y="7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47320" y="2757600"/>
              <a:ext cx="582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illing Simp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48840" y="285768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7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70760" y="2992320"/>
              <a:ext cx="71280" cy="58680"/>
            </a:xfrm>
            <a:prstGeom prst="ellipse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70760" y="2992320"/>
              <a:ext cx="63360" cy="50760"/>
            </a:xfrm>
            <a:custGeom>
              <a:avLst/>
              <a:gdLst/>
              <a:ahLst/>
              <a:rect l="l" t="t" r="r" b="b"/>
              <a:pathLst>
                <a:path w="164" h="160">
                  <a:moveTo>
                    <a:pt x="164" y="80"/>
                  </a:moveTo>
                  <a:lnTo>
                    <a:pt x="164" y="76"/>
                  </a:lnTo>
                  <a:lnTo>
                    <a:pt x="164" y="72"/>
                  </a:lnTo>
                  <a:lnTo>
                    <a:pt x="162" y="68"/>
                  </a:lnTo>
                  <a:lnTo>
                    <a:pt x="161" y="64"/>
                  </a:lnTo>
                  <a:lnTo>
                    <a:pt x="161" y="60"/>
                  </a:lnTo>
                  <a:lnTo>
                    <a:pt x="160" y="56"/>
                  </a:lnTo>
                  <a:lnTo>
                    <a:pt x="158" y="52"/>
                  </a:lnTo>
                  <a:lnTo>
                    <a:pt x="157" y="49"/>
                  </a:lnTo>
                  <a:lnTo>
                    <a:pt x="155" y="45"/>
                  </a:lnTo>
                  <a:lnTo>
                    <a:pt x="153" y="42"/>
                  </a:lnTo>
                  <a:lnTo>
                    <a:pt x="151" y="38"/>
                  </a:lnTo>
                  <a:lnTo>
                    <a:pt x="148" y="35"/>
                  </a:lnTo>
                  <a:lnTo>
                    <a:pt x="146" y="31"/>
                  </a:lnTo>
                  <a:lnTo>
                    <a:pt x="144" y="28"/>
                  </a:lnTo>
                  <a:lnTo>
                    <a:pt x="141" y="24"/>
                  </a:lnTo>
                  <a:lnTo>
                    <a:pt x="138" y="22"/>
                  </a:lnTo>
                  <a:lnTo>
                    <a:pt x="136" y="20"/>
                  </a:lnTo>
                  <a:lnTo>
                    <a:pt x="132" y="16"/>
                  </a:lnTo>
                  <a:lnTo>
                    <a:pt x="128" y="14"/>
                  </a:lnTo>
                  <a:lnTo>
                    <a:pt x="125" y="11"/>
                  </a:lnTo>
                  <a:lnTo>
                    <a:pt x="122" y="10"/>
                  </a:lnTo>
                  <a:lnTo>
                    <a:pt x="117" y="8"/>
                  </a:lnTo>
                  <a:lnTo>
                    <a:pt x="114" y="7"/>
                  </a:lnTo>
                  <a:lnTo>
                    <a:pt x="110" y="4"/>
                  </a:lnTo>
                  <a:lnTo>
                    <a:pt x="107" y="3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7" y="8"/>
                  </a:lnTo>
                  <a:lnTo>
                    <a:pt x="42" y="10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6" y="22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8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9" y="45"/>
                  </a:lnTo>
                  <a:lnTo>
                    <a:pt x="7" y="49"/>
                  </a:lnTo>
                  <a:lnTo>
                    <a:pt x="6" y="52"/>
                  </a:lnTo>
                  <a:lnTo>
                    <a:pt x="4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3" y="100"/>
                  </a:lnTo>
                  <a:lnTo>
                    <a:pt x="4" y="104"/>
                  </a:lnTo>
                  <a:lnTo>
                    <a:pt x="6" y="108"/>
                  </a:lnTo>
                  <a:lnTo>
                    <a:pt x="7" y="111"/>
                  </a:lnTo>
                  <a:lnTo>
                    <a:pt x="9" y="115"/>
                  </a:lnTo>
                  <a:lnTo>
                    <a:pt x="11" y="118"/>
                  </a:lnTo>
                  <a:lnTo>
                    <a:pt x="13" y="122"/>
                  </a:lnTo>
                  <a:lnTo>
                    <a:pt x="15" y="125"/>
                  </a:lnTo>
                  <a:lnTo>
                    <a:pt x="18" y="129"/>
                  </a:lnTo>
                  <a:lnTo>
                    <a:pt x="20" y="132"/>
                  </a:lnTo>
                  <a:lnTo>
                    <a:pt x="23" y="136"/>
                  </a:lnTo>
                  <a:lnTo>
                    <a:pt x="26" y="138"/>
                  </a:lnTo>
                  <a:lnTo>
                    <a:pt x="28" y="140"/>
                  </a:lnTo>
                  <a:lnTo>
                    <a:pt x="32" y="144"/>
                  </a:lnTo>
                  <a:lnTo>
                    <a:pt x="36" y="146"/>
                  </a:lnTo>
                  <a:lnTo>
                    <a:pt x="39" y="148"/>
                  </a:lnTo>
                  <a:lnTo>
                    <a:pt x="42" y="149"/>
                  </a:lnTo>
                  <a:lnTo>
                    <a:pt x="47" y="152"/>
                  </a:lnTo>
                  <a:lnTo>
                    <a:pt x="50" y="153"/>
                  </a:lnTo>
                  <a:lnTo>
                    <a:pt x="54" y="155"/>
                  </a:lnTo>
                  <a:lnTo>
                    <a:pt x="57" y="156"/>
                  </a:lnTo>
                  <a:lnTo>
                    <a:pt x="62" y="158"/>
                  </a:lnTo>
                  <a:lnTo>
                    <a:pt x="66" y="159"/>
                  </a:lnTo>
                  <a:lnTo>
                    <a:pt x="69" y="159"/>
                  </a:lnTo>
                  <a:lnTo>
                    <a:pt x="73" y="160"/>
                  </a:lnTo>
                  <a:lnTo>
                    <a:pt x="78" y="160"/>
                  </a:lnTo>
                  <a:lnTo>
                    <a:pt x="82" y="160"/>
                  </a:lnTo>
                  <a:lnTo>
                    <a:pt x="82" y="160"/>
                  </a:lnTo>
                  <a:lnTo>
                    <a:pt x="86" y="160"/>
                  </a:lnTo>
                  <a:lnTo>
                    <a:pt x="91" y="160"/>
                  </a:lnTo>
                  <a:lnTo>
                    <a:pt x="95" y="159"/>
                  </a:lnTo>
                  <a:lnTo>
                    <a:pt x="98" y="159"/>
                  </a:lnTo>
                  <a:lnTo>
                    <a:pt x="102" y="158"/>
                  </a:lnTo>
                  <a:lnTo>
                    <a:pt x="107" y="156"/>
                  </a:lnTo>
                  <a:lnTo>
                    <a:pt x="110" y="155"/>
                  </a:lnTo>
                  <a:lnTo>
                    <a:pt x="114" y="153"/>
                  </a:lnTo>
                  <a:lnTo>
                    <a:pt x="117" y="152"/>
                  </a:lnTo>
                  <a:lnTo>
                    <a:pt x="122" y="149"/>
                  </a:lnTo>
                  <a:lnTo>
                    <a:pt x="125" y="148"/>
                  </a:lnTo>
                  <a:lnTo>
                    <a:pt x="128" y="146"/>
                  </a:lnTo>
                  <a:lnTo>
                    <a:pt x="132" y="144"/>
                  </a:lnTo>
                  <a:lnTo>
                    <a:pt x="136" y="140"/>
                  </a:lnTo>
                  <a:lnTo>
                    <a:pt x="138" y="138"/>
                  </a:lnTo>
                  <a:lnTo>
                    <a:pt x="141" y="136"/>
                  </a:lnTo>
                  <a:lnTo>
                    <a:pt x="144" y="132"/>
                  </a:lnTo>
                  <a:lnTo>
                    <a:pt x="146" y="129"/>
                  </a:lnTo>
                  <a:lnTo>
                    <a:pt x="148" y="125"/>
                  </a:lnTo>
                  <a:lnTo>
                    <a:pt x="151" y="122"/>
                  </a:lnTo>
                  <a:lnTo>
                    <a:pt x="153" y="118"/>
                  </a:lnTo>
                  <a:lnTo>
                    <a:pt x="155" y="115"/>
                  </a:lnTo>
                  <a:lnTo>
                    <a:pt x="157" y="111"/>
                  </a:lnTo>
                  <a:lnTo>
                    <a:pt x="158" y="108"/>
                  </a:lnTo>
                  <a:lnTo>
                    <a:pt x="160" y="104"/>
                  </a:lnTo>
                  <a:lnTo>
                    <a:pt x="161" y="100"/>
                  </a:lnTo>
                  <a:lnTo>
                    <a:pt x="161" y="96"/>
                  </a:lnTo>
                  <a:lnTo>
                    <a:pt x="162" y="91"/>
                  </a:lnTo>
                  <a:lnTo>
                    <a:pt x="164" y="88"/>
                  </a:lnTo>
                  <a:lnTo>
                    <a:pt x="164" y="83"/>
                  </a:lnTo>
                  <a:lnTo>
                    <a:pt x="164" y="8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83440" y="2992320"/>
              <a:ext cx="73080" cy="58680"/>
            </a:xfrm>
            <a:prstGeom prst="ellipse">
              <a:avLst/>
            </a:prstGeom>
            <a:solidFill>
              <a:srgbClr val="fcf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83440" y="2992320"/>
              <a:ext cx="64800" cy="50760"/>
            </a:xfrm>
            <a:custGeom>
              <a:avLst/>
              <a:gdLst/>
              <a:ahLst/>
              <a:rect l="l" t="t" r="r" b="b"/>
              <a:pathLst>
                <a:path w="163" h="160">
                  <a:moveTo>
                    <a:pt x="163" y="80"/>
                  </a:moveTo>
                  <a:lnTo>
                    <a:pt x="163" y="76"/>
                  </a:lnTo>
                  <a:lnTo>
                    <a:pt x="163" y="72"/>
                  </a:lnTo>
                  <a:lnTo>
                    <a:pt x="162" y="68"/>
                  </a:lnTo>
                  <a:lnTo>
                    <a:pt x="161" y="64"/>
                  </a:lnTo>
                  <a:lnTo>
                    <a:pt x="161" y="60"/>
                  </a:lnTo>
                  <a:lnTo>
                    <a:pt x="160" y="56"/>
                  </a:lnTo>
                  <a:lnTo>
                    <a:pt x="158" y="52"/>
                  </a:lnTo>
                  <a:lnTo>
                    <a:pt x="157" y="49"/>
                  </a:lnTo>
                  <a:lnTo>
                    <a:pt x="154" y="45"/>
                  </a:lnTo>
                  <a:lnTo>
                    <a:pt x="152" y="42"/>
                  </a:lnTo>
                  <a:lnTo>
                    <a:pt x="150" y="38"/>
                  </a:lnTo>
                  <a:lnTo>
                    <a:pt x="148" y="35"/>
                  </a:lnTo>
                  <a:lnTo>
                    <a:pt x="146" y="31"/>
                  </a:lnTo>
                  <a:lnTo>
                    <a:pt x="144" y="28"/>
                  </a:lnTo>
                  <a:lnTo>
                    <a:pt x="140" y="24"/>
                  </a:lnTo>
                  <a:lnTo>
                    <a:pt x="137" y="22"/>
                  </a:lnTo>
                  <a:lnTo>
                    <a:pt x="135" y="20"/>
                  </a:lnTo>
                  <a:lnTo>
                    <a:pt x="132" y="16"/>
                  </a:lnTo>
                  <a:lnTo>
                    <a:pt x="128" y="14"/>
                  </a:lnTo>
                  <a:lnTo>
                    <a:pt x="124" y="11"/>
                  </a:lnTo>
                  <a:lnTo>
                    <a:pt x="121" y="10"/>
                  </a:lnTo>
                  <a:lnTo>
                    <a:pt x="117" y="8"/>
                  </a:lnTo>
                  <a:lnTo>
                    <a:pt x="114" y="7"/>
                  </a:lnTo>
                  <a:lnTo>
                    <a:pt x="109" y="4"/>
                  </a:lnTo>
                  <a:lnTo>
                    <a:pt x="106" y="3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49" y="7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9" y="11"/>
                  </a:lnTo>
                  <a:lnTo>
                    <a:pt x="35" y="14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6" y="22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3" y="104"/>
                  </a:lnTo>
                  <a:lnTo>
                    <a:pt x="5" y="108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18"/>
                  </a:lnTo>
                  <a:lnTo>
                    <a:pt x="13" y="122"/>
                  </a:lnTo>
                  <a:lnTo>
                    <a:pt x="15" y="125"/>
                  </a:lnTo>
                  <a:lnTo>
                    <a:pt x="17" y="129"/>
                  </a:lnTo>
                  <a:lnTo>
                    <a:pt x="19" y="132"/>
                  </a:lnTo>
                  <a:lnTo>
                    <a:pt x="22" y="136"/>
                  </a:lnTo>
                  <a:lnTo>
                    <a:pt x="26" y="138"/>
                  </a:lnTo>
                  <a:lnTo>
                    <a:pt x="28" y="140"/>
                  </a:lnTo>
                  <a:lnTo>
                    <a:pt x="31" y="144"/>
                  </a:lnTo>
                  <a:lnTo>
                    <a:pt x="35" y="146"/>
                  </a:lnTo>
                  <a:lnTo>
                    <a:pt x="39" y="148"/>
                  </a:lnTo>
                  <a:lnTo>
                    <a:pt x="42" y="149"/>
                  </a:lnTo>
                  <a:lnTo>
                    <a:pt x="46" y="152"/>
                  </a:lnTo>
                  <a:lnTo>
                    <a:pt x="49" y="153"/>
                  </a:lnTo>
                  <a:lnTo>
                    <a:pt x="54" y="155"/>
                  </a:lnTo>
                  <a:lnTo>
                    <a:pt x="57" y="156"/>
                  </a:lnTo>
                  <a:lnTo>
                    <a:pt x="61" y="158"/>
                  </a:lnTo>
                  <a:lnTo>
                    <a:pt x="65" y="159"/>
                  </a:lnTo>
                  <a:lnTo>
                    <a:pt x="69" y="159"/>
                  </a:lnTo>
                  <a:lnTo>
                    <a:pt x="73" y="160"/>
                  </a:lnTo>
                  <a:lnTo>
                    <a:pt x="77" y="160"/>
                  </a:lnTo>
                  <a:lnTo>
                    <a:pt x="81" y="160"/>
                  </a:lnTo>
                  <a:lnTo>
                    <a:pt x="81" y="160"/>
                  </a:lnTo>
                  <a:lnTo>
                    <a:pt x="86" y="160"/>
                  </a:lnTo>
                  <a:lnTo>
                    <a:pt x="90" y="160"/>
                  </a:lnTo>
                  <a:lnTo>
                    <a:pt x="94" y="159"/>
                  </a:lnTo>
                  <a:lnTo>
                    <a:pt x="98" y="159"/>
                  </a:lnTo>
                  <a:lnTo>
                    <a:pt x="102" y="158"/>
                  </a:lnTo>
                  <a:lnTo>
                    <a:pt x="106" y="156"/>
                  </a:lnTo>
                  <a:lnTo>
                    <a:pt x="109" y="155"/>
                  </a:lnTo>
                  <a:lnTo>
                    <a:pt x="114" y="153"/>
                  </a:lnTo>
                  <a:lnTo>
                    <a:pt x="117" y="152"/>
                  </a:lnTo>
                  <a:lnTo>
                    <a:pt x="121" y="149"/>
                  </a:lnTo>
                  <a:lnTo>
                    <a:pt x="124" y="148"/>
                  </a:lnTo>
                  <a:lnTo>
                    <a:pt x="128" y="146"/>
                  </a:lnTo>
                  <a:lnTo>
                    <a:pt x="132" y="144"/>
                  </a:lnTo>
                  <a:lnTo>
                    <a:pt x="135" y="140"/>
                  </a:lnTo>
                  <a:lnTo>
                    <a:pt x="137" y="138"/>
                  </a:lnTo>
                  <a:lnTo>
                    <a:pt x="140" y="136"/>
                  </a:lnTo>
                  <a:lnTo>
                    <a:pt x="144" y="132"/>
                  </a:lnTo>
                  <a:lnTo>
                    <a:pt x="146" y="129"/>
                  </a:lnTo>
                  <a:lnTo>
                    <a:pt x="148" y="125"/>
                  </a:lnTo>
                  <a:lnTo>
                    <a:pt x="150" y="122"/>
                  </a:lnTo>
                  <a:lnTo>
                    <a:pt x="152" y="118"/>
                  </a:lnTo>
                  <a:lnTo>
                    <a:pt x="154" y="115"/>
                  </a:lnTo>
                  <a:lnTo>
                    <a:pt x="157" y="111"/>
                  </a:lnTo>
                  <a:lnTo>
                    <a:pt x="158" y="108"/>
                  </a:lnTo>
                  <a:lnTo>
                    <a:pt x="160" y="104"/>
                  </a:lnTo>
                  <a:lnTo>
                    <a:pt x="161" y="100"/>
                  </a:lnTo>
                  <a:lnTo>
                    <a:pt x="161" y="96"/>
                  </a:lnTo>
                  <a:lnTo>
                    <a:pt x="162" y="91"/>
                  </a:lnTo>
                  <a:lnTo>
                    <a:pt x="163" y="88"/>
                  </a:lnTo>
                  <a:lnTo>
                    <a:pt x="163" y="83"/>
                  </a:lnTo>
                  <a:lnTo>
                    <a:pt x="163" y="8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51400" y="3017880"/>
              <a:ext cx="3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57600" y="2916360"/>
              <a:ext cx="906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51040" y="2916360"/>
              <a:ext cx="11268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351040" y="2874600"/>
              <a:ext cx="11268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145200" y="2344680"/>
              <a:ext cx="333360" cy="344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145200" y="2579760"/>
              <a:ext cx="49320" cy="109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145200" y="2638080"/>
              <a:ext cx="106200" cy="5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67480" y="2344680"/>
              <a:ext cx="153720" cy="344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5740560" y="2597040"/>
              <a:ext cx="80640" cy="9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5813280" y="2563920"/>
              <a:ext cx="792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934240" y="3144600"/>
              <a:ext cx="1440" cy="260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34240" y="3144960"/>
              <a:ext cx="4104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893920" y="3144960"/>
              <a:ext cx="3996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070520" y="2344680"/>
              <a:ext cx="25200" cy="344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4038120" y="2571840"/>
              <a:ext cx="3204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070520" y="2571840"/>
              <a:ext cx="4896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30560" y="2344680"/>
              <a:ext cx="558720" cy="344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3566880" y="2664000"/>
              <a:ext cx="122040" cy="2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3615840" y="2597040"/>
              <a:ext cx="73080" cy="9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32840" y="1941480"/>
              <a:ext cx="1126800" cy="42876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c0b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08720" y="1916280"/>
              <a:ext cx="1127160" cy="428400"/>
            </a:xfrm>
            <a:prstGeom prst="rect">
              <a:avLst/>
            </a:prstGeom>
            <a:solidFill>
              <a:srgbClr val="fcf2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0"/>
            <a:stretch/>
          </p:blipFill>
          <p:spPr>
            <a:xfrm>
              <a:off x="8282160" y="1949400"/>
              <a:ext cx="13788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666920" y="1957320"/>
              <a:ext cx="40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000000"/>
                  </a:solidFill>
                  <a:uFillTx/>
                  <a:latin typeface="Arial"/>
                </a:rPr>
                <a:t>Remind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300720" y="234936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Document Iden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231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CopyIndic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U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ssue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ssue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4365720"/>
            <a:ext cx="8280360" cy="172728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ID&gt;A00095678&lt;/cbc: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CopyIndicator&gt;false&lt;/cbc:CopyIndicat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UUID&gt;9756b4d0-8815-1029-857a-e388fe63f399&lt;/cbc:UU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IssueDate&gt;2005-11-20&lt;/cbc:Issue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Document refer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Reference by 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Reference by xp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External Reference (eg. U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Binary Large Object (contain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Content of document refer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933720" cy="25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780000" y="3933720"/>
            <a:ext cx="4152600" cy="7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4788000" y="5084640"/>
            <a:ext cx="35622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8" name=""/>
          <p:cNvSpPr/>
          <p:nvPr/>
        </p:nvSpPr>
        <p:spPr>
          <a:xfrm>
            <a:off x="4739400" y="2133720"/>
            <a:ext cx="384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DocumentType not us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qualified document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995280" y="2421000"/>
            <a:ext cx="5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924000" y="285264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by 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1844640"/>
            <a:ext cx="7993080" cy="309564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ac:OriginatorDocumentRefer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ID&gt;A00095678&lt;/cbc: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UUID&gt;9756b4d0-8815-1029-857a-e388fe63f3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bc:UU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IssueDate&gt;2005-11-20&lt;/cbc:Issue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ac:OriginatorDocumentRefer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Reference by X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101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Normaly used to refering to previous specified documents, eg. from lines to header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XPath reference is most important for sign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3645000"/>
            <a:ext cx="8353440" cy="230328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ac:OriginatorDocumentRefer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ID&gt;A00095678&lt;/cbc: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XPath&gt;../OriginatorDocument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bc:XPa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ac:OriginatorDocumentRefer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Reference by External refere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ntained on a external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cured by expiry date (+time) and hash valu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611280" y="2997360"/>
            <a:ext cx="7993080" cy="352728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ac:OriginatorDocumentRefer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ID&gt;A00095678&lt;/cbc: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ac:Attach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ac:ExternalRefer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URI&gt;normalizedString&lt;/cbc:UR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DocumentHash&gt;82164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bc:DocumentHas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ExpiryDate&gt;2009-08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bc:Expiry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ac:ExternalRefer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ac:Attach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ac:OriginatorDocumentRefer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Reference by contain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684360" y="2997360"/>
            <a:ext cx="8135640" cy="360036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DocumentRefer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ID&gt;TELE-1-CON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CopyIndicator&gt;true&lt;/cbc:CopyIndicat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Attach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EmbeddedDocumentBinaryObject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imeCode="application/pdf"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ncodingCode="Base64"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haracterSetCode="UTF-8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rIG0Ng53KHKaoOQNQYcpyFHKa9UhkgzjkPBTaFJDIB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sfdgartujjuoprrwer34578deewcwetyuuutyur6434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yB4KY5SYM5BZcpMkshU0UzJoLHSDEWFdreefssd//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EmbeddedDocumentBinaryObj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Attach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DocumentRefer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101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he document is contained as a encoded sting using the Binary Object in Attach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527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The Danish Public S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87520" y="1234800"/>
            <a:ext cx="3192480" cy="4707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19 Minis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5 Reg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98 Municipa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3776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Party and contact informat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ies are uniquely defined according to the role in the 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i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der of the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iver of the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der or receiver of a previous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der or receiver of the next 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rd party relevant for the 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ies contains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ies are normally organisations, but can be persons t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Customer- and Supplier pa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409572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619280" y="4149720"/>
            <a:ext cx="4010040" cy="199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 in pa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3029040" cy="3933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899960" y="2924280"/>
            <a:ext cx="35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Verdana"/>
              </a:rPr>
              <a:t>A party name or a par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Verdana"/>
              </a:rPr>
              <a:t>identification must b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28400" y="206064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dpointID specifies the ID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ransport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4869000"/>
            <a:ext cx="41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Verdana"/>
              </a:rPr>
              <a:t>The PartyLegalEntity specifies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Verdana"/>
              </a:rPr>
              <a:t>is behind the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284720" y="50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4427280" y="299736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67280" y="3357720"/>
            <a:ext cx="720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995280" y="2349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Specification of 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915080" cy="3952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79280" y="2349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the AddressFormatCode to specify the actual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24360" y="50133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the AddressLine for unstructured ad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564000" y="2565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20000" y="4005360"/>
            <a:ext cx="9367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33242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Delivery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livery information can be applied at header and 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livery information is depended on the state of the 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livery information is the link between the transport and the procurement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livery can be the third level of an UBL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he delivery cla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3543480" cy="46101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715360" y="2133720"/>
            <a:ext cx="228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cation/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ty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patch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Typical delivery in a order (header leve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684360" y="1916280"/>
            <a:ext cx="7775280" cy="180000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ac:Delive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ac:RequestedDeliveryPeri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StartDate&gt;2006-11-20&lt;/cbc:Start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EndDate&gt;2006-11-20&lt;/cbc:End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ac:RequestedDeliveryPeriod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ac:Delive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275320" cy="916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Extended delivery in an invoice (head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684360" y="1628640"/>
            <a:ext cx="8280360" cy="504036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Delive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ActualDeliveryDate&gt;2005-11-15&lt;/cbc:ActualDelivery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DeliveryAddre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AddressFormatCode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istID="urn:oioubl:codelist:addressformatcode-1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RUCTURED_D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AddressFormat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StreetName&gt;Patientvej&lt;/cbc:Street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BuildingNumber&gt;10&lt;/cbc:BuildingNumb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CityName&gt;Helsingør&lt;/cbc:Ci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PostalZone&gt;3000&lt;/cbc:PostalZon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Count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IdentificationCode&gt;DK&lt;/cbc:Identification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Count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DeliveryAddre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DeliveryPa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Par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Name&gt;Aalborg Sygehus&lt;/cbc: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Part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DeliveryPa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Delive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Paymen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yment means specifies how to pay for the exchange of goods. This can b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 trans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i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rect de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yment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id pay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Why is the Danish government involved in Data standard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9360" y="1980720"/>
            <a:ext cx="58770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ur civilisation runs on software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 Bjarne Stroustru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gital exchange of data has become m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standards are vital for ensuring a national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ing on standards saves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public sector is the 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557360"/>
            <a:ext cx="166536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263700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4149720"/>
            <a:ext cx="17272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Payment me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790800" cy="29527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897440" y="1628640"/>
            <a:ext cx="39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ymentMeansCode specifie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ind of paymen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140000" y="191628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86720" y="242100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ate to pay for the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067280" y="263700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3560" y="443700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ccount to transfer mone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56000" y="458136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90120" y="3500280"/>
            <a:ext cx="31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d to messages to p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356000" y="386064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Account transfer pa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1557360"/>
            <a:ext cx="8280360" cy="504036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PaymentMean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PaymentMeansCode&gt;31&lt;/cbc:PaymentMeans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PaymentDueDate&gt;2007-04-21&lt;/cbc:PaymentDue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PaymentChannelCode&gt;IBAN&lt;/cbc:PaymentChannel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InstructionID&gt;008323654784683&lt;/cbc:Instruction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PayerFinancialAccou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PaymentNote&gt;invoice no. 234564&lt;/cbc:PaymentNo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PayerFinancialAccou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PayeeFinancialAccou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ID&gt;1423656345345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PaymentNote&gt;invoice no. 234564&lt;/cbc:PaymentNo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FinancialInstitutionBranc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FinancialInstitu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ID&gt;DABADKK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Name&gt;Andelsbanken&lt;/cbc: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FinancialInstitution&gt;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FinancialInstitutionBranc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PayeeFinancialAccou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PaymentMean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Payment t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4124160" cy="2952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935960" y="1628640"/>
            <a:ext cx="37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s the payment terms with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yment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067280" y="1916280"/>
            <a:ext cx="792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41520" y="3789360"/>
            <a:ext cx="36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cifies the discount or pena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early or late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28920" y="328464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te to p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419640" y="3429000"/>
            <a:ext cx="1584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64292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571640" y="422100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02720" y="450864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mount that this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rms refl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3492360" y="4581000"/>
            <a:ext cx="165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Payment Terms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1700280"/>
            <a:ext cx="8280360" cy="482436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ac:PaymentTerm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ID&gt;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bc: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Note&gt;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Penalty applies for late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within 30 days past the due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bc:No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PenaltySurchargePercent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bc:PenaltySurchargePerc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Amount CurrencyID=“EUR”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2345.4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bc:Amou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ac:SettlementPeri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StartDate&gt;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2007-01-2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bc:Start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EndDate&gt;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2007-02-1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bc:End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ac:SettlementPeri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ac:PenaltyPeri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cbc:StartDate&gt;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2007-01-1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bc:Start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ac:PenaltyPeri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cac:PaymentTerm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Allowance and char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ader level specifies allowance and charges to the transaction as a whole (added to the line s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e level specifies allowance and charges to the specific line (added to the quantity times pr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ce level specifies the allowance and charges already calculated into the pri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Allowance and charges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971880" cy="2952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859280" y="2637000"/>
            <a:ext cx="34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dicates whether it is an allowance or a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140000" y="2852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22840" y="1773360"/>
            <a:ext cx="45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quential number or link to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059280" y="2060640"/>
            <a:ext cx="21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70520" y="328464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ason for allowance or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4427280" y="335772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75680" cy="916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Sample of AllowanceChar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611280" y="1484280"/>
            <a:ext cx="8280360" cy="525780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AllowanceCharg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ID&gt;1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ChargeIndicator&gt;false&lt;/cbc:ChargeIndicat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AllowanceChargeReason&gt;Loyal customer dis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AllowanceChargeRea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SequenceNumeric&gt;1&lt;/cbc:SequenceNumeri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Amount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urrencyID="DKK"&gt;800.00&lt;/cbc:Amou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TaxCatego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I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chemeDataURI="urn:oioubl:id:taxcategoryid-1.0"&gt;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Percent&gt;25&lt;/cbc:Perc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TaxSche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   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I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chemeDataURI="urn:oioubl:id:taxschemeid-1.0"&gt;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    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TaxType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istURI="urn:oioubl:codelist:taxtypecode-1.0"&gt;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TaxType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TaxSche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TaxCatego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AllowanceCharg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ax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ax information applied to pa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PartyTaxSc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ax information applied to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TaxSc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Tax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ax information applied to trans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TaxTo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</a:rPr>
              <a:t>TaxSubTo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PartyTaxSche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4464000" cy="210204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75680" cy="115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ies a company registration at the tax authorities for a specific tax sche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>
            <a:off x="5580000" y="4292640"/>
            <a:ext cx="144360" cy="57636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40360" y="422100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companies can be exempt for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40360" y="5373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ax the registration is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544500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2000" y="3500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registra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500720" y="3789000"/>
            <a:ext cx="1366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axSche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101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x scheme describes the overall type of t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e may be many rates of a tax sc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4464000" cy="18511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5003640" y="364500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entifies th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76720" y="4149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DK specifies whether you pay VAT of thi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348000" y="378936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995280" y="4365720"/>
            <a:ext cx="1081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48360" y="5084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cifies the country the tax belong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858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What is the Danish policy for Data standard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must be exchanges in Open Stand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103: Comply or explain for selected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gislation on electronic invoices since 200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Party tax Scheme ex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1989000"/>
            <a:ext cx="7705440" cy="309564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PartyTaxSche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CompanyID&gt;DK16356706&lt;/cbc:Company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TaxSche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ID&gt;63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Name&gt;Moms&lt;/cbc: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TaxType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istID="urn:oioubl:codelist:taxtypecode-1.0"&gt;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TaxType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TaxSche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PartyTaxScheme&gt;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axCateg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39720" y="1773000"/>
            <a:ext cx="8275680" cy="143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axCategory specifies a rate or a fix amount for a TaxSc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t is applied for Items and AllowanceChar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11280" y="3313080"/>
            <a:ext cx="4537080" cy="2781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5148360" y="3933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cifies the tax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219640" y="465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cifies the fix amout (per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708360" y="4149720"/>
            <a:ext cx="1440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48360" y="3284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entifies the tax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347640" y="3429000"/>
            <a:ext cx="180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76720" y="5661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entifies the tax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067280" y="587700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axSubto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39720" y="1981080"/>
            <a:ext cx="8275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Specifies a given amount to pay in tax for a specific tax category for a specific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Links tax category with transaction info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752720" cy="2904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148360" y="3429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mount to pay tax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140360" y="3573360"/>
            <a:ext cx="1008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92720" y="4149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mount to pay tax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003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292720" y="4581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ax amount expressed in the invoicing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400720" y="5805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ax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066920" y="595008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5148000" y="46526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axTo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39720" y="1981080"/>
            <a:ext cx="8275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Specifies a sum a tax subtotals for a given Tax Sc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4175280" cy="17715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5003640" y="3141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mount to pay in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924000" y="328464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275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ypical Tax spec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50920" y="1700280"/>
            <a:ext cx="8424720" cy="489744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TaxTot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TaxAmount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yrrencyID="DKK"&gt;1262.50&lt;/cbc:TaxAmou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TaxSubTot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TaxableAmount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yrrencyID="DKK"&gt;505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TaxableAmou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TaxAmount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yrrencyID="DKK"&gt;1262.50&lt;/cbc:TaxAmou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Percent&gt;25&lt;/cbc:Perc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TaxCatego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ID&gt;VAT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Percent&gt;25&lt;/cbc:Perc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ac:TaxSche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ID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chemeID="urn:oioubl:id:taxschemeid-1.0"&gt;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cbc:TaxTypeCode&gt;VAT&lt;/cbc:TaxType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TaxSche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TaxCategor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TaxSubTot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lt;/cac:TaxTotal&gt;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Currency and exchange r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rrency is mandatory for every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urrency in the world can potential be represented in an UBL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BL 2.0 has restricted the use of curr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currency specifies a request for a currency in the following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Currency codes in an inv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Document currenc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ax currenc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Pricing currenc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Payment currenc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Payment alternative currenc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hange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39720" y="1844640"/>
            <a:ext cx="8275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change rates reflects the currency c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rgetCurrencyCode or SourceCurrencyCode is always the document currency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44658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hange rate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"/>
          <p:cNvSpPr/>
          <p:nvPr/>
        </p:nvSpPr>
        <p:spPr>
          <a:xfrm>
            <a:off x="250920" y="2708280"/>
            <a:ext cx="8424720" cy="280836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ac:PricingExchangeR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SourceCurrencyCode&gt;USD&lt;/cbc:SourceCurrency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TargetCurrencyCode &gt;DKK&lt;/cbc:TargetCurrency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CalculationRate&gt;0.5928&lt;/cbc:CalculationR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OperatorCode&gt;multiply&lt;/cbc:Operator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Date&gt;2006-11-20&lt;/cbc: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ac:PricingExchangeR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Monetary to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Sum up the fiscal impact of the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Implici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4824360" cy="29350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4284720" y="278136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mount from the lines (no t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780000" y="314136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43280" y="602136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796000" y="4365360"/>
            <a:ext cx="0" cy="165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4932000" y="43657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0" y="5373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57640" y="50385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7080" y="42926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9280" y="5013360"/>
            <a:ext cx="57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435640" y="4076640"/>
            <a:ext cx="0" cy="936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932360" y="4076640"/>
            <a:ext cx="503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076720" y="4724280"/>
            <a:ext cx="358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03640" y="3716280"/>
            <a:ext cx="432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3564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20720" y="3429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65080" y="4797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05440" y="4437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8000" y="609300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mount t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Why bother about about open standard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ange from paper to digital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ess to information in 1000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tinguee data from ap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ependence from vend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cure a competitiv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m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ems are specified independent from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ems can be identified in many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picked from a catalogue or just identified with name or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item specification in the catalogue are often more heavy than in the other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em information continued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6296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ItemIden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4105080" cy="1887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5219640" y="285264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tended ID is a substitute for physical attributes and measurement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500360" y="2997360"/>
            <a:ext cx="71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odity class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structure, search and classify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SPC is the recommended classication in D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4896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Additional Item proper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39720" y="1981080"/>
            <a:ext cx="8275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Softstructured information (name value pai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50532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2627280" y="4508640"/>
            <a:ext cx="3114720" cy="74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Item insta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275320" cy="13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ies actual instanses of items, e.g. a second hand c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for document tracking, warrantie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403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Item specification in an inv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>
            <a:off x="539640" y="2708280"/>
            <a:ext cx="8425080" cy="201600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ac: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Name&gt;Blackboard&lt;/cbc: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ac:SellersItemIdentific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cbc:ID schemeID=”GTIN"&gt;5712345780121&lt;/cbc: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ac:SellersItemIdentific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&lt;/cac:Ite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Item specification in a catalog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1700280"/>
            <a:ext cx="7920000" cy="482436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Ite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Description&gt;Nokia Mobile telephon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Type ABC&lt;/cbc:Descrip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PackQuantity unitCode="EA"&gt;1&lt;/cbc:PackQuant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PackSizeNumeric&gt;1&lt;/cbc:PackSizeNumeri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Name&gt;Nokia ABC&lt;/cbc: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SellersItemIdentific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ID&gt;87067606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SellersItemIdentific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ManufacturersItemIdentific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ID&gt;N70UK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ManufacturersItemIdentific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ac:CommodityClassific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cbc:ItemClassificationCode listID="UNSPSC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listVersionID="7.0401"&gt;43191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bc:ItemClassification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CommodityClassific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cac:Ite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UBL Ext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Use to extend and keep technical interopabil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he ”black hole” of UB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Use if nothing else fits – better than redefining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Can also be used to as a hook to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Based on xsd: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Extensions must be regist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Extensions must specify a reason for ex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Sample of Ext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611280" y="1700280"/>
            <a:ext cx="7920000" cy="4824360"/>
          </a:xfrm>
          <a:prstGeom prst="rect">
            <a:avLst/>
          </a:prstGeom>
          <a:solidFill>
            <a:srgbClr val="e6eb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UBLExtension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UBL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bc:ID&gt;WMP1&lt;/cbc: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cbc:Name&gt;WMData&lt;/cbc: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ExtensionAgencyID&gt;EAI1&lt;/ext:ExtensionAgency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ExtensionAgencyName&gt;EAN1&lt;/ext:ExtensionAgency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ExtensionAgencyURI&gt;EAU1&lt;/ext:ExtensionAgencyUR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ExtensionURI&gt;urn:wmdata.dk:example&lt;/ext:ExtensionUR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ExtensionReasonCode&gt;OPT&lt;/ext:ExtensionReasonCod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ExtensionReason&gt;wmdata legacy invoice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ext:ExtensionRea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xt:Extension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wmp:LegacyExtension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mlns:wmp="urn:urn:wmdata.dk:exampl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     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legacy invoice stuff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 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wmp:Legacy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ext:Extension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ext:UBL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&lt;/ext:UBLExtension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bother about international standardis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id ground under the fe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option in standard softw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ess to international exp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luence on the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void bending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void getting application data into the stad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75680" cy="115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Simple procurement– the ordering pro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9342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he simple order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39720" y="1981080"/>
            <a:ext cx="8275680" cy="72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86000"/>
          </a:bodyPr>
          <a:p>
            <a:pPr marL="16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The order is either fully accepted or rej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No substitutions line item i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75680" cy="916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Simple procurement– the billing pro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4738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A simple procurement scen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65496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he s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75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s Hansen who is employed at a small public school wants to buy a blackboard. This means that the following steps are perform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299736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ns finds the blackboard in their suppliers paper based catalogue and places th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pplier recognizes that they have the blackboard in stock and sends an accepting order response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ns matches the order response against the order and notifies that the order is i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pplier sends the blackboard by carrier to the public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ns receives the blackboard. He finds the matching order and approves the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day after the public school receives an electronic invoice with attention to H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ns matches it with the order and approve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invoice is then ready for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he order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he order response si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The invoice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Future plans for UBL 2.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Support page is comming 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Northern European Subset is ready for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UBL converge with UN/CEF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CEN/ISSS Workshop starts in M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Sweden has plans to mandate invoicing in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CIP pilot project with focus on procurement starts call for tendering in M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UBL 2.0 is about to be translated to more than 8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1990800" cy="164808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Conclusions (selling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39720" y="1980720"/>
            <a:ext cx="8275680" cy="3319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rt your implementation in collaboration with standard organization like O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BL 2.0 is ready to use and has allready been impleme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best documented procurement stand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 is good enough for 6 European gover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 is getting hard to find an excusion to wa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avings are waiting to be coll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Verdana"/>
              </a:rPr>
              <a:t>Why standard organizations should bother about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Tango"/>
          <p:cNvPicPr/>
          <p:nvPr/>
        </p:nvPicPr>
        <p:blipFill>
          <a:blip r:embed="rId1"/>
          <a:stretch/>
        </p:blipFill>
        <p:spPr>
          <a:xfrm>
            <a:off x="6084720" y="2205000"/>
            <a:ext cx="2114640" cy="3009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1480" y="2338560"/>
            <a:ext cx="38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060640"/>
            <a:ext cx="55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tandard without users is like a theater whithout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have deadlines and can give exact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can act like stakehol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39720" y="836640"/>
            <a:ext cx="8275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39720" y="4581360"/>
            <a:ext cx="8275680" cy="194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Read more at www.oioubl.dk (in english as wel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Download UBL 2.0 at http://docs.oasis-open.org/ubl/os-UBL-2.0.z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Contact me at plb@itst.dk or oioubl.itst.d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200480" cy="26002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6300720" y="981000"/>
            <a:ext cx="2016360" cy="1800360"/>
          </a:xfrm>
          <a:prstGeom prst="cloudCallout">
            <a:avLst>
              <a:gd name="adj1" fmla="val -56615"/>
              <a:gd name="adj2" fmla="val 70634"/>
            </a:avLst>
          </a:prstGeom>
          <a:solidFill>
            <a:srgbClr val="c7d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38:34Z</dcterms:created>
  <dc:creator>Peter L. Borresen</dc:creator>
  <dc:description/>
  <dc:language>en-US</dc:language>
  <cp:lastModifiedBy>Peter L. Borresen</cp:lastModifiedBy>
  <dcterms:modified xsi:type="dcterms:W3CDTF">2007-04-16T00:36:16Z</dcterms:modified>
  <cp:revision>13</cp:revision>
  <dc:subject/>
  <dc:title>OIOUBL: Case Study of How to Implement a Nationwide Procurement Standard</dc:title>
</cp:coreProperties>
</file>